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69ED-FDF9-4380-8717-388D5F07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181B-2EBC-4C3B-B883-ED62C0B7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0BF-D88E-4E05-9CF6-B64F15F5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959-0248-4492-B2E2-67569287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E5B-44A2-4F92-B1DB-E18C2BF4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5445-697C-486C-B841-75FB8165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8CC-2631-473F-AB9D-B555B0DB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51B-B755-4862-BFD0-B789B775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307-6F8C-4C23-A911-50EFD54F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4CE7-0FAF-42B1-852A-F8C1D155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22C-4B27-44DE-9230-3016C7CA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82C2-FD6E-4DB7-AD88-9CE503ED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930F-DD7B-4E22-B843-0A6DE03363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пирова Ф.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умать коллектив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шать оператив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чать доказатель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ть старатель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открытия нас ждут обязательно!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4240" y="15714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6:4=9 (КГ)-ГРУШ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) 36-9=27(КГ)-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НЬШЕ ПРИВЕЗЛИ ГРУШ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ВЕТ: НА 27 КГ МЕНЬШЕ ПРИВЕЗЛИ ГРУШ, ЧЕМ ЯБЛО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82 выучить прави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ставить примеры на умножение с числом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учебнике с. 82 задание на полях «Узнать код избуш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ТНЫЙ СЧ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5, 6, 8, 21, 36, 45, 48, 54, 6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82296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2876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* 3 =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5 * 2 =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2 * 1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* 12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164040" cy="317016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1643040" y="5716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5+5+5=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1857240" y="11430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25+25=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785960" y="171468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1+1+1+1+1+1+1+1+1+1+1+1=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1857240" y="17146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2" descr=""/>
          <p:cNvPicPr/>
          <p:nvPr/>
        </p:nvPicPr>
        <p:blipFill>
          <a:blip r:embed="rId1"/>
          <a:stretch/>
        </p:blipFill>
        <p:spPr>
          <a:xfrm>
            <a:off x="2530440" y="444600"/>
            <a:ext cx="4357800" cy="11030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3" descr=""/>
          <p:cNvPicPr/>
          <p:nvPr/>
        </p:nvPicPr>
        <p:blipFill>
          <a:blip r:embed="rId2"/>
          <a:stretch/>
        </p:blipFill>
        <p:spPr>
          <a:xfrm>
            <a:off x="1809720" y="1414440"/>
            <a:ext cx="5786640" cy="11034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3"/>
          <a:stretch/>
        </p:blipFill>
        <p:spPr>
          <a:xfrm>
            <a:off x="1932120" y="2708280"/>
            <a:ext cx="5549760" cy="3122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"/>
          <p:cNvPicPr/>
          <p:nvPr/>
        </p:nvPicPr>
        <p:blipFill>
          <a:blip r:embed="rId4"/>
          <a:stretch/>
        </p:blipFill>
        <p:spPr>
          <a:xfrm>
            <a:off x="2084400" y="2860560"/>
            <a:ext cx="55497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помнит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Математический зак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  <a:ea typeface="Times New Roman"/>
              </a:rPr>
              <a:t>При умножении любого числа на один, получается то число, которое умножа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2843280" y="3789360"/>
            <a:ext cx="45133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нег руками нагребаем - Холодное сердце, Олаф _ Детские песни _ Танцы для детей.mp4" descr=""/>
          <p:cNvPicPr/>
          <p:nvPr/>
        </p:nvPicPr>
        <p:blipFill>
          <a:blip r:embed="rId1"/>
          <a:stretch/>
        </p:blipFill>
        <p:spPr>
          <a:xfrm>
            <a:off x="928800" y="1143000"/>
            <a:ext cx="719136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165320" y="133200"/>
            <a:ext cx="734364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Задание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айдите значение выраж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(№1 стр.8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1711440" y="1773360"/>
            <a:ext cx="27162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=   1</a:t>
            </a:r>
            <a:r>
              <a:rPr b="1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2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4406760" y="1773360"/>
            <a:ext cx="3490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1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48-47) = (62+24) </a:t>
            </a:r>
            <a:r>
              <a:rPr b="1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3419640" y="1819440"/>
            <a:ext cx="75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3538440" y="250668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7758000" y="1798560"/>
            <a:ext cx="7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5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7758000" y="2490840"/>
            <a:ext cx="7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8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1862280" y="3214800"/>
            <a:ext cx="2974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83</a:t>
            </a:r>
            <a:r>
              <a:rPr b="1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3795840" y="3294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8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11"/>
          <p:cNvSpPr/>
          <p:nvPr/>
        </p:nvSpPr>
        <p:spPr>
          <a:xfrm>
            <a:off x="4983120" y="3214800"/>
            <a:ext cx="3525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8:4</a:t>
            </a:r>
            <a:r>
              <a:rPr b="1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7407360" y="3308400"/>
            <a:ext cx="7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помнит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Математический зак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  <a:ea typeface="Times New Roman"/>
              </a:rPr>
              <a:t>При умножении любого числа на один, получается то число, которое умножа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4" descr=""/>
          <p:cNvPicPr/>
          <p:nvPr/>
        </p:nvPicPr>
        <p:blipFill>
          <a:blip r:embed="rId1"/>
          <a:stretch/>
        </p:blipFill>
        <p:spPr>
          <a:xfrm>
            <a:off x="2843280" y="3789360"/>
            <a:ext cx="45133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960" y="1214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ЯБЛ.- 36 КГ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Р.- ? В 4 РАЗА МЕНЬШЕ  НА СК. КГ МЕНЬШЕ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sheluhin.andrei@mail.ru</cp:lastModifiedBy>
  <cp:lastPrinted>2021-11-27T17:40:07Z</cp:lastPrinted>
  <dcterms:modified xsi:type="dcterms:W3CDTF">2023-12-08T09:54:20Z</dcterms:modified>
  <cp:revision>116</cp:revision>
  <dc:subject/>
  <dc:title>Слайд 1</dc:title>
</cp:coreProperties>
</file>