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F84-1882-4556-8A98-03C33CBE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477-55B4-431A-94EF-BFB14D80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00A4-CF10-4794-A96F-4EE986B8C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AC7-9E2E-4EFB-878F-32416C15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16C-86AB-4D77-8994-D1B374CF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AB2-3E8C-4E2C-A359-04E40746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D18-534E-4D6F-8229-C13BBC2A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EB0-0F7D-4303-91FF-DBBBAC3A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4F90-04FA-445D-A0A4-54B2B969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361-D84A-4A13-BD08-D995211F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F51-D2E5-4EFF-A257-E12A9F6A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D52-5842-416D-B0DA-9667574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D612-2AEE-409F-A194-815EBB0D68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ирова Ф.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мать коллект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шать оператив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чать доказ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ть старатель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ткрытия нас ждут обязательно!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4240" y="15714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ШЕНИЕ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6:4=9 (КГ)-ГРУШ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36-9=27(КГ)-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ЬШЕ ПРИВЕЗЛИ ГРУШ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ВЕТ: НА 27 КГ МЕНЬШЕ ПРИВЕЗЛИ ГРУШ, ЧЕМ ЯБЛО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82 выучить прави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ставить примеры на умножение с числом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учебнике с. 82 задание на полях «Узнать код избуш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3964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, 6, 8, 21, 36, 45, 48, 54, 6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* 3 =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5 * 2 =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2 * 1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 * 12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292720" y="3357720"/>
            <a:ext cx="3164040" cy="317016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643040" y="571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5+5+5=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857240" y="114300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25+25=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785960" y="17146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+1+1+1+1+1+1+1+1+1+1+1=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857240" y="1714680"/>
            <a:ext cx="30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Прямоугольник 2" descr=""/>
          <p:cNvPicPr/>
          <p:nvPr/>
        </p:nvPicPr>
        <p:blipFill>
          <a:blip r:embed="rId1"/>
          <a:stretch/>
        </p:blipFill>
        <p:spPr>
          <a:xfrm>
            <a:off x="2530440" y="444600"/>
            <a:ext cx="4357800" cy="110304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3" descr=""/>
          <p:cNvPicPr/>
          <p:nvPr/>
        </p:nvPicPr>
        <p:blipFill>
          <a:blip r:embed="rId2"/>
          <a:stretch/>
        </p:blipFill>
        <p:spPr>
          <a:xfrm>
            <a:off x="1809720" y="1414440"/>
            <a:ext cx="5786640" cy="11034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3"/>
          <a:stretch/>
        </p:blipFill>
        <p:spPr>
          <a:xfrm>
            <a:off x="1932120" y="2708280"/>
            <a:ext cx="5549760" cy="3122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"/>
          <p:cNvPicPr/>
          <p:nvPr/>
        </p:nvPicPr>
        <p:blipFill>
          <a:blip r:embed="rId4"/>
          <a:stretch/>
        </p:blipFill>
        <p:spPr>
          <a:xfrm>
            <a:off x="2084400" y="2860560"/>
            <a:ext cx="55497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атематический з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 умножении любого числа на один, получается то число, которое умнож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45133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нег руками нагребаем - Холодное сердце, Олаф _ Детские песни _ Танцы для детей.mp4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1913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165320" y="133200"/>
            <a:ext cx="734364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Задание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айдите значение выра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(№1 стр.8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1711440" y="1773360"/>
            <a:ext cx="27162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   1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06760" y="1773360"/>
            <a:ext cx="3490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(48-47) = (62+24) 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419640" y="1819440"/>
            <a:ext cx="75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3538440" y="2506680"/>
            <a:ext cx="74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7758000" y="179856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7758000" y="249084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1862280" y="3214800"/>
            <a:ext cx="2974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83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795840" y="3294000"/>
            <a:ext cx="7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1"/>
          <p:cNvSpPr/>
          <p:nvPr/>
        </p:nvSpPr>
        <p:spPr>
          <a:xfrm>
            <a:off x="4983120" y="3214800"/>
            <a:ext cx="3525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8:4</a:t>
            </a: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7407360" y="3308400"/>
            <a:ext cx="75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помни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атематический з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  <a:ea typeface="Times New Roman"/>
              </a:rPr>
              <a:t>При умножении любого числа на один, получается то число, которое умножал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"/>
          <p:cNvPicPr/>
          <p:nvPr/>
        </p:nvPicPr>
        <p:blipFill>
          <a:blip r:embed="rId1"/>
          <a:stretch/>
        </p:blipFill>
        <p:spPr>
          <a:xfrm>
            <a:off x="2843280" y="3789360"/>
            <a:ext cx="45133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14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ЯБЛ.- 36 КГ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ГР.- ? В 4 РАЗА МЕНЬШЕ  НА СК. КГ МЕНЬШЕ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2960" y="1857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sheluhin.andrei@mail.ru</cp:lastModifiedBy>
  <cp:lastPrinted>2021-11-27T17:40:07Z</cp:lastPrinted>
  <dcterms:modified xsi:type="dcterms:W3CDTF">2023-12-08T09:54:20Z</dcterms:modified>
  <cp:revision>116</cp:revision>
  <dc:subject/>
  <dc:title>Слайд 1</dc:title>
</cp:coreProperties>
</file>