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F0F6-3467-4C6F-BEEE-92DE843C8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AB8F-73C2-4C33-91FD-B55925E42AF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D375-7AB8-4768-B290-3F0830A822D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F905-8115-417D-8BC5-A048DCEC0D9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04C4-7F91-43A7-B65E-77E13C4645E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C0A-8F19-4790-BA9C-E2310D7C1DD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64F4-D305-4E0A-B8E7-A6D4A654855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068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00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336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068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00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37840" y="438120"/>
            <a:ext cx="7248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068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800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336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068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800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37840" y="438120"/>
            <a:ext cx="7248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618160" y="4149360"/>
            <a:ext cx="3495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Лилиана КОНСТАНТИНОВ,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Microsoft Sans Serif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дидактическая категория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716360" y="2204640"/>
            <a:ext cx="40658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Урок 31. Одежда и обув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CasetăText 1"/>
          <p:cNvSpPr/>
          <p:nvPr/>
        </p:nvSpPr>
        <p:spPr>
          <a:xfrm>
            <a:off x="699480" y="0"/>
            <a:ext cx="80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Теоретический Лицей «Петре Штефэнукэ» Яловен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Одежда и обув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7" name="Substituent conținut 4" descr=""/>
          <p:cNvPicPr/>
          <p:nvPr/>
        </p:nvPicPr>
        <p:blipFill>
          <a:blip r:embed="rId1"/>
          <a:stretch/>
        </p:blipFill>
        <p:spPr>
          <a:xfrm>
            <a:off x="5311800" y="3716280"/>
            <a:ext cx="3581280" cy="2289240"/>
          </a:xfrm>
          <a:prstGeom prst="rect">
            <a:avLst/>
          </a:prstGeom>
          <a:ln w="0">
            <a:noFill/>
          </a:ln>
        </p:spPr>
      </p:pic>
      <p:pic>
        <p:nvPicPr>
          <p:cNvPr id="88" name="Substituent conținut 2" descr=""/>
          <p:cNvPicPr/>
          <p:nvPr/>
        </p:nvPicPr>
        <p:blipFill>
          <a:blip r:embed="rId2"/>
          <a:stretch/>
        </p:blipFill>
        <p:spPr>
          <a:xfrm>
            <a:off x="250920" y="1224000"/>
            <a:ext cx="5329080" cy="2778120"/>
          </a:xfrm>
          <a:prstGeom prst="rect">
            <a:avLst/>
          </a:prstGeom>
          <a:ln w="0">
            <a:noFill/>
          </a:ln>
        </p:spPr>
      </p:pic>
      <p:sp>
        <p:nvSpPr>
          <p:cNvPr id="89" name="CasetăText 5"/>
          <p:cNvSpPr/>
          <p:nvPr/>
        </p:nvSpPr>
        <p:spPr>
          <a:xfrm>
            <a:off x="552960" y="4168800"/>
            <a:ext cx="40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Одевать/ надевать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CasetăText 6"/>
          <p:cNvSpPr/>
          <p:nvPr/>
        </p:nvSpPr>
        <p:spPr>
          <a:xfrm>
            <a:off x="4112640" y="5789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Обувать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438120"/>
            <a:ext cx="705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Microsoft Sans Serif"/>
              </a:rPr>
              <a:t>Словарная работ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08000" y="1257480"/>
            <a:ext cx="6912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Современный 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- contempora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Существовать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a exista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Обманут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vor minți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Определить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a determina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Считается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se consideră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Ухоженная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- îngrijită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Приблизительно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- aproximativ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Будние дни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zile obișnuite (lucrătoare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Правильный уход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îngrijire corectă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Одежда и обувь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980640"/>
            <a:ext cx="8964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Современный человек не может существовать без одежды и обуви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В народе говорят: «Если глаза и улыбка обманут, то одежда и обувь скажут правду». Иногда по одежде можно определить профессию человека. Считается, что одежда и обувь может дать характеристику своему «хозяину». Чистая, красивая, ухоженная одежда и обувь говорят о человеке больше, чем лицо или причёска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Несмотря на то, что большая часть одежды приблизительно одинакова, у каждого народа есть своя национальная одежда. В настоящее время в нашей стране многие носят национальные блузки (ия) и вышитые мужские рубашки, перевязанные красивыми поясами (брыу). Национальные костюмы носят взрослые и дети, и не только по праздникам, как раньше, но и в будние дни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В мире обуви снова актуальна мода 90-х годов – осенние ботинки. Они удобные, в них можно ходить осенью, зимой и весной. Можно сочетать с длинным и коротким платьем, юбкой, джинсами, с пальто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Одежда и обувь будут долго служить человеку при условии правильного ухода за ней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438120"/>
            <a:ext cx="705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Microsoft Sans Serif"/>
              </a:rPr>
              <a:t>Подумаем вместе…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8000" y="1257480"/>
            <a:ext cx="6912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Без чего не может существовать современный человек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О чём может рассказать одежда и обувь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Что вы узнали о национальном костюме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А о ботинках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Что нужно делать, чтобы одежда служила долго человеку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7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Учимся отвечать на вопросы: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Кто что делал(а)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Я надевал(а) плащ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Ты одевался (одевалась) быстро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н/ она одевал(а) брата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Кто что сделал(а)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Я надел(а) рубашку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Ты оделся (оделась) аккуратно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н/ она одел(а) сестру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2" name="Imagine 8" descr=""/>
          <p:cNvPicPr/>
          <p:nvPr/>
        </p:nvPicPr>
        <p:blipFill>
          <a:blip r:embed="rId1"/>
          <a:stretch/>
        </p:blipFill>
        <p:spPr>
          <a:xfrm>
            <a:off x="720720" y="4229280"/>
            <a:ext cx="3127320" cy="2344680"/>
          </a:xfrm>
          <a:prstGeom prst="rect">
            <a:avLst/>
          </a:prstGeom>
          <a:ln w="0">
            <a:noFill/>
          </a:ln>
        </p:spPr>
      </p:pic>
      <p:pic>
        <p:nvPicPr>
          <p:cNvPr id="103" name="Imagine 10" descr=""/>
          <p:cNvPicPr/>
          <p:nvPr/>
        </p:nvPicPr>
        <p:blipFill>
          <a:blip r:embed="rId2"/>
          <a:stretch/>
        </p:blipFill>
        <p:spPr>
          <a:xfrm>
            <a:off x="5405400" y="4187880"/>
            <a:ext cx="32814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438120"/>
            <a:ext cx="705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Microsoft Sans Serif"/>
              </a:rPr>
              <a:t>Работа в группах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8000" y="1257480"/>
            <a:ext cx="6912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Оденьте по сезону мальчика и девочку!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6" name="Imagine 2" descr=""/>
          <p:cNvPicPr/>
          <p:nvPr/>
        </p:nvPicPr>
        <p:blipFill>
          <a:blip r:embed="rId2"/>
          <a:stretch/>
        </p:blipFill>
        <p:spPr>
          <a:xfrm>
            <a:off x="1692360" y="2160720"/>
            <a:ext cx="4032000" cy="2825640"/>
          </a:xfrm>
          <a:prstGeom prst="rect">
            <a:avLst/>
          </a:prstGeom>
          <a:ln w="0">
            <a:noFill/>
          </a:ln>
        </p:spPr>
      </p:pic>
      <p:pic>
        <p:nvPicPr>
          <p:cNvPr id="107" name="Imagine 4" descr=""/>
          <p:cNvPicPr/>
          <p:nvPr/>
        </p:nvPicPr>
        <p:blipFill>
          <a:blip r:embed="rId3"/>
          <a:stretch/>
        </p:blipFill>
        <p:spPr>
          <a:xfrm>
            <a:off x="5746680" y="3600360"/>
            <a:ext cx="297828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Работа по учебнику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1257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Упражнение 7, 9 стр. 65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0" name="Imagine 8" descr=""/>
          <p:cNvPicPr/>
          <p:nvPr/>
        </p:nvPicPr>
        <p:blipFill>
          <a:blip r:embed="rId1"/>
          <a:stretch/>
        </p:blipFill>
        <p:spPr>
          <a:xfrm>
            <a:off x="244440" y="3749760"/>
            <a:ext cx="4167360" cy="2970000"/>
          </a:xfrm>
          <a:prstGeom prst="rect">
            <a:avLst/>
          </a:prstGeom>
          <a:ln w="0">
            <a:noFill/>
          </a:ln>
        </p:spPr>
      </p:pic>
      <p:pic>
        <p:nvPicPr>
          <p:cNvPr id="111" name="Imagine 10" descr=""/>
          <p:cNvPicPr/>
          <p:nvPr/>
        </p:nvPicPr>
        <p:blipFill>
          <a:blip r:embed="rId2"/>
          <a:stretch/>
        </p:blipFill>
        <p:spPr>
          <a:xfrm>
            <a:off x="4427640" y="2197080"/>
            <a:ext cx="44719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280" y="438120"/>
            <a:ext cx="705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Microsoft Sans Serif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8000" y="1257480"/>
            <a:ext cx="6912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Прочитать текст и ответить на вопросы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Упражнение 8 стр. 65 – письменно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4" name="Imagine 3" descr=""/>
          <p:cNvPicPr/>
          <p:nvPr/>
        </p:nvPicPr>
        <p:blipFill>
          <a:blip r:embed="rId2"/>
          <a:stretch/>
        </p:blipFill>
        <p:spPr>
          <a:xfrm>
            <a:off x="1763640" y="2751120"/>
            <a:ext cx="73803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2T16:20:55Z</dcterms:created>
  <dc:creator>Юра</dc:creator>
  <dc:description/>
  <dc:language>en-US</dc:language>
  <cp:lastModifiedBy>Пользователь</cp:lastModifiedBy>
  <dcterms:modified xsi:type="dcterms:W3CDTF">2023-12-11T18:51:28Z</dcterms:modified>
  <cp:revision>15</cp:revision>
  <dc:subject/>
  <dc:title>Name of presentation</dc:title>
</cp:coreProperties>
</file>