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375-AD9C-4F60-A5B8-C5A73A680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A75-020D-4C41-8B3D-AA7E7CC45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DE2-C6DA-46C6-A750-541D7C521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778-3B6B-4B19-A1D9-3E3C31F5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76E-43B0-41BB-AB49-4AEEFB8C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680E-CC7B-4F95-A079-22140DAA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DB640-8DC9-4051-A53F-8B30EC3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52FC-1F14-4776-A6AD-AE07BEEF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9EA40-1E17-4502-BDBE-2DD58E3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1FED4-3CC5-4ED6-A41B-BDCF37F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FE6C4-F089-4301-9DD9-BB4DAAF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38F09-56BF-45B8-8F02-54F2526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E97A0-8904-4379-B11B-6F4FABFE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85830-6A23-439C-80DC-5E631EDF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7803E-7630-4591-9485-F23E8796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484-2F48-40D8-B73F-801A16B8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F300D-662D-4BAA-BFCD-0194F67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3088-EA53-470C-9959-85952E9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E1D73-93E8-441A-BC27-CEA10419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8D6C3-D01A-4F52-A98B-0D2EFC9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B13C6-D86D-4BE4-83ED-38B94BD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CFA06-AD12-43DA-9E72-2EC6A8F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243C6-F210-40E3-A157-3EE4462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46092-0629-4DD0-8E12-BA0F9BE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6A26C-11C7-40A8-9E95-5BE7E51B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848A-F5FE-4D37-9E63-5B4225C2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F2F-906C-47E4-9519-0CA2688A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C51E5-4E84-4459-837C-E8DD1EFE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51C11-034C-451E-91E9-CF62208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93C56-2A7A-48E5-A987-78CCD97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EA805-71FF-4F6E-BF52-752A901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815C-3305-40E1-88DE-35CA5217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A33F2-0AED-4A14-962D-7A59218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07B19-F925-463E-97A0-C89FCC12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7F025-E7C3-4EAB-84BD-4E2B5EA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F6320-14D7-4D8C-86F8-EEECA07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A439F-BA1B-4B26-965D-64B00CB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674-9611-4604-9BF1-B695C4A9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531A1-7A1F-4BD0-9A96-C448CA92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222F-3F81-4300-AC7E-76ACB05D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275D6-BA46-43DE-9827-278246E3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D9F9C-631C-4693-AFBC-6ACE2AE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08E6D-52E3-464B-8E7E-802BA89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01BA9-B276-4B13-838A-AD536FD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6AA03-4EDA-4C0B-A91C-B51ADC4E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35266-88E1-466C-A004-A76EA0F4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8D656-6A65-4FBD-AD81-A45FE4AC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CF3E4-A04B-47EC-A75F-0E6B9F30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DF91-7DF7-4032-9ADD-B77271C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2C798-7D80-4309-A9D8-CC3E6B6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B4CC5-05BE-44C9-BCC8-3A1E799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32069-8E71-407C-B272-83385E0F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22A89-3F35-431B-B12B-EDCE40FD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8D35B-6D0C-4665-8C78-1F3DCC7B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392A9-9F93-488B-9FDC-2E7B7BF7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18656-B213-4B8F-B564-DE9DB609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68756-B812-44E9-AD50-678986D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DD7E7-FB94-406F-AEB0-A0E3B9FE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E4AD6-7E94-4345-BEA7-1FE1306E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C42F-85D8-4DE5-9111-D136DD14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0DE70-CF4D-453A-92BB-DE3049B3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4D814-0A12-4534-92BA-DD4B866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497F2-A3F5-470C-938D-38F5775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CE5B5-1437-4298-91AC-2B08416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2F08D-3A80-4F39-BB27-0DFF1C9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E1DB4-5760-4B77-8E8A-04DF7F2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6B1BE-9CEE-498D-ACBD-61F3A361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C38D-628E-43E0-8130-371967F7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96DE-2C00-4509-8D59-F2D2FB0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0470-8867-49D8-8E6F-1475CB1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6203-15EC-495C-9AA6-8978D62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3AD-08AE-436B-AC12-0D5F499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C913-F42A-4F7C-B84E-9F6A737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4B4-1FA4-4505-99CC-69AD872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734F-6106-4C1B-9566-3C3AC496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499-71E4-4926-BDCB-91C972DA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7A9-FAE7-47F4-89AF-91FE608E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AA8B-C04D-445A-B366-D2D5F34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AA8A-447C-40B7-985E-AF31483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0E1E-D3ED-4FE2-8ABD-ADD10B05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F16F-042F-4C74-A2E4-EF745F2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6710-A0A7-46B8-AC70-94ADE809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5C8-3FF5-4A5F-A2DE-95435CC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9B41-6E93-4843-B22C-5AED258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23FE-6732-474F-B162-786B445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71D5-738F-4E8F-A827-ACBC2D9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E385-1FB6-41C2-88A8-F16F11B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86C7-5D8F-4D74-AD48-D53DC11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919D-7D15-4488-BDD3-0E1F3DE6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5582-4344-4653-B051-CB35762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F69EF-90FB-41A4-959E-B2D383C2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99EF-CA33-48C1-ACF1-892CC0A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D45A-6ED7-4FE4-9F55-452B81F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F36-A5A7-46A9-8D8C-3EC6EB2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7011-0804-45CF-8255-1D3D7F3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7061-CF9C-4889-9143-590AA9F6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848A-D19D-42C1-BD62-25638577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2C25-BFF8-4A92-8F3C-F48C526D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08B9-F196-46D9-B965-9DE5138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F3B1-CDAE-4F01-9D66-9A0AC4D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4379-4EEF-42D8-BB50-31C4F05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7D733-0ABA-498A-BA46-38BB7D90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31F3D-B222-44E9-B430-4D192003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653B-38DF-4F07-971F-ECB7F891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27F-8EE3-4AAE-993D-D077ED27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1104-4B01-4EB3-81F7-450F0A47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E15A-0EEA-4E62-BD87-6AFA6CF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8ADD-30F9-465C-9081-D97AE58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9C46-D311-4EEC-A817-7C1B7E9B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181E-3D4A-435F-83B3-E0DE39E9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18FB-BFDE-4F7E-9F13-DA6DAC6E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4161E-EDEE-4404-A1C6-34F5312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0437-47DA-4889-BC1A-15712F7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844A-EBE9-46FB-AAE0-AC49512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6E354-7BDB-49D7-B3BA-3AD5B487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341-6EFB-4E89-B42D-734C0FE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23A2-677A-44FE-AA0B-74A2F7CE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42163-C53F-443B-8744-6048736E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36CF-2EEB-4F46-B166-B7C98072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2674B-96F2-48E4-B4C0-AB60DA30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7545-66B9-44DB-90B6-69A890E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8CE97-D7C3-4566-9EE9-63357E1C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A9BD-CE42-4B83-945E-28A7BCB0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2891-669F-4494-974B-44D6205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DF9A-0C10-441D-9211-9F8D7DC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4CC4-ACBB-469F-A88E-5DB1479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525-0660-447E-9F82-20F11CD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6830F-4364-41D6-B5AF-74B35CA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021BF-F48E-4EEB-ABAA-E7A28760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EC97A-B215-477B-B0AA-89AA9DF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D2E19-C65D-49D2-A8C4-238D5C2C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FA54-E59C-452C-833E-1DEA9F7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EEB2-6684-4673-89D3-9E6D7B2E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A589-609F-48F6-86AF-AB4DDC57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3D42D-7335-46DE-8C99-2ED244D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93FF1-1617-4DEC-8527-03244875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6042-36B1-4C8B-A88D-8D963AF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783-301B-432F-8444-A0C46A8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F5B7-A61B-449B-B897-B05410F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3826E-0110-461D-995A-2FE417E2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0D945-9A58-4DEE-88D3-622380CD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9722-EAC3-4591-8CD1-84FACBC4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07AF-8BF4-479D-BD63-916CEC8F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5CCD-B884-4911-B718-4E516F36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07BF9-5A3F-459D-8DD8-15D81B1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F622E-0E81-457E-B3A3-83D681B3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F868-9C3F-45F9-A27C-FE40C556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32F3-F8A1-4592-9B9E-7D149AEB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A4B-B389-42B3-885C-C738CF0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18670-94F4-4AA1-9531-3A1A939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721D9-1CD2-4234-8376-99429F7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B86F-42B2-49BB-A745-C00EE934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3558-08DC-4B94-8642-EBEECF9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09A7F-C46E-41F2-9BE6-5564EF8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9C7FF-9820-4759-8E87-A397F7D9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5574-33B2-4D05-8FDC-FE0A869A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CF545-1B5D-415F-BB04-0C852AFF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3067-DB08-4BA1-941D-33C1B8B0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C9DFC-2C39-4011-B3AB-D306F4B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8E7D-971D-4C5E-A2E9-12100335E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938-B931-4281-B767-17DBD92455FE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8D7-99A7-40EE-890B-6010554BE77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06C-7D0D-4522-BA45-1238DC06E65C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887-578D-4F99-8330-6F6847D3B02E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115-A438-485C-8D42-FCFCFAD6A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868-D3B4-44F5-8BF3-3F42E8D7F946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F8D-5C93-4CC9-A3FB-CD3507CA8D49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F24-5428-4BEB-BBAD-D005ED030E3F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C5ED-569E-47F0-BB29-1D21AEB623C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914-7272-4985-8DCA-725A6F8432A1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B8AA-77A8-4547-837C-39EA610A6125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BDE-0579-4E57-BBB5-143D2184A24C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s://www.youtube.com/watch?v=GgIFIFx3AS4&amp;ab_channel=StarMediaKids" TargetMode="External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s://youtu.be/iOgrSlzyFMA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2" name="Picture 2" descr="Рисунок по физике для учеников 7 класса. Легкие срисовки."/>
          <p:cNvPicPr/>
          <p:nvPr/>
        </p:nvPicPr>
        <p:blipFill>
          <a:blip r:embed="rId1"/>
          <a:stretch/>
        </p:blipFill>
        <p:spPr>
          <a:xfrm>
            <a:off x="23760" y="17640"/>
            <a:ext cx="9180720" cy="68720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7236000" y="5229360"/>
            <a:ext cx="19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для 7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яконькая К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2"/>
          <p:cNvSpPr/>
          <p:nvPr/>
        </p:nvSpPr>
        <p:spPr>
          <a:xfrm>
            <a:off x="250920" y="1197000"/>
            <a:ext cx="87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каком расстоянии друг от друга находятся два одинаковых шара массами по 20 т, если сила тяготения между ними 6,67•10-5 Н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20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Сатурна 5,7•1026 кг, а его радиус— 6•107 м. Определите ускорение свободного падения на Сатурн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0,6 м/с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.Во сколько раз сила притяжения между Луной и Солнцем больше, чем сила притяжения между Луной и Земл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2484000" y="3141360"/>
            <a:ext cx="404172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«На задней парт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http://qrcoder.ru/code/?https%3A%2F%2Fdocs.google.com%2Fforms%2Fd%2Fe%2F1FAIpQLSfj_Ib7kHbr50zoayf0E_wq_0sNram2QEgdADg2-1T2qNTKxw%2Fviewform%3Fusp%3Dsf_link&amp;4&amp;0"/>
          <p:cNvPicPr/>
          <p:nvPr/>
        </p:nvPicPr>
        <p:blipFill>
          <a:blip r:embed="rId2"/>
          <a:stretch/>
        </p:blipFill>
        <p:spPr>
          <a:xfrm>
            <a:off x="2843280" y="1989000"/>
            <a:ext cx="346068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2"/>
          <p:cNvSpPr/>
          <p:nvPr/>
        </p:nvSpPr>
        <p:spPr>
          <a:xfrm>
            <a:off x="395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ышкин №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4" descr="http://qrcoder.ru/code/?%C4%EE%EC%E0%F8%ED%E5%E5+%E7%E0%E4%E0%ED%E8%E5+%EF%EE+%F3%F0%EE%EA%F3+%AB%C7%E0%EA%EE%ED+%E2%F1%E5%EC%E8%F0%ED%EE%E3%EE+%F2%FF%E3%EE%F2%E5%ED%E8%FF%BB%0D%0A%0D%0A%CF%E0%F0%E0%E3%F0%E0%F4+25.%0D%0A%CF%E5%F0%FB%F8%EA%E8%ED+%B9%B9&amp;4&amp;0"/>
          <p:cNvPicPr/>
          <p:nvPr/>
        </p:nvPicPr>
        <p:blipFill>
          <a:blip r:embed="rId2"/>
          <a:stretch/>
        </p:blipFill>
        <p:spPr>
          <a:xfrm>
            <a:off x="2916360" y="2421000"/>
            <a:ext cx="3106440" cy="31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5089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468360" y="1557360"/>
          <a:ext cx="7920000" cy="4905360"/>
        </p:xfrm>
        <a:graphic>
          <a:graphicData uri="http://schemas.openxmlformats.org/drawingml/2006/table">
            <a:tbl>
              <a:tblPr/>
              <a:tblGrid>
                <a:gridCol w="3959280"/>
                <a:gridCol w="3960720"/>
              </a:tblGrid>
              <a:tr h="43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он всемирного тяго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онки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олст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Что называется свободным падением 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Почему в воздухе кусочек бумаги падает с меньшим ускорением, чем железный шари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Что такое ускорение свободного па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Действует ли сила тяжести на подброшенное вверх тело во время его подъе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С каким ускорением движется подброшенное вверх тело при отсутствии сопротивления воздух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Сформулируйте второй закон Ньюто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Какие явления, происходящие на Земле обусловлены взаимным притяжением Земли и Лун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Почему космический корабль не летит прямолинейно по инер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2916360" y="1628640"/>
          <a:ext cx="3274920" cy="741600"/>
        </p:xfrm>
        <a:graphic>
          <a:graphicData uri="http://schemas.openxmlformats.org/drawingml/2006/table">
            <a:tbl>
              <a:tblPr/>
              <a:tblGrid>
                <a:gridCol w="539640"/>
                <a:gridCol w="585720"/>
                <a:gridCol w="585720"/>
                <a:gridCol w="587520"/>
                <a:gridCol w="585720"/>
                <a:gridCol w="390600"/>
              </a:tblGrid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Прямоугольник 3"/>
          <p:cNvSpPr/>
          <p:nvPr/>
        </p:nvSpPr>
        <p:spPr>
          <a:xfrm>
            <a:off x="468360" y="27082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измерения си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 закона носят его наз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глийский физик, математик, механик и астроном, один из создателей классической физ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ный, кому упало яблоко по голо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Прямоугольник 4"/>
          <p:cNvSpPr/>
          <p:nvPr/>
        </p:nvSpPr>
        <p:spPr>
          <a:xfrm>
            <a:off x="496080" y="5300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Рисунок 5" descr=""/>
          <p:cNvPicPr/>
          <p:nvPr/>
        </p:nvPicPr>
        <p:blipFill>
          <a:blip r:embed="rId2"/>
          <a:srcRect l="14714" t="34715" r="64382" b="56476"/>
          <a:stretch/>
        </p:blipFill>
        <p:spPr>
          <a:xfrm>
            <a:off x="4716360" y="5091120"/>
            <a:ext cx="330696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Рисунок 8" descr="21634568_102471723831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929200"/>
          </a:xfrm>
          <a:prstGeom prst="rect">
            <a:avLst/>
          </a:prstGeom>
          <a:ln w="0">
            <a:noFill/>
          </a:ln>
        </p:spPr>
      </p:pic>
      <p:pic>
        <p:nvPicPr>
          <p:cNvPr id="552" name="TextBox 2" descr=""/>
          <p:cNvPicPr/>
          <p:nvPr/>
        </p:nvPicPr>
        <p:blipFill>
          <a:blip r:embed="rId2"/>
          <a:srcRect l="0" t="0" r="0" b="10427"/>
          <a:stretch/>
        </p:blipFill>
        <p:spPr>
          <a:xfrm>
            <a:off x="1042920" y="1552680"/>
            <a:ext cx="7415280" cy="38401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4" descr="aea008.gif"/>
          <p:cNvPicPr/>
          <p:nvPr/>
        </p:nvPicPr>
        <p:blipFill>
          <a:blip r:embed="rId3"/>
          <a:stretch/>
        </p:blipFill>
        <p:spPr>
          <a:xfrm>
            <a:off x="6559560" y="2627280"/>
            <a:ext cx="291960" cy="24912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5" descr="aea008.gif"/>
          <p:cNvPicPr/>
          <p:nvPr/>
        </p:nvPicPr>
        <p:blipFill>
          <a:blip r:embed="rId4"/>
          <a:stretch/>
        </p:blipFill>
        <p:spPr>
          <a:xfrm>
            <a:off x="6486480" y="6059520"/>
            <a:ext cx="200160" cy="16992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6" descr="aea008.gif"/>
          <p:cNvPicPr/>
          <p:nvPr/>
        </p:nvPicPr>
        <p:blipFill>
          <a:blip r:embed="rId5"/>
          <a:stretch/>
        </p:blipFill>
        <p:spPr>
          <a:xfrm>
            <a:off x="7845480" y="5126040"/>
            <a:ext cx="384120" cy="33660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7" descr="aea008.gif"/>
          <p:cNvPicPr/>
          <p:nvPr/>
        </p:nvPicPr>
        <p:blipFill>
          <a:blip r:embed="rId6"/>
          <a:stretch/>
        </p:blipFill>
        <p:spPr>
          <a:xfrm>
            <a:off x="701640" y="5273640"/>
            <a:ext cx="21276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newton"/>
          <p:cNvPicPr/>
          <p:nvPr/>
        </p:nvPicPr>
        <p:blipFill>
          <a:blip r:embed="rId2"/>
          <a:stretch/>
        </p:blipFill>
        <p:spPr>
          <a:xfrm>
            <a:off x="6291360" y="1295280"/>
            <a:ext cx="2700360" cy="36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258920" y="1700280"/>
                <a:ext cx="35989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Прямоугольник 1"/>
          <p:cNvSpPr/>
          <p:nvPr/>
        </p:nvSpPr>
        <p:spPr>
          <a:xfrm>
            <a:off x="179280" y="4365720"/>
            <a:ext cx="61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ва любых тела притягиваются друг к другу с силой, модуль которой прямо пропорционален произведению их масс и обратно пропорционален квадрату расстояния между ни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5"/>
          <p:cNvSpPr/>
          <p:nvPr/>
        </p:nvSpPr>
        <p:spPr>
          <a:xfrm>
            <a:off x="179280" y="436572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витационная постоянн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 равна силе, с которой притягиваются две частицы с массой по 1 килограмм каждая, находящиеся на расстоянии один метр друг от друг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6"/>
          <p:cNvSpPr/>
          <p:nvPr/>
        </p:nvSpPr>
        <p:spPr>
          <a:xfrm>
            <a:off x="436320" y="2205000"/>
            <a:ext cx="8271360" cy="1008360"/>
          </a:xfrm>
          <a:prstGeom prst="rect">
            <a:avLst/>
          </a:prstGeom>
          <a:solidFill>
            <a:srgbClr val="e6b9b8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6,67 • 10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1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 • м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кг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2"/>
          <p:cNvSpPr/>
          <p:nvPr/>
        </p:nvSpPr>
        <p:spPr>
          <a:xfrm>
            <a:off x="1979640" y="2708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iOgrSlzyF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"/>
          <p:cNvSpPr/>
          <p:nvPr/>
        </p:nvSpPr>
        <p:spPr>
          <a:xfrm>
            <a:off x="611280" y="1628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 изменится сила притяжения  между двумя  шарами, если один из них заменить другим, масса которого вдвое меньш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 изменится  сила притяжения  между двумя  шарами, если расстояние  между ними увеличить вдв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2"/>
          <p:cNvSpPr/>
          <p:nvPr/>
        </p:nvSpPr>
        <p:spPr>
          <a:xfrm>
            <a:off x="250920" y="119700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а корабля  массой 10000 т каждый стоят на  рейде на расстоянии 1  км  один от другого. Какова  сила притяжения  между ним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0,667 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ом  расстоянии сила притяжения  между двумя телами массой по 1000 кг  каждое будет равна 3,335 10-9 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40 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ва одинаковых шарика находятся на расстоянии 0,1 м друг от друга и притягиваются с силой 6,67 10-15 Н. Какова масса  каждого  шари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8T12:54:42Z</dcterms:created>
  <dc:creator>Таня</dc:creator>
  <dc:description/>
  <dc:language>en-US</dc:language>
  <cp:lastModifiedBy>word2</cp:lastModifiedBy>
  <dcterms:modified xsi:type="dcterms:W3CDTF">2020-12-25T18:38:33Z</dcterms:modified>
  <cp:revision>43</cp:revision>
  <dc:subject/>
  <dc:title>Презентация PowerPoint</dc:title>
</cp:coreProperties>
</file>