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22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CB2A7-6F85-4090-B119-F56A47795EE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C5139-4520-4ECB-BAD3-7EBA4C9722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09B3D-683A-45E8-A377-71F8BD6901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73D2-42E1-45A6-821F-FBD84276E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D090-CCFE-4A36-81D8-7A7DC2DD7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99BC28-1090-42D6-A961-923FCFD19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374DA1-516F-4E06-98F3-CC398974D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9CE48E-E411-4D24-96D5-5A34F4E0C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199895-42A0-4E41-9E0B-1B3A853B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C5A147-01F5-4537-876D-5F65AFDD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891B6D-10F8-4861-A617-124E046A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72ADEB-3F47-4EBB-8C94-E5510CD2D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901538-875F-49D4-833A-82DDE9596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B8D103-759A-4BCA-A560-8FFFC9748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119E02-0599-40ED-ACF8-99420F9F7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C6B9-9205-4DF9-890B-15DCB757E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C896B1-F675-4234-A497-E3BBF4EA7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C69047-3E9F-4B6A-AD4D-759C4D81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15D72D-B055-40B1-A07C-5679F3A47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1281B6-8B80-4CC7-9797-0A8652B69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9722F4-4DA3-4022-AAA5-6FD86FEDB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2D513A-BEFE-4B04-9094-878B2720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4C4963-B9E0-45A4-8D23-777A3CC8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E7E3D7-C4BB-4919-A78E-37D1B2C9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627D86-7D02-4C72-BA39-585209991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0CA93C-AA5A-4390-827A-C22CDB460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36F8-533A-4F26-B242-22F62AA05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E6912C-161D-4817-ADD2-B77B7AD56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70CF73-1362-49D4-A7E7-892E48598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3C6352-EFFB-4021-8F25-652DCF7FA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17CD88-0349-4351-B790-E990075D6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1DCB1E-B9DB-41F1-A59D-06793046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1B5186-7F7A-4ADD-8E45-F03677976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BAC47D-A1D7-4968-BA27-157F8CB57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0FDEDA-A070-46B4-ABE3-CEEE4B3F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0E7FDB-75BA-4330-8885-49CD0F05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6FB7CC-E453-4315-AEBE-2E7493CD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54DAE-B505-492C-A069-0FE0BD847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B60319-D9A2-484B-97A3-44DB31ABF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7F9559-D06A-46B9-B4E8-A3D7B97B3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1E35C6-7BD3-482E-A746-2844B9E59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16B4E4-6932-4FB7-8AF8-05A16516D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4F0EE3-7CDA-42F9-BB8F-30F5291D5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AB9DF4-896F-44FD-BBEA-835EE7624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0D6CBA-0BB4-4490-BCE1-0EDF4870A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DB57A3-2FFB-4159-B260-230548D31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72B6D1-A4A3-4B64-871B-4D6F52581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1F26BF-C097-4893-8A71-26B9CD3F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45104-5A7C-4366-BC36-A9047EFEF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6144BA-C76C-46CA-938B-5CEC2457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98F944-A5EC-4D9A-B409-FE79D89D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2E9937-CF1F-442A-9AD1-F87E68822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52DBB5-345E-45E1-884C-6745737E9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8F4A6E-A176-4EBD-9821-2A28D164B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BD82BB-9BFD-4B75-BF94-8A04E4351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DD00A5-A4AF-4FC9-8767-A7676061C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ADB037-7CE5-4B90-9C15-DD4E58BC5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37DACD-419E-4D35-AE75-8A48DE5A7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6B0271-0E04-4D78-8C8B-CFCFE4E4A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AB3AC-18E3-4178-A0FA-BB3D01280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17CB25-48C6-4957-A14B-5255B65B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04C51A-4B58-4F0F-9712-C7BE01CB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A9C9A5-077D-4051-9814-44837D25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3BF4CA-E4F4-4075-9608-1C05EDC6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111EA6-D20C-48C2-B3A6-226D4EE60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2E1A0D-114D-492C-B2F7-E561A4D72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079D52-3577-4C1B-BDD4-1E6E13391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F129A-F1C0-4CFF-A44C-0B5B741A8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81C29-33E7-4689-AC3F-2A426435B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0C9CE-44EA-4C09-B7CF-AFBEEE66E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68960-EDBA-47E9-B2C5-B9714172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A0C6-3EB3-40BE-B7E7-5A4057EBC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2AF3B-A117-4D3C-9ED0-086B6449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FDEC3-6AD9-4D04-B120-BD108219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6E4B2-3512-4DBE-96DF-7A87DFF54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37867-63CF-42A0-BCC6-B727EC7DD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BB814-69EF-4C8E-A908-9E53053F5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7C9C9-6F1A-4CDD-9744-9D8B83C42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54EBF-A786-4A67-B8CE-A7AD04D15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8D3D4-D7CD-441C-98CB-1B8BBD990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304C1-E5CB-46F8-B910-E2CB840E6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33AEE-06F4-419B-BBE8-BE3F60B22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9A88-52DE-488E-B53D-B2EFDA7CB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B9EB2-0DA7-44CB-82BB-F496E4168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09547-44ED-44A0-847C-7686FBCB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E3D67-4419-4FF4-A7C3-19E50AEE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09BEF-9C2C-4F3B-B606-FCF650B9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4437D-AD86-4F95-AAE5-1CEEC7F9D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5A1ED-DC9F-4BAD-B961-DCB064B3D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C31AE-A721-4856-87FD-6F411D5CA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25158-BA78-498B-9643-2F1A6CCC8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04394-37C2-4B04-82BF-8056B38FE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3C654-838D-429A-8E5E-FF4ED0F8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0D91-4BF4-432D-BDB0-2A4E9FECF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F2843-1395-4A81-B608-CC11DE06D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F1D7A-69DB-450F-ACE8-6E67E6972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E1643-A7E2-4CE5-8FD2-09082FDE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AD9BB-94A0-4F06-BF17-BCA8A89D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98D69-BD14-4EFA-B407-3DCA948D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C3518-89F5-4AED-A9FE-F941C33D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059B3-3869-4581-B095-8E5BDBBB3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7D7A7-BC0B-44D3-B9EC-CCB7EC8E6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BF08C-DBBC-4570-AA07-74F2D0D34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A6A50-0B52-4BC2-840C-DFFA173DD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FE6D-1817-4E22-86CE-1E47FCB28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D5F98-26CA-4852-BD5A-35600546F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E0E69-EB0A-45B7-A02B-8B76E603D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5C817-D9CA-46C5-908E-490276C09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CB881-1D80-49DB-B4C9-B3669B572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98025-A023-4C7E-BEBD-E01BC8891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AD5E9-E385-46D2-B337-11602B40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D9AE7-9C95-4C98-B4FA-FFC96F72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D7D35-3516-4838-B7DF-129F7EBB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197FF-5115-4777-906B-05AFB51E0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7546E-B4B7-4095-9EEF-6BA5B96B7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810A-2A2D-4BC8-ABD2-C84A1417F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AE45F-61C8-4197-9E42-2545DE5BD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6354A-5499-4705-B6E6-7E82C4B2A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A931CD-B510-46B8-91FD-6F0C03AB4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CDD87-3C6A-4DD3-84A1-3EE6E859A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B9F86-B527-441B-B9F4-41D754C4A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2FE6B-F47E-4375-B085-B426BF808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6F93C-8854-4121-8533-D51D7D41B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E6342-AA76-4968-B90A-BDBD2D09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C0BD4-6B86-4564-9989-AFD7A54B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0C7C9-FD94-405F-B0E6-11CED938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5567-BB19-4B77-B34C-72E2092B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E957A-56EE-4A4F-A695-8086A9F95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1EF6B-F35C-4EBF-8976-1D2DEF922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52FF0-C9F9-416E-AE1A-08DE36803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7D9152-CCCD-4680-9CA6-E0178EB30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F91B0F-9F48-45B0-9DC0-E27A06156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4EF038-DCE9-4856-8AC2-A9ACA7BDF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AE9395-72BB-4B40-A72C-B73675785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893727-8269-4490-9917-AB071F828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3BA803-7F4B-48EA-A928-F20BA35BA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74F0E6-313E-40DC-8D0D-DFC900F0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B2D8-A2FC-4F4D-A3C1-85F7B975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BE0B8-F74B-493E-9BBB-91FD70F0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CAFFCB-2B48-4474-8DAC-9310043F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300ED8-9A70-49B2-BCF2-E8D0B8562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510293-9E42-4B9F-AC59-630A2F79F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29EA88-9477-4598-ABFE-636748B6C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4B5583-33FF-4D56-83FC-5B2442D9C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825456-2A0D-4B77-81B2-032EE3CF7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F9100B-2785-460A-8C06-155B82AC0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70725C-50D8-4EEA-8639-5F56C9EFA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79EFA5-E2FD-4EC0-B380-9E61C4BD7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F6B2-81E1-4A1E-8CBE-A64E72AC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16122A-BF74-4509-8A43-46FA7E89C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F799B7-B570-4622-A137-00C980C7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5115C8-7998-42CB-A6F1-065B71B4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71C383-AA2D-40A2-8B67-A790E196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8AFF8E-5BA4-444A-AF19-4A1CB1C5A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1E18E1-60E1-4850-946B-B521FF6FC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47580B-789F-476B-A248-C8BEA9EAB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91C206-F466-4213-B016-B09E894A3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785560-B876-4072-9379-DB5BED057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118590-FE33-402C-AB2A-1326CE280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3CB7F-37CE-4966-9010-39251C136B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B2844-F3FF-4588-B7CA-E21B937F3A05}" type="slidenum">
              <a:rPr b="0" lang="ru-RU" sz="1200" spc="-1" strike="noStrike">
                <a:solidFill>
                  <a:srgbClr val="d38e2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D41D2-75AA-4F57-858C-E04859DF0EA8}" type="slidenum">
              <a:rPr b="0" lang="ru-RU" sz="1200" spc="-1" strike="noStrike">
                <a:solidFill>
                  <a:srgbClr val="d38e2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5C1DB-23B8-40BF-ACC2-2A37334000F1}" type="slidenum">
              <a:rPr b="0" lang="ru-RU" sz="1200" spc="-1" strike="noStrike">
                <a:solidFill>
                  <a:srgbClr val="d38e2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420BB-3AA7-46C2-9CB1-4638ADB9C528}" type="slidenum">
              <a:rPr b="0" lang="ru-RU" sz="1200" spc="-1" strike="noStrike">
                <a:solidFill>
                  <a:srgbClr val="d38e2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2D3C4-E4C1-4D32-BD11-227E3BB9C2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8A1DF-E809-4844-9665-1CCB470E628D}" type="slidenum">
              <a:rPr b="0" lang="ru-RU" sz="1200" spc="-1" strike="noStrike">
                <a:solidFill>
                  <a:srgbClr val="d38e2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A6200-9E1D-4A12-94DF-17602A89B9FF}" type="slidenum">
              <a:rPr b="0" lang="ru-RU" sz="1200" spc="-1" strike="noStrike">
                <a:solidFill>
                  <a:srgbClr val="d38e2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BB627-6DA3-4DA8-8767-0586BD3A3DB1}" type="slidenum">
              <a:rPr b="0" lang="ru-RU" sz="1200" spc="-1" strike="noStrike">
                <a:solidFill>
                  <a:srgbClr val="d38e2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6EFEB-206F-41FA-9AEB-F535B35C454E}" type="slidenum">
              <a:rPr b="0" lang="ru-RU" sz="1200" spc="-1" strike="noStrike">
                <a:solidFill>
                  <a:srgbClr val="d38e2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17B0C-B861-401F-8A1D-852AC5201738}" type="slidenum">
              <a:rPr b="0" lang="ru-RU" sz="1200" spc="-1" strike="noStrike">
                <a:solidFill>
                  <a:srgbClr val="d38e2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E844B-EB6B-48AE-BFC8-25EEA940DC8C}" type="slidenum">
              <a:rPr b="0" lang="ru-RU" sz="1200" spc="-1" strike="noStrike">
                <a:solidFill>
                  <a:srgbClr val="d38e2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0C986-D7DC-48DD-B080-F4A6282E2832}" type="slidenum">
              <a:rPr b="0" lang="ru-RU" sz="1200" spc="-1" strike="noStrike">
                <a:solidFill>
                  <a:srgbClr val="d38e2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s://www.youtube.com/watch?v=GgIFIFx3AS4&amp;ab_channel=StarMediaKids" TargetMode="External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hyperlink" Target="https://youtu.be/iOgrSlzyFMA" TargetMode="External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42" name="Picture 2" descr="Рисунок по физике для учеников 7 класса. Легкие срисовки."/>
          <p:cNvPicPr/>
          <p:nvPr/>
        </p:nvPicPr>
        <p:blipFill>
          <a:blip r:embed="rId1"/>
          <a:stretch/>
        </p:blipFill>
        <p:spPr>
          <a:xfrm>
            <a:off x="23760" y="17640"/>
            <a:ext cx="9180720" cy="6872040"/>
          </a:xfrm>
          <a:prstGeom prst="rect">
            <a:avLst/>
          </a:prstGeom>
          <a:ln w="0">
            <a:noFill/>
          </a:ln>
        </p:spPr>
      </p:pic>
      <p:sp>
        <p:nvSpPr>
          <p:cNvPr id="543" name="TextBox 3"/>
          <p:cNvSpPr/>
          <p:nvPr/>
        </p:nvSpPr>
        <p:spPr>
          <a:xfrm>
            <a:off x="7236000" y="5229360"/>
            <a:ext cx="190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рок для 7 клас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полнила учител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яконькая К.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72" name="Прямоугольник 2"/>
          <p:cNvSpPr/>
          <p:nvPr/>
        </p:nvSpPr>
        <p:spPr>
          <a:xfrm>
            <a:off x="250920" y="1197000"/>
            <a:ext cx="8785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а каком расстоянии друг от друга находятся два одинаковых шара массами по 20 т, если сила тяготения между ними 6,67•10-5 Н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вет: 20 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Масса Сатурна 5,7•1026 кг, а его радиус— 6•107 м. Определите ускорение свободного падения на Сатурн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вет: 10,6 м/с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*.Во сколько раз сила притяжения между Луной и Солнцем больше, чем сила притяжения между Луной и Землей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вет: в 2 ра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 txBox="1"/>
          <p:nvPr/>
        </p:nvSpPr>
        <p:spPr>
          <a:xfrm>
            <a:off x="2484000" y="3141360"/>
            <a:ext cx="4041720" cy="74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2"/>
              </a:rPr>
              <a:t>«На задней парте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2" descr="http://qrcoder.ru/code/?https%3A%2F%2Fdocs.google.com%2Fforms%2Fd%2Fe%2F1FAIpQLSfj_Ib7kHbr50zoayf0E_wq_0sNram2QEgdADg2-1T2qNTKxw%2Fviewform%3Fusp%3Dsf_link&amp;4&amp;0"/>
          <p:cNvPicPr/>
          <p:nvPr/>
        </p:nvPicPr>
        <p:blipFill>
          <a:blip r:embed="rId2"/>
          <a:stretch/>
        </p:blipFill>
        <p:spPr>
          <a:xfrm>
            <a:off x="2843280" y="1989000"/>
            <a:ext cx="3460680" cy="345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78" name="Прямоугольник 2"/>
          <p:cNvSpPr/>
          <p:nvPr/>
        </p:nvSpPr>
        <p:spPr>
          <a:xfrm>
            <a:off x="395280" y="141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граф 2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ышкин №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9" name="Picture 4" descr="http://qrcoder.ru/code/?%C4%EE%EC%E0%F8%ED%E5%E5+%E7%E0%E4%E0%ED%E8%E5+%EF%EE+%F3%F0%EE%EA%F3+%AB%C7%E0%EA%EE%ED+%E2%F1%E5%EC%E8%F0%ED%EE%E3%EE+%F2%FF%E3%EE%F2%E5%ED%E8%FF%BB%0D%0A%0D%0A%CF%E0%F0%E0%E3%F0%E0%F4+25.%0D%0A%CF%E5%F0%FB%F8%EA%E8%ED+%B9%B9&amp;4&amp;0"/>
          <p:cNvPicPr/>
          <p:nvPr/>
        </p:nvPicPr>
        <p:blipFill>
          <a:blip r:embed="rId2"/>
          <a:stretch/>
        </p:blipFill>
        <p:spPr>
          <a:xfrm>
            <a:off x="2916360" y="2421000"/>
            <a:ext cx="3106440" cy="310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Заголовок 3" descr=""/>
          <p:cNvPicPr/>
          <p:nvPr/>
        </p:nvPicPr>
        <p:blipFill>
          <a:blip r:embed="rId1"/>
          <a:stretch/>
        </p:blipFill>
        <p:spPr>
          <a:xfrm>
            <a:off x="324000" y="262080"/>
            <a:ext cx="8508960" cy="1139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5" name=""/>
          <p:cNvGraphicFramePr/>
          <p:nvPr/>
        </p:nvGraphicFramePr>
        <p:xfrm>
          <a:off x="468360" y="1557360"/>
          <a:ext cx="7920000" cy="4905360"/>
        </p:xfrm>
        <a:graphic>
          <a:graphicData uri="http://schemas.openxmlformats.org/drawingml/2006/table">
            <a:tbl>
              <a:tblPr/>
              <a:tblGrid>
                <a:gridCol w="3959280"/>
                <a:gridCol w="3960720"/>
              </a:tblGrid>
              <a:tr h="43164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кон всемирного тягот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3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Тонкие вопро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Толстые вопро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1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Что называется свободным падением тел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Почему в воздухе кусочек бумаги падает с меньшим ускорением, чем железный шарик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9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Что такое ускорение свободного падения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Действует ли сила тяжести на подброшенное вверх тело во время его подъем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С каким ускорением движется подброшенное вверх тело при отсутствии сопротивления воздух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Сформулируйте второй закон Ньютон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Какие явления, происходящие на Земле обусловлены взаимным притяжением Земли и Луны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.Почему космический корабль не летит прямолинейно по инерции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7" name=""/>
          <p:cNvGraphicFramePr/>
          <p:nvPr/>
        </p:nvGraphicFramePr>
        <p:xfrm>
          <a:off x="2916360" y="1628640"/>
          <a:ext cx="3274920" cy="741600"/>
        </p:xfrm>
        <a:graphic>
          <a:graphicData uri="http://schemas.openxmlformats.org/drawingml/2006/table">
            <a:tbl>
              <a:tblPr/>
              <a:tblGrid>
                <a:gridCol w="539640"/>
                <a:gridCol w="585720"/>
                <a:gridCol w="585720"/>
                <a:gridCol w="587520"/>
                <a:gridCol w="585720"/>
                <a:gridCol w="390600"/>
              </a:tblGrid>
              <a:tr h="741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8" name="Прямоугольник 3"/>
          <p:cNvSpPr/>
          <p:nvPr/>
        </p:nvSpPr>
        <p:spPr>
          <a:xfrm>
            <a:off x="468360" y="2708280"/>
            <a:ext cx="734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ицы измерения сил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3 закона носят его названи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нглийский физик, математик, механик и астроном, один из создателей классической физик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ченый, кому упало яблоко по голов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Прямоугольник 4"/>
          <p:cNvSpPr/>
          <p:nvPr/>
        </p:nvSpPr>
        <p:spPr>
          <a:xfrm>
            <a:off x="496080" y="530064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Исаак Ньюто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0" name="Рисунок 5" descr=""/>
          <p:cNvPicPr/>
          <p:nvPr/>
        </p:nvPicPr>
        <p:blipFill>
          <a:blip r:embed="rId2"/>
          <a:srcRect l="14714" t="34715" r="64382" b="56476"/>
          <a:stretch/>
        </p:blipFill>
        <p:spPr>
          <a:xfrm>
            <a:off x="4716360" y="5091120"/>
            <a:ext cx="3306960" cy="94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Рисунок 8" descr="21634568_102471723831.jpg"/>
          <p:cNvPicPr/>
          <p:nvPr/>
        </p:nvPicPr>
        <p:blipFill>
          <a:blip r:embed="rId1"/>
          <a:stretch/>
        </p:blipFill>
        <p:spPr>
          <a:xfrm>
            <a:off x="500040" y="428760"/>
            <a:ext cx="8143920" cy="5929200"/>
          </a:xfrm>
          <a:prstGeom prst="rect">
            <a:avLst/>
          </a:prstGeom>
          <a:ln w="0">
            <a:noFill/>
          </a:ln>
        </p:spPr>
      </p:pic>
      <p:pic>
        <p:nvPicPr>
          <p:cNvPr id="552" name="TextBox 2" descr=""/>
          <p:cNvPicPr/>
          <p:nvPr/>
        </p:nvPicPr>
        <p:blipFill>
          <a:blip r:embed="rId2"/>
          <a:srcRect l="0" t="0" r="0" b="10427"/>
          <a:stretch/>
        </p:blipFill>
        <p:spPr>
          <a:xfrm>
            <a:off x="1042920" y="1552680"/>
            <a:ext cx="7415280" cy="3840120"/>
          </a:xfrm>
          <a:prstGeom prst="rect">
            <a:avLst/>
          </a:prstGeom>
          <a:ln w="0">
            <a:noFill/>
          </a:ln>
        </p:spPr>
      </p:pic>
      <p:pic>
        <p:nvPicPr>
          <p:cNvPr id="553" name="Рисунок 4" descr="aea008.gif"/>
          <p:cNvPicPr/>
          <p:nvPr/>
        </p:nvPicPr>
        <p:blipFill>
          <a:blip r:embed="rId3"/>
          <a:stretch/>
        </p:blipFill>
        <p:spPr>
          <a:xfrm>
            <a:off x="6559560" y="2627280"/>
            <a:ext cx="291960" cy="249120"/>
          </a:xfrm>
          <a:prstGeom prst="rect">
            <a:avLst/>
          </a:prstGeom>
          <a:ln w="0">
            <a:noFill/>
          </a:ln>
        </p:spPr>
      </p:pic>
      <p:pic>
        <p:nvPicPr>
          <p:cNvPr id="554" name="Рисунок 5" descr="aea008.gif"/>
          <p:cNvPicPr/>
          <p:nvPr/>
        </p:nvPicPr>
        <p:blipFill>
          <a:blip r:embed="rId4"/>
          <a:stretch/>
        </p:blipFill>
        <p:spPr>
          <a:xfrm>
            <a:off x="6486480" y="6059520"/>
            <a:ext cx="200160" cy="169920"/>
          </a:xfrm>
          <a:prstGeom prst="rect">
            <a:avLst/>
          </a:prstGeom>
          <a:ln w="0">
            <a:noFill/>
          </a:ln>
        </p:spPr>
      </p:pic>
      <p:pic>
        <p:nvPicPr>
          <p:cNvPr id="555" name="Рисунок 6" descr="aea008.gif"/>
          <p:cNvPicPr/>
          <p:nvPr/>
        </p:nvPicPr>
        <p:blipFill>
          <a:blip r:embed="rId5"/>
          <a:stretch/>
        </p:blipFill>
        <p:spPr>
          <a:xfrm>
            <a:off x="7845480" y="5126040"/>
            <a:ext cx="384120" cy="336600"/>
          </a:xfrm>
          <a:prstGeom prst="rect">
            <a:avLst/>
          </a:prstGeom>
          <a:ln w="0">
            <a:noFill/>
          </a:ln>
        </p:spPr>
      </p:pic>
      <p:pic>
        <p:nvPicPr>
          <p:cNvPr id="556" name="Рисунок 7" descr="aea008.gif"/>
          <p:cNvPicPr/>
          <p:nvPr/>
        </p:nvPicPr>
        <p:blipFill>
          <a:blip r:embed="rId6"/>
          <a:stretch/>
        </p:blipFill>
        <p:spPr>
          <a:xfrm>
            <a:off x="701640" y="5273640"/>
            <a:ext cx="212760" cy="18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Заголовок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14" descr="newton"/>
          <p:cNvPicPr/>
          <p:nvPr/>
        </p:nvPicPr>
        <p:blipFill>
          <a:blip r:embed="rId2"/>
          <a:stretch/>
        </p:blipFill>
        <p:spPr>
          <a:xfrm>
            <a:off x="6291360" y="1295280"/>
            <a:ext cx="2700360" cy="3600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mc:AlternateContent>
        <mc:Choice xmlns:a14="http://schemas.microsoft.com/office/drawing/2010/main" Requires="a14">
          <p:sp>
            <p:nvSpPr>
              <p:cNvPr id="559" name="Object 2"/>
              <p:cNvSpPr txBox="1"/>
              <p:nvPr/>
            </p:nvSpPr>
            <p:spPr>
              <a:xfrm>
                <a:off x="1258920" y="1700280"/>
                <a:ext cx="3598920" cy="18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G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0" name="Прямоугольник 1"/>
          <p:cNvSpPr/>
          <p:nvPr/>
        </p:nvSpPr>
        <p:spPr>
          <a:xfrm>
            <a:off x="179280" y="4365720"/>
            <a:ext cx="6112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ва любых тела притягиваются друг к другу с силой, модуль которой прямо пропорционален произведению их масс и обратно пропорционален квадрату расстояния между ним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62" name="Прямоугольник 5"/>
          <p:cNvSpPr/>
          <p:nvPr/>
        </p:nvSpPr>
        <p:spPr>
          <a:xfrm>
            <a:off x="179280" y="4365720"/>
            <a:ext cx="871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равитационная постоянная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енно равна силе, с которой притягиваются две частицы с массой по 1 килограмм каждая, находящиеся на расстоянии один метр друг от друга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Прямоугольник 6"/>
          <p:cNvSpPr/>
          <p:nvPr/>
        </p:nvSpPr>
        <p:spPr>
          <a:xfrm>
            <a:off x="436320" y="2205000"/>
            <a:ext cx="8271360" cy="1008360"/>
          </a:xfrm>
          <a:prstGeom prst="rect">
            <a:avLst/>
          </a:prstGeom>
          <a:solidFill>
            <a:srgbClr val="e6b9b8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 = 6,67 • 10</a:t>
            </a:r>
            <a:r>
              <a:rPr b="0" lang="ru-RU" sz="6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1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 • м</a:t>
            </a:r>
            <a:r>
              <a:rPr b="0" lang="ru-RU" sz="6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кг</a:t>
            </a:r>
            <a:r>
              <a:rPr b="0" lang="ru-RU" sz="6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6216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66" name="Прямоугольник 2"/>
          <p:cNvSpPr/>
          <p:nvPr/>
        </p:nvSpPr>
        <p:spPr>
          <a:xfrm>
            <a:off x="1979640" y="2708280"/>
            <a:ext cx="53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s://youtu.be/iOgrSlzyF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68" name="Прямоугольник 2"/>
          <p:cNvSpPr/>
          <p:nvPr/>
        </p:nvSpPr>
        <p:spPr>
          <a:xfrm>
            <a:off x="611280" y="1628640"/>
            <a:ext cx="8064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Как изменится сила притяжения  между двумя  шарами, если один из них заменить другим, масса которого вдвое меньше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к  изменится  сила притяжения  между двумя  шарами, если расстояние  между ними увеличить вдвое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70" name="Прямоугольник 2"/>
          <p:cNvSpPr/>
          <p:nvPr/>
        </p:nvSpPr>
        <p:spPr>
          <a:xfrm>
            <a:off x="250920" y="1197000"/>
            <a:ext cx="8785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Два корабля  массой 10000 т каждый стоят на  рейде на расстоянии 1  км  один от другого. Какова  сила притяжения  между ними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вет: 0,667 Н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а каком  расстоянии сила притяжения  между двумя телами массой по 1000 кг  каждое будет равна 3,335 10-9 Н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вет: 140 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Два одинаковых шарика находятся на расстоянии 0,1 м друг от друга и притягиваются с силой 6,67 10-15 Н. Какова масса  каждого  шарика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вет: 1 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2-08T12:54:42Z</dcterms:created>
  <dc:creator>Таня</dc:creator>
  <dc:description/>
  <dc:language>en-US</dc:language>
  <cp:lastModifiedBy>word2</cp:lastModifiedBy>
  <dcterms:modified xsi:type="dcterms:W3CDTF">2020-12-25T18:38:33Z</dcterms:modified>
  <cp:revision>43</cp:revision>
  <dc:subject/>
  <dc:title>Презентация PowerPoint</dc:title>
</cp:coreProperties>
</file>