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BED-5FEB-4415-9864-0A871AEE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93A-716F-4339-B787-D983848E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805B-A14E-48DE-9A3E-A7ABFF8C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6973-A0A9-4DEA-B06E-267A0B04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F420-D582-4BCF-9D22-2237C08A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4ECA-207E-446B-89CF-1D3DA9A3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64FC-2EB1-4514-BACB-40A1D9CB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E907-E38B-4980-A6CD-6B12C6DE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34F2-589E-4EEA-B640-A072A177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39D4-6F49-41D9-9FCE-1CDFEBE5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A79A-B728-491A-B853-7C218604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C99-6A7C-4DDC-A85F-13233B10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0C6D-CCBD-416E-84CE-87D0E6C9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C4C3-0020-48F1-A5AA-64915894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6555-26E2-48D9-A951-34B16912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D97D-7012-448F-8AAB-7EFAE646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62C8-15EA-4207-835A-889ABECA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D7681-E54F-4721-BF0E-9800373F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D5443-48F1-4A59-950D-28BBA63E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DD96E-88DE-4051-A772-2BAF4245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8BC9F-FAD7-4347-8B11-E0AA3183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EA3EB-7F73-47E5-9DAC-F50A13AC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F2C-9C4E-4C3B-87C3-B2B2F832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67F43-2A90-48FF-9E2E-CC59BE57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F885E-C8FE-4A50-840D-D97D662A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F5AD4-4E25-48D8-BF57-14656004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1F2B9-DEE4-4EE7-B7C9-1820D1D3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9C9BB-EB5C-4C70-91D5-C19DFAC5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5320F-818E-4013-8CF7-04E8807D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C7A2D-7C8E-4682-A17B-557DC575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D6896-4CA1-4449-BCCC-E5FFAE0B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B5733-6877-4177-B3F2-DA04DF72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E9281-A60B-40BD-A1C8-2064BA79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EB3-22A7-4CDE-98DB-CC5E4AD4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6BE2B-F3C0-4D36-B390-91705B52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D1672-6CF3-499A-969B-C2827A5B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354E2-EE3E-4E00-909C-FDD5CF36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78B5C-74A0-4A97-9E02-7269A385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CFB64-8D31-49B0-A428-76F267CE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054D5-B240-4FB6-A991-BDC89184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F5A55-640F-410C-B820-D5F4B85F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2F8D5-65A7-4F3C-AA00-89F08266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1FE91-B8CE-4630-AB12-920D0674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332A-F964-49A9-8512-F9A79553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7B4-6AF2-4C0B-96A5-A642F0DA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E2B0-D8C7-4D8E-A7F0-23491DE7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CE46-B794-4A43-ADF7-42C1A1F5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D11D-0FD1-4400-B896-B2B8E77F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00A6-62B6-4D1C-882A-41A16553A1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F46D-6B5D-4503-940D-AB0A74D0D9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7DA4-3B99-469F-B27C-872FFBE29F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10F8-DB35-487A-987A-AD654961B8A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fsd.multiurok.ru/html/2018/02/14/s_5a83a010f1e28/img5.jpg" TargetMode="External"/><Relationship Id="rId2" Type="http://schemas.openxmlformats.org/officeDocument/2006/relationships/hyperlink" Target="https://fsd.multiurok.ru/html/2018/02/14/s_5a83a010f1e28/img1.jpg" TargetMode="External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мплект заданий на лексическое соответствие по названиям жилых помещений в рамках раздела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УМК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potlight”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ласса общеобразовательной школ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Подзаголовок 6"/>
          <p:cNvSpPr/>
          <p:nvPr/>
        </p:nvSpPr>
        <p:spPr>
          <a:xfrm>
            <a:off x="2268360" y="3860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английского языка МОУ «СОШ№16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агнитогор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чева А.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10"/>
          <p:cNvSpPr/>
          <p:nvPr/>
        </p:nvSpPr>
        <p:spPr>
          <a:xfrm>
            <a:off x="2490840" y="3789360"/>
            <a:ext cx="3744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280" y="337680"/>
            <a:ext cx="645156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одпись к рису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71640" y="4869000"/>
          <a:ext cx="7488000" cy="1304640"/>
        </p:xfrm>
        <a:graphic>
          <a:graphicData uri="http://schemas.openxmlformats.org/drawingml/2006/table">
            <a:tbl>
              <a:tblPr/>
              <a:tblGrid>
                <a:gridCol w="1684080"/>
                <a:gridCol w="1555920"/>
                <a:gridCol w="1944720"/>
                <a:gridCol w="2303280"/>
              </a:tblGrid>
              <a:tr h="130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tch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oo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throo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9" name="Прямоугольник 8"/>
          <p:cNvSpPr/>
          <p:nvPr/>
        </p:nvSpPr>
        <p:spPr>
          <a:xfrm>
            <a:off x="1187280" y="5445000"/>
            <a:ext cx="1432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rd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"/>
          <p:cNvPicPr/>
          <p:nvPr/>
        </p:nvPicPr>
        <p:blipFill>
          <a:blip r:embed="rId2"/>
          <a:stretch/>
        </p:blipFill>
        <p:spPr>
          <a:xfrm>
            <a:off x="2987640" y="1268280"/>
            <a:ext cx="292752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27475E-006 L 0.24271 -0.23913 E">
                                      <p:cBhvr>
                                        <p:cTn id="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10"/>
          <p:cNvSpPr/>
          <p:nvPr/>
        </p:nvSpPr>
        <p:spPr>
          <a:xfrm>
            <a:off x="2490840" y="3789360"/>
            <a:ext cx="3744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000" y="255600"/>
            <a:ext cx="645156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одпись к рису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42960" y="4764240"/>
          <a:ext cx="8250120" cy="1126800"/>
        </p:xfrm>
        <a:graphic>
          <a:graphicData uri="http://schemas.openxmlformats.org/drawingml/2006/table">
            <a:tbl>
              <a:tblPr/>
              <a:tblGrid>
                <a:gridCol w="1768320"/>
                <a:gridCol w="2409840"/>
                <a:gridCol w="2009880"/>
                <a:gridCol w="2062080"/>
              </a:tblGrid>
              <a:tr h="112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tch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oo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5" name="Прямоугольник 8"/>
          <p:cNvSpPr/>
          <p:nvPr/>
        </p:nvSpPr>
        <p:spPr>
          <a:xfrm>
            <a:off x="2293920" y="5157720"/>
            <a:ext cx="25099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ing roo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Рисунок 2" descr=""/>
          <p:cNvPicPr/>
          <p:nvPr/>
        </p:nvPicPr>
        <p:blipFill>
          <a:blip r:embed="rId1"/>
          <a:srcRect l="6923" t="0" r="6923" b="0"/>
          <a:stretch/>
        </p:blipFill>
        <p:spPr>
          <a:xfrm>
            <a:off x="2771640" y="1038240"/>
            <a:ext cx="318780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48148E-006 L 0.10417 -0.18889 E">
                                      <p:cBhvr>
                                        <p:cTn id="16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10"/>
          <p:cNvSpPr/>
          <p:nvPr/>
        </p:nvSpPr>
        <p:spPr>
          <a:xfrm>
            <a:off x="2490840" y="3789360"/>
            <a:ext cx="3744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280" y="337680"/>
            <a:ext cx="645156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одпись к рису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71640" y="4869000"/>
          <a:ext cx="7921440" cy="1304640"/>
        </p:xfrm>
        <a:graphic>
          <a:graphicData uri="http://schemas.openxmlformats.org/drawingml/2006/table">
            <a:tbl>
              <a:tblPr/>
              <a:tblGrid>
                <a:gridCol w="1782720"/>
                <a:gridCol w="1977840"/>
                <a:gridCol w="1689120"/>
                <a:gridCol w="2471760"/>
              </a:tblGrid>
              <a:tr h="130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tch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ving roo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0" name="Прямоугольник 8"/>
          <p:cNvSpPr/>
          <p:nvPr/>
        </p:nvSpPr>
        <p:spPr>
          <a:xfrm>
            <a:off x="971640" y="5504040"/>
            <a:ext cx="199872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hroo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Рисунок 2" descr=""/>
          <p:cNvPicPr/>
          <p:nvPr/>
        </p:nvPicPr>
        <p:blipFill>
          <a:blip r:embed="rId1"/>
          <a:srcRect l="7414" t="0" r="7414" b="0"/>
          <a:stretch/>
        </p:blipFill>
        <p:spPr>
          <a:xfrm>
            <a:off x="2703600" y="1189080"/>
            <a:ext cx="298764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44444E-006 L 0.24271 -0.23912 E">
                                      <p:cBhvr>
                                        <p:cTn id="26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0"/>
          <p:cNvSpPr/>
          <p:nvPr/>
        </p:nvSpPr>
        <p:spPr>
          <a:xfrm>
            <a:off x="2490840" y="3789360"/>
            <a:ext cx="3744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37960" y="404280"/>
            <a:ext cx="645156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одпись к рису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187280" y="4869000"/>
          <a:ext cx="7561440" cy="1304640"/>
        </p:xfrm>
        <a:graphic>
          <a:graphicData uri="http://schemas.openxmlformats.org/drawingml/2006/table">
            <a:tbl>
              <a:tblPr/>
              <a:tblGrid>
                <a:gridCol w="1560600"/>
                <a:gridCol w="2030400"/>
                <a:gridCol w="2079720"/>
                <a:gridCol w="1890720"/>
              </a:tblGrid>
              <a:tr h="130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ag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tch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5" name="Прямоугольник 8"/>
          <p:cNvSpPr/>
          <p:nvPr/>
        </p:nvSpPr>
        <p:spPr>
          <a:xfrm>
            <a:off x="4643280" y="5410080"/>
            <a:ext cx="1944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droo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Рисунок 2" descr=""/>
          <p:cNvPicPr/>
          <p:nvPr/>
        </p:nvPicPr>
        <p:blipFill>
          <a:blip r:embed="rId1"/>
          <a:srcRect l="14979" t="0" r="14979" b="0"/>
          <a:stretch/>
        </p:blipFill>
        <p:spPr>
          <a:xfrm>
            <a:off x="2627280" y="1138320"/>
            <a:ext cx="32749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-0.14201 -0.22547 E">
                                      <p:cBhvr>
                                        <p:cTn id="36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0"/>
          <p:cNvSpPr/>
          <p:nvPr/>
        </p:nvSpPr>
        <p:spPr>
          <a:xfrm>
            <a:off x="2490840" y="3789360"/>
            <a:ext cx="3744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000" y="255600"/>
            <a:ext cx="645156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одпись к рису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42960" y="4764240"/>
          <a:ext cx="7440480" cy="941400"/>
        </p:xfrm>
        <a:graphic>
          <a:graphicData uri="http://schemas.openxmlformats.org/drawingml/2006/table">
            <a:tbl>
              <a:tblPr/>
              <a:tblGrid>
                <a:gridCol w="1535040"/>
                <a:gridCol w="2233800"/>
                <a:gridCol w="1811160"/>
                <a:gridCol w="1860480"/>
              </a:tblGrid>
              <a:tr h="941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l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itch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droo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Прямоугольник 8"/>
          <p:cNvSpPr/>
          <p:nvPr/>
        </p:nvSpPr>
        <p:spPr>
          <a:xfrm>
            <a:off x="2490840" y="4946760"/>
            <a:ext cx="179388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Рисунок 2" descr=""/>
          <p:cNvPicPr/>
          <p:nvPr/>
        </p:nvPicPr>
        <p:blipFill>
          <a:blip r:embed="rId1"/>
          <a:srcRect l="8538" t="0" r="8538" b="0"/>
          <a:stretch/>
        </p:blipFill>
        <p:spPr>
          <a:xfrm>
            <a:off x="2700360" y="1077840"/>
            <a:ext cx="289080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444E-006 L 0.09809 -0.1581 E">
                                      <p:cBhvr>
                                        <p:cTn id="4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10"/>
          <p:cNvSpPr/>
          <p:nvPr/>
        </p:nvSpPr>
        <p:spPr>
          <a:xfrm>
            <a:off x="2490840" y="3789360"/>
            <a:ext cx="3744720" cy="71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37960" y="404280"/>
            <a:ext cx="645156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подпись к рисун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187280" y="4869000"/>
          <a:ext cx="7561440" cy="1304640"/>
        </p:xfrm>
        <a:graphic>
          <a:graphicData uri="http://schemas.openxmlformats.org/drawingml/2006/table">
            <a:tbl>
              <a:tblPr/>
              <a:tblGrid>
                <a:gridCol w="1560600"/>
                <a:gridCol w="2030400"/>
                <a:gridCol w="2079720"/>
                <a:gridCol w="1890720"/>
              </a:tblGrid>
              <a:tr h="130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rd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l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u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" name="Прямоугольник 8"/>
          <p:cNvSpPr/>
          <p:nvPr/>
        </p:nvSpPr>
        <p:spPr>
          <a:xfrm>
            <a:off x="4643280" y="5410080"/>
            <a:ext cx="1944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ch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Рисунок 2" descr=""/>
          <p:cNvPicPr/>
          <p:nvPr/>
        </p:nvPicPr>
        <p:blipFill>
          <a:blip r:embed="rId1"/>
          <a:srcRect l="8350" t="0" r="8350" b="0"/>
          <a:stretch/>
        </p:blipFill>
        <p:spPr>
          <a:xfrm>
            <a:off x="2627280" y="1060560"/>
            <a:ext cx="3384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6296E-006 L -0.14201 -0.22547 E">
                                      <p:cBhvr>
                                        <p:cTn id="56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63440"/>
            <a:ext cx="82296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график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96720" y="204948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s://fsd.multiurok.ru/html/2018/02/14/s_5a83a010f1e28/img5.jp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s://fsd.multiurok.ru/html/2018/02/14/s_5a83a010f1e28/img1.jp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fsd.multiurok.ru/html/2018/02/14/s_5a83a010f1e28/img6.jp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cf3.ppt-online.org/files3/slide/c/C4mEwscQOKS8jVlnvgHbLY5UtR3ZWk2yB9FTND/slide-7.jp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fsd.multiurok.ru/html/2018/02/14/s_5a83a010f1e28/img4.jp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ds05.infourok.ru/uploads/ex/0774/0001055b-688eac99/img2.jp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7T14:49:35Z</dcterms:created>
  <dc:creator>User</dc:creator>
  <dc:description/>
  <dc:language>en-US</dc:language>
  <cp:lastModifiedBy>Альбина Карачева</cp:lastModifiedBy>
  <dcterms:modified xsi:type="dcterms:W3CDTF">2023-12-10T10:55:53Z</dcterms:modified>
  <cp:revision>17</cp:revision>
  <dc:subject/>
  <dc:title>Презентация PowerPoint</dc:title>
</cp:coreProperties>
</file>