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2FF-372C-4606-A122-6C2172AA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3EB-308F-4850-9D3C-1FB98929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A56-E766-4A6B-88F6-BBEF81FB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C13-AF31-45A3-BF6C-CD2ED608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BECA-D5F9-4D42-A66A-87663D18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3785-420D-4BE9-AEEA-04E74D7C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D8A4-CB27-44F9-9492-657A776D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9AF0-2066-41F0-B450-27675594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2F49-5199-49FB-B9C3-DDD3AAB9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ABA8-5658-4D0F-A93A-4BD77BCE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350D-FE93-4172-9A2C-E26240E5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2D6-DBFA-4417-83E7-3A885590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6004-A5AF-4449-BE1B-E8658A0B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BCAE-8BE8-470A-AB94-9A0187DE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8999-B857-4417-BE97-D9F367DB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52F2-B756-42FD-BCB9-C6556A4C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67B6-2E81-4712-BB53-E5171FB3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8FB12-3557-47D1-87FF-54E13FAF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E6865-0FAE-4017-AAC6-94B556C7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CE3DA-1197-4F77-BAEF-67352370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C0A26-6E12-4968-AA61-FB2BCAC7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F0B90-5AA1-4232-A7F4-758EA2AD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F38-0DC2-40D6-8C55-D6B5A17E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04F33-2924-447F-BAF2-1ABB06B6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4A0AD-DEA7-4A7D-B625-06685FD5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29B15-8EAD-4D17-941B-189051D4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CB74-F4DD-4C9A-AC46-A5DF909F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18829-AFC6-4FA0-96B5-DA202808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CB2EC-B609-4268-BD75-E5CD4980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B77B4-B2A1-4336-A210-64F4F78C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2F738-533B-4AEF-A824-BFB7C30A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FB6B6-6476-4A45-B1CE-9E1D40C3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8BC55-66E1-49A5-AE5B-365ACE19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24B-3229-497D-B678-E46BFD55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CC51A-962F-4629-96DF-43F285C6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F1EDC-84E6-4A0A-BF1E-8B352440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D250A-EEE7-4556-AF6E-528B78A5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26ED2-559D-403D-AD30-232B553C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5E1CD-C8C0-4F6F-BC1C-ECCA65B2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9785E-FE7C-49ED-B8B2-8013950D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5879-F1F7-4280-85B9-6BCA25E6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E1F4C-B2A9-4293-8529-FA9E7302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02845-1DAB-4815-844A-FB104AAE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0FE-663A-4FAB-BA2F-88F4BDDB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A6F-AF21-4887-A1DB-31769448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6EA-FBD3-437B-8D63-484E2C30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8D3-705B-4C27-9058-76590B06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C24-601B-4B2B-8E04-CE543353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5F9D-9683-4790-9A22-BEDDB4FF45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0002-E7AB-4F3A-BF10-D8B81E8798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3FD0-216E-4220-B36B-9F2D9CA31D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FF72-4BDD-4419-B997-FE8169E28BA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fsd.multiurok.ru/html/2018/02/14/s_5a83a010f1e28/img5.jpg" TargetMode="External"/><Relationship Id="rId2" Type="http://schemas.openxmlformats.org/officeDocument/2006/relationships/hyperlink" Target="https://fsd.multiurok.ru/html/2018/02/14/s_5a83a010f1e28/img1.jpg" TargetMode="External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мплект заданий на лексическое соответствие по названиям жилых помещений в рамках раздела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МК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potlight”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сса общеобразовательной школ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одзаголовок 6"/>
          <p:cNvSpPr/>
          <p:nvPr/>
        </p:nvSpPr>
        <p:spPr>
          <a:xfrm>
            <a:off x="226836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английского языка МОУ «СОШ№16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агнитогор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чева А.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0"/>
          <p:cNvSpPr/>
          <p:nvPr/>
        </p:nvSpPr>
        <p:spPr>
          <a:xfrm>
            <a:off x="2490840" y="3789360"/>
            <a:ext cx="3744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337680"/>
            <a:ext cx="645156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одпись к рису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71640" y="4869000"/>
          <a:ext cx="7488000" cy="1304640"/>
        </p:xfrm>
        <a:graphic>
          <a:graphicData uri="http://schemas.openxmlformats.org/drawingml/2006/table">
            <a:tbl>
              <a:tblPr/>
              <a:tblGrid>
                <a:gridCol w="1684080"/>
                <a:gridCol w="1555920"/>
                <a:gridCol w="1944720"/>
                <a:gridCol w="2303280"/>
              </a:tblGrid>
              <a:tr h="130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tch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oo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throo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9" name="Прямоугольник 8"/>
          <p:cNvSpPr/>
          <p:nvPr/>
        </p:nvSpPr>
        <p:spPr>
          <a:xfrm>
            <a:off x="1187280" y="5445000"/>
            <a:ext cx="1432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"/>
          <p:cNvPicPr/>
          <p:nvPr/>
        </p:nvPicPr>
        <p:blipFill>
          <a:blip r:embed="rId2"/>
          <a:stretch/>
        </p:blipFill>
        <p:spPr>
          <a:xfrm>
            <a:off x="2987640" y="1268280"/>
            <a:ext cx="29275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27475E-006 L 0.24271 -0.23913 E">
                                      <p:cBhvr>
                                        <p:cTn id="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0"/>
          <p:cNvSpPr/>
          <p:nvPr/>
        </p:nvSpPr>
        <p:spPr>
          <a:xfrm>
            <a:off x="2490840" y="3789360"/>
            <a:ext cx="3744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255600"/>
            <a:ext cx="645156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одпись к рису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42960" y="4764240"/>
          <a:ext cx="8250120" cy="1126800"/>
        </p:xfrm>
        <a:graphic>
          <a:graphicData uri="http://schemas.openxmlformats.org/drawingml/2006/table">
            <a:tbl>
              <a:tblPr/>
              <a:tblGrid>
                <a:gridCol w="1768320"/>
                <a:gridCol w="2409840"/>
                <a:gridCol w="2009880"/>
                <a:gridCol w="2062080"/>
              </a:tblGrid>
              <a:tr h="112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tch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oo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5" name="Прямоугольник 8"/>
          <p:cNvSpPr/>
          <p:nvPr/>
        </p:nvSpPr>
        <p:spPr>
          <a:xfrm>
            <a:off x="2293920" y="5157720"/>
            <a:ext cx="25099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ing ro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2" descr=""/>
          <p:cNvPicPr/>
          <p:nvPr/>
        </p:nvPicPr>
        <p:blipFill>
          <a:blip r:embed="rId1"/>
          <a:srcRect l="6923" t="0" r="6923" b="0"/>
          <a:stretch/>
        </p:blipFill>
        <p:spPr>
          <a:xfrm>
            <a:off x="2771640" y="1038240"/>
            <a:ext cx="31878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48148E-006 L 0.10417 -0.18889 E">
                                      <p:cBhvr>
                                        <p:cTn id="1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0"/>
          <p:cNvSpPr/>
          <p:nvPr/>
        </p:nvSpPr>
        <p:spPr>
          <a:xfrm>
            <a:off x="2490840" y="3789360"/>
            <a:ext cx="3744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337680"/>
            <a:ext cx="645156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одпись к рису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71640" y="4869000"/>
          <a:ext cx="7921440" cy="1304640"/>
        </p:xfrm>
        <a:graphic>
          <a:graphicData uri="http://schemas.openxmlformats.org/drawingml/2006/table">
            <a:tbl>
              <a:tblPr/>
              <a:tblGrid>
                <a:gridCol w="1782720"/>
                <a:gridCol w="1977840"/>
                <a:gridCol w="1689120"/>
                <a:gridCol w="2471760"/>
              </a:tblGrid>
              <a:tr h="130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tch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ving roo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Прямоугольник 8"/>
          <p:cNvSpPr/>
          <p:nvPr/>
        </p:nvSpPr>
        <p:spPr>
          <a:xfrm>
            <a:off x="971640" y="5504040"/>
            <a:ext cx="19987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hro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Рисунок 2" descr=""/>
          <p:cNvPicPr/>
          <p:nvPr/>
        </p:nvPicPr>
        <p:blipFill>
          <a:blip r:embed="rId1"/>
          <a:srcRect l="7414" t="0" r="7414" b="0"/>
          <a:stretch/>
        </p:blipFill>
        <p:spPr>
          <a:xfrm>
            <a:off x="2703600" y="1189080"/>
            <a:ext cx="298764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0.24271 -0.23912 E">
                                      <p:cBhvr>
                                        <p:cTn id="26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0"/>
          <p:cNvSpPr/>
          <p:nvPr/>
        </p:nvSpPr>
        <p:spPr>
          <a:xfrm>
            <a:off x="2490840" y="3789360"/>
            <a:ext cx="3744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37960" y="404280"/>
            <a:ext cx="645156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одпись к рису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87280" y="4869000"/>
          <a:ext cx="7561440" cy="1304640"/>
        </p:xfrm>
        <a:graphic>
          <a:graphicData uri="http://schemas.openxmlformats.org/drawingml/2006/table">
            <a:tbl>
              <a:tblPr/>
              <a:tblGrid>
                <a:gridCol w="1560600"/>
                <a:gridCol w="2030400"/>
                <a:gridCol w="2079720"/>
                <a:gridCol w="1890720"/>
              </a:tblGrid>
              <a:tr h="130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tch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5" name="Прямоугольник 8"/>
          <p:cNvSpPr/>
          <p:nvPr/>
        </p:nvSpPr>
        <p:spPr>
          <a:xfrm>
            <a:off x="4643280" y="5410080"/>
            <a:ext cx="1944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dro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Рисунок 2" descr=""/>
          <p:cNvPicPr/>
          <p:nvPr/>
        </p:nvPicPr>
        <p:blipFill>
          <a:blip r:embed="rId1"/>
          <a:srcRect l="14979" t="0" r="14979" b="0"/>
          <a:stretch/>
        </p:blipFill>
        <p:spPr>
          <a:xfrm>
            <a:off x="2627280" y="1138320"/>
            <a:ext cx="3274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14201 -0.22547 E">
                                      <p:cBhvr>
                                        <p:cTn id="3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0"/>
          <p:cNvSpPr/>
          <p:nvPr/>
        </p:nvSpPr>
        <p:spPr>
          <a:xfrm>
            <a:off x="2490840" y="3789360"/>
            <a:ext cx="3744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255600"/>
            <a:ext cx="645156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одпись к рису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42960" y="4764240"/>
          <a:ext cx="7440480" cy="941400"/>
        </p:xfrm>
        <a:graphic>
          <a:graphicData uri="http://schemas.openxmlformats.org/drawingml/2006/table">
            <a:tbl>
              <a:tblPr/>
              <a:tblGrid>
                <a:gridCol w="1535040"/>
                <a:gridCol w="2233800"/>
                <a:gridCol w="1811160"/>
                <a:gridCol w="1860480"/>
              </a:tblGrid>
              <a:tr h="94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l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tch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oo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Прямоугольник 8"/>
          <p:cNvSpPr/>
          <p:nvPr/>
        </p:nvSpPr>
        <p:spPr>
          <a:xfrm>
            <a:off x="2490840" y="4946760"/>
            <a:ext cx="179388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Рисунок 2" descr=""/>
          <p:cNvPicPr/>
          <p:nvPr/>
        </p:nvPicPr>
        <p:blipFill>
          <a:blip r:embed="rId1"/>
          <a:srcRect l="8538" t="0" r="8538" b="0"/>
          <a:stretch/>
        </p:blipFill>
        <p:spPr>
          <a:xfrm>
            <a:off x="2700360" y="1077840"/>
            <a:ext cx="28908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444E-006 L 0.09809 -0.1581 E">
                                      <p:cBhvr>
                                        <p:cTn id="4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0"/>
          <p:cNvSpPr/>
          <p:nvPr/>
        </p:nvSpPr>
        <p:spPr>
          <a:xfrm>
            <a:off x="2490840" y="3789360"/>
            <a:ext cx="3744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37960" y="404280"/>
            <a:ext cx="645156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одпись к рису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87280" y="4869000"/>
          <a:ext cx="7561440" cy="1304640"/>
        </p:xfrm>
        <a:graphic>
          <a:graphicData uri="http://schemas.openxmlformats.org/drawingml/2006/table">
            <a:tbl>
              <a:tblPr/>
              <a:tblGrid>
                <a:gridCol w="1560600"/>
                <a:gridCol w="2030400"/>
                <a:gridCol w="2079720"/>
                <a:gridCol w="1890720"/>
              </a:tblGrid>
              <a:tr h="130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l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" name="Прямоугольник 8"/>
          <p:cNvSpPr/>
          <p:nvPr/>
        </p:nvSpPr>
        <p:spPr>
          <a:xfrm>
            <a:off x="4643280" y="5410080"/>
            <a:ext cx="1944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ch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Рисунок 2" descr=""/>
          <p:cNvPicPr/>
          <p:nvPr/>
        </p:nvPicPr>
        <p:blipFill>
          <a:blip r:embed="rId1"/>
          <a:srcRect l="8350" t="0" r="8350" b="0"/>
          <a:stretch/>
        </p:blipFill>
        <p:spPr>
          <a:xfrm>
            <a:off x="2627280" y="106056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14201 -0.22547 E">
                                      <p:cBhvr>
                                        <p:cTn id="56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82296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график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6720" y="204948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fsd.multiurok.ru/html/2018/02/14/s_5a83a010f1e28/img5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s://fsd.multiurok.ru/html/2018/02/14/s_5a83a010f1e28/img1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fsd.multiurok.ru/html/2018/02/14/s_5a83a010f1e28/img6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cf3.ppt-online.org/files3/slide/c/C4mEwscQOKS8jVlnvgHbLY5UtR3ZWk2yB9FTND/slide-7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fsd.multiurok.ru/html/2018/02/14/s_5a83a010f1e28/img4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ds05.infourok.ru/uploads/ex/0774/0001055b-688eac99/img2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7T14:49:35Z</dcterms:created>
  <dc:creator>User</dc:creator>
  <dc:description/>
  <dc:language>en-US</dc:language>
  <cp:lastModifiedBy>Альбина Карачева</cp:lastModifiedBy>
  <dcterms:modified xsi:type="dcterms:W3CDTF">2023-12-10T10:55:53Z</dcterms:modified>
  <cp:revision>17</cp:revision>
  <dc:subject/>
  <dc:title>Презентация PowerPoint</dc:title>
</cp:coreProperties>
</file>