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9CA-B25D-4738-B743-55D57888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3D50-0544-4A93-AA22-DD1B7BA4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D69-89A9-42C0-BCCC-953F82FFE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DF6F-D345-4CC3-A052-90A11AA3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15B4-54E4-4E4D-910E-F835521B4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6A49-D4BB-4E9D-BB67-1595DCC7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FD67-F011-4D93-888F-2284CF9A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C415-B660-46D1-8F20-D8A6D00D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759E-5B73-431B-B25A-6F729FC5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0757-AA7B-49A4-B1B4-41B9D60F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CB56-E048-4EFE-A15D-65023AE2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F2B-A70D-427F-A614-D6DFBC91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3D66-BD2F-49AF-A3E9-DF0FECDB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27F8-4E22-4755-B670-F8998EE6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CC4E-F4AB-455F-B592-7959169C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87F4-01D1-4583-9351-1CC469016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663A-AB6F-4916-B74C-9E5E3B15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68D-2D78-4FEC-8718-74110A77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10E-798C-443A-B737-5A2ADF76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88E-36BA-4803-912B-FFA2BF72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7FC-B689-4B55-9133-1A07B4D6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E68-7FA8-40D2-B7B9-25EB89FA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1A6C-ED83-4E14-96CA-3182E40C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29D-AD9F-416F-9889-CF760BF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F46-EEB6-49C0-9EAF-74BC60D518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06A-BD1B-4156-AB30-DF49504388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струкция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to have to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изучения грамматики английского языка на материале учебника как компонента УМК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tlight”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4 класса общеобразовательной школы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1623960" y="3660840"/>
            <a:ext cx="8772480" cy="1596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9" name="Объект 4" descr=""/>
          <p:cNvPicPr/>
          <p:nvPr/>
        </p:nvPicPr>
        <p:blipFill>
          <a:blip r:embed="rId1"/>
          <a:stretch/>
        </p:blipFill>
        <p:spPr>
          <a:xfrm>
            <a:off x="838080" y="3160800"/>
            <a:ext cx="5181840" cy="168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ar a uni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должна носить унифор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poli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должна быть вежлив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`t ha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 for your me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не должна платить за свою е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глийский язык. Сборник упражнений. 4 класс: пособие для учащихся общеобразоват. организаци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/Н.И. Быкова, М.Д. Поспелова. -2-е изд. М.:Просвещение, 2014. -128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я глагола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hav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57600" y="1825200"/>
            <a:ext cx="58957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314360" y="1825560"/>
          <a:ext cx="10039320" cy="3251160"/>
        </p:xfrm>
        <a:graphic>
          <a:graphicData uri="http://schemas.openxmlformats.org/drawingml/2006/table">
            <a:tbl>
              <a:tblPr/>
              <a:tblGrid>
                <a:gridCol w="4362480"/>
                <a:gridCol w="567684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have -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меть, обладать, владеть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 have </a:t>
                      </a:r>
                      <a:r>
                        <a:rPr b="0" lang="en-GB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r>
                        <a:rPr b="0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ть обязанным, быть должны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 формы глагола спрягаются одинаково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ца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еред глаголом в  предложении не ставитс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глагола меняется, если после него появляется частица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ряжение глагол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to hav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ет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настоящем простом времен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47840" y="2629080"/>
          <a:ext cx="7067520" cy="2247840"/>
        </p:xfrm>
        <a:graphic>
          <a:graphicData uri="http://schemas.openxmlformats.org/drawingml/2006/table">
            <a:tbl>
              <a:tblPr/>
              <a:tblGrid>
                <a:gridCol w="3533760"/>
                <a:gridCol w="3533760"/>
              </a:tblGrid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ожественное 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У меня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 hav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У нас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У тебя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have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У Вас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e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 ha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У него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y hav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У них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У нее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У него 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av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бязанным, быть должным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33640" y="2114640"/>
          <a:ext cx="10058400" cy="2438280"/>
        </p:xfrm>
        <a:graphic>
          <a:graphicData uri="http://schemas.openxmlformats.org/drawingml/2006/table">
            <a:tbl>
              <a:tblPr/>
              <a:tblGrid>
                <a:gridCol w="5029200"/>
                <a:gridCol w="5029200"/>
              </a:tblGrid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ственно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ожественное 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 я долже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 hav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мы долж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ты должен/обяз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hav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Вы долж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 has 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н долже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y have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Он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она долж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s </a:t>
                      </a:r>
                      <a:r>
                        <a:rPr b="1" lang="en-US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Calibri"/>
                        </a:rPr>
                        <a:t>to </a:t>
                      </a:r>
                      <a:r>
                        <a:rPr b="1" lang="ru-RU" sz="24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о должн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обяза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 формы глагола спрягаются одинаков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а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ед глаголом в  предложении не ставится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глагола меняется, если после него появляется частица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3" name="Объект 6" descr=""/>
          <p:cNvPicPr/>
          <p:nvPr/>
        </p:nvPicPr>
        <p:blipFill>
          <a:blip r:embed="rId1"/>
          <a:stretch/>
        </p:blipFill>
        <p:spPr>
          <a:xfrm>
            <a:off x="838080" y="2314440"/>
            <a:ext cx="5181840" cy="2568600"/>
          </a:xfrm>
          <a:prstGeom prst="rect">
            <a:avLst/>
          </a:prstGeom>
          <a:ln w="0">
            <a:noFill/>
          </a:ln>
        </p:spPr>
      </p:pic>
      <p:pic>
        <p:nvPicPr>
          <p:cNvPr id="94" name="Объект 8" descr=""/>
          <p:cNvPicPr/>
          <p:nvPr/>
        </p:nvPicPr>
        <p:blipFill>
          <a:blip r:embed="rId2"/>
          <a:stretch/>
        </p:blipFill>
        <p:spPr>
          <a:xfrm>
            <a:off x="6172200" y="2314440"/>
            <a:ext cx="51814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ицание  глагольной конструкции</a:t>
            </a:r>
            <a:br>
              <a:rPr sz="2500"/>
            </a:br>
            <a:r>
              <a:rPr b="0" lang="en-GB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ave </a:t>
            </a:r>
            <a:r>
              <a:rPr b="0" lang="en-GB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бязанным, быть должным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90840" y="1562040"/>
          <a:ext cx="9243720" cy="2190960"/>
        </p:xfrm>
        <a:graphic>
          <a:graphicData uri="http://schemas.openxmlformats.org/drawingml/2006/table">
            <a:tbl>
              <a:tblPr/>
              <a:tblGrid>
                <a:gridCol w="5029200"/>
                <a:gridCol w="421452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динственное 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ножественное  чи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n`t hav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-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 должен/обяз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We don`t hav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-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ы не должны/ не обяз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n`t have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ы должен/обяз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You do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`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 hav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 не должны/ не обяз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e doesn`t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 не должен/обяз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y don`t have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и не должны/ не обяз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he doesn`t have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а   не должна/обяз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esn`t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have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t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но не должно/обяз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на примерах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19600" y="3525840"/>
            <a:ext cx="95256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6" descr=""/>
          <p:cNvPicPr/>
          <p:nvPr/>
        </p:nvPicPr>
        <p:blipFill>
          <a:blip r:embed="rId1"/>
          <a:srcRect l="19844" t="17499" r="19062" b="19861"/>
          <a:stretch/>
        </p:blipFill>
        <p:spPr>
          <a:xfrm>
            <a:off x="2714760" y="1366920"/>
            <a:ext cx="71532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упражнении девочке сообщают, что должен и не должен делать официан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я, отмеченные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тверди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я, отмеченные          , отрицатель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4"/>
          <p:cNvSpPr/>
          <p:nvPr/>
        </p:nvSpPr>
        <p:spPr>
          <a:xfrm>
            <a:off x="5638680" y="3343320"/>
            <a:ext cx="352440" cy="285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6"/>
          <p:cNvSpPr/>
          <p:nvPr/>
        </p:nvSpPr>
        <p:spPr>
          <a:xfrm flipH="1">
            <a:off x="5638320" y="3257640"/>
            <a:ext cx="352440" cy="371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10" descr=""/>
          <p:cNvPicPr/>
          <p:nvPr/>
        </p:nvPicPr>
        <p:blipFill>
          <a:blip r:embed="rId1"/>
          <a:srcRect l="0" t="43606" r="0" b="0"/>
          <a:stretch/>
        </p:blipFill>
        <p:spPr>
          <a:xfrm>
            <a:off x="1504800" y="3786120"/>
            <a:ext cx="810288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19160" y="471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171840" y="179676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the dis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должна мыть посу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 food and coff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должна подавать еду и коф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ou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n`t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at n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лжна работать ноч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Объект 6" descr=""/>
          <p:cNvPicPr/>
          <p:nvPr/>
        </p:nvPicPr>
        <p:blipFill>
          <a:blip r:embed="rId1"/>
          <a:srcRect l="0" t="43606" r="0" b="0"/>
          <a:stretch/>
        </p:blipFill>
        <p:spPr>
          <a:xfrm>
            <a:off x="733320" y="2187720"/>
            <a:ext cx="518184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0T15:25:33Z</dcterms:created>
  <dc:creator>Альбина Карачева</dc:creator>
  <dc:description/>
  <dc:language>en-US</dc:language>
  <cp:lastModifiedBy>Альбина Карачева</cp:lastModifiedBy>
  <dcterms:modified xsi:type="dcterms:W3CDTF">2023-12-13T13:59:30Z</dcterms:modified>
  <cp:revision>3</cp:revision>
  <dc:subject/>
  <dc:title>«Конструкция “to have to” в рамках изучения грамматики английского языка на материале учебника как компонента УМК “Spotlight”  для 4 класса общеобразовательной школы»</dc:title>
</cp:coreProperties>
</file>