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5B3-A580-4DCB-A5C2-1573B946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9BC-3A23-446F-B751-29C46274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8DA-A32C-491F-A14C-8A2A5364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337-336B-482C-A16F-A96A77DC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51EB-616D-4162-B742-D44F1529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4B06-7C31-4209-B1C5-17FFEAAE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49C1-DB1B-42C9-8B59-DF6098F1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44D3-02D7-4F3B-9E53-49F2DE12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6D49-E3CF-4783-8FA4-99308441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3217-8DD2-4029-876B-42635948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5BCF-60CF-49B6-A7C5-D7556832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700-D949-40C6-9C83-739230AD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93C7-ACF5-415D-A7CF-53EF5693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4690-B3DA-4710-9161-2112C139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A3E0-6E42-4EF1-A549-A2AE2421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F5E2-9BEE-4196-AD96-CD767F39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0E1D-62CA-44F6-84D9-DEABD26C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427-DDA2-43F6-A987-FB0CA679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59D-7438-4F98-939C-442E1761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57C-6057-4BA4-A61A-79A0552C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482-DACF-4AD4-86C2-CFA895D3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88A-6111-45E4-80EE-3BB0CCCA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26B-13AB-486A-9222-21431A8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973-8CBA-4620-93CC-4135B171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9FA1-A4B4-42C4-A572-70862AEE8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3FBF-F53B-4843-AA9B-0C4AAF9BE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струкция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to have to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изучения грамматики английского языка на материале учебника как компонента УМК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potlight”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4 класса общеобразовательной школы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1623960" y="3660840"/>
            <a:ext cx="8772480" cy="1596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9" name="Объект 4" descr=""/>
          <p:cNvPicPr/>
          <p:nvPr/>
        </p:nvPicPr>
        <p:blipFill>
          <a:blip r:embed="rId1"/>
          <a:stretch/>
        </p:blipFill>
        <p:spPr>
          <a:xfrm>
            <a:off x="838080" y="3160800"/>
            <a:ext cx="5181840" cy="1681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ar a uni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должна носить унифор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pol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должна быть вежлив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`t hav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for your me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не должна платить за свою е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глийский язык. Сборник упражнений. 4 класс: пособие для учащихся общеобразоват. организаций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/Н.И. Быкова, М.Д. Поспелова. -2-е изд. М.:Просвещение, 2014. -128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я глагола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hav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57600" y="1825200"/>
            <a:ext cx="58957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314360" y="1825560"/>
          <a:ext cx="10039320" cy="3251160"/>
        </p:xfrm>
        <a:graphic>
          <a:graphicData uri="http://schemas.openxmlformats.org/drawingml/2006/table">
            <a:tbl>
              <a:tblPr/>
              <a:tblGrid>
                <a:gridCol w="4362480"/>
                <a:gridCol w="567684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have -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меть, обладать, владет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have </a:t>
                      </a: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обязанным, быть должны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 формы глагола спрягаются одинаков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ца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д глаголом в  предложении не ставит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глагола меняется, если после него появляется частица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яжение глагол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to hav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настоящем простом времен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47840" y="2629080"/>
          <a:ext cx="7067520" cy="2247840"/>
        </p:xfrm>
        <a:graphic>
          <a:graphicData uri="http://schemas.openxmlformats.org/drawingml/2006/table">
            <a:tbl>
              <a:tblPr/>
              <a:tblGrid>
                <a:gridCol w="3533760"/>
                <a:gridCol w="3533760"/>
              </a:tblGrid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ожественное 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У меня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 hav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У нас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У тебя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hav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У Вас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e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 ha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У него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y hav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У них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У нее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У него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av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обязанным, быть должным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33640" y="2114640"/>
          <a:ext cx="10058400" cy="2438280"/>
        </p:xfrm>
        <a:graphic>
          <a:graphicData uri="http://schemas.openxmlformats.org/drawingml/2006/table">
            <a:tbl>
              <a:tblPr/>
              <a:tblGrid>
                <a:gridCol w="5029200"/>
                <a:gridCol w="502920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ственно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ожественное 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я долже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 hav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мы долж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ты должен/обяз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hav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Вы долж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 has  </a:t>
                      </a: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н долже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y hav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Он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</a:t>
                      </a: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на долж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</a:t>
                      </a: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Calibri"/>
                        </a:rPr>
                        <a:t>to 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о должн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 формы глагола спрягаются одинаков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 глаголом в  предложении не ставится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глагола меняется, если после него появляется частица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Объект 6" descr=""/>
          <p:cNvPicPr/>
          <p:nvPr/>
        </p:nvPicPr>
        <p:blipFill>
          <a:blip r:embed="rId1"/>
          <a:stretch/>
        </p:blipFill>
        <p:spPr>
          <a:xfrm>
            <a:off x="838080" y="2314440"/>
            <a:ext cx="5181840" cy="2568600"/>
          </a:xfrm>
          <a:prstGeom prst="rect">
            <a:avLst/>
          </a:prstGeom>
          <a:ln w="0">
            <a:noFill/>
          </a:ln>
        </p:spPr>
      </p:pic>
      <p:pic>
        <p:nvPicPr>
          <p:cNvPr id="94" name="Объект 8" descr=""/>
          <p:cNvPicPr/>
          <p:nvPr/>
        </p:nvPicPr>
        <p:blipFill>
          <a:blip r:embed="rId2"/>
          <a:stretch/>
        </p:blipFill>
        <p:spPr>
          <a:xfrm>
            <a:off x="6172200" y="2314440"/>
            <a:ext cx="51814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ние  глагольной конструкции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ave </a:t>
            </a:r>
            <a:r>
              <a:rPr b="0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обязанным, быть должным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90840" y="1562040"/>
          <a:ext cx="9243720" cy="2190960"/>
        </p:xfrm>
        <a:graphic>
          <a:graphicData uri="http://schemas.openxmlformats.org/drawingml/2006/table">
            <a:tbl>
              <a:tblPr/>
              <a:tblGrid>
                <a:gridCol w="5029200"/>
                <a:gridCol w="421452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ственное 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ожественное  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n`t hav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-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должен/обяз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 don`t hav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не должны/ не обяз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n`t have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ы должен/обяз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do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`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 hav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 не должны/ не обяз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e doesn`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 не должен/обяз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y don`t have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и не должны/ не обяз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 doesn`t hav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   не должна/обяз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esn`t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о не должно/обяза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на примерах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19600" y="3525840"/>
            <a:ext cx="9525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6" descr=""/>
          <p:cNvPicPr/>
          <p:nvPr/>
        </p:nvPicPr>
        <p:blipFill>
          <a:blip r:embed="rId1"/>
          <a:srcRect l="19844" t="17499" r="19062" b="19861"/>
          <a:stretch/>
        </p:blipFill>
        <p:spPr>
          <a:xfrm>
            <a:off x="2714760" y="1366920"/>
            <a:ext cx="71532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упражнении девочке сообщают, что должен и не должен делать официан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я, отмеченные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верд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я, отмеченные          , отрица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4"/>
          <p:cNvSpPr/>
          <p:nvPr/>
        </p:nvSpPr>
        <p:spPr>
          <a:xfrm>
            <a:off x="5638680" y="3343320"/>
            <a:ext cx="352440" cy="28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6"/>
          <p:cNvSpPr/>
          <p:nvPr/>
        </p:nvSpPr>
        <p:spPr>
          <a:xfrm flipH="1">
            <a:off x="5638320" y="3257640"/>
            <a:ext cx="352440" cy="371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10" descr=""/>
          <p:cNvPicPr/>
          <p:nvPr/>
        </p:nvPicPr>
        <p:blipFill>
          <a:blip r:embed="rId1"/>
          <a:srcRect l="0" t="43606" r="0" b="0"/>
          <a:stretch/>
        </p:blipFill>
        <p:spPr>
          <a:xfrm>
            <a:off x="1504800" y="3786120"/>
            <a:ext cx="81028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19160" y="471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71840" y="179676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 the dis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должна мыть посу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food and coff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должна подавать еду и коф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n`t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at n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на работать ноч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Объект 6" descr=""/>
          <p:cNvPicPr/>
          <p:nvPr/>
        </p:nvPicPr>
        <p:blipFill>
          <a:blip r:embed="rId1"/>
          <a:srcRect l="0" t="43606" r="0" b="0"/>
          <a:stretch/>
        </p:blipFill>
        <p:spPr>
          <a:xfrm>
            <a:off x="733320" y="2187720"/>
            <a:ext cx="518184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10T15:25:33Z</dcterms:created>
  <dc:creator>Альбина Карачева</dc:creator>
  <dc:description/>
  <dc:language>en-US</dc:language>
  <cp:lastModifiedBy>Альбина Карачева</cp:lastModifiedBy>
  <dcterms:modified xsi:type="dcterms:W3CDTF">2023-12-13T13:59:30Z</dcterms:modified>
  <cp:revision>3</cp:revision>
  <dc:subject/>
  <dc:title>«Конструкция “to have to” в рамках изучения грамматики английского языка на материале учебника как компонента УМК “Spotlight”  для 4 класса общеобразовательной школы»</dc:title>
</cp:coreProperties>
</file>