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A135-31CE-4941-847F-E108F9DE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5DA-370C-4570-9178-84CFCBAF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D05F-2C6D-44F8-9DCE-3A35C18B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03A-91EB-480E-98E0-A52E7626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92D-101B-4C41-AFDF-21BC57AA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E7E-8D5F-4CFD-9158-03496363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103A-6312-4266-A41E-07CD7EDB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734F-C2CD-4270-AE59-B805EFB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76E5-1E34-4BF6-BA75-4A3C6930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8294-92E3-495A-93AC-7D144C5A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D98-9AB7-4368-8081-15362D3B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E6B-E92D-4870-A5CB-0C5F11C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398A-5A74-4AA1-AABD-D7C5B703F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solidFill>
            <a:srgbClr val="6699ff">
              <a:alpha val="81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Kristen ITC"/>
              </a:rPr>
              <a:t>Sculptures under the sea</a:t>
            </a:r>
            <a:r>
              <a:rPr b="1" lang="en-US" sz="6600" spc="-1" strike="noStrike">
                <a:solidFill>
                  <a:srgbClr val="000000"/>
                </a:solidFill>
                <a:latin typeface="Kristen ITC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62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rlin Sans FB"/>
              </a:rPr>
              <a:t>Eco-tour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sten to, read the text p.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928800" y="1617840"/>
            <a:ext cx="7286400" cy="518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75" name="13 - Ex. 1b p. 68.mp3" descr=""/>
          <p:cNvPicPr/>
          <p:nvPr/>
        </p:nvPicPr>
        <p:blipFill>
          <a:blip r:embed="rId2"/>
          <a:stretch/>
        </p:blipFill>
        <p:spPr>
          <a:xfrm>
            <a:off x="1981080" y="17524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. 2 p.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Результат пошуку зображень за запитом &quot;coral reefs&quot;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20560" y="1631880"/>
            <a:ext cx="8166240" cy="4494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deCaires Taylor is a sculptor who graduated from the London institute of Arts in 1998. His father is English and his mother is Guyanase. He worked as a scuba diving instructor around the world before he started working on underwater sculpture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imageGen"/>
          <p:cNvPicPr/>
          <p:nvPr/>
        </p:nvPicPr>
        <p:blipFill>
          <a:blip r:embed="rId1"/>
          <a:stretch/>
        </p:blipFill>
        <p:spPr>
          <a:xfrm>
            <a:off x="152280" y="76320"/>
            <a:ext cx="3353040" cy="40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3809880" y="61920"/>
            <a:ext cx="518184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-17640" y="7632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-2232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s p.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ulpture 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кульп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n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ныряние под в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norkelling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одводное плавание с аквалан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low the wav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ниже вол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a creatur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морское су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ar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использовать совмес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erwate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под в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-size sculptures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clist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велосипед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ulptor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 скульп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t a statu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вырезать ста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people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местные 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gniz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узна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ourag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ощр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nk about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lutio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загряз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mage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вред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al reef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оралловые риф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statue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оздавать стату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men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ц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rac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ривлек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р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ipper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лав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nning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потрясающ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2_the-banker-jason-decaires-taylor-sculpture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2438280" y="0"/>
            <a:ext cx="46738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Результат пошуку зображень за запитом &quot;cancun underwater sculpture&quot;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Результат пошуку зображень за запитом &quot;jason decaires taylor&quot;"/>
          <p:cNvPicPr/>
          <p:nvPr/>
        </p:nvPicPr>
        <p:blipFill>
          <a:blip r:embed="rId1"/>
          <a:stretch/>
        </p:blipFill>
        <p:spPr>
          <a:xfrm>
            <a:off x="914400" y="990720"/>
            <a:ext cx="72867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ch the video to the text p. 68,then do the tas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7.01 Sculptures under the sea (with video comprehension activity)" descr=""/>
          <p:cNvPicPr/>
          <p:nvPr/>
        </p:nvPicPr>
        <p:blipFill>
          <a:blip r:embed="rId1"/>
          <a:stretch/>
        </p:blipFill>
        <p:spPr>
          <a:xfrm>
            <a:off x="341280" y="1504800"/>
            <a:ext cx="8461440" cy="52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4312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2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e the correct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560" y="1600200"/>
            <a:ext cx="8839080" cy="4983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Yucatan Peninsula is near Cancun in Mexic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. The Caribbean Sea washes Mex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he underwater park counts 40 life-size stat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Jason deCaires Taylor is a local art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exico’s coral reefs suffer from touri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t’s impossible for corals to grow on the stat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Jason deCaires Taylor tries to help the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The underwater sculptures are created from mar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Under the water, you can see just the statues of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It is possible for divers to recognise local peop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69343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715000" y="20210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7315200" y="24019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095880" y="2911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095880" y="33242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7238880" y="378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7924680" y="4203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 flipH="1">
            <a:off x="7696080" y="4707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 flipH="1">
            <a:off x="8229600" y="5087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7429680" y="5648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ue the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az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-siz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cr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 4 p.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189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urag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l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ve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r from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ing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st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ff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aired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266720" y="1020600"/>
            <a:ext cx="4419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m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rg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m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Kristen ITC"/>
              </a:rPr>
              <a:t>Home tas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Ex. 8 p. 69 (in writi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. 1 p.69 Listen and Match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ub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-siz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ul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8120" y="1600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133720" y="2209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286000" y="2610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676520" y="3192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438280" y="3774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2 - Ex. 1a p. 68.mp3" descr=""/>
          <p:cNvPicPr/>
          <p:nvPr/>
        </p:nvPicPr>
        <p:blipFill>
          <a:blip r:embed="rId1"/>
          <a:stretch/>
        </p:blipFill>
        <p:spPr>
          <a:xfrm>
            <a:off x="8077320" y="1204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8229600" cy="2773440"/>
          </a:xfrm>
          <a:prstGeom prst="rect">
            <a:avLst/>
          </a:prstGeom>
          <a:solidFill>
            <a:srgbClr val="6699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anc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ity on the east coast of Mexico on the Yucatan Peninsula. It is a very popular tourist resort with lots of sandy beaches and beachfront hot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895480"/>
          </a:xfrm>
          <a:prstGeom prst="rect">
            <a:avLst/>
          </a:prstGeom>
          <a:solidFill>
            <a:srgbClr val="6699ff">
              <a:alpha val="8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The Yucatan Peninsula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 is in the southeast of Mexico and it has the Caribbean Sea on one side and the Gulf of Mexico on the 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40350main_20130409-mexico_946-710"/>
          <p:cNvPicPr/>
          <p:nvPr/>
        </p:nvPicPr>
        <p:blipFill>
          <a:blip r:embed="rId1"/>
          <a:stretch/>
        </p:blipFill>
        <p:spPr>
          <a:xfrm>
            <a:off x="84240" y="4680"/>
            <a:ext cx="905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Результат пошуку зображень за запитом &quot;yucatan peninsula&quot;"/>
          <p:cNvPicPr/>
          <p:nvPr/>
        </p:nvPicPr>
        <p:blipFill>
          <a:blip r:embed="rId1"/>
          <a:stretch/>
        </p:blipFill>
        <p:spPr>
          <a:xfrm>
            <a:off x="6480" y="6480"/>
            <a:ext cx="920592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Результат пошуку зображень за запитом &quot;coral reefs&quot;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8T22:24:31Z</dcterms:created>
  <dc:creator>Zee</dc:creator>
  <dc:description/>
  <dc:language>en-US</dc:language>
  <cp:lastModifiedBy>Пользователь</cp:lastModifiedBy>
  <dcterms:modified xsi:type="dcterms:W3CDTF">2023-12-13T13:59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