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C74-765F-4F33-8B9C-CDC1AE53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AF0-6FF4-49EA-AC61-3FC54F90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3B9-3CB4-4255-8AC8-EC6B00AD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C63-E56B-412E-9529-988C8EEF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23E-C58F-4BD0-87C3-A11DC32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5B9-E6D1-4CC3-84BD-AA0438F7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B3A-A2E5-4849-845F-22BD2C2E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9CA-A134-49C2-864E-FAA741CF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F67-43F6-41C3-A3E2-4E4E4F5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286-2BF5-4D11-A99B-DC860D2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6C6-296A-4823-B501-B806125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E19-0014-4D5F-A920-88C1350E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9FD-9D53-43E1-BB95-AC11C61AD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solidFill>
            <a:srgbClr val="6699ff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Kristen ITC"/>
              </a:rPr>
              <a:t>Sculptures under the sea</a:t>
            </a:r>
            <a:r>
              <a:rPr b="1" lang="en-US" sz="6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Eco-tou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 to, read the text p.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928800" y="1617840"/>
            <a:ext cx="7286400" cy="518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5" name="13 - Ex. 1b p. 68.mp3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. 2 p.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Результат пошуку зображень за запитом &quot;coral reefs&quot;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0560" y="1631880"/>
            <a:ext cx="8166240" cy="4494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deCaires Taylor is a sculptor who graduated from the London institute of Arts in 1998. His father is English and his mother is Guyanase. He worked as a scuba diving instructor around the world before he started working on underwater sculpture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ageGen"/>
          <p:cNvPicPr/>
          <p:nvPr/>
        </p:nvPicPr>
        <p:blipFill>
          <a:blip r:embed="rId1"/>
          <a:stretch/>
        </p:blipFill>
        <p:spPr>
          <a:xfrm>
            <a:off x="152280" y="76320"/>
            <a:ext cx="335304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809880" y="61920"/>
            <a:ext cx="51818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-17640" y="7632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-2232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s p.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ulpture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ульп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n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ныряние под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orkellin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одводное плавание с аквалан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ow the wav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ниже в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 creatur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морское с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использовать совме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wate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од 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-size sculptur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clis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елосипед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ulpto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скульп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t a statu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ырезать ста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peopl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местные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gniz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узна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оощр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k about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luti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загряз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mag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овред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al reef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ралловые риф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statue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оздавать стату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men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ц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rac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ривлек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pper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ла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nnin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отряс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2_the-banker-jason-decaires-taylor-sculpture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2438280" y="0"/>
            <a:ext cx="46738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Результат пошуку зображень за запитом &quot;jason decaires taylor&quot;"/>
          <p:cNvPicPr/>
          <p:nvPr/>
        </p:nvPicPr>
        <p:blipFill>
          <a:blip r:embed="rId1"/>
          <a:stretch/>
        </p:blipFill>
        <p:spPr>
          <a:xfrm>
            <a:off x="914400" y="990720"/>
            <a:ext cx="7286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video to the text p. 68,then do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7.01 Sculptures under the sea (with video comprehension activity)" descr=""/>
          <p:cNvPicPr/>
          <p:nvPr/>
        </p:nvPicPr>
        <p:blipFill>
          <a:blip r:embed="rId1"/>
          <a:stretch/>
        </p:blipFill>
        <p:spPr>
          <a:xfrm>
            <a:off x="341280" y="1504800"/>
            <a:ext cx="84614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4312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the correct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560" y="1600200"/>
            <a:ext cx="8839080" cy="4983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ucatan Peninsula is near Cancun in Mexic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The Caribbean Sea washes Mex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underwater park counts 40 life-size stat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Jason deCaires Taylor is a local art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exico’s coral reefs suffer from tour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t’s impossible for corals to grow on the stat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Jason deCaires Taylor tries to help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The underwater sculptures are created from mar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Under the water, you can see just the statues of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It is possible for divers to recognise local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9343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715000" y="20210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7315200" y="2401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095880" y="2911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095880" y="33242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7238880" y="378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7924680" y="4203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 flipH="1">
            <a:off x="7696080" y="4707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 flipH="1">
            <a:off x="8229600" y="5087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7429680" y="5648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 the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-siz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cr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 4 p.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189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rag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l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 from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ng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s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ff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ed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66720" y="1020600"/>
            <a:ext cx="4419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m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m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Kristen ITC"/>
              </a:rPr>
              <a:t>Home tas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x. 8 p. 69 (in wri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. 1 p.69 Listen and Match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ub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-siz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812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13372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286000" y="2610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76520" y="3192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438280" y="3774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2 - Ex. 1a p. 68.mp3" descr=""/>
          <p:cNvPicPr/>
          <p:nvPr/>
        </p:nvPicPr>
        <p:blipFill>
          <a:blip r:embed="rId1"/>
          <a:stretch/>
        </p:blipFill>
        <p:spPr>
          <a:xfrm>
            <a:off x="8077320" y="1204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solidFill>
            <a:srgbClr val="6699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nc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ity on the east coast of Mexico on the Yucatan Peninsula. It is a very popular tourist resort with lots of sandy beaches and beachfront hot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2895480"/>
          </a:xfrm>
          <a:prstGeom prst="rect">
            <a:avLst/>
          </a:prstGeom>
          <a:solidFill>
            <a:srgbClr val="6699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The Yucatan Peninsula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is in the southeast of Mexico and it has the Caribbean Sea on one side and the Gulf of Mexico on the o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40350main_20130409-mexico_946-710"/>
          <p:cNvPicPr/>
          <p:nvPr/>
        </p:nvPicPr>
        <p:blipFill>
          <a:blip r:embed="rId1"/>
          <a:stretch/>
        </p:blipFill>
        <p:spPr>
          <a:xfrm>
            <a:off x="84240" y="4680"/>
            <a:ext cx="905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Результат пошуку зображень за запитом &quot;yucatan peninsula&quot;"/>
          <p:cNvPicPr/>
          <p:nvPr/>
        </p:nvPicPr>
        <p:blipFill>
          <a:blip r:embed="rId1"/>
          <a:stretch/>
        </p:blipFill>
        <p:spPr>
          <a:xfrm>
            <a:off x="6480" y="6480"/>
            <a:ext cx="92059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Результат пошуку зображень за запитом &quot;coral reefs&quot;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22:24:31Z</dcterms:created>
  <dc:creator>Zee</dc:creator>
  <dc:description/>
  <dc:language>en-US</dc:language>
  <cp:lastModifiedBy>Пользователь</cp:lastModifiedBy>
  <dcterms:modified xsi:type="dcterms:W3CDTF">2023-12-13T13:59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