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8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2.png" ContentType="image/png"/>
  <Override PartName="/ppt/media/image24.jpeg" ContentType="image/jpeg"/>
  <Override PartName="/ppt/media/image3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9.png" ContentType="image/png"/>
  <Override PartName="/ppt/media/image20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67F-EDBA-40B0-B62F-50E9EA07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9A40-FA7D-46B8-A59C-3BD07D05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27602-FACC-4FE6-850E-689E1552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AC7A5-3787-4BFB-B3FD-985BCA2F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2680E-4540-4CC9-A469-1BD1D380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0D093-1678-4160-ACC9-5940462F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78195-8EE2-4B26-A14D-913DB150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0295A-ADB2-4811-BCEC-3B453CA2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1410E-304A-4E7B-8CF3-A60783D2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2D7FD-3770-48C3-BF23-E360B5C0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2C09E-94F1-4B1C-B0F3-C0ADB22B4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9377C-1EF3-4FEE-9CD3-25C0D9FE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C35-06EA-461A-9550-D2B4A5AD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B2420-6897-41BD-B870-58E18D2D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96671-DFA5-4970-8B66-5E636E3A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241CF-95F7-4A5F-B65E-446643F1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68F102-DD02-4CBA-BEA5-58FD3B98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B7CCD-C05C-4E21-8FDD-25589F28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6684B-2023-4A67-BB8B-2FE61760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5E4D8-0257-4A4D-A7E8-FABFC68C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6428E-A9ED-4805-BB03-00DD9366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B19CF-B271-40CF-9D6A-77B199AD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B665B-5513-473E-BF2E-F5DA7D71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D524-3835-4836-8463-C4FC2FB3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89321-6056-4F90-BB74-2A41DDBE6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3677F-E7AB-4BCF-9BAF-3822B53E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941DD-8897-44D2-9056-7D844281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2C8FE-A965-438B-BBB1-EA220423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4E518-7542-464D-B8AF-E3CB0256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5A332-B207-4C6B-8195-8B009E32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AE5C7-399C-4FED-882A-1D2DCBFE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71675-7C86-44E9-B1EC-DA8EE861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60BA3-9506-4285-BE02-81E07FEA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3715C-D037-47F0-99CA-3080C734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0AFD-CBEB-48AB-BAE2-EC00C4BA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1363E-3171-4146-9E8D-A9C86B65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17A1E-F420-440A-884C-30D15EE0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01372-1DA4-40FC-8855-5D49B900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863AD-1C67-4052-A05D-CE630573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2422A-9C46-4FCB-9CE9-DF750538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D0401-4C46-4136-8B1E-C1B55137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5F331-22B0-4310-B2E8-E71349C0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7F6D2-4E86-47EB-8AD9-ACE12774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B14FB-0C38-4004-ACDD-7F11A0C2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DC50F-05E7-4E44-8351-3FB27CAB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6D85-2246-45D2-B189-84453C16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0D033-116D-4A1E-9D72-604CE015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3F9EC-2CBB-4280-B3B2-CAA46FFE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17876-E018-4971-B20D-5826E531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E51FE4-3EAA-45D3-9C81-083BB0B09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C8DFF-727E-485C-979C-C90D3F16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3F8C9-978B-4D41-9133-37831316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B89DE-062C-45EB-B8B8-5C85C97A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71179C-6D47-40C3-A611-AF258E96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A515C-6153-46FE-859D-27817A72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F4B5C-EEEF-4E24-800D-CCBCDC8A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803F-DB5D-4940-A174-3B384FAB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2334B-688F-4955-B90D-78DCC971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6755A-A1CF-43D4-B550-C902B29D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2C175-14C4-440C-85F2-B9DC131B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0226D-51DD-4752-B018-BDF2A112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9D981-5D71-4349-8B58-4762A551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A3777-AE96-45BD-9204-E5BF2FC4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CA2C9-9CC9-4A63-BF47-8B5E071C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3806F0-F882-45D4-8370-5C1DE2088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D413A7-B8FC-439F-8E7F-E2C0AA06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546EE1-506A-470B-9724-7E889840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4327-0577-43C1-8403-08909FA5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9972D8-D474-4ABD-B6AB-B14C3906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100AA2-1444-41AC-93D4-6C772AB4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17580-35D8-4796-A9DA-50774A6D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365B31-DBF6-4EE9-B07A-97159E13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4EF541-DF87-478A-BB66-1D4349D4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2E90BD-7DC8-48DF-BF49-87BE3F1F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8135AF-7B3E-47B4-B6DD-9CE57FAC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7DA40-0AAD-4870-8B52-13FC75AF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23838-E14E-4F5C-9EB9-3B4CBDB1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CEB151-63DC-4D65-AE92-80F95705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3F17-DD5E-421D-9112-B7DCF4C2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B54579-5F23-4B19-9AB8-69EFD58F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571903-B9E2-4F64-9230-3978E5C4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8D8593-AB26-463B-B722-185A1085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8E485-C9D6-45BF-AD90-EA82F4BE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95914-710E-4D42-9604-EAA57DCA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0B16B-E8C7-463F-9DE6-158A5FD7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0273F2-98D9-41CD-AD29-F3965F30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B5D0F2-2ACC-4041-A820-45D5BB22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9ADC6-2B98-4E71-83B9-846B7C05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4E7978-968A-4D4B-82E1-1CD72A4A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D0C4-453B-48B2-8DCC-FAF7AFFB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FAB06C-5436-4719-8957-9D9B8865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1C246-D705-4E95-8D34-19520D64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3FF52F-D4E6-4D20-8AB0-8E74F65C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375794-458B-446D-867A-AF618E23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0445F-FAB2-4CC9-89F2-695E543A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ECCE31-EF19-4A94-92A8-C34B5B4D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7ABCB6-390E-4998-8487-0DAB8DA6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7491CA-5F63-46B4-B394-6AA5BCE9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35A4E-664B-480B-97CF-F8F4E346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027112-F50C-44DA-B0E3-FA7086A6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650E-4D13-429F-8641-4BA9DEEF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EACCEF-255B-461E-ABE8-38E750B8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BD2439-A0DA-4D66-8A73-32898ABF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55DCAD-5A51-4C70-8770-56DE25A3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57C360-88D6-4569-9323-D3E0191D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5EE738-694A-4A3F-84A7-680BF6A1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957FD0-7A9A-4B26-B63D-8098E47E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A4A2EF-8590-4DEA-8DA7-3BFA806F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58A2A6-3805-4C42-A28F-2A9F6060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26C1F4-AF97-4495-8E9F-FB8B81A7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573C34-539B-49F4-9147-381142E2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615-E2CB-42B0-8000-C494DACC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C61C-7162-47E7-8616-DD246E1E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5D58C6-1DC9-427C-BD52-375D7FF2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D40FF7-3C1E-42FD-BB97-469BAB8E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25A572-1C60-4C4A-A349-90B3FEF9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07E045-8EC2-4274-946D-157E0121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A459F4-8EFB-450E-924C-30205BBC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849458-0975-42F5-ACC8-9D5D1D9D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5D28D-C993-4B35-B49A-27D9786E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14A04-ED7D-4427-B8E8-787C6F91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5D96F-F8FF-4CE1-82E9-89E1517F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230B2C-AD8F-4531-91B3-D2BFE5D7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43D7-402B-422C-9826-1F019E3B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AA9E22-B4B2-4758-93C6-043B2026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12A7F9-4807-4678-BBCB-932C283C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E2D548-D264-4574-8C61-B441D014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A48C69-7E74-46E3-9AB9-C0C74CBB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B98267-14F3-42EC-8004-17FA532D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B9A97-A5FE-40FF-A74C-C22ADAD0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663DC-5AC3-477C-8BEB-23BB5C4C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477C-067F-4A84-88C4-7843E9D4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C754-0E15-4061-8A77-1420F490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77A6-6301-45AB-A861-07A59537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68A1C-0C8D-4F29-9EC2-395BA1B4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CEDF4-C653-4078-9E92-AA31509B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902BD-5122-4C1F-9ED4-33CB5942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3BB4D-FEE5-40FD-9B75-779E5B79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E9937-B1A2-4340-970D-C14445FE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BA9-89E7-4C53-9173-AE6B5930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8160F-F2C8-4221-8ECC-FB0442CE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7F0C-2995-4129-81D0-0FF29188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DAE0E-45AF-4189-94DF-2BA0256C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651F1-C849-41BA-B682-E6306AA7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D4D89-F526-4E26-924C-BE335832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96956-70A8-472E-95A1-D34C7FDB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C605-015B-4F40-B765-1A4588B3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731BC-AD25-44D9-821D-0D1A25BA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FC05A-6BE3-40C3-94B0-9C9466FB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E9196-E782-44BE-9D37-E304B84C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6B9-FC2D-47FE-B7CE-66871046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F0462-9E40-413B-BE1C-13A7A725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85BE9-E382-410C-AFBC-04DEC208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5A21F-A276-443F-89EA-31DD03BA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523ED-4D9D-4282-96F2-4B431B93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75747-1026-43C4-8B5A-C30CDF7E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634B4-FB65-4423-84B0-A45F97F3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41A82-AD15-455D-860E-290BD720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B4910-DED2-4620-89D5-BA585A4E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85DF9-6A76-4088-AE6D-411A134D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5BA14-A471-4F57-87AD-2EA593C1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164-F763-410D-8CBE-D9F81B51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10F73-C1E0-412C-A9B3-B80E584E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8D7BA-8A40-4DA4-B5EC-70BDF265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4928A-DD43-457F-83FA-592522B8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96296-0C1B-41B6-A37A-B7CB6FBD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A99B9-17CE-4A80-B1D3-49D19480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2AA55-D780-40E9-99BB-FB9DDE2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6AE8B-487E-4B2D-83ED-09508FBD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70414-3ECC-43A2-98F2-E0A54840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B2425-D56B-4CBE-8284-4C0902AD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04195-E805-41DE-8C22-D16DB775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438-1652-4B7E-AFDD-577CE4E5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70893-1015-449A-B920-125A95C6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D58B5-A50F-4417-B75D-8734971F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18D5B-72D8-4959-9D75-4C96485A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AF7E2-EE23-4271-9962-B10C4DCF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143E8-64A3-4699-8C9B-3360CF5E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75B30-6375-4583-9391-95D108F4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181B9-4A52-469C-B255-59F5CB7B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1118A-34DB-4C5C-82EA-E01519B1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C6573-77CE-41B6-9AE3-835DC17B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B1FB9-AE0D-49D0-86FE-D5964DC0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BE10-322D-46E9-A380-92742AE5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8D578-B673-4F11-888A-40593D47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5123D-7822-4172-A3ED-3126D8D4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4B409-CA06-44C3-AFF3-0F8EEC7B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5A503-FF69-4563-9C67-6A79E86A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B3413-682E-469E-B928-1CCA72B2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BF9E2-C36E-4020-9791-941B5BC0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3110F-E946-4833-8922-688CB321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39894-2FFD-4F3E-A39D-210609BF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EFF17-FC6E-47BF-8E18-5C6ED417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2CC59-7785-415B-945E-59FE01AD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DE8-27C4-4FEE-AC79-732D843C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CE376-FC24-44FF-A9A9-2AC34D07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4877C-1ECA-43AD-81B3-A381B50C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7155E-6A70-4702-8676-2E527DC4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C5ADF-3DA4-46C9-82CD-D4FCD713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149F5-C231-40E8-B890-85FDE723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4A333-2F2F-4032-A1F8-0FE592A0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58292-01C7-4166-80F2-E88063D9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3329C-AE81-4C79-A80F-D206D346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F17E9-EB20-44C2-BF0D-AA045BEE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55396-2AF3-4EEB-9A46-61E42216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A248-0443-437C-8A1E-2495046B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A3169-44C5-422E-8CD8-2F818864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BA16D-22D1-4F9E-B2B3-A5D39A28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1E89C-76B1-4930-AAED-6AD3788D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39B26-6E3A-48F5-A05F-987231A0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F3072-E43B-4979-9CD0-36ABD594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B1865-A852-4453-9F75-9ECB4A82C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4D561-97F4-4DC1-A5F5-72D505617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9909B-FC9F-4624-B237-4A4A0987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46011-C345-461D-B9BF-3457036C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D099B-AE24-496B-B73E-A1DACD7F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3A0C-0F98-4135-AAC9-3F965D1B0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16DA-04EE-4745-B89E-08240671C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6D70-483A-4652-8F9C-5B4519EBE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8783-DF4B-4A01-B6BE-A0D6B6491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F0B97-CF72-4EEA-B98B-765E18C69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D559-6648-4997-A0F7-3D4FBFBD4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4387-C99A-45C4-8EE2-34A229DA3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1DE9-7089-482B-9D04-39045EC3E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A949-336D-4F1D-A71E-E202F4D6E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437F-8C47-4985-9D70-0256DF6F34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080D-A678-46C8-BD39-AF737C9A36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F6C3-B2B5-4B35-8870-869893CB24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5DCC-E653-41C2-8D6F-96A85757F1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6C35-5441-45F2-83BC-3B42D6B02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4C47-6503-4EA2-9AE9-E872DAC48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0114-070B-4D49-9E99-7F87C29B6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D067-E0CC-4016-825A-C8FC69CBC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0D62-1DA3-4289-9A5D-2FB6FECFF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2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8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18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1371600" y="3564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457200" y="1599840"/>
            <a:ext cx="82296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8" name="Picture 2" descr=""/>
          <p:cNvPicPr/>
          <p:nvPr/>
        </p:nvPicPr>
        <p:blipFill>
          <a:blip r:embed="rId2"/>
          <a:stretch/>
        </p:blipFill>
        <p:spPr>
          <a:xfrm>
            <a:off x="227160" y="1414440"/>
            <a:ext cx="4416120" cy="468144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42920" y="500040"/>
            <a:ext cx="4071960" cy="31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 Конституции РФ записаны наши права, свободы и обязанност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Все люди равны перед законом, и каждого из нас защищает государство, через полицию и суд</a:t>
            </a:r>
            <a:r>
              <a:rPr b="1" lang="ru-RU" sz="20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801720" y="563400"/>
            <a:ext cx="7866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 первой странице Конституции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напечатан гимн нашего государства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имн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один из главных символов страны. Исполняется при вступлении в должность Президента, руководителей местного самоуправления, при открытии и закрытии торжественных собраний, при проведении торжественных мероприятий, воинских ритуалов и спортивных соревнований.</a:t>
            </a:r>
            <a:r>
              <a:rPr b="0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5214960" y="2214360"/>
            <a:ext cx="347184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мн – торжественная песня или просто мелодия – символ государства. Он исполняется в особых, торжественных случаях: в дни торжественных праздников, собраний, когда проходят парады, в случаях победы наших спортсменов на соревнованиях. При исполнении гимна встают, слушают молча или подпеваю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3" name="Заголовок 1" descr=""/>
          <p:cNvPicPr/>
          <p:nvPr/>
        </p:nvPicPr>
        <p:blipFill>
          <a:blip r:embed="rId1"/>
          <a:stretch/>
        </p:blipFill>
        <p:spPr>
          <a:xfrm>
            <a:off x="2786040" y="500040"/>
            <a:ext cx="8229600" cy="123660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" descr=""/>
          <p:cNvPicPr/>
          <p:nvPr/>
        </p:nvPicPr>
        <p:blipFill>
          <a:blip r:embed="rId2"/>
          <a:stretch/>
        </p:blipFill>
        <p:spPr>
          <a:xfrm>
            <a:off x="500040" y="285840"/>
            <a:ext cx="450072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91960" y="612360"/>
            <a:ext cx="423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ГИМН РОСС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397400" y="99720"/>
            <a:ext cx="4595760" cy="58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Россия - священная наша держава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Россия - любимая наша страна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Могучая воля, великая слава -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Твоё достоянье на все времен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Times New Roman"/>
              </a:rPr>
              <a:t>Припев:</a:t>
            </a:r>
            <a:r>
              <a:rPr b="0" lang="ru-RU" sz="17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Славься, Отечество наше свободное -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Братских народов союз веково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Предками данная мудрость народна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Славься, страна! Мы гордимся тобой!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От южных морей до полярного кра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Раскинулись наши леса и по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Одна ты на свете! Одна ты такая!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Хранимая Богом родная зем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Times New Roman"/>
              </a:rPr>
              <a:t>Припев</a:t>
            </a:r>
            <a:r>
              <a:rPr b="0" lang="ru-RU" sz="17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Славься, Отечество наше свободное -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Братских народов союз веково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Предками данная мудрость народна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Славься, страна! Мы гордимся тобой!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         </a:t>
            </a: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Широкий простор для мечты и для жизни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Грядущие нам открывают год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Нам силу даёт наша верность Отчизн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02a51"/>
                </a:solidFill>
                <a:latin typeface="Times New Roman"/>
              </a:rPr>
              <a:t>Так было, так есть и так будет всегда!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Times New Roman"/>
              </a:rPr>
              <a:t>Припев.</a:t>
            </a:r>
            <a:r>
              <a:rPr b="0" lang="ru-RU" sz="17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655560" y="2416320"/>
            <a:ext cx="3268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лова: Михалков С.В. советский пис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(д.р. 1913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узыка: Александров А.В. композитор и дирижё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(1883 – 1946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Гимн России Минусовка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73120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237960" y="99720"/>
            <a:ext cx="8793360" cy="60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ГЕРБ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В статьях 3, 5, 6, 7 Конституции  указывается, что герб изображается на печатях, паспортах, документах, денежных знаках, государственных наградах, боевых знаменах воинских ч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3" descr=""/>
          <p:cNvPicPr/>
          <p:nvPr/>
        </p:nvPicPr>
        <p:blipFill>
          <a:blip r:embed="rId1"/>
          <a:stretch/>
        </p:blipFill>
        <p:spPr>
          <a:xfrm>
            <a:off x="4172040" y="2981160"/>
            <a:ext cx="3644640" cy="3876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а красном щите распростёр крылья золотой двуглавый орёл под тремя коронами – двумя малыми и одной большой. Все три короны соединены лентами. В правой лапе орла – скипетр (жезл), в левой – держава (золотой шар с крестом). На груди орла мы видим изображение серебряного всадника в синем плаще на серебряном коне. Он поражает серебряным копьем чёрного дракона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вуглавый орел – символ вечности России, необходимой защиты от врагов с запада и востока. Три короны над ним символизируют кровное братство трёх славянских народов: русских, украинцев и белорусов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кипетр и держава в когтях орла – выражение непобедимости нашего Отечеств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4714920" y="1785600"/>
            <a:ext cx="418608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ш флаг имеет прямоугольную форму и состоит из трех горизонтальных полос, сверху вниз: белой, синей, красной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елый цвет означает мир, чистоту. Синий - небо, верность и правду. Красный – храбрость. Государственный флаг России утвержден 22 августа 1991 год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Заголовок 1" descr=""/>
          <p:cNvPicPr/>
          <p:nvPr/>
        </p:nvPicPr>
        <p:blipFill>
          <a:blip r:embed="rId1"/>
          <a:stretch/>
        </p:blipFill>
        <p:spPr>
          <a:xfrm>
            <a:off x="1736640" y="360360"/>
            <a:ext cx="8418600" cy="127332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2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432936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стория Конституц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661212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18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24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36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77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93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86920" y="256680"/>
            <a:ext cx="7961400" cy="12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СФСР 1918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г.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39440" y="1444320"/>
            <a:ext cx="52959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содержала 6 разделов, 17 глав и 90 статей. Конституция 1918 г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закрепила диктатуру пролетари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Лица, жившие на нетрудовые доходы или использовавшие наемный труд были лишены политических пр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Данная Конституция была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самой идеологизированной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из всех советских конституций. Она утратила силу в связи с принятием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1924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4" descr="220px-Обложка_Конституции_РСФСР_1918_года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40520" y="1571760"/>
            <a:ext cx="2697120" cy="3935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Рисунок 1" descr="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88960" y="460440"/>
            <a:ext cx="53532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24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487680" y="2018880"/>
            <a:ext cx="51516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В 1922 года I съез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Советов СССР утвер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Договор об образовании СССР. Договор подписали четыре республики: Россия, Украина, Белоруссия и Закавказье (в состав которой входили Грузия, Армения, Азербайджан). Каждая из республик уже имела свою конституцию. Съезд принял решение о разработке общесоюзной конститу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1924 года Конституция была единогласно принята II съездом Со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4" descr="ussr"/>
          <p:cNvPicPr/>
          <p:nvPr/>
        </p:nvPicPr>
        <p:blipFill>
          <a:blip r:embed="rId1"/>
          <a:stretch/>
        </p:blipFill>
        <p:spPr>
          <a:xfrm>
            <a:off x="6488280" y="146160"/>
            <a:ext cx="2261880" cy="23176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2" descr=""/>
          <p:cNvPicPr/>
          <p:nvPr/>
        </p:nvPicPr>
        <p:blipFill>
          <a:blip r:embed="rId2"/>
          <a:stretch/>
        </p:blipFill>
        <p:spPr>
          <a:xfrm>
            <a:off x="595440" y="1960560"/>
            <a:ext cx="2012760" cy="3127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55480" y="37908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36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69448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Неофициальное название: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Сталинская конституция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 Несмотря на свое название, основным автором конституции был впоследствии репрессированный Николай Бухарин. В работе над текстом конституции непосредственно принимал участие И.В. Стали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4" descr="0_1c0d6_199e7891_XL"/>
          <p:cNvPicPr/>
          <p:nvPr/>
        </p:nvPicPr>
        <p:blipFill>
          <a:blip r:embed="rId1"/>
          <a:srcRect l="3045" t="1386" r="2149" b="1890"/>
          <a:stretch/>
        </p:blipFill>
        <p:spPr>
          <a:xfrm>
            <a:off x="6000840" y="438120"/>
            <a:ext cx="2766960" cy="401148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5"/>
          <p:cNvSpPr/>
          <p:nvPr/>
        </p:nvSpPr>
        <p:spPr>
          <a:xfrm>
            <a:off x="3564000" y="4724280"/>
            <a:ext cx="5603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1936 года по замыслу авторов должна была отразить важный этап в истории Советского государства – построение социализма. В ее обсуждении впервые участвовало 75 млн.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63080" y="374400"/>
            <a:ext cx="60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1977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624120" y="3016080"/>
            <a:ext cx="52610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Эта конституция закрепляла однопартийную политическую систему (КПСС). Несмотря на распад СССР действовала на территории России до 199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Вошла в историю как конституция развитого социализма» ил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Брежневская конституция»</a:t>
            </a: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4" descr="brezh"/>
          <p:cNvPicPr/>
          <p:nvPr/>
        </p:nvPicPr>
        <p:blipFill>
          <a:blip r:embed="rId1">
            <a:lum bright="-6000"/>
          </a:blip>
          <a:srcRect l="0" t="1087" r="0" b="0"/>
          <a:stretch/>
        </p:blipFill>
        <p:spPr>
          <a:xfrm>
            <a:off x="6324480" y="166680"/>
            <a:ext cx="1933560" cy="26449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5" descr=""/>
          <p:cNvPicPr/>
          <p:nvPr/>
        </p:nvPicPr>
        <p:blipFill>
          <a:blip r:embed="rId2"/>
          <a:stretch/>
        </p:blipFill>
        <p:spPr>
          <a:xfrm>
            <a:off x="493560" y="1882800"/>
            <a:ext cx="2252880" cy="3014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 1993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Всенародн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голосованием была принят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С 2005 года 12 декабря не является в России выходным днё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ень Конститу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причислен к памятным датам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292572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6" descr="0002-001-Pervym-prezidentom-Rossii-byl-Boris-Nikolaevich-Eltsin"/>
          <p:cNvPicPr/>
          <p:nvPr/>
        </p:nvPicPr>
        <p:blipFill>
          <a:blip r:embed="rId1"/>
          <a:stretch/>
        </p:blipFill>
        <p:spPr>
          <a:xfrm>
            <a:off x="4214880" y="3344760"/>
            <a:ext cx="4287600" cy="3194280"/>
          </a:xfrm>
          <a:prstGeom prst="rect">
            <a:avLst/>
          </a:prstGeom>
          <a:ln w="0">
            <a:noFill/>
          </a:ln>
        </p:spPr>
      </p:pic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-360" y="201240"/>
            <a:ext cx="9031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Президенты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8"/>
          <p:cNvSpPr/>
          <p:nvPr/>
        </p:nvSpPr>
        <p:spPr>
          <a:xfrm>
            <a:off x="463320" y="1566720"/>
            <a:ext cx="5665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ервым президентом Росс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был  избра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Борис Николаевич Ельц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(1991 -19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342720" y="685800"/>
            <a:ext cx="51973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Второй президент РФ – </a:t>
            </a: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Путин Владимир Владимир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( 2000 – 2008 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Третий президент РФ – </a:t>
            </a: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Медведев Дмитрий Анатолье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(2008 – 2012 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Picture 8" descr="0003-002-Vtoroj-prezident-RF-Putin-Vladimir-Vladimirovich"/>
          <p:cNvPicPr/>
          <p:nvPr/>
        </p:nvPicPr>
        <p:blipFill>
          <a:blip r:embed="rId1"/>
          <a:stretch/>
        </p:blipFill>
        <p:spPr>
          <a:xfrm>
            <a:off x="6084720" y="174600"/>
            <a:ext cx="2376720" cy="335124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9" descr="0004-003-Na-dannyj-moment-prezidentom-Rossijskoj-Federatsii-javljaetsja-Medvedev"/>
          <p:cNvPicPr/>
          <p:nvPr/>
        </p:nvPicPr>
        <p:blipFill>
          <a:blip r:embed="rId2"/>
          <a:stretch/>
        </p:blipFill>
        <p:spPr>
          <a:xfrm>
            <a:off x="6110280" y="3673440"/>
            <a:ext cx="2351160" cy="304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7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0172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Действующий президент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11360" y="1252080"/>
            <a:ext cx="6632640" cy="56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Избран на пост всенародным голосованием в мае 2012 г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a50021"/>
                </a:solidFill>
                <a:latin typeface="Arial"/>
              </a:rPr>
              <a:t>Президент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– глава государств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    </a:t>
            </a: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В его руках находится особая власть – </a:t>
            </a:r>
            <a:r>
              <a:rPr b="1" i="1" lang="ru-RU" sz="2600" spc="-1" strike="noStrike">
                <a:solidFill>
                  <a:srgbClr val="a50021"/>
                </a:solidFill>
                <a:latin typeface="Arial"/>
              </a:rPr>
              <a:t>президентска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600" spc="-1" strike="noStrike" u="sng">
                <a:solidFill>
                  <a:srgbClr val="a50021"/>
                </a:solidFill>
                <a:uFillTx/>
                <a:latin typeface="Arial"/>
              </a:rPr>
              <a:t>Его главные задачи</a:t>
            </a:r>
            <a:r>
              <a:rPr b="1" i="1" lang="ru-RU" sz="26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202a51"/>
                </a:solidFill>
                <a:latin typeface="Arial"/>
              </a:rPr>
              <a:t>охранять конституционный строй России, поддерживать гражданский мир и национальное соглас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9" descr="Vladimir_Putin_12015"/>
          <p:cNvPicPr/>
          <p:nvPr/>
        </p:nvPicPr>
        <p:blipFill>
          <a:blip r:embed="rId1"/>
          <a:stretch/>
        </p:blipFill>
        <p:spPr>
          <a:xfrm>
            <a:off x="623880" y="1965240"/>
            <a:ext cx="1901880" cy="275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52440" y="0"/>
            <a:ext cx="8835840" cy="65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Все 3 президента Российской Федерации, заступая на пост, присягали на Конституции, держа правую руку на сердце или на Конститу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992840" y="4971960"/>
            <a:ext cx="4038480" cy="11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6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8" descr="https://im0-tub-ru.yandex.net/i?id=57f71e2395e0a451cf5506b6d52d38d0-l&amp;n=13"/>
          <p:cNvPicPr/>
          <p:nvPr/>
        </p:nvPicPr>
        <p:blipFill>
          <a:blip r:embed="rId1"/>
          <a:stretch/>
        </p:blipFill>
        <p:spPr>
          <a:xfrm>
            <a:off x="6307200" y="3394080"/>
            <a:ext cx="2684520" cy="32479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2" descr="https://im9.kommersant.ru/Issues.photo/OGONIOK/archive/common/archive/1996/4463/32-34-39/32-36-2b.gif"/>
          <p:cNvPicPr/>
          <p:nvPr/>
        </p:nvPicPr>
        <p:blipFill>
          <a:blip r:embed="rId2"/>
          <a:stretch/>
        </p:blipFill>
        <p:spPr>
          <a:xfrm>
            <a:off x="0" y="2124000"/>
            <a:ext cx="2968560" cy="358776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4" descr="http://vestikavkaza.ru/upload/2017-03-04/148861178258ba69c6e833d3.93318890.jpg"/>
          <p:cNvPicPr/>
          <p:nvPr/>
        </p:nvPicPr>
        <p:blipFill>
          <a:blip r:embed="rId3"/>
          <a:stretch/>
        </p:blipFill>
        <p:spPr>
          <a:xfrm>
            <a:off x="2668680" y="2124000"/>
            <a:ext cx="4145040" cy="2698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4920" y="3139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руктура Конституции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9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амб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сновы конституционного строя (ст.1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а и свободы человека и гражданина (ст.17-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устройство (ст.65-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Российской Федерации (ст.80-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5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собрание (ст.94-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ительство Российской Федерации (ст.110-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7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Судебная власть (ст.118-1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8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Местное самоуправление (ст.130-1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онные поправки и пересмо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(ст.134-1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второй. Заключительные и переходны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25440" y="312840"/>
            <a:ext cx="8593200" cy="60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Согласно Конституции, гражданам РФ гарантированы </a:t>
            </a:r>
            <a:r>
              <a:rPr b="1" i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а и свободы</a:t>
            </a: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, которые можно разделить на  три основные группы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ажданские, политические и лич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202a51"/>
                </a:solidFill>
                <a:uFillTx/>
                <a:latin typeface="Times New Roman"/>
                <a:ea typeface="Times New Roman"/>
              </a:rPr>
              <a:t>гражданские права и свободы</a:t>
            </a: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частную собственн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имуществ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свободное использование своих способностей и имущества для предпринимательской деятельности и иной не запрещенной законом экономическ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свободный тру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благоприятную окружающую среду; охрану труда; охрану здоровья, отдых, образование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801720" y="1600200"/>
          <a:ext cx="8229600" cy="4525920"/>
        </p:xfrm>
        <a:graphic>
          <a:graphicData uri="http://schemas.openxmlformats.org/drawingml/2006/table"/>
        </a:graphic>
      </p:graphicFrame>
      <p:pic>
        <p:nvPicPr>
          <p:cNvPr id="744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99800" y="87120"/>
            <a:ext cx="8831160" cy="67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200" spc="-1" strike="noStrike" u="sng">
                <a:solidFill>
                  <a:srgbClr val="202a51"/>
                </a:solidFill>
                <a:uFillTx/>
                <a:latin typeface="Times New Roman"/>
                <a:ea typeface="Times New Roman"/>
              </a:rPr>
              <a:t>политические пра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 </a:t>
            </a:r>
            <a:r>
              <a:rPr b="1" lang="ru-RU" sz="2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объединени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участие в управлении делами государства как непосредственно, так и через представител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равный доступ к государственной служб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участие в отправлении правосудия и т.д. К их числу относятся и такие свободы, как свобода слова, печати, собраний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202a51"/>
                </a:solidFill>
                <a:uFillTx/>
                <a:latin typeface="Times New Roman"/>
                <a:ea typeface="Times New Roman"/>
              </a:rPr>
              <a:t>личные права</a:t>
            </a:r>
            <a:r>
              <a:rPr b="1" lang="ru-RU" sz="2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право на жизнь, свободу и личную неприкосновенность; неприкосновенность частной жизни, личную и семейную тайну; защиту своей чести и доброго имени; неприкосновенность жилища; свободное передвижение, выбор места пребывания и жительства; пользование родным языком, свободный выбор языка общения, воспитания, обучения и творчества; получение квалифицированной юридической помощи, пользование помощью адвоката и т.д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9640" y="237600"/>
            <a:ext cx="8229600" cy="63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аши обяза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- соблюдение Конституции и законов (ч.2 ст.1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202a5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уважение прав и свобод других лиц (ч. 3 ст. 17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202a5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забота о детях и нетрудоспособных родителях (ч.2 и ч.3 ст.  38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202a5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получение основного общего образования (ч.4 ст.4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- забота о памятниках истории и культуры (ч.3 ст.4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- уплата налогов и сборов (ст.57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- сохранение природы и окружающей среды (ст.58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- защита Отечества (ст.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50640" y="150840"/>
            <a:ext cx="8529480" cy="65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части 2 статьи 19 Конституции РФ </a:t>
            </a:r>
            <a:r>
              <a:rPr b="1" lang="ru-RU" sz="28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определён принцип равноправия, который заключается в равенстве человека и гражданина в обладании правами и свободами. На государство возложена обязанность гарантировать это равенство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При этом запрещены любые формы ограничения прав граждан по признакам социальной, расовой, национальной, языковой или религиозной      принадлежности.</a:t>
            </a:r>
            <a:r>
              <a:rPr b="1" lang="ru-RU" sz="2800" spc="-1" strike="noStrike" baseline="30000">
                <a:solidFill>
                  <a:srgbClr val="202a51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388440" y="488520"/>
            <a:ext cx="8455320" cy="56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Указанные свойства личности неслучайно обозначены и защищены в Конституции, так как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ссия является многонациональным государством </a:t>
            </a:r>
            <a:r>
              <a:rPr b="1" lang="ru-RU" sz="3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с наличием среди населения разных рас, разнообразия языков и религиозных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фессий (вероисповеданий)</a:t>
            </a:r>
            <a:r>
              <a:rPr b="1" lang="ru-RU" sz="3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. Иными словами, все граждане РФ обязаны проявлять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лерантность</a:t>
            </a:r>
            <a:r>
              <a:rPr b="1" lang="ru-RU" sz="3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 - терпимость к иному мировоззрению, образу жизни, поведению и обычаям других люд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63240" y="338040"/>
            <a:ext cx="866772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ждый гражданин </a:t>
            </a:r>
            <a:r>
              <a:rPr b="1" lang="ru-RU" sz="3200" spc="-1" strike="noStrike">
                <a:solidFill>
                  <a:srgbClr val="202a51"/>
                </a:solidFill>
                <a:latin typeface="Times New Roman"/>
                <a:ea typeface="Times New Roman"/>
              </a:rPr>
              <a:t>на территории Российской Федерации имеет право на пользование родным языком, на свободный выбор языка общения, воспитания, обучения и творчества. Не допускаются пропаганда или агитация, возбуждающие социальную, расовую, национальную или религиозную ненависть и вражду. Запрещается пропаганда социального, расового, национального, религиозного или языкового превосход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44600" y="274320"/>
            <a:ext cx="85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4800" y="1665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WordArt 7"/>
          <p:cNvSpPr txBox="1"/>
          <p:nvPr/>
        </p:nvSpPr>
        <p:spPr>
          <a:xfrm>
            <a:off x="4197240" y="1587600"/>
            <a:ext cx="4600800" cy="420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пасибо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нимание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p:transition spd="slow">
    <p:pull dir="r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74560" y="113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84294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0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4357800" y="1928520"/>
            <a:ext cx="44719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ституция Российской Федерации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основной закон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2" descr=""/>
          <p:cNvPicPr/>
          <p:nvPr/>
        </p:nvPicPr>
        <p:blipFill>
          <a:blip r:embed="rId1"/>
          <a:stretch/>
        </p:blipFill>
        <p:spPr>
          <a:xfrm rot="20575800">
            <a:off x="663480" y="1088640"/>
            <a:ext cx="38102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714840" y="2643120"/>
            <a:ext cx="5214960" cy="12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такое закон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4" name="Рисунок 3" descr=""/>
          <p:cNvPicPr/>
          <p:nvPr/>
        </p:nvPicPr>
        <p:blipFill>
          <a:blip r:embed="rId1"/>
          <a:stretch/>
        </p:blipFill>
        <p:spPr>
          <a:xfrm>
            <a:off x="5003640" y="4076640"/>
            <a:ext cx="3240360" cy="252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1428840" y="214200"/>
            <a:ext cx="6215040" cy="423540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 txBox="1"/>
          <p:nvPr/>
        </p:nvSpPr>
        <p:spPr>
          <a:xfrm>
            <a:off x="571680" y="4673160"/>
            <a:ext cx="82296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йствующая Конституция РФ принята всенародным голосованием (референдумом) 12 декабря 1993 г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с 19 сентября 199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т праздник стал государстве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Алина Руслановна</cp:lastModifiedBy>
  <dcterms:modified xsi:type="dcterms:W3CDTF">2023-12-11T06:39:59Z</dcterms:modified>
  <cp:revision>118</cp:revision>
  <dc:subject/>
  <dc:title>Слайд 1</dc:title>
</cp:coreProperties>
</file>