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31F-D261-41EE-A477-4FE946E5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271-4953-4DF3-9318-E035F515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427D4-2DC3-4048-9A17-CCFB4B52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33D26-AF05-41E9-8DF9-912B9E44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3589B-0127-4402-BA9D-FE2D74B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6B850-B959-4995-9119-49CE840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D3FC3-0A61-48A5-999F-6A55277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1CBF-D8F3-4D71-8D18-8B45CC11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224E6-7DE9-46C2-9E05-D93BAF4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DB00-27FA-48F9-8FB0-63903B39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497B2-E326-4482-8B30-759C98C6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68D6A-0378-4F5C-AA28-FD72BA6B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3EC-E546-4866-BE1E-BB53BB6A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B2294-74D8-4C80-B112-05FDFCD5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BDD6E-60D4-4B54-8FF1-3A7C7D5C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A8052-CAC2-4880-A490-172223CC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F92B8-552B-4C59-8F8B-C3E81D9B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A2915-A605-4FFF-82DB-67CB87C0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03A38-2DF5-465F-B9DC-E3B954E7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9EEF3-CFDE-459F-81A9-181C387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75DF4-7E09-4B14-84D1-22B4EEE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B3DE4-188E-42F1-ADC6-E961D186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6B2CA-E4A0-4DD8-9DFD-2A8A639A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4C3-1DAB-4B60-B4D1-D4BD98A2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EB29F-709F-4637-9AEC-46C38808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DC5D7-8F60-4DCE-80EE-AC7E75D9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C04C5-2C16-4980-A703-6DA67FE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1E3F2-EB5D-412C-BC30-0F44667B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4F5E4-1548-45A2-945F-FAADDD18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08E9-04B5-40A1-ADEF-DB28E1E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AB2A3-31F9-42B4-B385-9B26590B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2FDB0-14C4-4B91-BCA9-801E37D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263D-BAFB-4ADD-B2D4-C62A1DE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94305-86E0-4FAE-811F-CA63930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BFEF-5239-4456-AEC4-7505C8A1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F19F6-698D-4753-BDFC-A290056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8B10-3120-4A7A-8665-D1114C14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6C185-FE69-481B-A6A2-14C23D7D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0386F-3A67-4E1C-9331-AEDC51DA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D3A3D-0D2F-45A6-A5AC-C8645C8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1E992-3865-40DF-8C68-2CBAEA9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208A3-44F2-43E4-8A9D-B5878DBA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98183-2B69-433F-B324-2C38059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BC376-FE4C-4504-801B-90120F68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62E36-3B4C-4FD9-AD1D-044E62D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1907-47F6-44EE-9FDE-2B021A2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E71DA-D5F0-41E6-9681-499D6AD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7B499-A18E-43AB-BF2B-6212586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02119-4003-4BFA-8679-EA2846D2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EDFC4-F1A2-4188-9A10-3EBF6A6A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9E6B5-0F83-4BF3-8F96-F9B14E6B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373E4-40B2-4DDC-ACDE-E49E67B9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7D36E-7757-496B-B168-9410B7B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9A40C-8539-46EA-90EC-124DE73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EF5DB-4053-4D50-BD2D-FEDD805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628AE-9FFC-48EA-B9D9-9C43521A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3696-38D0-416F-B79E-A7EBD9B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5DED0-67D1-4519-ACE8-4C6CBEBC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1F9E3-70BC-4EDA-8826-33BF4A85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42CDF-54C3-4DC1-969B-D7BE155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25FFF-1AAE-4A96-8570-A2BC1B0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43407-1B70-463B-A0C1-944F8B6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94343-1782-4927-9F0D-CFB300F2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656E1-7216-4ED5-83CB-11B16B28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5F077-1BBE-42BA-8C95-EE0537A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1A0BC-01BF-412D-B475-350D9057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0228C-E352-4CA3-A639-B794C90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970D-5C12-4C4F-A435-7E35405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4FF0E-2866-4961-B3AB-E7B480AE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03AF4-04FD-4474-A699-3627E65C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02E18-3762-44DB-A46D-016AA069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254F2-A182-4D92-A961-05296BD1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A51EB-A86C-432C-99AF-A6B4313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1AE91-7FAC-4FCE-AE9D-D591D75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FC4E6-A69D-4FAD-A22B-F7FDB4AB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96FBE-5E1E-4A31-A56A-F2C9A6D0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0CF47-6926-4C1C-B3AA-F05D6DE2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D022E-9EDD-4D40-B813-E854B802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0203-C76C-4AB4-9E36-25C1633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BA80A-3492-4116-9313-91B97A8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C622E-CB54-4347-84B3-31124E3F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82CE1-C205-4E40-A8E2-F7F1EF06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96DE3-2EFB-4778-BB0C-4A1ECC7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4754E-47BF-4FD8-8275-C748956A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BF5D2-4DCE-4A32-8CA1-8B553488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8ECFC-3097-4B00-9953-51F7955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E0131-5FAD-4A85-A41D-3B4EF4DD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9283A-7490-4437-97A0-84B630EA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0AA82-F393-4F19-A809-C1405CA1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6594-A5A3-4141-883E-4B140667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ACA6A-BABC-454C-97BF-F7AE1385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028AA-AC07-4B9B-BED3-479A4A62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B246C-C191-40F9-9FFE-D347EB0E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69E93-D6B3-435B-AF37-B0504EE8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E8CE4-05A0-4B3F-8E91-52EA590A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5B9B8-F1A2-43DE-A31A-05C93076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22079-6767-4D26-B49F-14CF6F4D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7D508-E46C-4F20-8491-6782A54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2B3E6-15EC-4034-A2E5-64DA4AE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63FA2-07F1-4C38-84E8-A284FFD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9B2-BE52-4987-B93A-605AB8B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FF37A-FD09-4182-8EE0-7E59888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8BAFD-B3E6-4BA0-9AC8-A6AB89C5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D736A-093C-401A-A474-4916F6F5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914FC-4EC3-434C-B851-14293896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0ED7B-8A41-4A48-9594-F660E0F5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BD7DF-AF91-448F-9B6E-7D236E0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F286A3-697B-4AFE-B50A-654D5A9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CE557-5601-4FFB-B878-CDD32DAF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89501-E96F-43FD-8448-534FA82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CA469-649B-4058-9C4C-DF9D0A5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DD3-516E-4784-891C-FA06FD23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962-D87D-4D6B-9E66-3CAB1779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D0142-A6A8-4A10-817C-E651953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624BA-4850-43F7-99ED-4F5BCF6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DAFAE-CABF-44A0-B861-BAF2DED5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3D1F0-016A-4124-A9D1-4239257B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1C316-1F02-4B79-A43D-4B8FD2CB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EEADC-BE27-4420-A25C-6FFC5790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98F46-A62D-47B7-B051-60DAEB72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B6232-A8F3-442B-8014-F23CDC0B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2EF81-8239-4F1B-B45C-B3F1A8DC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AE497-6C1F-4996-8232-3F187A8B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B08C-5DEF-4691-BFA6-CA01504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2C626-7BFA-466F-A358-77EDBC9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C6128-EBEE-46A1-B62F-710648E6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01B4D-45A2-4226-80B8-C6350A8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EF09E-D518-4B06-BE49-BF31DBD4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F88DA-6B0E-41CD-A0DE-1FC17337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60DFC-0698-4053-81CA-9C5FAF57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C1687-E88F-4BB4-BAEE-8EC7CB8A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72AC-05A0-4C9C-82AE-6DCEDEBC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E9A5-EEDD-45AB-BF97-E162292B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6D9D-E7D6-4D1C-B499-3BC63E31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DB21-1580-4EAE-82F3-66A03F5E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48E5-BC55-4421-84EB-156C949D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0D84-EE6C-41DE-B00A-5F39F76A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3451-9B38-45CC-A6D9-16D0164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C2E2-8F3D-4282-81ED-2D76491C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1C7-E415-44BC-B823-BB563087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B568-E342-4227-A3EB-C17DCCB9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FB7C-E9A7-41EF-B66F-FCD15C3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5883-DC20-4FCD-8971-73A51DB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1B69-2DB7-4237-A1B5-92C6A34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5386-A84B-42DE-BC06-6488334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805F-9E36-4D53-94AF-47B596BC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EDD1-01EA-4B16-9DD1-00CC7BFD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D218-D3EC-4A5D-AD75-71B9D8B7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6B85-B81F-4FF9-956A-3E5E900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4A68-C562-4036-B938-1C23E57E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FC2-A445-4735-975D-DA70B52A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EB78-AF51-48D3-8CDA-94E7E4DC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857C-2DF9-4F94-B4CF-EB33D0E6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35B9-BBDC-4FA3-9819-07B8B94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7BAF-D0E8-4780-A7D8-58EAC89E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65C8-F5B0-41A5-8D7B-EAB6E43F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B2DD-ACDD-424B-889B-E59D2D8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F571-4E52-403B-8404-597C9D8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47E0-CCB3-48AA-A5A9-82E1D65D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BFEE-E21B-4183-A3F3-43986A90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5F0D-8949-46BC-96DD-E08A01B7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76A-CCBD-4B50-AFBE-4BBAFD9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D138-0692-4229-A8C3-F6F6B705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9370E-C231-4C5B-8859-1C6D8D7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BFD06-D073-4CEC-8B89-95C59856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931C-0450-4AC1-9770-20916082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2CE9-3DC7-4281-9424-E4C48936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A92B7-6B54-46C6-A87E-D3ECD77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2083-3807-4EBE-8FAF-6A71D6B5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B527-5BC1-4929-9A21-19BF245B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C4B79-3D92-4284-868B-EC7D4F87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9581-101F-42BF-81DB-55C7C6FD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D05-0606-4167-A4DB-6BAF9EF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3F2E-B994-483C-8963-21F40BE3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42CE0-F700-4C1C-9F32-F1D6B477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8CF9E-2626-42BE-A399-129697D3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9C0B5-D310-4790-9C83-8EDC8AC0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64225-0883-40BE-ADFA-8929E3A8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63418-853B-4829-B2FC-A49EEDB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996E-0FD0-4DC5-849C-D8D26C4A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B485-FEF1-47C3-9FBC-CCB36F0A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86A0-A713-4DA9-8543-C2A1D4AB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3E941-9BF7-4FAA-9281-7897D699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F3D-21CA-48C0-88C7-943A37D7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2CFA8-0DB0-4E75-861D-869958E9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5DBF-38D1-4881-878F-6EA76D8C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F4B7D-36AA-44A3-BF2E-33E643E0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ED5C-6E74-4DAF-8D3D-BBDDD692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95B5-FF93-4EC9-A53E-0A94FEE8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03FF0-3990-41BC-AF0A-CA596C4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9724B-EC50-41A3-B5AB-03CFF2E8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6417-9338-4E98-BFDE-FA170DA9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AF6FD-ED1F-42F7-B2DE-CA3FBB73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4DB6-A2B9-4FDD-A0E5-2A3EE1A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136-88F8-44D4-9A1F-C3029EBB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5FA6-7B0D-456B-B857-068603D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A99C4-60E3-40C1-8E8A-39BB1571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9E32E-5D57-4E84-8D41-94FA864B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6FE5-C837-48DF-AB5A-4A35F7A3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00B59-E883-4A39-8970-4C231733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ECDCE-3F58-4C4D-9A34-A2172500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474C-3A42-4E4C-AE83-A3B2CC6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3B70-802C-4817-8F0D-0F912305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44D4-07B2-4EA4-8982-28347A17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E3FAC-6766-475C-9DC8-D6A92BC4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7E0-E844-48CE-BFF0-33E1F36D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2FF8-4774-428E-B01F-F58E0711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70FF7-B9EB-4FA1-85FE-9492881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2619-B165-4CB6-BFB0-3F2EC2C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5526-56DF-4489-A0F2-43ADA30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F9355-EA01-4CDF-A7D0-4D1649CC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4AF0-9BDE-41CD-B3DF-99F1272D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3C6B-79EB-48C4-8056-65926C6D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02BBC-5EBA-4BF6-AB5C-7EDD8AB0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EE635-91EC-4DF0-BB52-C4DDCBF1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53FC-39D2-4553-A78E-B4480F7B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76EE-4CFA-48C8-AC84-7BE70A2A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DE4A-1D27-480D-8E6D-AE702E1B3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B72-1265-47B7-B0C8-AEB22AED1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F05F-0827-47F8-8398-80335B7CC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6762-C7E5-43A2-BC02-E8E081FC5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176-6D0E-4FD2-8CE7-9127D0E2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F390-145D-439F-B1F8-FF3117E0F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9F5B-EA19-4DA6-9486-D37079C1F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DAB5-0F2F-4A56-BC00-4BD611B92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B905-CE5C-4359-90FB-D90E948F2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C6F9-9EDB-4B41-BB25-598FF673D5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9C9A-A638-4C15-AD77-7564A4654E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2A3F-6589-4A65-9402-4602745BC5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96D3-03E0-444D-BF91-84E8F9FFE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8520-7BF6-4B5A-88FE-BAD4B342E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11E5-0CB7-4D0E-8A75-DDED091F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1ADF-A480-4AA2-A16B-ED100CD55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9D77-7117-436F-A4F7-2D04B97CA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564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457200" y="15998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2"/>
          <a:stretch/>
        </p:blipFill>
        <p:spPr>
          <a:xfrm>
            <a:off x="227160" y="1414440"/>
            <a:ext cx="4416120" cy="468144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42920" y="500040"/>
            <a:ext cx="407196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 Конституции РФ записаны наши права, свободы и обязанност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се люди равны перед законом, и каждого из нас защищает государство, через полицию и суд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801720" y="563400"/>
            <a:ext cx="7866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первой странице Конституции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напечатан гимн нашего государств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имн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один из главных символов страны. Исполняется при вступлении в должность Президента, руководителей местного самоуправления, при открытии и закрытии торжественных собраний, при проведении торжественных мероприятий, воинских ритуалов и спортивных соревнований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5214960" y="2214360"/>
            <a:ext cx="34718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мн – торжественная песня или просто мелодия – символ государства. Он исполняется в особых, торжественных случаях: в дни торжественных праздников, собраний, когда проходят парады, в случаях победы наших спортсменов на соревнованиях. При исполнении гимна встают, слушают молча или подпев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Заголовок 1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450072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1960" y="612360"/>
            <a:ext cx="423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ИМН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397400" y="99720"/>
            <a:ext cx="459576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Россия - священная наша держава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Россия - любимая наша страна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Могучая воля, великая слава -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Твоё достоянье на все времен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Times New Roman"/>
              </a:rPr>
              <a:t>Припев:</a:t>
            </a:r>
            <a:r>
              <a:rPr b="0" lang="ru-RU" sz="17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Отечество наше свободное -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Братских народов союз веков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Предками данная мудрость народна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страна! Мы гордимся тобой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От южных морей до полярного кра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Раскинулись наши леса и по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Одна ты на свете! Одна ты такая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Хранимая Богом родная зем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Times New Roman"/>
              </a:rPr>
              <a:t>Припев</a:t>
            </a:r>
            <a:r>
              <a:rPr b="0" lang="ru-RU" sz="17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Отечество наше свободное -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Братских народов союз веков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Предками данная мудрость народна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страна! Мы гордимся тобой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         </a:t>
            </a: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Широкий простор для мечты и для жизни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Грядущие нам открывают го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Нам силу даёт наша верность Отчизн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Так было, так есть и так будет всегда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Times New Roman"/>
              </a:rPr>
              <a:t>Припев.</a:t>
            </a:r>
            <a:r>
              <a:rPr b="0" lang="ru-RU" sz="17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655560" y="2416320"/>
            <a:ext cx="3268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лова: Михалков С.В. советский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д.р. 19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узыка: Александров А.В. композитор и дирижё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1883 – 194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Гимн России Минусовк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3120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237960" y="99720"/>
            <a:ext cx="879336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ЕРБ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 статьях 3, 5, 6, 7 Конституции  указывается, что герб изображается на печатях, паспортах, документах, денежных знаках, государственных наградах, боевых знаменах воинских ч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3" descr=""/>
          <p:cNvPicPr/>
          <p:nvPr/>
        </p:nvPicPr>
        <p:blipFill>
          <a:blip r:embed="rId1"/>
          <a:stretch/>
        </p:blipFill>
        <p:spPr>
          <a:xfrm>
            <a:off x="4172040" y="2981160"/>
            <a:ext cx="364464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красном щите распростёр крылья золотой двуглавый орёл под тремя коронами – двумя малыми и одной большой. Все три короны соединены лентами. В правой лапе орла – скипетр (жезл), в левой – держава (золотой шар с крестом). На груди орла мы видим изображение серебряного всадника в синем плаще на серебряном коне. Он поражает серебряным копьем чёрного дракон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вуглавый орел – символ вечности России, необходимой защиты от врагов с запада и востока. Три короны над ним символизируют кровное братство трёх славянских народов: русских, украинцев и белорус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кипетр и держава в когтях орла – выражение непобедимости нашего Отечеств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4714920" y="1785600"/>
            <a:ext cx="418608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ш флаг имеет прямоугольную форму и состоит из трех горизонтальных полос, сверху вниз: белой, синей, красн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елый цвет означает мир, чистоту. Синий - небо, верность и правду. Красный – храбрость. Государственный флаг России утвержден 22 августа 1991 го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Заголовок 1" descr=""/>
          <p:cNvPicPr/>
          <p:nvPr/>
        </p:nvPicPr>
        <p:blipFill>
          <a:blip r:embed="rId1"/>
          <a:stretch/>
        </p:blipFill>
        <p:spPr>
          <a:xfrm>
            <a:off x="1736640" y="360360"/>
            <a:ext cx="8418600" cy="12733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3293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Она утратила силу в связи с принятием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0520" y="1571760"/>
            <a:ext cx="269712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Рисунок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88960" y="460440"/>
            <a:ext cx="53532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487680" y="2018880"/>
            <a:ext cx="5151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 1922 года I съез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Советов СССР у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1924 года Конституция была единогласно принята II съездом Со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4" descr="ussr"/>
          <p:cNvPicPr/>
          <p:nvPr/>
        </p:nvPicPr>
        <p:blipFill>
          <a:blip r:embed="rId1"/>
          <a:stretch/>
        </p:blipFill>
        <p:spPr>
          <a:xfrm>
            <a:off x="6488280" y="146160"/>
            <a:ext cx="2261880" cy="23176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" descr=""/>
          <p:cNvPicPr/>
          <p:nvPr/>
        </p:nvPicPr>
        <p:blipFill>
          <a:blip r:embed="rId2"/>
          <a:stretch/>
        </p:blipFill>
        <p:spPr>
          <a:xfrm>
            <a:off x="595440" y="1960560"/>
            <a:ext cx="201276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4" descr="0_1c0d6_199e7891_XL"/>
          <p:cNvPicPr/>
          <p:nvPr/>
        </p:nvPicPr>
        <p:blipFill>
          <a:blip r:embed="rId1"/>
          <a:srcRect l="3045" t="1386" r="2149" b="1890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63080" y="374400"/>
            <a:ext cx="60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624120" y="3016080"/>
            <a:ext cx="52610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ошла в историю как конституция развитого социализма» ил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6324480" y="1666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" descr=""/>
          <p:cNvPicPr/>
          <p:nvPr/>
        </p:nvPicPr>
        <p:blipFill>
          <a:blip r:embed="rId2"/>
          <a:stretch/>
        </p:blipFill>
        <p:spPr>
          <a:xfrm>
            <a:off x="493560" y="1882800"/>
            <a:ext cx="2252880" cy="301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0002-001-Pervym-prezidentom-Rossii-byl-Boris-Nikolaevich-Eltsin"/>
          <p:cNvPicPr/>
          <p:nvPr/>
        </p:nvPicPr>
        <p:blipFill>
          <a:blip r:embed="rId1"/>
          <a:stretch/>
        </p:blipFill>
        <p:spPr>
          <a:xfrm>
            <a:off x="4214880" y="3344760"/>
            <a:ext cx="4287600" cy="319428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903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Президенты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8"/>
          <p:cNvSpPr/>
          <p:nvPr/>
        </p:nvSpPr>
        <p:spPr>
          <a:xfrm>
            <a:off x="463320" y="1566720"/>
            <a:ext cx="566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ервым президентом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был  избр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Борис Николаевич Ельц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(1991 -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342720" y="685800"/>
            <a:ext cx="5197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торой президент РФ –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утин Владимир Владими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( 2000 – 2008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ретий президент РФ –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Медведев Дмитрий Анатоль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(2008 – 2012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8" descr="0003-002-Vtoroj-prezident-RF-Putin-Vladimir-Vladimirovich"/>
          <p:cNvPicPr/>
          <p:nvPr/>
        </p:nvPicPr>
        <p:blipFill>
          <a:blip r:embed="rId1"/>
          <a:stretch/>
        </p:blipFill>
        <p:spPr>
          <a:xfrm>
            <a:off x="6084720" y="174600"/>
            <a:ext cx="2376720" cy="335124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9" descr="0004-003-Na-dannyj-moment-prezidentom-Rossijskoj-Federatsii-javljaetsja-Medvedev"/>
          <p:cNvPicPr/>
          <p:nvPr/>
        </p:nvPicPr>
        <p:blipFill>
          <a:blip r:embed="rId2"/>
          <a:stretch/>
        </p:blipFill>
        <p:spPr>
          <a:xfrm>
            <a:off x="6110280" y="3673440"/>
            <a:ext cx="2351160" cy="304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0172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ействующий президент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11360" y="1252080"/>
            <a:ext cx="663264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Избран на пост всенародным голосованием в мае 201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Президент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– глава государ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В его руках находится особая власть –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президентска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 u="sng">
                <a:solidFill>
                  <a:srgbClr val="a50021"/>
                </a:solidFill>
                <a:uFillTx/>
                <a:latin typeface="Arial"/>
              </a:rPr>
              <a:t>Его главные задачи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охранять конституционный строй России, поддерживать гражданский мир и национальное соглас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9" descr="Vladimir_Putin_12015"/>
          <p:cNvPicPr/>
          <p:nvPr/>
        </p:nvPicPr>
        <p:blipFill>
          <a:blip r:embed="rId1"/>
          <a:stretch/>
        </p:blipFill>
        <p:spPr>
          <a:xfrm>
            <a:off x="623880" y="1965240"/>
            <a:ext cx="190188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52440" y="0"/>
            <a:ext cx="883584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Все 3 президента Российской Федерации, заступая на пост, присягали на Конституции, держа правую руку на сердце или на Конститу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992840" y="4971960"/>
            <a:ext cx="403848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8" descr="https://im0-tub-ru.yandex.net/i?id=57f71e2395e0a451cf5506b6d52d38d0-l&amp;n=13"/>
          <p:cNvPicPr/>
          <p:nvPr/>
        </p:nvPicPr>
        <p:blipFill>
          <a:blip r:embed="rId1"/>
          <a:stretch/>
        </p:blipFill>
        <p:spPr>
          <a:xfrm>
            <a:off x="6307200" y="3394080"/>
            <a:ext cx="2684520" cy="32479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2" descr="https://im9.kommersant.ru/Issues.photo/OGONIOK/archive/common/archive/1996/4463/32-34-39/32-36-2b.gif"/>
          <p:cNvPicPr/>
          <p:nvPr/>
        </p:nvPicPr>
        <p:blipFill>
          <a:blip r:embed="rId2"/>
          <a:stretch/>
        </p:blipFill>
        <p:spPr>
          <a:xfrm>
            <a:off x="0" y="2124000"/>
            <a:ext cx="2968560" cy="35877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4" descr="http://vestikavkaza.ru/upload/2017-03-04/148861178258ba69c6e833d3.93318890.jpg"/>
          <p:cNvPicPr/>
          <p:nvPr/>
        </p:nvPicPr>
        <p:blipFill>
          <a:blip r:embed="rId3"/>
          <a:stretch/>
        </p:blipFill>
        <p:spPr>
          <a:xfrm>
            <a:off x="2668680" y="2124000"/>
            <a:ext cx="4145040" cy="269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25440" y="312840"/>
            <a:ext cx="8593200" cy="60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Согласно Конституции, гражданам РФ гарантированы </a:t>
            </a:r>
            <a:r>
              <a:rPr b="1" i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а и свободы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, которые можно разделить на  три основные группы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жданские, политические и лич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202a51"/>
                </a:solidFill>
                <a:uFillTx/>
                <a:latin typeface="Times New Roman"/>
                <a:ea typeface="Times New Roman"/>
              </a:rPr>
              <a:t>гражданские права и свободы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частную соб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иму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свободное использование своих способностей и имущества для предпринимательской деятельности и иной не запрещенной законом эконом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свободный тру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благоприятную окружающую среду; охрану труда; охрану здоровья, отдых, образовани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80172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7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99800" y="87120"/>
            <a:ext cx="883116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200" spc="-1" strike="noStrike" u="sng">
                <a:solidFill>
                  <a:srgbClr val="202a51"/>
                </a:solidFill>
                <a:uFillTx/>
                <a:latin typeface="Times New Roman"/>
                <a:ea typeface="Times New Roman"/>
              </a:rPr>
              <a:t>политические пра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 </a:t>
            </a: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объединени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участие в управлении делами государства как непосредственно, так и через представител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равный доступ к государственной служб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участие в отправлении правосудия и т.д. К их числу относятся и такие свободы, как свобода слова, печати, собраний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202a51"/>
                </a:solidFill>
                <a:uFillTx/>
                <a:latin typeface="Times New Roman"/>
                <a:ea typeface="Times New Roman"/>
              </a:rPr>
              <a:t>личные права</a:t>
            </a: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жизнь, свободу и личную неприкосновенность; неприкосновенность частной жизни, личную и семейную тайну; защиту своей чести и доброго имени; неприкосновенность жилища; свободное передвижение, выбор места пребывания и жительства; пользование родным языком, свободный выбор языка общения, воспитания, обучения и творчества; получение квалифицированной юридической помощи, пользование помощью адвоката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9640" y="237600"/>
            <a:ext cx="822960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аши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соблюдение Конституции и законов (ч.2 ст.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уважение прав и свобод других лиц (ч. 3 ст. 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забота о детях и нетрудоспособных родителях (ч.2 и ч.3 ст.  3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лучение основного общего образования (ч.4 ст.4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забота о памятниках истории и культуры (ч.3 ст.4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уплата налогов и сборов (ст.57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сохранение природы и окружающей среды (ст.5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защита Отечества (ст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50640" y="150840"/>
            <a:ext cx="8529480" cy="65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части 2 статьи 19 Конституции РФ 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определён принцип равноправия, который заключается в равенстве человека и гражданина в обладании правами и свободами. На государство возложена обязанность гарантировать это равенство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При этом запрещены любые формы ограничения прав граждан по признакам социальной, расовой, национальной, языковой или религиозной      принадлежности.</a:t>
            </a:r>
            <a:r>
              <a:rPr b="1" lang="ru-RU" sz="2800" spc="-1" strike="noStrike" baseline="30000">
                <a:solidFill>
                  <a:srgbClr val="202a5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" y="488520"/>
            <a:ext cx="845532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Указанные свойства личности неслучайно обозначены и защищены в Конституции, так как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ссия является многонациональным государством 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с наличием среди населения разных рас, разнообразия языков и религиозных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фессий (вероисповеданий)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. Иными словами, все граждане РФ обязаны проявлять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ерантность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 - терпимость к иному мировоззрению, образу жизни, поведению и обычаям друг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63240" y="338040"/>
            <a:ext cx="866772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ждый гражданин 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на территории Российской Федерации имеет право на пользование родным языком, на свободный выбор языка общения, воспитания, обучения и творчества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44600" y="27432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4800" y="1665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WordArt 7"/>
          <p:cNvSpPr txBox="1"/>
          <p:nvPr/>
        </p:nvSpPr>
        <p:spPr>
          <a:xfrm>
            <a:off x="4197240" y="1587600"/>
            <a:ext cx="4600800" cy="42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4560" y="11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8429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4357800" y="1928520"/>
            <a:ext cx="44719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ституция Российской Федерации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основной закон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 rot="20575800">
            <a:off x="663480" y="1088640"/>
            <a:ext cx="38102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714840" y="2643120"/>
            <a:ext cx="521496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зак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Рисунок 3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24036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6215040" cy="42354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 txBox="1"/>
          <p:nvPr/>
        </p:nvSpPr>
        <p:spPr>
          <a:xfrm>
            <a:off x="571680" y="467316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ующая Конституция РФ принята всенародным голосованием (референдумом) 12 декабря 1993 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 19 сентября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праздник стал государств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Алина Руслановна</cp:lastModifiedBy>
  <dcterms:modified xsi:type="dcterms:W3CDTF">2023-12-11T06:39:59Z</dcterms:modified>
  <cp:revision>118</cp:revision>
  <dc:subject/>
  <dc:title>Слайд 1</dc:title>
</cp:coreProperties>
</file>