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7.png" ContentType="image/png"/>
  <Override PartName="/ppt/media/image14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  <p:custShowLst>
    <p:custShow name="Произвольный показ 1" id="0">
      <p:sldLst>
        <p:sld r:id="rId6"/>
        <p:sld r:id="rId7"/>
        <p:sld r:id="rId10"/>
        <p:sld r:id="rId12"/>
        <p:sld r:id="rId13"/>
        <p:sld r:id="rId14"/>
        <p:sld r:id="rId15"/>
        <p:sld r:id="rId11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8DBB-DDF4-4911-89A7-A798CF1DB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D59-090B-48AD-98BF-28FBC05BA2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3BC-B1BF-4846-9DD6-FA60176C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8A62-FCD5-40F4-827D-991AEF4A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4DB-D814-40BD-BE76-3F34B924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E2B-C23E-4E82-A61D-981DBB98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3A305-8AD2-46A1-819E-3114AA13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9A28-F272-44BF-A380-21E2E287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13CF-FAD1-473A-B282-B944012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740D-9F5C-4C8E-ACA6-9F1863EF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8079-92F8-480D-8AF5-CD27A1E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1F3-56AF-4579-91D4-10596B67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1C09-6779-4F1A-8E7C-39F6C5CC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27A-E98A-4CEE-9435-C73D696C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77F-B4A0-40BC-94F6-4CD00D9D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6A26-A071-44CB-9C40-9BC7BF3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615-7CC9-4687-BD0F-096ACB80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3A47-DA74-49FD-94A6-4E65D474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9A5B-7894-4814-B59E-05C6605E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A31-AAEE-4AC1-90A3-F8E4C83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0BD-AF27-4CC6-A01A-41BE11B0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E88-AC1A-40D7-91C0-BB4BC030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507B-54EB-4A1D-9866-236BEA75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AF1A-7B65-476B-B09E-ACB3FECA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E64D-49EF-4DF9-A748-6653C2A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7C0-6774-4FCE-B04A-39F62D0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CBEC-9E1D-4525-A9AE-863CCED4B0A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1ED-E12C-4371-BAE2-DF2C8EDBD12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1619280" y="620640"/>
            <a:ext cx="631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анрово-стилевые и сюжетно-композиционные особен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эмы «Василий Теркин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ок литературы в 8 классе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2050920" y="5229360"/>
            <a:ext cx="545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 МАОУ СОШ  № 6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уханова  Т.Ф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023 г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26920" y="549360"/>
          <a:ext cx="7777440" cy="41749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Трифонович Твардовский-поэ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эма.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озиц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геро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ьба советского народа в годы ВОВ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ирательный образ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Vector ribbons set for Victory Day with old paper background"/>
          <p:cNvPicPr/>
          <p:nvPr/>
        </p:nvPicPr>
        <p:blipFill>
          <a:blip r:embed="rId3"/>
          <a:stretch/>
        </p:blipFill>
        <p:spPr>
          <a:xfrm>
            <a:off x="1042920" y="5950080"/>
            <a:ext cx="7058160" cy="71892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3" descr="C:\Documents and Settings\Admin\Рабочий стол\flower-bouquet-1346515_960_720.jpg"/>
          <p:cNvPicPr/>
          <p:nvPr/>
        </p:nvPicPr>
        <p:blipFill>
          <a:blip r:embed="rId4"/>
          <a:stretch/>
        </p:blipFill>
        <p:spPr>
          <a:xfrm>
            <a:off x="3206880" y="4943520"/>
            <a:ext cx="2730240" cy="1652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2"/>
          <p:cNvSpPr/>
          <p:nvPr/>
        </p:nvSpPr>
        <p:spPr>
          <a:xfrm>
            <a:off x="334800" y="274680"/>
            <a:ext cx="8474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ликой Отечественной войне посвящено много литератур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изведений.Одним из самых популяр­ных произведений стала его поэм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«Василий Теркин: Книга про бойц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вардовский сам находился в гуще фронтовой жизни, собирал материа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ямо в окопах, на передовой, так как работал военным корреспонден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ы поэмы создавались в зем­лянках, деревенских избах, печата­лись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траницах фронтовых газет и немедленно поступали к своему глав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читателю — солдату вой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2916360" y="476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войн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3928320" y="1000080"/>
            <a:ext cx="131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нквей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008360" y="2200320"/>
            <a:ext cx="764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 Строчка одно слово  существительное- тема  - ВЕ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 Строчка  2слова прилагательных. ТЕПЛАЯ, ДОЛГОЖДАН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.Строчка 3 слова 3 глагола. ТАЕТ, ГРЕЕТ,ЦВЕТ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.Фраза, высказывание, выражающее отношение к теме .ВЕС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ДЕЖ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Итог, вывод, 1 слово , синоним темы, существительное. Жиз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4182480" y="178920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1401840" y="6022800"/>
            <a:ext cx="7059600" cy="7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C:\Documents and Settings\Admin\Рабочий стол\flower-bouquet-1346515_960_720.jpg"/>
          <p:cNvPicPr/>
          <p:nvPr/>
        </p:nvPicPr>
        <p:blipFill>
          <a:blip r:embed="rId2"/>
          <a:stretch/>
        </p:blipFill>
        <p:spPr>
          <a:xfrm>
            <a:off x="3462480" y="5016600"/>
            <a:ext cx="273672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1116000" y="324000"/>
            <a:ext cx="77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Жестокая и горькая правда раскрывается в строфах о том, как война беспощадн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глощае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людские жиз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4"/>
          <p:cNvSpPr/>
          <p:nvPr/>
        </p:nvSpPr>
        <p:spPr>
          <a:xfrm>
            <a:off x="5148360" y="350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столбом поставил в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руг снаряд. Понтоны – в ря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сто было там народ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ших стриженых ребят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увиделось вперв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забудется о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ди теплые, жи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ли на дно, на дно, на д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Users\Администратор\Desktop\АТТЕСТАЦИЯ\ТВАРДОВСКИЙ\tv_verejsky1 (1).JPG"/>
          <p:cNvPicPr/>
          <p:nvPr/>
        </p:nvPicPr>
        <p:blipFill>
          <a:blip r:embed="rId1"/>
          <a:stretch/>
        </p:blipFill>
        <p:spPr>
          <a:xfrm>
            <a:off x="468360" y="2133720"/>
            <a:ext cx="4282920" cy="45482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6067440" y="5950080"/>
            <a:ext cx="16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рав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5"/>
          <p:cNvSpPr/>
          <p:nvPr/>
        </p:nvSpPr>
        <p:spPr>
          <a:xfrm>
            <a:off x="755640" y="836640"/>
            <a:ext cx="820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тер (от англ. cluster — «скопление», «пучок», «созвездие») — э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 графической организации материала, позволяющий сдела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лядными те мыслительные процессы, которые происходят п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гружении в ту или иную тему, свободно и открыто думать п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воду какой-либо учебной задач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User\Desktop\1 к педсовету декабрь 2015\крит мышл картинки\hello_html_ff9b847.png"/>
          <p:cNvPicPr/>
          <p:nvPr/>
        </p:nvPicPr>
        <p:blipFill>
          <a:blip r:embed="rId2"/>
          <a:stretch/>
        </p:blipFill>
        <p:spPr>
          <a:xfrm>
            <a:off x="363600" y="658800"/>
            <a:ext cx="8785080" cy="6192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3359160" y="18900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р класт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7"/>
          <p:cNvSpPr/>
          <p:nvPr/>
        </p:nvSpPr>
        <p:spPr>
          <a:xfrm>
            <a:off x="3132000" y="2565360"/>
            <a:ext cx="2880000" cy="19432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силий Тер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Прямая со стрелкой 9"/>
          <p:cNvCxnSpPr>
            <a:stCxn id="151" idx="2"/>
          </p:cNvCxnSpPr>
          <p:nvPr/>
        </p:nvCxnSpPr>
        <p:spPr>
          <a:xfrm flipH="1">
            <a:off x="2194920" y="3536640"/>
            <a:ext cx="93708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3" name="Овал 10"/>
          <p:cNvSpPr/>
          <p:nvPr/>
        </p:nvSpPr>
        <p:spPr>
          <a:xfrm>
            <a:off x="684360" y="2960640"/>
            <a:ext cx="1439640" cy="11527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сел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4" name="Прямая со стрелкой 12"/>
          <p:cNvCxnSpPr>
            <a:stCxn id="151" idx="6"/>
          </p:cNvCxnSpPr>
          <p:nvPr/>
        </p:nvCxnSpPr>
        <p:spPr>
          <a:xfrm>
            <a:off x="6012000" y="3536640"/>
            <a:ext cx="1008720" cy="108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5" name="Овал 13"/>
          <p:cNvSpPr/>
          <p:nvPr/>
        </p:nvSpPr>
        <p:spPr>
          <a:xfrm>
            <a:off x="7020000" y="2960640"/>
            <a:ext cx="1655640" cy="10810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алантли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Прямая со стрелкой 15"/>
          <p:cNvCxnSpPr>
            <a:stCxn id="151" idx="3"/>
          </p:cNvCxnSpPr>
          <p:nvPr/>
        </p:nvCxnSpPr>
        <p:spPr>
          <a:xfrm flipH="1">
            <a:off x="2771280" y="4223880"/>
            <a:ext cx="783360" cy="934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cxnSp>
        <p:nvCxnSpPr>
          <p:cNvPr id="157" name="Прямая со стрелкой 17"/>
          <p:cNvCxnSpPr>
            <a:stCxn id="151" idx="5"/>
          </p:cNvCxnSpPr>
          <p:nvPr/>
        </p:nvCxnSpPr>
        <p:spPr>
          <a:xfrm>
            <a:off x="5589360" y="4223880"/>
            <a:ext cx="999000" cy="934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58" name="Овал 18"/>
          <p:cNvSpPr/>
          <p:nvPr/>
        </p:nvSpPr>
        <p:spPr>
          <a:xfrm>
            <a:off x="1403280" y="5095800"/>
            <a:ext cx="1728720" cy="13683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мел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Овал 19"/>
          <p:cNvSpPr/>
          <p:nvPr/>
        </p:nvSpPr>
        <p:spPr>
          <a:xfrm>
            <a:off x="5978520" y="5159520"/>
            <a:ext cx="1873080" cy="1439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аходчи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Прямая со стрелкой 21"/>
          <p:cNvCxnSpPr>
            <a:stCxn id="151" idx="1"/>
          </p:cNvCxnSpPr>
          <p:nvPr/>
        </p:nvCxnSpPr>
        <p:spPr>
          <a:xfrm flipH="1" flipV="1">
            <a:off x="2771280" y="1988640"/>
            <a:ext cx="783360" cy="86112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1" name="Овал 22"/>
          <p:cNvSpPr/>
          <p:nvPr/>
        </p:nvSpPr>
        <p:spPr>
          <a:xfrm>
            <a:off x="1332000" y="934920"/>
            <a:ext cx="1871640" cy="105912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шитель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Прямая со стрелкой 24"/>
          <p:cNvCxnSpPr>
            <a:stCxn id="151" idx="7"/>
          </p:cNvCxnSpPr>
          <p:nvPr/>
        </p:nvCxnSpPr>
        <p:spPr>
          <a:xfrm flipV="1">
            <a:off x="5589720" y="1772640"/>
            <a:ext cx="638280" cy="107676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3" name="Овал 25"/>
          <p:cNvSpPr/>
          <p:nvPr/>
        </p:nvSpPr>
        <p:spPr>
          <a:xfrm>
            <a:off x="5908680" y="596880"/>
            <a:ext cx="1719360" cy="12333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Жизнерадостный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4" name="Прямая со стрелкой 27"/>
          <p:cNvCxnSpPr>
            <a:stCxn id="151" idx="0"/>
          </p:cNvCxnSpPr>
          <p:nvPr/>
        </p:nvCxnSpPr>
        <p:spPr>
          <a:xfrm flipV="1">
            <a:off x="4571640" y="1699560"/>
            <a:ext cx="1080" cy="8658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cxnSp>
        <p:nvCxnSpPr>
          <p:cNvPr id="165" name="Прямая со стрелкой 29"/>
          <p:cNvCxnSpPr>
            <a:stCxn id="151" idx="4"/>
          </p:cNvCxnSpPr>
          <p:nvPr/>
        </p:nvCxnSpPr>
        <p:spPr>
          <a:xfrm>
            <a:off x="4571640" y="4508280"/>
            <a:ext cx="1080" cy="10818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triangle" w="med"/>
          </a:ln>
        </p:spPr>
      </p:cxnSp>
      <p:sp>
        <p:nvSpPr>
          <p:cNvPr id="166" name="Овал 30"/>
          <p:cNvSpPr/>
          <p:nvPr/>
        </p:nvSpPr>
        <p:spPr>
          <a:xfrm>
            <a:off x="3708360" y="782640"/>
            <a:ext cx="1665360" cy="86364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п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Овал 31"/>
          <p:cNvSpPr/>
          <p:nvPr/>
        </p:nvSpPr>
        <p:spPr>
          <a:xfrm>
            <a:off x="3860640" y="5651640"/>
            <a:ext cx="1513080" cy="108396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рпели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Users\Администратор\Desktop\АТТЕСТАЦИЯ\ТВАРДОВСКИЙ\slide_14.jpg"/>
          <p:cNvPicPr/>
          <p:nvPr/>
        </p:nvPicPr>
        <p:blipFill>
          <a:blip r:embed="rId2"/>
          <a:stretch/>
        </p:blipFill>
        <p:spPr>
          <a:xfrm>
            <a:off x="658800" y="1947960"/>
            <a:ext cx="8288280" cy="4581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"/>
          <p:cNvSpPr/>
          <p:nvPr/>
        </p:nvSpPr>
        <p:spPr>
          <a:xfrm>
            <a:off x="924840" y="760320"/>
            <a:ext cx="799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-В главе «Два солдата» Василий Теркин ловкий, смекалисты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не теряется в любых обстоятельствах, широкой души челов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мастер на все руки.Автор сопоставляет солдат двух поко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старика – хозяина и Василия Терк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Администратор\Desktop\АТТЕСТАЦИЯ\ТВАРДОВСКИЙ\62.12.01.jpg"/>
          <p:cNvPicPr/>
          <p:nvPr/>
        </p:nvPicPr>
        <p:blipFill>
          <a:blip r:embed="rId2"/>
          <a:stretch/>
        </p:blipFill>
        <p:spPr>
          <a:xfrm>
            <a:off x="-15840" y="0"/>
            <a:ext cx="4881600" cy="567864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"/>
          <p:cNvSpPr/>
          <p:nvPr/>
        </p:nvSpPr>
        <p:spPr>
          <a:xfrm>
            <a:off x="4867200" y="213372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еркин – кто же он такой?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кажем откровенно: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осто парень сам собой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н обыкновенный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прочем, парень хоть куда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рень в этом роде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каждой роте есть всегда,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Администратор\Desktop\АТТЕСТАЦИЯ\ТВАРДОВСКИЙ\7944_41ff1e503330e5fa8cea8f7e8470d311.jpg"/>
          <p:cNvPicPr/>
          <p:nvPr/>
        </p:nvPicPr>
        <p:blipFill>
          <a:blip r:embed="rId1"/>
          <a:stretch/>
        </p:blipFill>
        <p:spPr>
          <a:xfrm>
            <a:off x="468360" y="1052640"/>
            <a:ext cx="4572000" cy="58053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3"/>
          <p:cNvSpPr/>
          <p:nvPr/>
        </p:nvSpPr>
        <p:spPr>
          <a:xfrm>
            <a:off x="5219640" y="1047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лава «О награде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т, ребята, я не горд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глядывая вдал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скажу: зачем мне орден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 согласен на мед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медаль. И то не к спех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закончили б войну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т бы в отпуск я приех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одную стор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у ль жив еще? – Едва 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т воюй, а не гад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скажу насчет меда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е ее тогда пода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ь, раз я достои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 понять вы все долж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1042920" y="5950080"/>
            <a:ext cx="705816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Администратор\Desktop\sNl9Z.jpg"/>
          <p:cNvPicPr/>
          <p:nvPr/>
        </p:nvPicPr>
        <p:blipFill>
          <a:blip r:embed="rId2"/>
          <a:stretch/>
        </p:blipFill>
        <p:spPr>
          <a:xfrm>
            <a:off x="2411280" y="1413000"/>
            <a:ext cx="4321440" cy="4752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2268360" y="566640"/>
            <a:ext cx="48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А.Т. Твардовск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910 -197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:\Users\Администратор\Desktop\АТТЕСТАЦИЯ\ТВАРДОВСКИЙ\010.jpg"/>
          <p:cNvPicPr/>
          <p:nvPr/>
        </p:nvPicPr>
        <p:blipFill>
          <a:blip r:embed="rId1"/>
          <a:stretch/>
        </p:blipFill>
        <p:spPr>
          <a:xfrm>
            <a:off x="419040" y="333360"/>
            <a:ext cx="5219640" cy="508464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5724360" y="4748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без прибаут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утки самой немуд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как без махор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бомбежки до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хорошей погово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ли присказки какой,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тебя, Василий Терки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ся Теркин – мой ге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всего иного пу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прожить наверняка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чего? Без правды сущ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ды, прямо в душ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щей,Да была б 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гуще,Как бы ни была горь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ж еще?.. И все, пожалу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ом, книга про бо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з начала, без кон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26920" y="549360"/>
          <a:ext cx="7777440" cy="41749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3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ександр Трифонович Твардовск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эм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ози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арактеристика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ьба советского народа в годы В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ирательный образ геро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6836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асибо за внимание!!!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ель  русского языка и литерату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Шуханова Т.Ф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АОУ №6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Познакомиться с основными фактами биограф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.Т. Твардовского, с историей создания поэмы «Василий Теркин», раскрыть роль поэмы и героя в годы войн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Совершенствовать умение анализировать лирическое произведение, развивать навыки устной речи и выразительного чт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Пробудить интерес к истории ВОВ, осознать истоки нашей Побе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" descr="Vector ribbons set for Victory Day with old paper background"/>
          <p:cNvPicPr/>
          <p:nvPr/>
        </p:nvPicPr>
        <p:blipFill>
          <a:blip r:embed="rId2"/>
          <a:stretch/>
        </p:blipFill>
        <p:spPr>
          <a:xfrm>
            <a:off x="1073160" y="5857920"/>
            <a:ext cx="70531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2484360" y="54936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ВОРЧЕСКИЙ ПУТЬ А.Т. ТВАРДОВС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684360" y="1625760"/>
            <a:ext cx="835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ился А.Т.Твардовский в деревне Загорье Смоленской губернии в многодетной семье кузнеца в 1910г. В 1930-е годы во время коллективизации семья была раскулачена и сослана на Север.  Трифон Гордеевич, отец Александра, был грамотным, начитанным человеком. Позже поэт вспоминал, что зимними вечерами в их семье часто читали А.С.Пушкина, М.Ю.Лермонтова, Н.В.Гоголя, С.И.Никитина, Н.А.Некрасова.  Первые публикации  поэта появились в 1925 году в смоленских газет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32 г. А.Твардовский поступил в Смоленский педагогический институт и одновременно ездил в колхозы в качестве корреспонд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1939 г. Закончил Московский институт философии, литературы и ист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39-1940 г. Советско-финская война – корреспондент фронтовой газеты «На страже Родины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41-1945 г. Великая Отечественная война –корреспондент газет:  «Красная армия», «Красноармейская правд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8-1970- Главный редактор журнала «Новый мир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Vector ribbons set for Victory Day with old paper background"/>
          <p:cNvPicPr/>
          <p:nvPr/>
        </p:nvPicPr>
        <p:blipFill>
          <a:blip r:embed="rId2"/>
          <a:stretch/>
        </p:blipFill>
        <p:spPr>
          <a:xfrm>
            <a:off x="1073160" y="5857920"/>
            <a:ext cx="7053120" cy="71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бирательный обра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ликая Отечественная вой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озиц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08000" y="259920"/>
            <a:ext cx="88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Documents and Settings\Admin\Рабочий стол\ribbon-of-saint-george-761153__180.png"/>
          <p:cNvPicPr/>
          <p:nvPr/>
        </p:nvPicPr>
        <p:blipFill>
          <a:blip r:embed="rId1"/>
          <a:stretch/>
        </p:blipFill>
        <p:spPr>
          <a:xfrm>
            <a:off x="-12600" y="5430960"/>
            <a:ext cx="11167920" cy="4206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Администратор\Desktop\sNl9Z (1).jpg"/>
          <p:cNvPicPr/>
          <p:nvPr/>
        </p:nvPicPr>
        <p:blipFill>
          <a:blip r:embed="rId2"/>
          <a:stretch/>
        </p:blipFill>
        <p:spPr>
          <a:xfrm>
            <a:off x="1440000" y="620640"/>
            <a:ext cx="3419280" cy="5516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Администратор\Desktop\sNl9Z (2).jpg"/>
          <p:cNvPicPr/>
          <p:nvPr/>
        </p:nvPicPr>
        <p:blipFill>
          <a:blip r:embed="rId3"/>
          <a:stretch/>
        </p:blipFill>
        <p:spPr>
          <a:xfrm>
            <a:off x="4859280" y="620640"/>
            <a:ext cx="3421080" cy="551664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726640" y="209520"/>
            <a:ext cx="39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оды войны (1941-194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Круглая лента лицом вниз 3"/>
          <p:cNvSpPr/>
          <p:nvPr/>
        </p:nvSpPr>
        <p:spPr>
          <a:xfrm>
            <a:off x="539640" y="5950080"/>
            <a:ext cx="8209080" cy="647640"/>
          </a:xfrm>
          <a:custGeom>
            <a:avLst/>
            <a:gdLst>
              <a:gd name="textAreaLeft" fmla="*/ 2052000 w 8209080"/>
              <a:gd name="textAreaRight" fmla="*/ 6157080 w 820908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c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8"/>
          <p:cNvSpPr/>
          <p:nvPr/>
        </p:nvSpPr>
        <p:spPr>
          <a:xfrm flipV="1">
            <a:off x="1042920" y="6020640"/>
            <a:ext cx="255744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10"/>
          <p:cNvSpPr/>
          <p:nvPr/>
        </p:nvSpPr>
        <p:spPr>
          <a:xfrm flipV="1">
            <a:off x="1042920" y="6307920"/>
            <a:ext cx="151308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11"/>
          <p:cNvSpPr/>
          <p:nvPr/>
        </p:nvSpPr>
        <p:spPr>
          <a:xfrm>
            <a:off x="6732720" y="6308640"/>
            <a:ext cx="158436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13"/>
          <p:cNvSpPr/>
          <p:nvPr/>
        </p:nvSpPr>
        <p:spPr>
          <a:xfrm flipV="1">
            <a:off x="5724360" y="6020640"/>
            <a:ext cx="255600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2627280" y="6165720"/>
            <a:ext cx="403236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15"/>
          <p:cNvSpPr/>
          <p:nvPr/>
        </p:nvSpPr>
        <p:spPr>
          <a:xfrm>
            <a:off x="2627280" y="6308640"/>
            <a:ext cx="4032360" cy="73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6"/>
          <p:cNvSpPr/>
          <p:nvPr/>
        </p:nvSpPr>
        <p:spPr>
          <a:xfrm>
            <a:off x="2627280" y="6453360"/>
            <a:ext cx="4032360" cy="712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17"/>
          <p:cNvSpPr/>
          <p:nvPr/>
        </p:nvSpPr>
        <p:spPr>
          <a:xfrm>
            <a:off x="1619280" y="6165720"/>
            <a:ext cx="93672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18"/>
          <p:cNvSpPr/>
          <p:nvPr/>
        </p:nvSpPr>
        <p:spPr>
          <a:xfrm>
            <a:off x="6732720" y="6165720"/>
            <a:ext cx="934920" cy="716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5-конечная звезда 19"/>
          <p:cNvGrpSpPr/>
          <p:nvPr/>
        </p:nvGrpSpPr>
        <p:grpSpPr>
          <a:xfrm>
            <a:off x="3943440" y="5462640"/>
            <a:ext cx="1469880" cy="1371600"/>
            <a:chOff x="3943440" y="5462640"/>
            <a:chExt cx="1469880" cy="1371600"/>
          </a:xfrm>
        </p:grpSpPr>
        <p:pic>
          <p:nvPicPr>
            <p:cNvPr id="119" name="5-конечная звезда 19" descr=""/>
            <p:cNvPicPr/>
            <p:nvPr/>
          </p:nvPicPr>
          <p:blipFill>
            <a:blip r:embed="rId1"/>
            <a:stretch/>
          </p:blipFill>
          <p:spPr>
            <a:xfrm>
              <a:off x="3943440" y="5462640"/>
              <a:ext cx="14698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500720" y="6053040"/>
              <a:ext cx="35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"/>
          <p:cNvSpPr txBox="1"/>
          <p:nvPr/>
        </p:nvSpPr>
        <p:spPr>
          <a:xfrm>
            <a:off x="684360" y="7048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 годы войны была создана самая знаменитая поэ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вардовского «Василий Тёркин». Поэма, появившись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чати в 1942 году, с первых глав завладела сердца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бойцов. Поэма «Василий Теркин» имела большой успех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1946 г. Александру Трифоновичу Твардовскому за эту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эму была присуждена Сталинская премия пер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тепени. Главный герой поэмы — солдат, обычный русск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арень. Мужественный, отважный в бою, Теркин 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ерерыве между боями — весельчак, балагур. Он мечтает побы­вать в родном селе, блеснуть выправкой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хвастаться перед девчонками полученным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градами. Так кто же такой Василий Иванович Тёркин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Администратор\Desktop\АТТЕСТАЦИЯ\ТВАРДОВСКИЙ\tv_verejsky7.JPG"/>
          <p:cNvPicPr/>
          <p:nvPr/>
        </p:nvPicPr>
        <p:blipFill>
          <a:blip r:embed="rId2"/>
          <a:stretch/>
        </p:blipFill>
        <p:spPr>
          <a:xfrm>
            <a:off x="900000" y="692280"/>
            <a:ext cx="78012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4"/>
          <p:cNvSpPr/>
          <p:nvPr/>
        </p:nvSpPr>
        <p:spPr>
          <a:xfrm>
            <a:off x="4357800" y="1285920"/>
            <a:ext cx="478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Vector ribbons set for Victory Day with old paper background"/>
          <p:cNvPicPr/>
          <p:nvPr/>
        </p:nvPicPr>
        <p:blipFill>
          <a:blip r:embed="rId1"/>
          <a:stretch/>
        </p:blipFill>
        <p:spPr>
          <a:xfrm>
            <a:off x="0" y="6138720"/>
            <a:ext cx="9144000" cy="71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Администратор\Desktop\300px-Tvardovsky_Monument_Smolensk.JPG"/>
          <p:cNvPicPr/>
          <p:nvPr/>
        </p:nvPicPr>
        <p:blipFill>
          <a:blip r:embed="rId2"/>
          <a:stretch/>
        </p:blipFill>
        <p:spPr>
          <a:xfrm>
            <a:off x="684360" y="1052640"/>
            <a:ext cx="7991280" cy="53006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539640" y="549360"/>
            <a:ext cx="102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амятник Александру Твардовскому и Василию Теркину в Смоленс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7:36:38Z</dcterms:created>
  <dc:creator>User</dc:creator>
  <dc:description/>
  <dc:language>en-US</dc:language>
  <cp:lastModifiedBy>татьяна федоровна</cp:lastModifiedBy>
  <dcterms:modified xsi:type="dcterms:W3CDTF">2023-12-13T13:57:59Z</dcterms:modified>
  <cp:revision>118</cp:revision>
  <dc:subject/>
  <dc:title>Слайд 1</dc:title>
</cp:coreProperties>
</file>