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  <p:custShowLst>
    <p:custShow name="Произвольный показ 1" id="0">
      <p:sldLst>
        <p:sld r:id="rId6"/>
        <p:sld r:id="rId7"/>
        <p:sld r:id="rId10"/>
        <p:sld r:id="rId12"/>
        <p:sld r:id="rId13"/>
        <p:sld r:id="rId14"/>
        <p:sld r:id="rId15"/>
        <p:sld r:id="rId11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392-61BC-4DC4-830B-91D851796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8DC-6494-430D-8142-9FB2A1427B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74C-B6CE-42BC-A8CA-30E0C026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B64-A7C3-4CB8-8E33-A6D7F6C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B24-5972-45BB-9BB9-2DEB2C96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F4D-6E36-424D-B913-33342ED2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A1D6-DA4D-45F2-9031-70662980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164-33A7-4965-BAC5-EE9F62B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D91-A674-4F5E-BC1D-2D9AEDC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D359-3F5B-413C-9258-2C77C5A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98F-6C66-4141-8AB9-8E55C22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F143-B757-4B5B-A9CC-2A00FBB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C06-9C08-4623-94A2-570B25F6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B93-A927-4519-A742-A8C78313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638-E1E3-4606-9FFC-E67A9B0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84C6-7060-4874-B759-71987F7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B6CB-CD3E-40C5-82BE-61E3C25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D422-AFF5-4418-9AA0-EFADD26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5420-B889-42C8-BF47-9950036F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A71-51E7-4076-B430-DB8E26E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49F-946C-4B85-8AB1-7A85CE5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051-FFBC-4049-9207-40AFB5A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4B4-F6BD-4ACF-B805-732E829E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22D-2297-4712-824C-0E3B00D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11C-9FB7-46C4-8236-4542B8A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DAA-89C4-46B6-A08E-3CA24A4C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E6DD-1E7C-4E00-9FE1-3337625B8A4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FBB-F25F-4209-9B82-A94FDD0B971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1619280" y="620640"/>
            <a:ext cx="63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анрово-стилевые и сюжетно-композиционные особ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эмы «Василий Теркин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литературы в 8 классе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050920" y="5229360"/>
            <a:ext cx="54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МАОУ СОШ  № 6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уханова  Т.Ф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23 г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26920" y="549360"/>
          <a:ext cx="7777440" cy="41749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Трифонович Твардовский-поэ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эма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ози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геро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ьба советского народа в годы В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ирательный образ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Vector ribbons set for Victory Day with old paper background"/>
          <p:cNvPicPr/>
          <p:nvPr/>
        </p:nvPicPr>
        <p:blipFill>
          <a:blip r:embed="rId3"/>
          <a:stretch/>
        </p:blipFill>
        <p:spPr>
          <a:xfrm>
            <a:off x="1042920" y="5950080"/>
            <a:ext cx="7058160" cy="7189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3" descr="C:\Documents and Settings\Admin\Рабочий стол\flower-bouquet-1346515_960_720.jpg"/>
          <p:cNvPicPr/>
          <p:nvPr/>
        </p:nvPicPr>
        <p:blipFill>
          <a:blip r:embed="rId4"/>
          <a:stretch/>
        </p:blipFill>
        <p:spPr>
          <a:xfrm>
            <a:off x="3206880" y="4943520"/>
            <a:ext cx="2730240" cy="1652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34800" y="274680"/>
            <a:ext cx="8474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ликой Отечественной войне посвящено много литерату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изведений.Одним из самых популяр­ных произведений стала его поэ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Василий Теркин: Книга про бой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вардовский сам находился в гуще фронтовой жизни, собирал матери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ямо в окопах, на передовой, так как работал военным корреспонден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ы поэмы создавались в зем­лянках, деревенских избах, печата­лись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траницах фронтовых газет и немедленно поступали к своему глав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итателю — солдату вой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2916360" y="476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вой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928320" y="1000080"/>
            <a:ext cx="13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квей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008360" y="220032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Строчка одно слово  существительное- тема  - ВЕ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Строчка  2слова прилагательных. ТЕПЛАЯ, ДОЛГОЖДАН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Строчка 3 слова 3 глагола. ТАЕТ, ГРЕЕТ,ЦВЕТ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Фраза, высказывание, выражающее отношение к теме .ВЕС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ДЕЖ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Итог, вывод, 1 слово , синоним темы, существительное.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182480" y="1789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1401840" y="6022800"/>
            <a:ext cx="705960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C:\Documents and Settings\Admin\Рабочий стол\flower-bouquet-1346515_960_720.jpg"/>
          <p:cNvPicPr/>
          <p:nvPr/>
        </p:nvPicPr>
        <p:blipFill>
          <a:blip r:embed="rId2"/>
          <a:stretch/>
        </p:blipFill>
        <p:spPr>
          <a:xfrm>
            <a:off x="3462480" y="5016600"/>
            <a:ext cx="273672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1116000" y="324000"/>
            <a:ext cx="77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естокая и горькая правда раскрывается в строфах о том, как война беспощад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глоща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юдские жиз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5148360" y="350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олбом поставил в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снаряд. Понтоны – в ря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то было там народ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их стриженых ребя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виделось вперв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будется о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теплые, жи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и на дно, на дно, на д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Users\Администратор\Desktop\АТТЕСТАЦИЯ\ТВАРДОВСКИЙ\tv_verejsky1 (1).JPG"/>
          <p:cNvPicPr/>
          <p:nvPr/>
        </p:nvPicPr>
        <p:blipFill>
          <a:blip r:embed="rId1"/>
          <a:stretch/>
        </p:blipFill>
        <p:spPr>
          <a:xfrm>
            <a:off x="468360" y="2133720"/>
            <a:ext cx="4282920" cy="45482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6067440" y="5950080"/>
            <a:ext cx="16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ра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/>
          <p:cNvSpPr/>
          <p:nvPr/>
        </p:nvSpPr>
        <p:spPr>
          <a:xfrm>
            <a:off x="755640" y="836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тер (от англ. cluster — «скопление», «пучок», «созвездие») —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 графической организации материала, позволяющий сдел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лядными те мыслительные процессы, которые происходят п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гружении в ту или иную тему, свободно и открыто думать п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оду какой-либо учебной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User\Desktop\1 к педсовету декабрь 2015\крит мышл картинки\hello_html_ff9b847.png"/>
          <p:cNvPicPr/>
          <p:nvPr/>
        </p:nvPicPr>
        <p:blipFill>
          <a:blip r:embed="rId2"/>
          <a:stretch/>
        </p:blipFill>
        <p:spPr>
          <a:xfrm>
            <a:off x="363600" y="658800"/>
            <a:ext cx="8785080" cy="6192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3359160" y="18900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клас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7"/>
          <p:cNvSpPr/>
          <p:nvPr/>
        </p:nvSpPr>
        <p:spPr>
          <a:xfrm>
            <a:off x="3132000" y="2565360"/>
            <a:ext cx="2880000" cy="19432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силий Тер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Прямая со стрелкой 9"/>
          <p:cNvCxnSpPr>
            <a:stCxn id="151" idx="2"/>
          </p:cNvCxnSpPr>
          <p:nvPr/>
        </p:nvCxnSpPr>
        <p:spPr>
          <a:xfrm flipH="1">
            <a:off x="2194920" y="3536640"/>
            <a:ext cx="93708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3" name="Овал 10"/>
          <p:cNvSpPr/>
          <p:nvPr/>
        </p:nvSpPr>
        <p:spPr>
          <a:xfrm>
            <a:off x="684360" y="2960640"/>
            <a:ext cx="1439640" cy="11527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ел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Прямая со стрелкой 12"/>
          <p:cNvCxnSpPr>
            <a:stCxn id="151" idx="6"/>
          </p:cNvCxnSpPr>
          <p:nvPr/>
        </p:nvCxnSpPr>
        <p:spPr>
          <a:xfrm>
            <a:off x="6012000" y="3536640"/>
            <a:ext cx="100872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5" name="Овал 13"/>
          <p:cNvSpPr/>
          <p:nvPr/>
        </p:nvSpPr>
        <p:spPr>
          <a:xfrm>
            <a:off x="7020000" y="2960640"/>
            <a:ext cx="1655640" cy="10810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алантли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Прямая со стрелкой 15"/>
          <p:cNvCxnSpPr>
            <a:stCxn id="151" idx="3"/>
          </p:cNvCxnSpPr>
          <p:nvPr/>
        </p:nvCxnSpPr>
        <p:spPr>
          <a:xfrm flipH="1">
            <a:off x="2771280" y="4223880"/>
            <a:ext cx="783360" cy="934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cxnSp>
        <p:nvCxnSpPr>
          <p:cNvPr id="157" name="Прямая со стрелкой 17"/>
          <p:cNvCxnSpPr>
            <a:stCxn id="151" idx="5"/>
          </p:cNvCxnSpPr>
          <p:nvPr/>
        </p:nvCxnSpPr>
        <p:spPr>
          <a:xfrm>
            <a:off x="5589360" y="4223880"/>
            <a:ext cx="999000" cy="934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8" name="Овал 18"/>
          <p:cNvSpPr/>
          <p:nvPr/>
        </p:nvSpPr>
        <p:spPr>
          <a:xfrm>
            <a:off x="1403280" y="5095800"/>
            <a:ext cx="1728720" cy="13683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19"/>
          <p:cNvSpPr/>
          <p:nvPr/>
        </p:nvSpPr>
        <p:spPr>
          <a:xfrm>
            <a:off x="5978520" y="5159520"/>
            <a:ext cx="1873080" cy="1439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ходчи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Прямая со стрелкой 21"/>
          <p:cNvCxnSpPr>
            <a:stCxn id="151" idx="1"/>
          </p:cNvCxnSpPr>
          <p:nvPr/>
        </p:nvCxnSpPr>
        <p:spPr>
          <a:xfrm flipH="1" flipV="1">
            <a:off x="2771280" y="1988640"/>
            <a:ext cx="783360" cy="8611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1" name="Овал 22"/>
          <p:cNvSpPr/>
          <p:nvPr/>
        </p:nvSpPr>
        <p:spPr>
          <a:xfrm>
            <a:off x="1332000" y="934920"/>
            <a:ext cx="1871640" cy="10591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и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Прямая со стрелкой 24"/>
          <p:cNvCxnSpPr>
            <a:stCxn id="151" idx="7"/>
          </p:cNvCxnSpPr>
          <p:nvPr/>
        </p:nvCxnSpPr>
        <p:spPr>
          <a:xfrm flipV="1">
            <a:off x="5589720" y="1772640"/>
            <a:ext cx="638280" cy="10767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3" name="Овал 25"/>
          <p:cNvSpPr/>
          <p:nvPr/>
        </p:nvSpPr>
        <p:spPr>
          <a:xfrm>
            <a:off x="5908680" y="596880"/>
            <a:ext cx="1719360" cy="12333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Жизнерадостны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27"/>
          <p:cNvCxnSpPr>
            <a:stCxn id="151" idx="0"/>
          </p:cNvCxnSpPr>
          <p:nvPr/>
        </p:nvCxnSpPr>
        <p:spPr>
          <a:xfrm flipV="1">
            <a:off x="4571640" y="1699560"/>
            <a:ext cx="1080" cy="8658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cxnSp>
        <p:nvCxnSpPr>
          <p:cNvPr id="165" name="Прямая со стрелкой 29"/>
          <p:cNvCxnSpPr>
            <a:stCxn id="151" idx="4"/>
          </p:cNvCxnSpPr>
          <p:nvPr/>
        </p:nvCxnSpPr>
        <p:spPr>
          <a:xfrm>
            <a:off x="4571640" y="4508280"/>
            <a:ext cx="1080" cy="10818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6" name="Овал 30"/>
          <p:cNvSpPr/>
          <p:nvPr/>
        </p:nvSpPr>
        <p:spPr>
          <a:xfrm>
            <a:off x="3708360" y="782640"/>
            <a:ext cx="1665360" cy="863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п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31"/>
          <p:cNvSpPr/>
          <p:nvPr/>
        </p:nvSpPr>
        <p:spPr>
          <a:xfrm>
            <a:off x="3860640" y="5651640"/>
            <a:ext cx="1513080" cy="10839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пели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Администратор\Desktop\АТТЕСТАЦИЯ\ТВАРДОВСКИЙ\slide_14.jpg"/>
          <p:cNvPicPr/>
          <p:nvPr/>
        </p:nvPicPr>
        <p:blipFill>
          <a:blip r:embed="rId2"/>
          <a:stretch/>
        </p:blipFill>
        <p:spPr>
          <a:xfrm>
            <a:off x="658800" y="1947960"/>
            <a:ext cx="8288280" cy="4581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924840" y="760320"/>
            <a:ext cx="79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-В главе «Два солдата» Василий Теркин ловкий, смекалист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е теряется в любых обстоятельствах, широкой души челов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астер на все руки.Автор сопоставляет солдат двух поко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тарика – хозяина и Василия Терк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Администратор\Desktop\АТТЕСТАЦИЯ\ТВАРДОВСКИЙ\62.12.01.jpg"/>
          <p:cNvPicPr/>
          <p:nvPr/>
        </p:nvPicPr>
        <p:blipFill>
          <a:blip r:embed="rId2"/>
          <a:stretch/>
        </p:blipFill>
        <p:spPr>
          <a:xfrm>
            <a:off x="-15840" y="0"/>
            <a:ext cx="4881600" cy="567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4867200" y="21337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ркин – кто же он такой?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ажем откровенно: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сто парень сам собой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 обыкновенный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прочем, парень хоть куда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ень в этом роде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каждой роте есть всегда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Администратор\Desktop\АТТЕСТАЦИЯ\ТВАРДОВСКИЙ\7944_41ff1e503330e5fa8cea8f7e8470d311.jpg"/>
          <p:cNvPicPr/>
          <p:nvPr/>
        </p:nvPicPr>
        <p:blipFill>
          <a:blip r:embed="rId1"/>
          <a:stretch/>
        </p:blipFill>
        <p:spPr>
          <a:xfrm>
            <a:off x="468360" y="1052640"/>
            <a:ext cx="4572000" cy="58053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219640" y="1047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лава «О наград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, ребята, я не горд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глядывая вда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скажу: зачем мне орде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согласен на мед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медаль. И то не к спех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закончили б войн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бы в отпуск я приех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одную стор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 ль жив еще? – Едва 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т воюй, а не гад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скажу насчет меда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 ее тогда под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ь, раз я досто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онять вы все долж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1042920" y="5950080"/>
            <a:ext cx="705816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Администратор\Desktop\sNl9Z.jpg"/>
          <p:cNvPicPr/>
          <p:nvPr/>
        </p:nvPicPr>
        <p:blipFill>
          <a:blip r:embed="rId2"/>
          <a:stretch/>
        </p:blipFill>
        <p:spPr>
          <a:xfrm>
            <a:off x="2411280" y="1413000"/>
            <a:ext cx="4321440" cy="475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2268360" y="56664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А.Т. Твардов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10 -19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Администратор\Desktop\АТТЕСТАЦИЯ\ТВАРДОВСКИЙ\010.jpg"/>
          <p:cNvPicPr/>
          <p:nvPr/>
        </p:nvPicPr>
        <p:blipFill>
          <a:blip r:embed="rId1"/>
          <a:stretch/>
        </p:blipFill>
        <p:spPr>
          <a:xfrm>
            <a:off x="419040" y="33336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5724360" y="4748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без прибаут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утки самой немуд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как без махор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бомбежки до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хорошей погово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присказки какой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тебя, Василий Терки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я Теркин – мой ге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его иного пу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наверняк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чего? Без правды сущ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ды, прямо в душ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щей,Да была б 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гуще,Как бы ни была горь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 еще?.. И все, пожалу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ом, книга про бо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начала, без ко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26920" y="549360"/>
          <a:ext cx="7777440" cy="41749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Трифонович Твардов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эм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оз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ьба советского народа в годы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ирательный образ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ель 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Шуханова Т.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ОУ №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ознакомиться с основными фактами биограф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.Т. Твардовского, с историей создания поэмы «Василий Теркин», раскрыть роль поэмы и героя в годы вой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Совершенствовать умение анализировать лирическое произведение, развивать навыки устной речи и выразительного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робудить интерес к истории ВОВ, осознать истоки нашей Поб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Vector ribbons set for Victory Day with old paper background"/>
          <p:cNvPicPr/>
          <p:nvPr/>
        </p:nvPicPr>
        <p:blipFill>
          <a:blip r:embed="rId2"/>
          <a:stretch/>
        </p:blipFill>
        <p:spPr>
          <a:xfrm>
            <a:off x="1073160" y="5857920"/>
            <a:ext cx="70531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484360" y="549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ВОРЧЕСКИЙ ПУТЬ А.Т. ТВАРДОВ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684360" y="162576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 А.Т.Твардовский в деревне Загорье Смоленской губернии в многодетной семье кузнеца в 1910г. В 1930-е годы во время коллективизации семья была раскулачена и сослана на Север.  Трифон Гордеевич, отец Александра, был грамотным, начитанным человеком. Позже поэт вспоминал, что зимними вечерами в их семье часто читали А.С.Пушкина, М.Ю.Лермонтова, Н.В.Гоголя, С.И.Никитина, Н.А.Некрасова.  Первые публикации  поэта появились в 1925 году в смоленских газе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32 г. А.Твардовский поступил в Смоленский педагогический институт и одновременно ездил в колхозы в качестве корреспонд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39 г. Закончил Московский институт философии, литературы и ис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39-1940 г. Советско-финская война – корреспондент фронтовой газеты «На страже Роди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41-1945 г. Великая Отечественная война –корреспондент газет:  «Красная армия», «Красноармейская прав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8-1970- Главный редактор журнала «Новый ми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Vector ribbons set for Victory Day with old paper background"/>
          <p:cNvPicPr/>
          <p:nvPr/>
        </p:nvPicPr>
        <p:blipFill>
          <a:blip r:embed="rId2"/>
          <a:stretch/>
        </p:blipFill>
        <p:spPr>
          <a:xfrm>
            <a:off x="1073160" y="5857920"/>
            <a:ext cx="7053120" cy="71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ельный об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ози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800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Documents and Settings\Admin\Рабочий стол\ribbon-of-saint-george-761153__180.png"/>
          <p:cNvPicPr/>
          <p:nvPr/>
        </p:nvPicPr>
        <p:blipFill>
          <a:blip r:embed="rId1"/>
          <a:stretch/>
        </p:blipFill>
        <p:spPr>
          <a:xfrm>
            <a:off x="-12600" y="5430960"/>
            <a:ext cx="11167920" cy="420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Администратор\Desktop\sNl9Z (1).jpg"/>
          <p:cNvPicPr/>
          <p:nvPr/>
        </p:nvPicPr>
        <p:blipFill>
          <a:blip r:embed="rId2"/>
          <a:stretch/>
        </p:blipFill>
        <p:spPr>
          <a:xfrm>
            <a:off x="1440000" y="620640"/>
            <a:ext cx="3419280" cy="5516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Администратор\Desktop\sNl9Z (2).jpg"/>
          <p:cNvPicPr/>
          <p:nvPr/>
        </p:nvPicPr>
        <p:blipFill>
          <a:blip r:embed="rId3"/>
          <a:stretch/>
        </p:blipFill>
        <p:spPr>
          <a:xfrm>
            <a:off x="4859280" y="620640"/>
            <a:ext cx="3421080" cy="5516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726640" y="20952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ды войны (1941-19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Круглая лента лицом вниз 3"/>
          <p:cNvSpPr/>
          <p:nvPr/>
        </p:nvSpPr>
        <p:spPr>
          <a:xfrm>
            <a:off x="539640" y="5950080"/>
            <a:ext cx="8209080" cy="647640"/>
          </a:xfrm>
          <a:custGeom>
            <a:avLst/>
            <a:gdLst>
              <a:gd name="textAreaLeft" fmla="*/ 2052000 w 8209080"/>
              <a:gd name="textAreaRight" fmla="*/ 6157080 w 820908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 flipV="1">
            <a:off x="1042920" y="6020640"/>
            <a:ext cx="255744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 flipV="1">
            <a:off x="1042920" y="6307920"/>
            <a:ext cx="151308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6732720" y="6308640"/>
            <a:ext cx="158436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 flipV="1">
            <a:off x="5724360" y="6020640"/>
            <a:ext cx="255600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2627280" y="6165720"/>
            <a:ext cx="403236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2627280" y="6308640"/>
            <a:ext cx="403236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2627280" y="6453360"/>
            <a:ext cx="4032360" cy="7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1619280" y="6165720"/>
            <a:ext cx="93672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6732720" y="6165720"/>
            <a:ext cx="93492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5-конечная звезда 19"/>
          <p:cNvGrpSpPr/>
          <p:nvPr/>
        </p:nvGrpSpPr>
        <p:grpSpPr>
          <a:xfrm>
            <a:off x="3943440" y="5462640"/>
            <a:ext cx="1469880" cy="1371600"/>
            <a:chOff x="3943440" y="5462640"/>
            <a:chExt cx="1469880" cy="1371600"/>
          </a:xfrm>
        </p:grpSpPr>
        <p:pic>
          <p:nvPicPr>
            <p:cNvPr id="119" name="5-конечная звезда 19" descr=""/>
            <p:cNvPicPr/>
            <p:nvPr/>
          </p:nvPicPr>
          <p:blipFill>
            <a:blip r:embed="rId1"/>
            <a:stretch/>
          </p:blipFill>
          <p:spPr>
            <a:xfrm>
              <a:off x="3943440" y="5462640"/>
              <a:ext cx="1469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00720" y="6053040"/>
              <a:ext cx="35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684360" y="7048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годы войны была создана самая знаменитая поэ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вардовского «Василий Тёркин». Поэма, появившись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чати в 1942 году, с первых глав завладела сердц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ойцов. Поэма «Василий Теркин» имела большой успе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1946 г. Александру Трифоновичу Твардовскому за эт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эму была присуждена Сталинская премия пер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тепени. Главный герой поэмы — солдат, обычный рус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арень. Мужественный, отважный в бою, Теркин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ерыве между боями — весельчак, балагур. Он мечтает побы­вать в родном селе, блеснуть выправкой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хвастаться перед девчонками полученны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градами. Так кто же такой Василий Иванович Тёрки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Администратор\Desktop\АТТЕСТАЦИЯ\ТВАРДОВСКИЙ\tv_verejsky7.JPG"/>
          <p:cNvPicPr/>
          <p:nvPr/>
        </p:nvPicPr>
        <p:blipFill>
          <a:blip r:embed="rId2"/>
          <a:stretch/>
        </p:blipFill>
        <p:spPr>
          <a:xfrm>
            <a:off x="900000" y="692280"/>
            <a:ext cx="78012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4357800" y="1285920"/>
            <a:ext cx="47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Администратор\Desktop\300px-Tvardovsky_Monument_Smolensk.JPG"/>
          <p:cNvPicPr/>
          <p:nvPr/>
        </p:nvPicPr>
        <p:blipFill>
          <a:blip r:embed="rId2"/>
          <a:stretch/>
        </p:blipFill>
        <p:spPr>
          <a:xfrm>
            <a:off x="684360" y="1052640"/>
            <a:ext cx="7991280" cy="530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539640" y="549360"/>
            <a:ext cx="10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амятник Александру Твардовскому и Василию Теркину в Смолен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7:36:38Z</dcterms:created>
  <dc:creator>User</dc:creator>
  <dc:description/>
  <dc:language>en-US</dc:language>
  <cp:lastModifiedBy>татьяна федоровна</cp:lastModifiedBy>
  <dcterms:modified xsi:type="dcterms:W3CDTF">2023-12-13T13:57:59Z</dcterms:modified>
  <cp:revision>118</cp:revision>
  <dc:subject/>
  <dc:title>Слайд 1</dc:title>
</cp:coreProperties>
</file>