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C8E8-17FE-4349-B5F5-D8E41510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FDF8-C94C-4DA9-BE4A-753068F3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AFD3-C1FB-4EE2-82F4-2705A27F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FEAFA-DE59-471B-AFA9-0407E756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5019-5F52-4753-ADA0-18AD21AC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D512-1003-4F49-9D9D-5827AF14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2E9C-7A1C-49FE-BECF-8E3984E2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7155-914D-477F-8889-49156356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5D61-F701-45C2-9289-05EB44EC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3B4C-48AF-4F9B-83EC-938F6241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6D21-DF8E-40D1-8386-514C7BFD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38DED-52E4-4F90-A872-10820D6C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E35D-FEA2-442D-940E-07F2556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D63D-76D9-4C2F-864C-BFB8E1C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302B-BC08-40B8-895A-83689074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35DB-3A6D-4AAE-B9DD-3D377B6A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38005-EC24-44A4-8D73-823154A6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998A-F504-43D0-938B-31156039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D686-1790-4551-BBF3-C6A6608C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E13C-E7E8-4AA3-8314-77932B95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4944-979F-4A3E-A885-EF167260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F93A7-0E05-4F04-9639-5BF142AF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D1F4-99B9-4D72-AAC2-B978C4EA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912A-121E-4DC6-B991-5523335A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5D99-2F42-47D5-BC7D-0BE91E726D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98DF-DC41-4625-BA16-0F2DDC80AE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начение профессиональной ориентации  для социальной адаптации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выпускников с ОВЗ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viewer[1]"/>
          <p:cNvPicPr/>
          <p:nvPr/>
        </p:nvPicPr>
        <p:blipFill>
          <a:blip r:embed="rId1"/>
          <a:stretch/>
        </p:blipFill>
        <p:spPr>
          <a:xfrm>
            <a:off x="1905120" y="2743200"/>
            <a:ext cx="57150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5866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рофессиональная ориентация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– комплексная подготовка обучающихся к профессиональному самоопределению в соответствии с их личностными качествами, интересами, способностями, состоянием здоровья, а также с учётом потребностей развития экономики и общества. Реализуется в учебной, воспитательной и иных видах образовательной деятельности.</a:t>
            </a:r>
            <a:br>
              <a:rPr sz="28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Times New Roman"/>
                <a:ea typeface="Calibri"/>
              </a:rPr>
              <a:t>Так как в современном обществе различным видам профессиональной занятости соответствуют различные стили жизни, то выбор профессии, по существу, превращается в выбор образа жизни в целом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60958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Garamond"/>
              </a:rPr>
              <a:t>Профессии, которые могут освоить обучающиеся. </a:t>
            </a:r>
            <a:br>
              <a:rPr sz="2800"/>
            </a:br>
            <a:r>
              <a:rPr b="1" lang="ru-RU" sz="2800" spc="-1" strike="noStrike">
                <a:solidFill>
                  <a:srgbClr val="92d050"/>
                </a:solidFill>
                <a:latin typeface="Garamond"/>
              </a:rPr>
              <a:t>С</a:t>
            </a:r>
            <a:r>
              <a:rPr b="1" i="1" lang="ru-RU" sz="2400" spc="-1" strike="noStrike" u="sng">
                <a:solidFill>
                  <a:srgbClr val="92d050"/>
                </a:solidFill>
                <a:uFillTx/>
                <a:latin typeface="Garamond"/>
              </a:rPr>
              <a:t> расстройством аутистического спектра: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ктерское искусство; бисероплетение; брошюровка и переплетное дело; веб-дизайн; выпечка хлебобулочных изделий; декорирование тортов; дизайн плаката; архивоведение; изобразительное искусство; кирпичная кладка; кондитерское дело; кулинарное дело; лозоплетение; малярное дело; мозаика из керамической плитки; ногтевой сервис; облицовка плиткой; поварское дело; портной; ремонт и обслуживание автомобилей; ресторанный сервис; сухое строительство и штукатурные работы; флористика; фотография; художественная роспись по дереву; художественное вышивание; художественный дизайн; швейное дел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2d050"/>
                </a:solidFill>
                <a:uFillTx/>
                <a:latin typeface="Garamond"/>
              </a:rPr>
              <a:t>С интеллектуальными нарушениями (легкая степень)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рошюровка и переплетное дело; веломеханика; выпечка хлебобулочных изделий; вязание крючком и спицами; гончарное дело; горничная; декорирование тортов; дизайн плаката; закройщик; изготовитель художественных изделий; изобразительное искусство; кирпичная кладка; , клининг; ковроткачество; кондитерское дело; кружевница; ландшафтный дизайн; лесовод; лозоплетение; лоскутное шитье; макетирование; малярное дело; мебельщик; мозаика; ногтевой сервис; плодоовощеводство; поварское дело; портной; резчик по дереву; ремонт и обслуживание автомобилей; ремонт обув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адовник; сварочные технологии; семеновод; сити-фермерство; слесарное дело; столярное дело; студийный фотограф; сухое строительство и штукатурные работы; тиражная графика; ткачество; токарные работы на станках с ЧПУ (числовое программное управление); торговля; флористика; фотография; художественная роспись по дереву; художественное вышивание; художественный дизайн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Garamond"/>
              </a:rPr>
              <a:t>Классным руководителям необходимо 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помочь выпускникам сделать верный выбор в процессе профессионального самоопределения: выявления, уточнения и утверждения человеком собственной позиции в профессионально-трудовой сфере посредством согласования индивидуальных возможностей, личных стремлений, смыслов и внешних вызовов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5866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92d050"/>
                </a:solidFill>
                <a:latin typeface="Garamond"/>
              </a:rPr>
              <a:t>Профессиональная ориентация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направлена на подготовку учащихся ко времени окончания средней школы и опознанному выбору профессии и учебного заведения для продолжения образования, а вся система профессиональной ориентации в старших классах должна способствовать подготовке учащихся к избранной профессии.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асибо за внимание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81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10-29T07:58:3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