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82E27-6710-48B6-BD4B-8B0E3BA13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46A16-3015-4468-AFA9-583552539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A55B2-C625-41F5-A2B2-5363A9F7A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62B04-6712-428E-90CE-DAA5567BA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68469-4A24-4DDD-B293-C9E844BC6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78CA1-2487-4964-9532-2ED8DA183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597CB-2917-43D5-AFBD-7333A32C3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8F4DE-3C07-49E4-BB08-594846EED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08E9F-000F-44D6-A661-12E46BAE2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A31EB-C6F4-44F3-9CD9-D97917229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92A0A-98D0-4402-A17A-0139D3D4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5FC63-C430-4042-AE88-BC19BAEF1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8A4A7-B17B-4E33-988E-8441972B6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176F3-FA44-46FD-AC6B-F36EB5765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5BB9F-8B15-4EE3-8D37-34C8863E7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B8300-9092-432A-B8CE-6B9F1F68F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033BA-BD2B-45D1-82B2-D859F4EC8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67F71-78CC-4847-80CA-3FEC5272F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4A867-1AE0-4B9B-9F5C-027F67EAF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E3A92-E954-4449-8D6E-A41367B7B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3E4A2-5A20-4726-B87B-9C612E510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A1C5D-4B30-498D-986A-1D1340322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F8835-1C8C-4099-84B1-987AD5E4C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648DE-E265-45C7-8E31-DE4799765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0C6B1-5188-4D8B-9FAB-250EAEA0A59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A67EF-4B78-41BF-874B-1B879B1992F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Значение профессиональной ориентации  для социальной адаптации 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выпускников с ОВЗ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1" name="Picture 4" descr="viewer[1]"/>
          <p:cNvPicPr/>
          <p:nvPr/>
        </p:nvPicPr>
        <p:blipFill>
          <a:blip r:embed="rId1"/>
          <a:stretch/>
        </p:blipFill>
        <p:spPr>
          <a:xfrm>
            <a:off x="1905120" y="2743200"/>
            <a:ext cx="5715000" cy="39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586692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Профессиональная ориентация </a:t>
            </a: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– комплексная подготовка обучающихся к профессиональному самоопределению в соответствии с их личностными качествами, интересами, способностями, состоянием здоровья, а также с учётом потребностей развития экономики и общества. Реализуется в учебной, воспитательной и иных видах образовательной деятельности.</a:t>
            </a:r>
            <a:br>
              <a:rPr sz="28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Times New Roman"/>
                <a:ea typeface="Calibri"/>
              </a:rPr>
              <a:t>Так как в современном обществе различным видам профессиональной занятости соответствуют различные стили жизни, то выбор профессии, по существу, превращается в выбор образа жизни в целом.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609588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2d050"/>
                </a:solidFill>
                <a:latin typeface="Garamond"/>
              </a:rPr>
              <a:t>Профессии, которые могут освоить обучающиеся. </a:t>
            </a:r>
            <a:br>
              <a:rPr sz="2800"/>
            </a:br>
            <a:r>
              <a:rPr b="1" lang="ru-RU" sz="2800" spc="-1" strike="noStrike">
                <a:solidFill>
                  <a:srgbClr val="92d050"/>
                </a:solidFill>
                <a:latin typeface="Garamond"/>
              </a:rPr>
              <a:t>С</a:t>
            </a:r>
            <a:r>
              <a:rPr b="1" i="1" lang="ru-RU" sz="2400" spc="-1" strike="noStrike" u="sng">
                <a:solidFill>
                  <a:srgbClr val="92d050"/>
                </a:solidFill>
                <a:uFillTx/>
                <a:latin typeface="Garamond"/>
              </a:rPr>
              <a:t> расстройством аутистического спектра: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Актерское искусство; бисероплетение; брошюровка и переплетное дело; веб-дизайн; выпечка хлебобулочных изделий; декорирование тортов; дизайн плаката; архивоведение; изобразительное искусство; кирпичная кладка; кондитерское дело; кулинарное дело; лозоплетение; малярное дело; мозаика из керамической плитки; ногтевой сервис; облицовка плиткой; поварское дело; портной; ремонт и обслуживание автомобилей; ресторанный сервис; сухое строительство и штукатурные работы; флористика; фотография; художественная роспись по дереву; художественное вышивание; художественный дизайн; швейное дело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92d050"/>
                </a:solidFill>
                <a:uFillTx/>
                <a:latin typeface="Garamond"/>
              </a:rPr>
              <a:t>С интеллектуальными нарушениями (легкая степень):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52280" y="1600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Брошюровка и переплетное дело; веломеханика; выпечка хлебобулочных изделий; вязание крючком и спицами; гончарное дело; горничная; декорирование тортов; дизайн плаката; закройщик; изготовитель художественных изделий; изобразительное искусство; кирпичная кладка; , клининг; ковроткачество; кондитерское дело; кружевница; ландшафтный дизайн; лесовод; лозоплетение; лоскутное шитье; макетирование; малярное дело; мебельщик; мозаика; ногтевой сервис; плодоовощеводство; поварское дело; портной; резчик по дереву; ремонт и обслуживание автомобилей; ремонт обув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адовник; сварочные технологии; семеновод; сити-фермерство; слесарное дело; столярное дело; студийный фотограф; сухое строительство и штукатурные работы; тиражная графика; ткачество; токарные работы на станках с ЧПУ (числовое программное управление); торговля; флористика; фотография; художественная роспись по дереву; художественное вышивание; художественный дизайн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Garamond"/>
              </a:rPr>
              <a:t>Классным руководителям необходимо </a:t>
            </a: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помочь выпускникам сделать верный выбор в процессе профессионального самоопределения: выявления, уточнения и утверждения человеком собственной позиции в профессионально-трудовой сфере посредством согласования индивидуальных возможностей, личных стремлений, смыслов и внешних вызовов.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586692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92d050"/>
                </a:solidFill>
                <a:latin typeface="Garamond"/>
              </a:rPr>
              <a:t>Профессиональная ориентация </a:t>
            </a: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направлена на подготовку учащихся ко времени окончания средней школы и опознанному выбору профессии и учебного заведения для продолжения образования, а вся система профессиональной ориентации в старших классах должна способствовать подготовке учащихся к избранной профессии.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Спасибо за внимание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1828800" y="2743200"/>
            <a:ext cx="548172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23-10-29T07:58:37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