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1A2-7D7D-4071-93EB-4A03F331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7EA-747F-47BC-8C41-2E1A66A2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B45-3B63-4643-80FD-87B6A6C8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AF88-B6D5-42CF-8163-688C0037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D45D-A62C-43A2-B0F4-B045C474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F2A1-CD7E-4930-833E-1F43D08C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1089-420A-4815-8613-E21F4AFC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4762-0CAA-40ED-BE06-A85C2690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B3D0-DFC7-4966-95D8-58092D0F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22C5-B21B-49D9-9EA3-CC7C1AD4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AD2F-8ACE-4E46-AD45-EAD27203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81A-AB5E-428C-A2F3-7B9727BF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5073-5371-4210-B187-DD39DA84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C2DC-16FA-4D13-9234-D648ECE9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DF1C-6983-4EBE-BB25-ED489BDE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6DBB-5700-48FF-89AB-402390AE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F6E0-1616-4D82-B6B5-AA056BE9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5284C-7B44-4CBC-BE44-8326345F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13A2D-5E5B-4C07-9472-83884AF4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235E7-DF08-4CD6-B639-6CDA6321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DF9E-74FB-4561-AFF6-D306DC4C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0A6EF-D629-4B1E-B324-E7D1D228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AE7-4EDF-41D7-9BA8-807ED440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69C82-AC25-44F2-A855-B54C2758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032B5-D6C3-4AFC-9A36-3E194E68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78D21-6A44-42D2-9F0A-2C08CB29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FEB52-E224-409A-97F3-ABB6D85E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A604-8515-4CCC-A3A3-ECD80386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732E1-7CA7-469A-A109-C3190F6B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A2F9-2465-495B-AEBC-514ED140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C6688-2984-43EE-AE03-D917A589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156D4-8714-4FE4-BFCE-258E4CD0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A82E5-F3AB-4E96-AC33-F000E169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330-B1BD-4457-B045-21ABBBC6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584B2-B564-45B1-84AA-4E236674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E4695-4282-4493-8A46-D7A1EA51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17E84-1558-4CEF-9DC4-B6163253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2C8B9-9893-45B8-9E66-91D1F446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DE88E-1DE9-4DE5-9FD2-8E9E8229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A432C-8E21-451C-B174-ADF2D5BA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6DDBA-BCEF-4516-95FB-4877429E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38BA3-2D8B-4CFD-A23D-D855D61A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F6C4D-3F55-4469-AB4C-9EEC08E4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991-F89C-410C-A857-F7C88B7D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6B3-987A-48B5-BD80-D7522A6C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7B5-772C-49DD-8062-A40E67DE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117-D31D-4813-8A35-D5F186BC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04C-EA62-4673-9286-399DBCCB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627A-9B4E-4DC4-9FA6-5692C95814E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7DAB-8CC8-4558-A7BA-7012A9079D7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0C71-04B2-445E-A04F-5D378A57ED0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6F34-C990-43DF-8E23-8FC2DC22C2B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1"/>
          <a:stretch/>
        </p:blipFill>
        <p:spPr>
          <a:xfrm>
            <a:off x="493560" y="1365120"/>
            <a:ext cx="834552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9.В каком веке игры возродились в наше время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10.Чем современные игры отличаются от игр древности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1.В каком году впервые прошли Олимпийские игры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А)775 г.до н.э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Б)776 г.до н.э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)777 г.до н.э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2.Какому богу были посвящены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3.Где проходили Олимпийские игры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4.Сколько дней длились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5.В какое время года проводились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6.Кто принимал участие в играх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7.Какие награды получали атлеты- победители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8.Какое жесткое правило существовало на период проведения игр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8T09:10:59Z</dcterms:created>
  <dc:creator>Бегун Галина</dc:creator>
  <dc:description/>
  <dc:language>en-US</dc:language>
  <cp:lastModifiedBy>Admin</cp:lastModifiedBy>
  <dcterms:modified xsi:type="dcterms:W3CDTF">2023-12-13T14:31:51Z</dcterms:modified>
  <cp:revision>6</cp:revision>
  <dc:subject/>
  <dc:title>Личность и общество</dc:title>
</cp:coreProperties>
</file>