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AAD-4A0F-4D9D-8CE0-3E4CF9AC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661-6787-493C-A3AB-02C1EDBF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2853-7881-46F8-891B-BF8B439C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9E45-49A8-439E-B4A7-90748A66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BB87-23CE-4C75-8D76-9E8D36BF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DFCD-9C42-4C55-88EC-DA7415DF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3490-F21D-4473-A804-F321AB22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31E7-063C-4902-87FE-9693CA33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899D-3A68-482F-A757-72672C8D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ABCA-DA91-46B2-886D-08DCB54E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ADEB-7761-4E23-9E62-37FEF648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440-3ACA-4112-9AAB-AA4AFC47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22AB-7994-4829-B59B-D1913E48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2C4D-05F1-461B-BFC3-FA272A25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F4F2-04FD-42D2-93D5-620E1F0B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1913-F987-4BAC-8D86-5D7E6AB6D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5E9A-A53B-4871-BA11-8A321350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9995-45C1-4DE9-8BC0-E3947C58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EBFF4-70C8-4CFA-B7EB-ABC29DF5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3DA0A-069B-403E-9307-1D3530C6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E0BBD-F198-45DC-A67E-F86247A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D0EEB-E219-438F-B129-ACE1E04D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621-4952-4F76-848D-9B389F1B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E1C7C-600B-4CB5-9B14-777299F7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404C2-D8C1-48EF-94D7-04DD494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9FAD7-7F51-4C5B-AEEE-FF9530B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51A43-CF99-4D9A-9934-F50869F0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AA22E-8B26-42C1-B7E4-F8DA87BD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BB8A-D551-48E2-A500-2F001BEE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F822F-B0E1-4086-9140-70D332189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30270-2AF6-425C-B197-12DA948E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6BC94-5085-4FAD-A819-E243A06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9E337-0A01-48C7-956A-D6215503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EA1-2B38-4CE1-B736-E7C95DF5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B49F5-C651-43A6-A19B-CCF3E618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9780D-6F9B-4958-938F-85AE19B6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8976-EB19-437A-8115-67C50292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6D6C-E430-4448-A5FE-961419BE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567F5-ACAB-43A5-A7B9-3603BB5B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733C1-04D2-4C0E-A7DC-EC6F33EF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5AF5-8559-45B1-B18C-03E0E696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A074F-E5A3-46A8-BFFC-E24C4C76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3DBFD-DA46-4BF4-8288-B8CC9DEF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84B-151A-4152-9D2A-0DFB0224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9FF-55F7-4586-A4FD-72584BE2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1D1-4069-484F-B9C5-048D3A21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D4D-3FC3-47EE-8EF8-46D8A463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180E-379B-44EF-ACB2-58125B91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E6E8-337E-4DD8-AFD4-C3FF8A986B1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967E-6CB4-44CC-BEB6-AF825ED7519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435C-10A7-425E-B8CC-6EA6DAD1D62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F4B3-5DF1-400E-9884-ADAE1BB25DC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3" descr=""/>
          <p:cNvPicPr/>
          <p:nvPr/>
        </p:nvPicPr>
        <p:blipFill>
          <a:blip r:embed="rId1"/>
          <a:stretch/>
        </p:blipFill>
        <p:spPr>
          <a:xfrm>
            <a:off x="493560" y="1365120"/>
            <a:ext cx="834552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9.В каком веке игры возродились в наше время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0.Чем современные игры отличаются от игр древност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1.В каком году впервые прошли Олимпийские игры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А)775 г.до н.э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Б)776 г.до н.э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В)777 г.до н.э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2.Какому богу были посвящены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3.Где проходили Олимпийские игры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4.Сколько дней длились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5.В какое время года проводились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6.Кто принимал участие в играх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7.Какие награды получали атлеты- победители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8.Какое жесткое правило существовало на период проведения игр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8T09:10:59Z</dcterms:created>
  <dc:creator>Бегун Галина</dc:creator>
  <dc:description/>
  <dc:language>en-US</dc:language>
  <cp:lastModifiedBy>Admin</cp:lastModifiedBy>
  <dcterms:modified xsi:type="dcterms:W3CDTF">2023-12-13T14:31:51Z</dcterms:modified>
  <cp:revision>6</cp:revision>
  <dc:subject/>
  <dc:title>Личность и общество</dc:title>
</cp:coreProperties>
</file>