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2F17-DA95-4BEB-B875-9A3557A1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E85-94C0-47A9-BEEC-B2FAC343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36F-93A2-48CE-BBAD-23112CB2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187-FBBE-44C3-9173-F11827C9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A2E7-ADE1-42DA-8E67-DD6E2387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B41A-1428-4D54-8D2F-911845D9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4B3D-289D-4950-9888-EB51C80F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BE55-9B4D-4581-B1DD-9F4C2F14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AD47-BAD4-490A-9366-0275FB69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59C8-FC2F-455C-85E9-A87AB1ED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C5DD-16E4-4F38-A0BE-3456364F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084-EA03-44A8-9757-BE3E7EBF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1B00-55EB-4127-8083-AC15CCD6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E90A-EC8B-4AED-88B5-C6323D4E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E8A7-5FDB-4076-88EE-EDB5A665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C0EF-3BE6-4B65-85C7-6EAEA7E1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3C73-B3A5-4CB7-AD2F-2B0AA9B1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228C0-4382-4FC1-81C6-D115DED3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82BEE-D296-4511-90C2-A58F4EC8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EC16E-14CF-4813-8844-86D11B3F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85AAB-60F2-4CD7-9F98-EF73FF08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8412F-343D-4668-A65A-AE2E3029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79C-1B31-4036-88E3-A2CE6D0E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AA2BA-A333-49D8-90FB-40CDCAD5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AEF5E-64ED-4AB4-B7BC-C0B1702E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5596B-B77F-4ED6-A361-88AD7A06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2AFC9-5CC2-47B3-8186-D472CF9E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882CD-1FD5-4251-A1E6-E1EB36F1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49EAA-C0F1-4995-A160-39B0FA15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34096-841E-47EE-ACA3-DB894BE0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D30D1-3598-43D5-A057-394E37D9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B7EA7-6E88-46B0-ACEB-8A9A1C42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9A8CF-8635-44F0-B498-C74FBF43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C92-023E-4C33-A32F-1E3F8AE7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B8E50-6E2C-4458-BDC5-5AF55D84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906BD-9432-4C5F-BF94-B2BDC096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5E328-CCB3-4232-845A-9553934D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01132-EB87-4BEA-9A4D-C55FD22A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B41AF-A921-4187-A8CF-C263B201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88492-64DA-471A-A129-92515E4C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89F7F-2D25-45B6-9837-5E2670BD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03597-BDC0-4D52-BE49-81CC9F06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7BAFB-D2C5-4E78-8308-972FFF73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B774E-9BD9-4CD6-B148-0E7DC8B3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97BC-09E3-444E-93EC-EBE7310C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3E394-301D-4C9C-88C8-C0C2758D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05C20-9716-4463-AD49-A50A388F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F5986-E12B-40C2-8F46-1E99B1F6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C1762-7A0C-4622-A14C-2996E82E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A3BF9-CF0B-4612-86EA-60E2EFBB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BB27A-50C5-4657-81C7-00CF4524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55BF6-9EC8-4A75-A54E-615D76D8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62EB1-6CA0-45D7-ACC5-8BAE6304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E0171-36B8-4B7B-A353-AB086817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09425-1648-47D6-B44C-2DA8E320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252-DF72-463C-A60C-BE97A5DD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DDDA6-9B23-470F-AB02-702062B2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B04A2-6699-4A8A-8A01-61F0E5F7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E04A9-B38A-4C31-ABB3-87705493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F1785-3D42-4535-8970-9264A9DD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EF603-6DE0-433D-BD18-13AEFAD7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6D042-6A4C-44EE-90E8-CA751E4C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55639-BA3B-49E7-9175-174341F5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6D3AC-DA6E-4C57-8E6E-C135F6AD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AD340-D7F6-461F-B8A0-E88AEBDE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94CC2-2FFA-49DA-9B10-9185888B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149-BAE9-415A-86C7-D1383CAB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FB4FE-CD54-48CE-A9F3-04BA9254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4D324-22D2-49EE-9AC7-CADCB39C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0A598-6E35-4B1D-B3E6-112AB559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242-D923-49F3-9373-5CC9ABD7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E8F-5177-43D3-AF77-C9005A1D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2B1A-5413-459D-A948-235BCC08AAC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E6D4-2CAA-4AD2-BB2F-211B5D4E0F5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C0B4-BFF5-4238-81A0-0ABFD6B13F9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B1FE-2944-4C3B-B70F-B9A82C3A2FD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6B0A-B9AE-4EB3-B282-5E51182D747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9DEB-F0EF-4B4F-B0AB-4ECF4B9A02A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8437320" cy="27734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9.Кто такой  Клит?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Что ты о нем знаешь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10.Почему Египет сдался Александру без боя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11.Почему Александр отказался от похода в долину Ганг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12.За что тебе нравится Александр? За что не нравится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Человек – существо биосоциально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иологическая сущность челове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ловек – часть живой природ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ло и мозг – результат эволюции природ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личие инстинкт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атомия, физиолог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иологические потреб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циальное в человек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чь, мышление, созн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здание и использование орудий тру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циальные и духовные потреб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образовательный, творческий характер деятель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оотнесите понятия и определ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250560" y="2349360"/>
            <a:ext cx="439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ндиви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ич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ндивидуаль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вокупность социально значимых качеств человека, формирующихся в процессе жизни в обществ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повторимость, уникальность челове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диничный представитель человечест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амореализац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Что останется после меня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оциальные ценности и норм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Личные цели и мотивы поведен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«Мыслящий и работающий человек есть мера всего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.И.Вернадски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иды деятельнос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331" name="Organization Chart 7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332" name="_s1028"/>
            <p:cNvCxnSpPr>
              <a:stCxn id="333" idx="0"/>
              <a:endCxn id="334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5" name="_s1029"/>
            <p:cNvCxnSpPr>
              <a:stCxn id="336" idx="0"/>
              <a:endCxn id="334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7" name="_s1030"/>
            <p:cNvCxnSpPr>
              <a:stCxn id="338" idx="0"/>
              <a:endCxn id="334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4" name="_s1031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ознание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_s1032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Общение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_s1033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Труд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_s1034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гр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отивы деятельнос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треб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циальные установ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бежд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терес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леч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ировоззрение – система взглядов на мир и место человека в нё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тановление личности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Соотнесите в виде кластера: семья, школа,   адаптация, СМИ, армия, интеграция, друзья, индивидуализация, государство, церковь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4000" y="292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Этап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00720" y="299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Агенты социализаци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1.Как звали отца Александра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ществ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е значение понятия общество в узком и широком смысл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числите подсистемы – сферы общественной жиз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твердите фактами динамизм и много вариантность общественного развит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ормы социального прогрес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волюц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фор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тиворечивость общественного прогрес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т «Золотого века к железному»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ормационная теор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еория цикл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тапы развития общест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52" name="Diagram 10"/>
          <p:cNvGrpSpPr/>
          <p:nvPr/>
        </p:nvGrpSpPr>
        <p:grpSpPr>
          <a:xfrm>
            <a:off x="5031000" y="2438280"/>
            <a:ext cx="3965040" cy="3433680"/>
            <a:chOff x="5031000" y="2438280"/>
            <a:chExt cx="3965040" cy="3433680"/>
          </a:xfrm>
        </p:grpSpPr>
        <p:sp>
          <p:nvSpPr>
            <p:cNvPr id="353" name="_s2052"/>
            <p:cNvSpPr/>
            <p:nvPr/>
          </p:nvSpPr>
          <p:spPr>
            <a:xfrm>
              <a:off x="5803920" y="2438280"/>
              <a:ext cx="2419200" cy="2419560"/>
            </a:xfrm>
            <a:custGeom>
              <a:avLst/>
              <a:gdLst>
                <a:gd name="textAreaLeft" fmla="*/ 0 w 2419200"/>
                <a:gd name="textAreaRight" fmla="*/ 2419200 w 2419200"/>
                <a:gd name="textAreaTop" fmla="*/ 0 h 2419560"/>
                <a:gd name="textAreaBottom" fmla="*/ 2419920 h 241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_s2053"/>
            <p:cNvSpPr/>
            <p:nvPr/>
          </p:nvSpPr>
          <p:spPr>
            <a:xfrm rot="7200000">
              <a:off x="6133680" y="3009600"/>
              <a:ext cx="2419200" cy="2419560"/>
            </a:xfrm>
            <a:custGeom>
              <a:avLst/>
              <a:gdLst>
                <a:gd name="textAreaLeft" fmla="*/ 0 w 2419200"/>
                <a:gd name="textAreaRight" fmla="*/ 2419200 w 2419200"/>
                <a:gd name="textAreaTop" fmla="*/ 0 h 2419560"/>
                <a:gd name="textAreaBottom" fmla="*/ 2419920 h 241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_s2054"/>
            <p:cNvSpPr/>
            <p:nvPr/>
          </p:nvSpPr>
          <p:spPr>
            <a:xfrm rot="14400000">
              <a:off x="5473440" y="3009960"/>
              <a:ext cx="2419200" cy="241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_s2055"/>
            <p:cNvSpPr/>
            <p:nvPr/>
          </p:nvSpPr>
          <p:spPr>
            <a:xfrm>
              <a:off x="7675560" y="2879640"/>
              <a:ext cx="9716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деградация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_s2056"/>
            <p:cNvSpPr/>
            <p:nvPr/>
          </p:nvSpPr>
          <p:spPr>
            <a:xfrm>
              <a:off x="6527880" y="4869000"/>
              <a:ext cx="9716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азвитие-упадок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_s2057"/>
            <p:cNvSpPr/>
            <p:nvPr/>
          </p:nvSpPr>
          <p:spPr>
            <a:xfrm>
              <a:off x="5378400" y="2879640"/>
              <a:ext cx="9716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прогресс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обализация – что это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явите плюсы и минусы глобализ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ложите пути решения глобальных проблем человечест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цените возможность в будущем своего участия  в их решении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ворческим ученикам: презентация «Моё будущее в информационном обществе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тальным ученикам: повторить понятия темы 1, мини-сочинение «Профессия моей мечты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2.Кто был учителем Александр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А)Аристотел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Б)Аристофа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)Архимед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3.Гражданские (междоусобные)войны-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4.Кто призывал греков подчиниться Македонии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А)Демосфе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Б)Исократ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)Сократ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5.Назови причины ослабления Греции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6.С каким персидским царем воевал Александр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А)Дарий 1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Б)Дарий 2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)Дарий 3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7.При каких обстоятельствах Александр произнес слов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«Я не краду победу»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8. Развязать «Гордиев узел»-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8T09:10:59Z</dcterms:created>
  <dc:creator>Бегун Галина</dc:creator>
  <dc:description/>
  <dc:language>en-US</dc:language>
  <cp:lastModifiedBy>Admin</cp:lastModifiedBy>
  <dcterms:modified xsi:type="dcterms:W3CDTF">2023-02-26T10:20:52Z</dcterms:modified>
  <cp:revision>6</cp:revision>
  <dc:subject/>
  <dc:title>Личность и общество</dc:title>
</cp:coreProperties>
</file>