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206F-1EC3-4A3C-A578-DB39F323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F9A-D738-4747-BD83-E1C852EE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D2FA-789A-47C7-90F0-1539EB71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4F9-2F63-4E35-A7AA-3AED2293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292-1CCA-4FCF-A44B-BE9E7002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7DEC-F696-48A4-BF05-4BFEBAE2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DF1C-F9E6-4F4B-ABF2-CABC08B8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99E3-2C24-4940-8067-E6C7FDDE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31A0-4CB0-4634-8E3C-7B91BCF8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DE5C-0420-4E11-AF9D-66D53A8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6508-45FD-4385-AA06-2465ADA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469-60F0-47AE-A056-B9ABFA2D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DCE5-EF9A-46EA-978E-7C53DBBA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DB97-C788-4DCD-BDA5-E358221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5E80-EC72-45BB-BE99-5A051E47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6F63-4DDE-4F85-BE1A-1E721F5B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357E-D1C6-42E0-ACBC-E9ADF811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B154-1A5D-4DC3-A5D6-E9A2A2F0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FF1A-6185-4D94-80B5-16125111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85AB-57E1-4290-B3DC-60542244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43D0-F994-4771-8DE4-49A7CC8C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DAB0-4EA7-413A-9848-8EDB4947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1B4-494F-42DB-BEF4-AAC6BB11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E3FB-E4A4-452B-8359-C38F30D5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56494-F6E4-4DC5-86F6-E4D6CBB3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CCD85-685A-46CC-96A7-6D405089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BB18-F33B-4E4C-994D-2B1E2172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6404-2B14-4CEF-A489-7BB3A5EF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2828-234B-4B97-A6C4-D01ACF3A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BB260-A661-4220-8176-2565C1C7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74EB-E008-466D-A300-171CF988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0031E-7733-41AE-969B-F74A0195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AA829-5E0C-4294-95ED-9FDC7E88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96D3-9B0D-4806-8732-6FB46AA5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E77E-1BEF-4C10-9F34-A23B7C49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1FAC-BBF6-4308-996A-1C62DA08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01999-BA5B-48CB-91ED-1697408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0A3A-C684-4D51-9D80-4FCC37E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EB766-820B-4575-8C5E-CE45F678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9C9B-6FB3-48FB-A3CF-6676F57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C8AD0-0CD0-403C-80D0-2235233E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34FEC-0FAF-434E-BED6-0DD2BA82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667B1-3BC9-4420-A4EF-9F2FECF4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85AB5-22FF-4E56-9964-C8D8A37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2AF-3E17-4548-8567-4DABAD1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33180-7D2A-4E79-B98E-B725E08A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ABFE7-F352-4E84-9612-D7FBE792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B435-E936-487A-9E1E-B688EEB7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F975-7F16-4CE0-8563-E843C8FE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0370-A020-49A5-BA9D-BB5A2679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D5A06-CB07-4423-82D8-D7BF150C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7A5E0-78E2-4A1D-8610-CD154C86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9395-6FA4-46E2-B689-BA24186E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8CE7F-F266-44CF-977A-21A58C61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0B4B-F079-41B7-BC1A-F93401F6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4E5-AB01-44F0-86F1-DB43BC2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791AC-44B5-4239-A402-5C85267D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B0D3A-8367-4C10-807D-C2D3C5F1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64B8E-C8D8-4CF6-8BFD-0CBD8ED3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FCFF9-9893-4FDA-875C-7194C036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4D2B-F8E2-4B48-9E57-749E0A5C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39705-2259-4AA0-ACC8-BD4C405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B02EC-99C7-48BF-A8E3-7D1E09F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EBEE5-8E77-4F5A-BB1A-F692E503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13E4-A5E5-41A1-8154-879A39BE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90F77-CE37-4FA2-B063-D838BD1E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3DC-CE5D-4ED1-9F8E-CA9DC36F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7F5FD-E7BE-49BB-874E-57F5FF3A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7F808-6B26-4C64-A66A-07CA5D66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7ABF6-3B6F-41CC-B73F-0886CC4D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2E45-6309-4A95-A25F-EF6D6AD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AAC-D8AE-495F-9F57-675DD79C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AC02-5670-48D4-8F05-48B96B4B283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F2B9-47D5-4AE8-A12E-60E7B9A4B29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DCF0-059D-4F6C-B569-F86378FBCD6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F64F-F1BA-4A79-AC42-9A29721AB06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226D-8796-4BDA-A8B4-4A0E9612F0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5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0110-A4E3-44B6-B9F3-74239C1668B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2" descr=""/>
          <p:cNvPicPr/>
          <p:nvPr/>
        </p:nvPicPr>
        <p:blipFill>
          <a:blip r:embed="rId1"/>
          <a:stretch/>
        </p:blipFill>
        <p:spPr>
          <a:xfrm>
            <a:off x="676440" y="542880"/>
            <a:ext cx="8437320" cy="2773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9.Кто такой  Клит?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ты о нем знаеш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0.Почему Египет сдался Александру без бо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1.Почему Александр отказался от похода в долину Ганг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2.За что тебе нравится Александр? За что не нравитс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еловек – существо биосоциально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иологическая сущность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еловек – часть живой природ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о и мозг – результат эволюции природ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личие инстин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натомия, физиолог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ческие потреб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циальное в челове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чь, мышление, сознани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здание и использование орудий тру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циальные и духовные потреб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образовательный, творческий характер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оотнесите понятия и определе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250560" y="234936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ивид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Лич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Индивидуаль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вокупность социально значимых качеств человека, формирующихся в процессе жизни в обществ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повторимость, уникальность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диничный представитель человече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амореал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Что останется после меня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оциальные ценности и норм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Личные цели и мотивы поведе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Мыслящий и работающий человек есть мера всего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.И.Вернадск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иды деятель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31" name="Organization Chart 7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332" name="_s1028"/>
            <p:cNvCxnSpPr>
              <a:stCxn id="333" idx="0"/>
              <a:endCxn id="334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5" name="_s1029"/>
            <p:cNvCxnSpPr>
              <a:stCxn id="336" idx="0"/>
              <a:endCxn id="334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7" name="_s1030"/>
            <p:cNvCxnSpPr>
              <a:stCxn id="338" idx="0"/>
              <a:endCxn id="334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4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Познание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бщение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Труд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Игр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отивы деятельно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треб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циальные установ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бежд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нтерес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леч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ировоззрение – система взглядов на мир и место человека в нё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тановление личности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Соотнесите в виде кластера: семья, школа,   адаптация, СМИ, армия, интеграция, друзья, индивидуализация, государство, церковь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24000" y="292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Этапы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00720" y="299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Агенты социализаци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1.Как звали отца Александр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ществ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е значение понятия общество в узком и широком смысл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числите подсистемы – сферы общественной жиз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дтвердите фактами динамизм и много вариантность общественного развит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Формы социального прогре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волюц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фор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тиворечивость общественного прогресс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т «Золотого века к железному»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Формационная теор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еория цикл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апы развития обще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2" name="Diagram 10"/>
          <p:cNvGrpSpPr/>
          <p:nvPr/>
        </p:nvGrpSpPr>
        <p:grpSpPr>
          <a:xfrm>
            <a:off x="5031000" y="2438280"/>
            <a:ext cx="3965040" cy="3433680"/>
            <a:chOff x="5031000" y="2438280"/>
            <a:chExt cx="3965040" cy="3433680"/>
          </a:xfrm>
        </p:grpSpPr>
        <p:sp>
          <p:nvSpPr>
            <p:cNvPr id="353" name="_s2052"/>
            <p:cNvSpPr/>
            <p:nvPr/>
          </p:nvSpPr>
          <p:spPr>
            <a:xfrm>
              <a:off x="5803920" y="243828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_s2053"/>
            <p:cNvSpPr/>
            <p:nvPr/>
          </p:nvSpPr>
          <p:spPr>
            <a:xfrm rot="7200000">
              <a:off x="6133680" y="300960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_s2054"/>
            <p:cNvSpPr/>
            <p:nvPr/>
          </p:nvSpPr>
          <p:spPr>
            <a:xfrm rot="14400000">
              <a:off x="5473440" y="3009960"/>
              <a:ext cx="2419200" cy="241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_s2055"/>
            <p:cNvSpPr/>
            <p:nvPr/>
          </p:nvSpPr>
          <p:spPr>
            <a:xfrm>
              <a:off x="7675560" y="2879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деградация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_s2056"/>
            <p:cNvSpPr/>
            <p:nvPr/>
          </p:nvSpPr>
          <p:spPr>
            <a:xfrm>
              <a:off x="6527880" y="4869000"/>
              <a:ext cx="9716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азвитие-упадок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_s2057"/>
            <p:cNvSpPr/>
            <p:nvPr/>
          </p:nvSpPr>
          <p:spPr>
            <a:xfrm>
              <a:off x="5378400" y="2879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прогресс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лобализация – что это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явите плюсы и минусы глобализ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ложите пути решения глобальных проблем человече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цените возможность в будущем своего участия  в их решении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ворческим ученикам: презентация «Моё будущее в информационном обществе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тальным ученикам: повторить понятия темы 1, мини-сочинение «Профессия моей мечт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Кто был учителем Александр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Аристотель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Аристофа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Архимед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3.Гражданские (междоусобные)войны-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4.Кто призывал греков подчиниться Македони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Демосфе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Исокра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Сократ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5.Назови причины ослабления Греции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6.С каким персидским царем воевал Александр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Дарий 1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Дарий 2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Дарий 3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7.При каких обстоятельствах Александр произнес слов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Я не краду победу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8. Развязать «Гордиев узел»-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9:10:59Z</dcterms:created>
  <dc:creator>Бегун Галина</dc:creator>
  <dc:description/>
  <dc:language>en-US</dc:language>
  <cp:lastModifiedBy>Admin</cp:lastModifiedBy>
  <dcterms:modified xsi:type="dcterms:W3CDTF">2023-02-26T10:20:52Z</dcterms:modified>
  <cp:revision>6</cp:revision>
  <dc:subject/>
  <dc:title>Личность и общество</dc:title>
</cp:coreProperties>
</file>