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13.wmf" ContentType="image/x-wmf"/>
  <Override PartName="/ppt/media/image41.wmf" ContentType="image/x-wmf"/>
  <Override PartName="/ppt/media/image8.jpeg" ContentType="image/jpeg"/>
  <Override PartName="/ppt/media/image39.wmf" ContentType="image/x-wmf"/>
  <Override PartName="/ppt/media/image9.wmf" ContentType="image/x-wmf"/>
  <Override PartName="/ppt/media/image38.wmf" ContentType="image/x-wmf"/>
  <Override PartName="/ppt/media/image40.wmf" ContentType="image/x-wmf"/>
  <Override PartName="/ppt/media/image42.png" ContentType="image/png"/>
  <Override PartName="/ppt/media/image43.png" ContentType="image/png"/>
  <Override PartName="/ppt/media/image26.wmf" ContentType="image/x-wmf"/>
  <Override PartName="/ppt/media/image31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45.png" ContentType="image/png"/>
  <Override PartName="/ppt/media/image30.png" ContentType="image/png"/>
  <Override PartName="/ppt/media/image28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.wmf" ContentType="image/x-wmf"/>
  <Override PartName="/ppt/media/image3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B9E7-F174-4DF3-82DC-053E0C3F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262-5E8E-431C-B850-CAB4EBEF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E2A-BA16-4F19-AE29-72BCFC37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852-579D-4E72-BB82-2451F2D9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37C8-D29C-4520-9D96-A705E275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C91F-3557-42C4-B9F4-51A37D07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29B6-1ED3-4E46-BACD-FEE7D435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C38-C4B8-4940-ABC1-92585023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A370-4844-42E5-B0E4-5A5C402C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AE74-0D70-41DC-812A-5DA05185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ECF0-9AD5-4342-9541-792079B9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733-658D-4635-BDBB-DDD619EC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7DC0-1D13-4B47-8108-9FC5BA14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D736-CE6C-47BC-B5D0-97E6040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6133-82C4-4338-A87B-9E68565D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7876-9B3E-402E-A185-0CBE27353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B0A6-B773-4E77-B113-630D2FC7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339C8-C4BA-4782-A4A5-D84BE4B2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07539-0455-40AD-B1E4-09341E1F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337F5-6D56-465F-B2DC-A4315FCE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758330-2666-4D89-A410-C2A23B3C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56CB6-B474-4530-A8A3-ED79E1DD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E3B-EB6A-4897-BE09-9B7CFA48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7F1B7-B445-4559-9E2C-F235D877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6F7DC-2F03-4F4D-96AA-AF02A97D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36596-954E-4EE4-87D5-E6E5A848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A2942-3A90-4770-B549-963D0D21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B08F93-A52E-4D47-957C-2E4857D1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7971A-4A45-46F5-A5C4-644440C2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9ECF2-2AB3-4681-9426-88400B96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880A5-FDD1-4FF0-86B7-4FDED596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63EC-F492-4200-82A3-C3816BA9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F46E-F5C8-4276-A3F9-0437C02A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37A-D355-42CE-BD96-CE82BBA3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9F4C2-583D-47DC-818D-BE246225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4347-8753-4667-8C63-9766FFE4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52E1-27D7-478E-97F7-180BEC31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7D467-698C-4D59-9C39-F44EF4A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687C-9A42-404F-A752-71AB8B4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3A0E9-2A37-48A6-BC62-F89BF7A1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243B8-E6CD-41A8-8234-6003B982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104AB-7839-4512-9C1F-4AB7CA12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EC139-21AD-4922-8F02-9CD4DE19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8F8949-3A14-4A01-9EDC-5C4BDE8B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775-99F1-4792-B0FD-37F8E213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443D3-6829-4B14-93DF-8A2FE400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D66BD-35CA-467B-B5DE-A31B0F9F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D97074-CF4E-4636-B086-082B23D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639EF-7567-42AB-9294-F25A0524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A448C-829F-41B1-B2E3-D5C215A7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EF7B1-1BDE-429C-8572-5A35E79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8A796-E141-431A-91A3-EECA412E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4B317A-3A88-4AB2-B864-9486931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C2448-103D-4099-908B-404EC7A2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8D70F9-C7F2-4EF3-B032-5E18A6A3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540-C9EF-47A3-ADB6-596A5647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DDAB85-5ECE-435F-AC10-F11E2B16F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FBC7B6-93C6-4610-B386-146C8824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7E562-A1DF-4E97-AE23-FD32E41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F405A4-FA87-48C2-81C9-4774ECC7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2E389-E866-4B66-8314-7AA8068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2367C7-4F8D-4913-A771-08C24CCB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756F31-4BB5-4205-BC82-AF336914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357BD-5274-4E14-AB88-6D7348E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BEFFF6-13BB-4C9E-8ABD-5F017144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6F10F5-133D-437F-A1E4-D7E49F05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6A9-EAD5-4183-94A4-FA8E650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6A12F-78EC-4DC8-8CBB-13933B7D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90553-FA92-4BD0-97F7-DC3059D3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50C121-A728-4808-A356-5CECD5ED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04EE1-0E6C-41B2-93FB-EF51D486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A57B8C-1946-480E-A714-ABDA034F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9B3931-5D88-4DFA-8758-8A745698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7D8159-B870-4FE2-8789-F18AD636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4CC29-7D62-414E-87DC-7CBDD641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6F6FB-2893-446D-A439-F0EA2130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D4AD2-2C2F-4571-A0D1-51DADB23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A3D-7A68-4F3E-9FB8-9EA85A5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8DDB7-2233-456A-83D6-EDACC76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F58437-774B-4025-912A-8118463C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43AC66-882C-4E8E-AD54-4ACC170F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6F6438-5A2C-4D78-ACCC-B62673AD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F1457D-FA07-4EA0-A933-FC5F8BF0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52E-7E88-4E59-BEC3-6D982A7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E090-2E85-4215-B446-5E1171AFF86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677B-9771-47A9-8E92-3431906F5D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01E-8827-461E-9B2D-500AB748BD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6AA2-F8E8-4EC1-BA36-94C837624A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930A-24A3-4B03-A7F1-30CAC47AFCC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847-019A-4E2D-A17A-7DB325485B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02D-278F-4888-9E3F-31FE45E10B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575f6d"/>
                </a:solidFill>
                <a:latin typeface="Century Schoolbook"/>
              </a:rPr>
              <a:t>СТЕПЕНЬ ЧИСЛ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entury Schoolbook"/>
              </a:rPr>
              <a:t>Мяконькая К.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ТО ТАКОЕ СТЕПЕНЬ C НАТУРАЛЬНЫМ ПОКАЗАТЕЛ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Содержимое 2"/>
          <p:cNvSpPr/>
          <p:nvPr/>
        </p:nvSpPr>
        <p:spPr>
          <a:xfrm>
            <a:off x="457200" y="1557360"/>
            <a:ext cx="8229600" cy="177948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entury Schoolbook"/>
                <a:ea typeface="Arial"/>
              </a:rPr>
              <a:t>Степень с натуральным показателем</a:t>
            </a:r>
            <a:r>
              <a:rPr b="1" i="1" lang="ru-RU" sz="2400" spc="-1" strike="noStrike">
                <a:solidFill>
                  <a:srgbClr val="c00000"/>
                </a:solidFill>
                <a:latin typeface="Century Schoolbook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– число, полученное путем возведения основания степени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в показатель степени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п,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который является положительным целым числ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3"/>
          <p:cNvSpPr/>
          <p:nvPr/>
        </p:nvSpPr>
        <p:spPr>
          <a:xfrm>
            <a:off x="500040" y="3645000"/>
            <a:ext cx="814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ыражение      называют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тепенью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Число а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основанием степен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Число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казатель степени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Показатель степени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натуральное число, или натуральный показатель степен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Объект 4"/>
              <p:cNvSpPr txBox="1"/>
              <p:nvPr/>
            </p:nvSpPr>
            <p:spPr>
              <a:xfrm>
                <a:off x="2627280" y="3613320"/>
                <a:ext cx="6238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ТАКИМ ОБРАЗОМ 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Содержимое 2"/>
          <p:cNvSpPr/>
          <p:nvPr/>
        </p:nvSpPr>
        <p:spPr>
          <a:xfrm>
            <a:off x="900000" y="1700280"/>
            <a:ext cx="6264360" cy="857160"/>
          </a:xfrm>
          <a:prstGeom prst="rect">
            <a:avLst/>
          </a:prstGeom>
          <a:noFill/>
          <a:ln w="7632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1" i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а · а · а · … · а</a:t>
            </a:r>
            <a:r>
              <a:rPr b="1" lang="ru-RU" sz="48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Объект 2"/>
              <p:cNvSpPr txBox="1"/>
              <p:nvPr/>
            </p:nvSpPr>
            <p:spPr>
              <a:xfrm>
                <a:off x="6297480" y="1700280"/>
                <a:ext cx="857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3" name="Правая фигурная скобка 5"/>
          <p:cNvSpPr/>
          <p:nvPr/>
        </p:nvSpPr>
        <p:spPr>
          <a:xfrm rot="5400000">
            <a:off x="3242520" y="465480"/>
            <a:ext cx="642960" cy="4464000"/>
          </a:xfrm>
          <a:custGeom>
            <a:avLst/>
            <a:gdLst>
              <a:gd name="textAreaLeft" fmla="*/ 0 w 642960"/>
              <a:gd name="textAreaRight" fmla="*/ 232200 w 642960"/>
              <a:gd name="textAreaTop" fmla="*/ 16560 h 4464000"/>
              <a:gd name="textAreaBottom" fmla="*/ 444744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0"/>
                  <a:pt x="10800" y="259"/>
                </a:cubicBezTo>
                <a:lnTo>
                  <a:pt x="10800" y="10541"/>
                </a:lnTo>
                <a:cubicBezTo>
                  <a:pt x="10800" y="10671"/>
                  <a:pt x="16200" y="10800"/>
                  <a:pt x="21600" y="10800"/>
                </a:cubicBezTo>
                <a:cubicBezTo>
                  <a:pt x="16200" y="10800"/>
                  <a:pt x="10800" y="10930"/>
                  <a:pt x="10800" y="11059"/>
                </a:cubicBezTo>
                <a:lnTo>
                  <a:pt x="10800" y="21341"/>
                </a:lnTo>
                <a:cubicBezTo>
                  <a:pt x="10800" y="2147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3381480" y="30193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1116000" y="400536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тепень с натуральным показател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 основание степ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- показатель степ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Объект 7"/>
              <p:cNvSpPr txBox="1"/>
              <p:nvPr/>
            </p:nvSpPr>
            <p:spPr>
              <a:xfrm>
                <a:off x="1332000" y="3860640"/>
                <a:ext cx="5698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7" name="Прямоугольник 8"/>
          <p:cNvSpPr/>
          <p:nvPr/>
        </p:nvSpPr>
        <p:spPr>
          <a:xfrm>
            <a:off x="539640" y="55213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пись      читают так: «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-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ой степ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Объект 9"/>
              <p:cNvSpPr txBox="1"/>
              <p:nvPr/>
            </p:nvSpPr>
            <p:spPr>
              <a:xfrm>
                <a:off x="2340000" y="5430960"/>
                <a:ext cx="56988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ОЗВЕДЕНИЕ В СТЕПЕН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50920" y="177336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хождение значения степени называ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озведением в степен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2" name="Объект 6"/>
          <p:cNvGraphicFramePr/>
          <p:nvPr/>
        </p:nvGraphicFramePr>
        <p:xfrm>
          <a:off x="3117960" y="2585880"/>
          <a:ext cx="29066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7960" y="2585880"/>
                    <a:ext cx="2906640" cy="50328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14" name="TextBox 7"/>
          <p:cNvSpPr/>
          <p:nvPr/>
        </p:nvSpPr>
        <p:spPr>
          <a:xfrm>
            <a:off x="282600" y="335772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ри возведении в степень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оложительного числа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учается положительное числ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TextBox 8"/>
          <p:cNvSpPr/>
          <p:nvPr/>
        </p:nvSpPr>
        <p:spPr>
          <a:xfrm>
            <a:off x="826920" y="4221000"/>
            <a:ext cx="7201080" cy="368280"/>
          </a:xfrm>
          <a:prstGeom prst="rect">
            <a:avLst/>
          </a:prstGeom>
          <a:noFill/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При возведени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в степень нуля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лучается в нол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16" name="Объект 9"/>
          <p:cNvGraphicFramePr/>
          <p:nvPr/>
        </p:nvGraphicFramePr>
        <p:xfrm>
          <a:off x="3235320" y="4797360"/>
          <a:ext cx="2776680" cy="17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35320" y="4797360"/>
                    <a:ext cx="2776680" cy="173052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РАССМОТРИМ ЧИСЛО В СТЕПЕНИ 1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385920" y="1773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Степенью числа а с показателем 1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зывается само это число, т.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0" name="Объект 3"/>
          <p:cNvGraphicFramePr/>
          <p:nvPr/>
        </p:nvGraphicFramePr>
        <p:xfrm>
          <a:off x="3780000" y="2276640"/>
          <a:ext cx="90936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276640"/>
                    <a:ext cx="909360" cy="45540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2" name="Прямоугольник 5"/>
          <p:cNvSpPr/>
          <p:nvPr/>
        </p:nvSpPr>
        <p:spPr>
          <a:xfrm>
            <a:off x="628560" y="321300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Основание степени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жет быть числом: натуральным, целым и даже дроб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оказатель степени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– число натурально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3" name="Picture 2" descr="https://xn--j1ahfl.xn--p1ai/data/images/u183825/t1521278941ac.jpg"/>
          <p:cNvPicPr/>
          <p:nvPr/>
        </p:nvPicPr>
        <p:blipFill>
          <a:blip r:embed="rId3"/>
          <a:stretch/>
        </p:blipFill>
        <p:spPr>
          <a:xfrm>
            <a:off x="2916360" y="4365720"/>
            <a:ext cx="344304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СЧИТАЕМ ПРИМЕР, ЗНАЯ О СВОЙСТВАХ СТЕПЕНЕЙ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26" name="Объект 3"/>
          <p:cNvGraphicFramePr/>
          <p:nvPr/>
        </p:nvGraphicFramePr>
        <p:xfrm>
          <a:off x="2521080" y="4308480"/>
          <a:ext cx="27223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4308480"/>
                    <a:ext cx="27223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Прямоугольник 2"/>
          <p:cNvSpPr/>
          <p:nvPr/>
        </p:nvSpPr>
        <p:spPr>
          <a:xfrm>
            <a:off x="468360" y="220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ак можно заменить 4*4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можно записать в виде: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Прямоугольник 3"/>
          <p:cNvSpPr/>
          <p:nvPr/>
        </p:nvSpPr>
        <p:spPr>
          <a:xfrm>
            <a:off x="684360" y="15620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  <a:ea typeface="Calibri"/>
              </a:rPr>
              <a:t>4*4*4*4*4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Объект 4"/>
          <p:cNvGraphicFramePr/>
          <p:nvPr/>
        </p:nvGraphicFramePr>
        <p:xfrm>
          <a:off x="5580000" y="2216160"/>
          <a:ext cx="954000" cy="31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216160"/>
                    <a:ext cx="9540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Объект 5"/>
          <p:cNvGraphicFramePr/>
          <p:nvPr/>
        </p:nvGraphicFramePr>
        <p:xfrm>
          <a:off x="468360" y="2997360"/>
          <a:ext cx="3755880" cy="4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997360"/>
                    <a:ext cx="375588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TextBox 6"/>
          <p:cNvSpPr/>
          <p:nvPr/>
        </p:nvSpPr>
        <p:spPr>
          <a:xfrm>
            <a:off x="468360" y="371628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Зная свойства степеней, мы можем записать в виде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468360" y="5229360"/>
            <a:ext cx="64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 мы получаем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6" name="Объект 8"/>
          <p:cNvGraphicFramePr/>
          <p:nvPr/>
        </p:nvGraphicFramePr>
        <p:xfrm>
          <a:off x="3408480" y="5732640"/>
          <a:ext cx="110160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7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08480" y="5732640"/>
                    <a:ext cx="1101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ВЕДЕМ К ПРИМЕРУ В СТЕПЕНЬ ЧИСЛА 10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9" name="Объект 2"/>
          <p:cNvGraphicFramePr/>
          <p:nvPr/>
        </p:nvGraphicFramePr>
        <p:xfrm>
          <a:off x="2987640" y="2440080"/>
          <a:ext cx="19638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40080"/>
                    <a:ext cx="1963800" cy="36036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41" name="Объект 3"/>
          <p:cNvGraphicFramePr/>
          <p:nvPr/>
        </p:nvGraphicFramePr>
        <p:xfrm>
          <a:off x="2484360" y="5661000"/>
          <a:ext cx="300348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2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661000"/>
                    <a:ext cx="3003480" cy="43200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3" name="Rectangle 3"/>
          <p:cNvSpPr/>
          <p:nvPr/>
        </p:nvSpPr>
        <p:spPr>
          <a:xfrm>
            <a:off x="284040" y="1559520"/>
            <a:ext cx="868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Чтобы возвести число 10, достаточно после единицы количество нулей, равное показателю степен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84040" y="2806200"/>
            <a:ext cx="842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торую степень числа называют квадратом чис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Значит число 10 во второй степени это число 100. Связано это с тем, что число 10 во второй степени это произведение двух множителей, каждый из которых равен 10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к вы думаете, какое число получится, если 10 возвести в третью степень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284040" y="4499280"/>
            <a:ext cx="868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Третью степень числа называют кубом числ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Возводя число 10 в третью степень, мы получаем 1000.Связано это с тем, что количество нулей равно показателю степен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ВТОРУЮ СТЕПЕН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ИСЛА НАЗЫВАЮТ КВАДРАТОМ ЭТОГО ЧИСЛ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7" name="Объект 3"/>
          <p:cNvGraphicFramePr/>
          <p:nvPr/>
        </p:nvGraphicFramePr>
        <p:xfrm>
          <a:off x="3132000" y="3429000"/>
          <a:ext cx="21924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429000"/>
                    <a:ext cx="2192400" cy="50472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9" name="Rectangle 3"/>
          <p:cNvSpPr/>
          <p:nvPr/>
        </p:nvSpPr>
        <p:spPr>
          <a:xfrm>
            <a:off x="250920" y="194508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 запись в виде         можно прочитать как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250920" y="250092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Два во второй степ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Два в квадрат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51" name="Объект 6"/>
          <p:cNvGraphicFramePr/>
          <p:nvPr/>
        </p:nvGraphicFramePr>
        <p:xfrm>
          <a:off x="3132000" y="1919160"/>
          <a:ext cx="432000" cy="4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2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919160"/>
                    <a:ext cx="4320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575f6d"/>
                </a:solidFill>
                <a:uFillTx/>
                <a:latin typeface="Century Schoolbook"/>
              </a:rPr>
              <a:t>ТРЕТЬЮ СТЕПЕНЬ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ЧИСЛА НАЗЫВАЮТ КУБОМ ЭТОГО ЧИСЛ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54" name="Объект 2"/>
          <p:cNvGraphicFramePr/>
          <p:nvPr/>
        </p:nvGraphicFramePr>
        <p:xfrm>
          <a:off x="3132000" y="1657440"/>
          <a:ext cx="360360" cy="4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657440"/>
                    <a:ext cx="36036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3"/>
          <p:cNvGraphicFramePr/>
          <p:nvPr/>
        </p:nvGraphicFramePr>
        <p:xfrm>
          <a:off x="3059280" y="3357720"/>
          <a:ext cx="206208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357720"/>
                    <a:ext cx="2062080" cy="43164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8" name="Rectangle 3"/>
          <p:cNvSpPr/>
          <p:nvPr/>
        </p:nvSpPr>
        <p:spPr>
          <a:xfrm>
            <a:off x="324000" y="165780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 запись в виде         можно прочитать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324000" y="242316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Два в третьей степ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-Два в куб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29840" y="620640"/>
            <a:ext cx="74674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РОЧИТАЙТЕ СТЕПЕН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61" name="Объект 2"/>
          <p:cNvGraphicFramePr/>
          <p:nvPr/>
        </p:nvGraphicFramePr>
        <p:xfrm>
          <a:off x="520560" y="2205000"/>
          <a:ext cx="4510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05000"/>
                    <a:ext cx="4510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Объект 3"/>
          <p:cNvGraphicFramePr/>
          <p:nvPr/>
        </p:nvGraphicFramePr>
        <p:xfrm>
          <a:off x="468360" y="2836800"/>
          <a:ext cx="43164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4" name="Объект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836800"/>
                    <a:ext cx="43164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Объект 4"/>
          <p:cNvGraphicFramePr/>
          <p:nvPr/>
        </p:nvGraphicFramePr>
        <p:xfrm>
          <a:off x="557280" y="3525840"/>
          <a:ext cx="48564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6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280" y="3525840"/>
                    <a:ext cx="4856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Rectangle 5"/>
          <p:cNvSpPr/>
          <p:nvPr/>
        </p:nvSpPr>
        <p:spPr>
          <a:xfrm>
            <a:off x="1042920" y="226368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= «Четыре в шестой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058760" y="297072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= «Семь в восьмой степени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1257480" y="3433320"/>
            <a:ext cx="3458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= «Пять в двенадца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4960" y="333360"/>
            <a:ext cx="8074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УМНОЖЕНИЕ СТЕПЕН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324000" y="1341360"/>
            <a:ext cx="8280360" cy="155700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бы перемножить степени, нужно по отдельности вычислить каждую степень, и полученные результат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множи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Прямоугольник 3"/>
          <p:cNvSpPr/>
          <p:nvPr/>
        </p:nvSpPr>
        <p:spPr>
          <a:xfrm>
            <a:off x="346680" y="270828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Объект 4"/>
              <p:cNvSpPr txBox="1"/>
              <p:nvPr/>
            </p:nvSpPr>
            <p:spPr>
              <a:xfrm>
                <a:off x="2457360" y="2690640"/>
                <a:ext cx="42292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⋅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Box 9"/>
          <p:cNvSpPr/>
          <p:nvPr/>
        </p:nvSpPr>
        <p:spPr>
          <a:xfrm>
            <a:off x="324000" y="3357720"/>
            <a:ext cx="8280360" cy="119124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Если показатели степени одинаковы, то можно записать одно основание, а в качестве показателя записать сумму исходных степен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Прямоугольник 7"/>
          <p:cNvSpPr/>
          <p:nvPr/>
        </p:nvSpPr>
        <p:spPr>
          <a:xfrm>
            <a:off x="363960" y="48690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Объект 8"/>
              <p:cNvSpPr txBox="1"/>
              <p:nvPr/>
            </p:nvSpPr>
            <p:spPr>
              <a:xfrm>
                <a:off x="2019240" y="4746600"/>
                <a:ext cx="53355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Прямоугольник 9"/>
          <p:cNvSpPr/>
          <p:nvPr/>
        </p:nvSpPr>
        <p:spPr>
          <a:xfrm>
            <a:off x="-183600" y="5533920"/>
            <a:ext cx="54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Это основное свойство степе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78" name="Объект 12"/>
          <p:cNvGraphicFramePr/>
          <p:nvPr/>
        </p:nvGraphicFramePr>
        <p:xfrm>
          <a:off x="5292720" y="5522760"/>
          <a:ext cx="178920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Объек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5522760"/>
                    <a:ext cx="1789200" cy="435240"/>
                  </a:xfrm>
                  <a:prstGeom prst="rect">
                    <a:avLst/>
                  </a:prstGeom>
                  <a:ln w="9360">
                    <a:solidFill>
                      <a:srgbClr val="9a3d0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80" name="TextBox 11"/>
          <p:cNvSpPr/>
          <p:nvPr/>
        </p:nvSpPr>
        <p:spPr>
          <a:xfrm>
            <a:off x="324000" y="6035760"/>
            <a:ext cx="8280360" cy="100872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перемножении степеней с одинаковыми основаниями, основание оставляют без изменений, а показатели складывают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ОЛНИТЕ СЛОЖЕНИЕ ОДИНАКОВЫХ СЛАГАЕМ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Содержимое 2"/>
          <p:cNvSpPr/>
          <p:nvPr/>
        </p:nvSpPr>
        <p:spPr>
          <a:xfrm>
            <a:off x="900000" y="1989000"/>
            <a:ext cx="4054680" cy="85752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3+3+3+3+3=15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Прямоугольник 5"/>
          <p:cNvSpPr/>
          <p:nvPr/>
        </p:nvSpPr>
        <p:spPr>
          <a:xfrm>
            <a:off x="462240" y="3459240"/>
            <a:ext cx="45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ое число является слагаемым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Прямоугольник 6"/>
          <p:cNvSpPr/>
          <p:nvPr/>
        </p:nvSpPr>
        <p:spPr>
          <a:xfrm>
            <a:off x="538200" y="44798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олько здесь всего слагаемых представлено?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5136480" y="33750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160960" y="44798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Рисунок 2" descr=""/>
          <p:cNvPicPr/>
          <p:nvPr/>
        </p:nvPicPr>
        <p:blipFill>
          <a:blip r:embed="rId1"/>
          <a:stretch/>
        </p:blipFill>
        <p:spPr>
          <a:xfrm>
            <a:off x="2219400" y="1219320"/>
            <a:ext cx="4370400" cy="46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89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ОЗВЕДЕНИЕ ПРОИЗВЕДЕНИЯ В СТЕП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TextBox 2"/>
          <p:cNvSpPr/>
          <p:nvPr/>
        </p:nvSpPr>
        <p:spPr>
          <a:xfrm>
            <a:off x="395280" y="1484280"/>
            <a:ext cx="8280360" cy="91692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тобы возвести в степень произведение, нужно возвести в указанную степень каждый множитель этого произведения и перемножить полученные результаты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TextBox 3"/>
          <p:cNvSpPr/>
          <p:nvPr/>
        </p:nvSpPr>
        <p:spPr>
          <a:xfrm>
            <a:off x="61128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85" name="Объект 4"/>
          <p:cNvGraphicFramePr/>
          <p:nvPr/>
        </p:nvGraphicFramePr>
        <p:xfrm>
          <a:off x="593640" y="3357720"/>
          <a:ext cx="86364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35772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Box 5"/>
          <p:cNvSpPr/>
          <p:nvPr/>
        </p:nvSpPr>
        <p:spPr>
          <a:xfrm>
            <a:off x="611280" y="3357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озвести произведение (2*3) во вторую степень означает  повторить данное произведение два раза.  А если повторить его два раза, то получается следующее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024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ОЗВЕДЕНИЕ СТЕПЕНИ В СТЕПЕН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TextBox 2"/>
          <p:cNvSpPr/>
          <p:nvPr/>
        </p:nvSpPr>
        <p:spPr>
          <a:xfrm>
            <a:off x="250920" y="1484280"/>
            <a:ext cx="8424720" cy="64260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 возведении степень в степень основание оставляют без изменения, а показатели перемножаю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TextBox 3"/>
          <p:cNvSpPr/>
          <p:nvPr/>
        </p:nvSpPr>
        <p:spPr>
          <a:xfrm>
            <a:off x="596880" y="2668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TextBox 4"/>
          <p:cNvSpPr/>
          <p:nvPr/>
        </p:nvSpPr>
        <p:spPr>
          <a:xfrm>
            <a:off x="250920" y="38988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Данное правило основано на предыдущих правилах: возведение в степень произведения и основного свойства степен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2" name="Объект 5"/>
          <p:cNvGraphicFramePr/>
          <p:nvPr/>
        </p:nvGraphicFramePr>
        <p:xfrm>
          <a:off x="3132000" y="3213000"/>
          <a:ext cx="187020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213000"/>
                    <a:ext cx="18702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Объект 6"/>
          <p:cNvGraphicFramePr/>
          <p:nvPr/>
        </p:nvGraphicFramePr>
        <p:xfrm>
          <a:off x="1692360" y="4941720"/>
          <a:ext cx="4994280" cy="4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941720"/>
                    <a:ext cx="499428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912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ДЕЛЕНИЕ СТЕПЕНЕЙ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TextBox 2"/>
          <p:cNvSpPr/>
          <p:nvPr/>
        </p:nvSpPr>
        <p:spPr>
          <a:xfrm>
            <a:off x="395280" y="1557360"/>
            <a:ext cx="7993080" cy="642600"/>
          </a:xfrm>
          <a:prstGeom prst="rect">
            <a:avLst/>
          </a:prstGeom>
          <a:solidFill>
            <a:srgbClr val="feb687"/>
          </a:solidFill>
          <a:ln w="9360">
            <a:solidFill>
              <a:srgbClr val="9a3d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Чтобы выполнить деление степеней, нужно найти значение каждой степени, затем выполнить деление обыкновенных дроб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TextBox 3"/>
          <p:cNvSpPr/>
          <p:nvPr/>
        </p:nvSpPr>
        <p:spPr>
          <a:xfrm>
            <a:off x="596880" y="26686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99" name="Объект 4"/>
          <p:cNvGraphicFramePr/>
          <p:nvPr/>
        </p:nvGraphicFramePr>
        <p:xfrm>
          <a:off x="826920" y="3071880"/>
          <a:ext cx="6922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3071880"/>
                    <a:ext cx="6922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Box 5"/>
          <p:cNvSpPr/>
          <p:nvPr/>
        </p:nvSpPr>
        <p:spPr>
          <a:xfrm>
            <a:off x="755640" y="30369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озведем делимое и делитель в степень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2" name="Объект 6"/>
          <p:cNvGraphicFramePr/>
          <p:nvPr/>
        </p:nvGraphicFramePr>
        <p:xfrm>
          <a:off x="755640" y="3603600"/>
          <a:ext cx="189864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603600"/>
                    <a:ext cx="18986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extBox 7"/>
          <p:cNvSpPr/>
          <p:nvPr/>
        </p:nvSpPr>
        <p:spPr>
          <a:xfrm>
            <a:off x="2771640" y="38210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Получим 64:4=1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TextBox 8"/>
          <p:cNvSpPr/>
          <p:nvPr/>
        </p:nvSpPr>
        <p:spPr>
          <a:xfrm>
            <a:off x="574560" y="4508640"/>
            <a:ext cx="757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Если при делении степеней основания окажутся одинаковыми , то  основание можно оставить без изменений, а из показателя степени делимого вычесть показатель степени делител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06" name="Объект 9"/>
          <p:cNvGraphicFramePr/>
          <p:nvPr/>
        </p:nvGraphicFramePr>
        <p:xfrm>
          <a:off x="2556000" y="5877000"/>
          <a:ext cx="2300040" cy="35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5877000"/>
                    <a:ext cx="230004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TextBox 10"/>
          <p:cNvSpPr/>
          <p:nvPr/>
        </p:nvSpPr>
        <p:spPr>
          <a:xfrm>
            <a:off x="755640" y="5894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Рисунок 2" descr=""/>
          <p:cNvPicPr/>
          <p:nvPr/>
        </p:nvPicPr>
        <p:blipFill>
          <a:blip r:embed="rId1"/>
          <a:stretch/>
        </p:blipFill>
        <p:spPr>
          <a:xfrm>
            <a:off x="2219400" y="1359000"/>
            <a:ext cx="40053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ЗАДАЧА №1.</a:t>
            </a:r>
            <a:r>
              <a:rPr b="0" lang="ru-RU" sz="49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НАЙДЕМ ЗНАЧЕНИЯ ВЫРАЖЕНИЙ: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511" name="Объект 3"/>
          <p:cNvGraphicFramePr/>
          <p:nvPr/>
        </p:nvGraphicFramePr>
        <p:xfrm>
          <a:off x="365040" y="1619280"/>
          <a:ext cx="200520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040" y="1619280"/>
                    <a:ext cx="20052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3" name="Объект 4"/>
          <p:cNvGraphicFramePr/>
          <p:nvPr/>
        </p:nvGraphicFramePr>
        <p:xfrm>
          <a:off x="631800" y="2811600"/>
          <a:ext cx="7446960" cy="55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800" y="2811600"/>
                    <a:ext cx="74469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5"/>
          <p:cNvGraphicFramePr/>
          <p:nvPr/>
        </p:nvGraphicFramePr>
        <p:xfrm>
          <a:off x="324000" y="4221000"/>
          <a:ext cx="20602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221000"/>
                    <a:ext cx="20602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Объект 6"/>
          <p:cNvGraphicFramePr/>
          <p:nvPr/>
        </p:nvGraphicFramePr>
        <p:xfrm>
          <a:off x="590400" y="5805360"/>
          <a:ext cx="5821560" cy="5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8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400" y="5805360"/>
                    <a:ext cx="582156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Box 1"/>
          <p:cNvSpPr/>
          <p:nvPr/>
        </p:nvSpPr>
        <p:spPr>
          <a:xfrm>
            <a:off x="611280" y="2276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 можно расписать         ?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0" name="Объект 3"/>
          <p:cNvGraphicFramePr/>
          <p:nvPr/>
        </p:nvGraphicFramePr>
        <p:xfrm>
          <a:off x="3276720" y="2276640"/>
          <a:ext cx="30780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1" name="Объект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2276640"/>
                    <a:ext cx="3078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Объект 4"/>
          <p:cNvGraphicFramePr/>
          <p:nvPr/>
        </p:nvGraphicFramePr>
        <p:xfrm>
          <a:off x="5219640" y="2276640"/>
          <a:ext cx="12254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3" name="Объект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9640" y="2276640"/>
                    <a:ext cx="12254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TextBox 5"/>
          <p:cNvSpPr/>
          <p:nvPr/>
        </p:nvSpPr>
        <p:spPr>
          <a:xfrm>
            <a:off x="468360" y="484020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Что необходимо сделать в начале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5076720" y="4883040"/>
            <a:ext cx="24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Нужно 100+5=10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611280" y="528480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 можно расписать           ?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27" name="Объект 7"/>
          <p:cNvGraphicFramePr/>
          <p:nvPr/>
        </p:nvGraphicFramePr>
        <p:xfrm>
          <a:off x="3203640" y="5284800"/>
          <a:ext cx="476280" cy="317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3640" y="5284800"/>
                    <a:ext cx="476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Объект 8"/>
          <p:cNvGraphicFramePr/>
          <p:nvPr/>
        </p:nvGraphicFramePr>
        <p:xfrm>
          <a:off x="5292720" y="5348160"/>
          <a:ext cx="1582920" cy="320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30" name="Объект 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92720" y="5348160"/>
                    <a:ext cx="158292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5f6d"/>
                </a:solidFill>
                <a:latin typeface="Century Schoolbook"/>
              </a:rPr>
              <a:t>ЗАДАЧА №2. КАК КОРОЧЕ И УДОБНЕЙ ЗАПИСАТЬ ПРИМЕРЫ ТАКОГО ВИДА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2" name="Прямоугольник 2"/>
          <p:cNvSpPr/>
          <p:nvPr/>
        </p:nvSpPr>
        <p:spPr>
          <a:xfrm>
            <a:off x="468360" y="184464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*5*5*5*5*5*5*5*5*5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*7*7*7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*2*2*2*2*2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3" name="Прямоугольник 3"/>
          <p:cNvSpPr/>
          <p:nvPr/>
        </p:nvSpPr>
        <p:spPr>
          <a:xfrm>
            <a:off x="5272200" y="3198960"/>
            <a:ext cx="95544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Прямоугольник 4"/>
          <p:cNvSpPr/>
          <p:nvPr/>
        </p:nvSpPr>
        <p:spPr>
          <a:xfrm>
            <a:off x="5272200" y="2536920"/>
            <a:ext cx="95544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Прямоугольник 5"/>
          <p:cNvSpPr/>
          <p:nvPr/>
        </p:nvSpPr>
        <p:spPr>
          <a:xfrm>
            <a:off x="5272200" y="1844640"/>
            <a:ext cx="95544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536" name="Объект 6"/>
          <p:cNvGraphicFramePr/>
          <p:nvPr/>
        </p:nvGraphicFramePr>
        <p:xfrm>
          <a:off x="5554800" y="1881360"/>
          <a:ext cx="39024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0" y="1881360"/>
                    <a:ext cx="3902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Объект 7"/>
          <p:cNvGraphicFramePr/>
          <p:nvPr/>
        </p:nvGraphicFramePr>
        <p:xfrm>
          <a:off x="5580000" y="2563920"/>
          <a:ext cx="3398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563920"/>
                    <a:ext cx="339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0" name="Объект 8"/>
          <p:cNvGraphicFramePr/>
          <p:nvPr/>
        </p:nvGraphicFramePr>
        <p:xfrm>
          <a:off x="5580000" y="3246480"/>
          <a:ext cx="33984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1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3246480"/>
                    <a:ext cx="33984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000" y="537840"/>
            <a:ext cx="8289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СТЕПЕНЬ С НАТУРАЛЬНЫМ ПОКАЗАТЕЛЕМ 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250920" y="214236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Степень с натуральным показател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это число, полученное путем возведения основания степени в показатель степени, который является положительным целым число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Основание степени 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может быть числом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натуральным, целым, дробны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Показатель степени </a:t>
            </a:r>
            <a:r>
              <a:rPr b="0" lang="en-BZ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 число натурально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Рисунок 2" descr=""/>
          <p:cNvPicPr/>
          <p:nvPr/>
        </p:nvPicPr>
        <p:blipFill>
          <a:blip r:embed="rId1"/>
          <a:stretch/>
        </p:blipFill>
        <p:spPr>
          <a:xfrm>
            <a:off x="487440" y="353880"/>
            <a:ext cx="3541680" cy="3687840"/>
          </a:xfrm>
          <a:prstGeom prst="rect">
            <a:avLst/>
          </a:prstGeom>
          <a:ln w="0">
            <a:noFill/>
          </a:ln>
        </p:spPr>
      </p:pic>
      <p:pic>
        <p:nvPicPr>
          <p:cNvPr id="545" name="Рисунок 3" descr=""/>
          <p:cNvPicPr/>
          <p:nvPr/>
        </p:nvPicPr>
        <p:blipFill>
          <a:blip r:embed="rId2"/>
          <a:stretch/>
        </p:blipFill>
        <p:spPr>
          <a:xfrm>
            <a:off x="5022720" y="353880"/>
            <a:ext cx="3475080" cy="3834000"/>
          </a:xfrm>
          <a:prstGeom prst="rect">
            <a:avLst/>
          </a:prstGeom>
          <a:ln w="0">
            <a:noFill/>
          </a:ln>
        </p:spPr>
      </p:pic>
      <p:pic>
        <p:nvPicPr>
          <p:cNvPr id="546" name="Рисунок 4" descr=""/>
          <p:cNvPicPr/>
          <p:nvPr/>
        </p:nvPicPr>
        <p:blipFill>
          <a:blip r:embed="rId3"/>
          <a:stretch/>
        </p:blipFill>
        <p:spPr>
          <a:xfrm>
            <a:off x="1206360" y="4022640"/>
            <a:ext cx="3475080" cy="2359080"/>
          </a:xfrm>
          <a:prstGeom prst="rect">
            <a:avLst/>
          </a:prstGeom>
          <a:ln w="0">
            <a:noFill/>
          </a:ln>
        </p:spPr>
      </p:pic>
      <p:pic>
        <p:nvPicPr>
          <p:cNvPr id="547" name="Рисунок 5" descr=""/>
          <p:cNvPicPr/>
          <p:nvPr/>
        </p:nvPicPr>
        <p:blipFill>
          <a:blip r:embed="rId4"/>
          <a:stretch/>
        </p:blipFill>
        <p:spPr>
          <a:xfrm>
            <a:off x="4591080" y="3986280"/>
            <a:ext cx="333360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АК СУММУ РАВНЫХ СЛАГАЕМЫХ ЗАМЕНИТЬ ПРОИЗВЕДЕНИЕМ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468360" y="1844640"/>
            <a:ext cx="381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+5+5+5+5+5+5+5+5+5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7+7+7+7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2+2+2+2+2+2=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Это короче и удобн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Прямоугольник 3"/>
          <p:cNvSpPr/>
          <p:nvPr/>
        </p:nvSpPr>
        <p:spPr>
          <a:xfrm>
            <a:off x="5055120" y="1846440"/>
            <a:ext cx="104328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5*1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Прямоугольник 4"/>
          <p:cNvSpPr/>
          <p:nvPr/>
        </p:nvSpPr>
        <p:spPr>
          <a:xfrm>
            <a:off x="5142240" y="2571840"/>
            <a:ext cx="86940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7*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Прямоугольник 5"/>
          <p:cNvSpPr/>
          <p:nvPr/>
        </p:nvSpPr>
        <p:spPr>
          <a:xfrm>
            <a:off x="5142240" y="3271680"/>
            <a:ext cx="869400" cy="45972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=2*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ТОГДА ПРОИЗВЕДЕНИЕ – ЭТО 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rcRect l="47300" t="42264" r="17899" b="35797"/>
          <a:stretch/>
        </p:blipFill>
        <p:spPr>
          <a:xfrm>
            <a:off x="1835280" y="2133720"/>
            <a:ext cx="5257800" cy="1861920"/>
          </a:xfrm>
          <a:prstGeom prst="rect">
            <a:avLst/>
          </a:prstGeom>
          <a:ln w="0">
            <a:noFill/>
          </a:ln>
        </p:spPr>
      </p:pic>
      <p:sp>
        <p:nvSpPr>
          <p:cNvPr id="366" name="Прямоугольник 2"/>
          <p:cNvSpPr/>
          <p:nvPr/>
        </p:nvSpPr>
        <p:spPr>
          <a:xfrm>
            <a:off x="684360" y="5157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Произведени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– сумма одинаковых слагаемы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ЧЕТЫРЕ АРИФМЕТИЧЕСКИХ ДЕЙСТВ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Прямоугольник 2"/>
          <p:cNvSpPr/>
          <p:nvPr/>
        </p:nvSpPr>
        <p:spPr>
          <a:xfrm>
            <a:off x="395280" y="1628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ы уже знаете четыре арифметических действ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сложени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вычитани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умножени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-дел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5560" y="-360"/>
            <a:ext cx="82184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НАЙДЕМ ЗНАЧЕНИЕ ВЫРАЖЕНИЯ РАЗНЫМИ СПОСОБАМИ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324000" y="846360"/>
            <a:ext cx="8280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Найдем значение выражения разными способами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*4*4*4*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Calibri"/>
              </a:rPr>
              <a:t>1 способ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. 4*4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 умножить на 4?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4*4=1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запишем 16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16 умножить на 4?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6*4=6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запишем 6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64 умножить на 4?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64*4=25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запишем  256*4=102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Calibri"/>
              </a:rPr>
              <a:t>2 способ.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 4*4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Где 4*4=16, тогд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16*16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Что получается , если  16 умножить на 16?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Century Schoolbook"/>
                <a:ea typeface="Calibri"/>
              </a:rPr>
              <a:t>16*16=256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=256*4=102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Schoolbook"/>
                <a:ea typeface="Calibri"/>
              </a:rPr>
              <a:t>3 способ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4*4*4*4*4=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Как можно заменить 4*4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Calibri"/>
              </a:rPr>
              <a:t>Тогда можно записать в виде: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Объект 3"/>
          <p:cNvGraphicFramePr/>
          <p:nvPr/>
        </p:nvGraphicFramePr>
        <p:xfrm>
          <a:off x="468360" y="6054840"/>
          <a:ext cx="3093840" cy="34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054840"/>
                    <a:ext cx="3093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Объект 2"/>
          <p:cNvGraphicFramePr/>
          <p:nvPr/>
        </p:nvGraphicFramePr>
        <p:xfrm>
          <a:off x="6300720" y="5445000"/>
          <a:ext cx="882720" cy="2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5445000"/>
                    <a:ext cx="882720" cy="2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РАССМОТРИМ НА ПРИМЕР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Содержимое 2"/>
          <p:cNvSpPr/>
          <p:nvPr/>
        </p:nvSpPr>
        <p:spPr>
          <a:xfrm>
            <a:off x="360360" y="1557360"/>
            <a:ext cx="82821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ое было первое действие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500 – (3 · 3 · 3 · 3 · 3 ) + 13 = 270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Умножали 3 на себя 5 раз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Содержимое 2"/>
          <p:cNvSpPr/>
          <p:nvPr/>
        </p:nvSpPr>
        <p:spPr>
          <a:xfrm>
            <a:off x="517680" y="3141720"/>
            <a:ext cx="4054320" cy="8571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  <a:ea typeface="Arial"/>
              </a:rPr>
              <a:t>3*3*3*3*3=24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443880" y="4049640"/>
            <a:ext cx="53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Какое число является слагаемы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6159600" y="38656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546120" y="4941720"/>
            <a:ext cx="517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  <a:ea typeface="Arial"/>
              </a:rPr>
              <a:t>Сколько здесь всего слагаемых представлено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6159600" y="50338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75680" y="1125360"/>
            <a:ext cx="86425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В МАТЕМАТИКЕ ДЛЯ ТАКОГО ДЕЙСТВИЯ, КАК УМНОЖЕНИЕ ЧИСЛА САМО НА СЕБЯ НЕСКОЛЬКО РАЗ ВВЕДЕНО ПОНЯТИЕ:</a:t>
            </a:r>
            <a:br>
              <a:rPr sz="3600"/>
            </a:br>
            <a:r>
              <a:rPr b="1" lang="ru-RU" sz="3600" spc="-1" strike="noStrike" u="sng">
                <a:solidFill>
                  <a:srgbClr val="c00000"/>
                </a:solidFill>
                <a:uFillTx/>
                <a:latin typeface="Century Schoolbook"/>
              </a:rPr>
              <a:t>СТЕПЕНЬ С НАТУРАЛЬНЫМ ПОКАЗАТЕЛЕ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Содержимое 2"/>
          <p:cNvSpPr/>
          <p:nvPr/>
        </p:nvSpPr>
        <p:spPr>
          <a:xfrm>
            <a:off x="179280" y="4221000"/>
            <a:ext cx="5184720" cy="792360"/>
          </a:xfrm>
          <a:prstGeom prst="rect">
            <a:avLst/>
          </a:prstGeom>
          <a:solidFill>
            <a:srgbClr val="feb687"/>
          </a:solidFill>
          <a:ln w="255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*3*3*3*3=3</a:t>
            </a:r>
            <a:r>
              <a:rPr b="0" lang="en-BZ" sz="4000" spc="-1" strike="noStrike">
                <a:solidFill>
                  <a:srgbClr val="000000"/>
                </a:solidFill>
                <a:latin typeface="Century Schoolbook"/>
              </a:rPr>
              <a:t>^5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=24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179280" y="33336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c3e42"/>
                </a:solidFill>
                <a:latin typeface="Century Schoolbook"/>
              </a:rPr>
              <a:t>Степень с натуральным показателем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179280" y="5084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Возведение в степень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– это пятое арифметическое действие, с которым мы сегодня познакомимс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РАССМОТРИМ ПРИМЕР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Содержимое 2"/>
          <p:cNvSpPr/>
          <p:nvPr/>
        </p:nvSpPr>
        <p:spPr>
          <a:xfrm>
            <a:off x="39528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  <a:ea typeface="Arial"/>
              </a:rPr>
              <a:t>Выражение     называется </a:t>
            </a:r>
            <a:r>
              <a:rPr b="1" lang="ru-RU" sz="2800" spc="-1" strike="noStrike">
                <a:solidFill>
                  <a:srgbClr val="e75c01"/>
                </a:solidFill>
                <a:latin typeface="Century Schoolbook"/>
                <a:ea typeface="Arial"/>
              </a:rPr>
              <a:t>степенью с натуральным показателе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826920" y="3127320"/>
            <a:ext cx="1729080" cy="121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4"/>
              <p:cNvSpPr txBox="1"/>
              <p:nvPr/>
            </p:nvSpPr>
            <p:spPr>
              <a:xfrm>
                <a:off x="1312920" y="3224160"/>
                <a:ext cx="95724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390" name="Прямая со стрелкой 5"/>
          <p:cNvCxnSpPr/>
          <p:nvPr/>
        </p:nvCxnSpPr>
        <p:spPr>
          <a:xfrm>
            <a:off x="2269800" y="3498840"/>
            <a:ext cx="572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1" name="Прямая со стрелкой 6"/>
          <p:cNvCxnSpPr/>
          <p:nvPr/>
        </p:nvCxnSpPr>
        <p:spPr>
          <a:xfrm>
            <a:off x="1692000" y="4203720"/>
            <a:ext cx="1080" cy="536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92" name="TextBox 8"/>
          <p:cNvSpPr/>
          <p:nvPr/>
        </p:nvSpPr>
        <p:spPr>
          <a:xfrm>
            <a:off x="3124080" y="329868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  <a:ea typeface="Arial"/>
              </a:rPr>
              <a:t>Показатель степ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9"/>
          <p:cNvSpPr/>
          <p:nvPr/>
        </p:nvSpPr>
        <p:spPr>
          <a:xfrm>
            <a:off x="540360" y="486900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Schoolbook"/>
                <a:ea typeface="Arial"/>
              </a:rPr>
              <a:t>Основание степен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4" name="Объект 10"/>
          <p:cNvGraphicFramePr/>
          <p:nvPr/>
        </p:nvGraphicFramePr>
        <p:xfrm>
          <a:off x="2887560" y="1484280"/>
          <a:ext cx="4716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7560" y="1484280"/>
                    <a:ext cx="471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8T12:23:29Z</dcterms:created>
  <dc:creator>Ксения</dc:creator>
  <dc:description/>
  <dc:language>en-US</dc:language>
  <cp:lastModifiedBy>Ксения</cp:lastModifiedBy>
  <dcterms:modified xsi:type="dcterms:W3CDTF">2023-12-13T14:38:35Z</dcterms:modified>
  <cp:revision>103</cp:revision>
  <dc:subject/>
  <dc:title>Презентация PowerPoint</dc:title>
</cp:coreProperties>
</file>