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42.png" ContentType="image/png"/>
  <Override PartName="/ppt/media/image43.png" ContentType="image/png"/>
  <Override PartName="/ppt/media/image26.wmf" ContentType="image/x-wmf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45.png" ContentType="image/png"/>
  <Override PartName="/ppt/media/image30.png" ContentType="image/png"/>
  <Override PartName="/ppt/media/image28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3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A71-E076-4531-8B8A-A5B2305B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BCF-2268-4332-88AB-8CB791F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03F-DFC8-4616-8045-490F56C0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0F6-D70D-46DC-AB77-DB48AD80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A7CE-793C-4934-8724-5A31F7B6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E99F-EACA-480C-A115-055435B8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169-5BF1-49B2-9A1A-A3F4E5FA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25DA-98C5-4EDF-A652-97D5F31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D8D3-46CC-470F-8178-831F837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6BD-C224-44D2-BC37-D3E2DBC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700-49ED-4156-B5FB-D67346C5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2DE-F919-4A1E-BCAB-D5B7C4BE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96E-99C6-436E-89EB-C8F0123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FC1-A9EF-4025-ACC5-829E07A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DD0-2519-470C-8BB9-C5A44AB9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FCAE-B4E6-47D6-B213-BFD0AA10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4E2B-2F32-4316-96F1-BFEAAE3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652D1-555C-41AE-A212-6FE21CA7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AC823-01BC-497A-8949-F30A792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DA4BA-6FC0-43F2-8AF3-736860BD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0E2F7-3694-4532-86D1-5E94214A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21D6D-D024-4C97-80F7-E98123E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A46-D218-480B-BF37-8AE6730D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38182-3C13-4274-8F97-E267B842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1CC02-6E5A-47BA-866D-8FDD5D1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E5884-9283-49FB-A443-81F2127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2FBB7-7F82-4FA6-8E10-FF041BB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E6FD1-E1D5-4069-8D1E-1B43AFA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E95CC-7402-4984-9C84-4F5574E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B69F1-97DD-44D3-90F4-8E37CE53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2B6A-F885-409C-AF9B-846BDF89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55FD-66A4-4F58-AD21-B8999DDE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49A3-5B46-4BE0-862E-F0161A4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390-1252-4DFF-BF34-BC6E97C8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86E7-E08B-4D62-80E8-6FD29BEF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81FA-9354-4969-9E67-47BB9A9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E016-C529-4552-B2EF-D839447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44B3-6E3C-4B0B-B342-B7E6566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72CC-85E9-4312-A234-05069BF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69C7-B296-4F11-9408-F6A2965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B25C-285F-40EC-B8DB-0F20466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8D31A-9344-4B84-A5A0-89E8EED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62D5-8FCA-4CB1-A40E-3F50C08E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CD6AD-DAAE-49F1-90C7-A625D609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EA7-2533-4310-9F3A-F3BD7E2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7F1DF-4417-4BE7-BADB-91A57A65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0C8FD-E987-4F16-9270-FE54DAE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4B5F5-2467-48A1-9838-4E9E66F6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6F174-CCC4-41EC-8128-7487FB68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53858-703D-4C63-AF59-E409A95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2422F-AF5D-494F-9A1A-97BA1C8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D361D-0CC7-4B88-8607-D6E507A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BCDF6-B97F-41A0-A7FD-AB7C7A9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D3087-F99E-40E5-B859-1DCD8BA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02F52-55BD-4A70-8B5F-B2D6BBA6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421-FB9A-4BF6-9739-A68A7A4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96F4B-8994-43A1-8CBA-0EDD8979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74D6C-82A3-418A-BB9A-102A4B08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B65B7-9AB8-419F-B2C1-CC38616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866C0-53AC-4BF5-8B72-0999AA9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A2D5D-3B1D-4DDC-91E9-324E872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9F703-FCCC-44CD-BFF0-F2C8F250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8FAD1-2042-4B55-8B1F-04A9C73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11AF9-30C4-4CDE-B7B9-051E973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D7686-B4E6-400E-9D54-160BFE0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B2A38-6A42-40B8-9CBD-6F353C96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DE7-D851-41DA-B673-653E3A6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4575-E936-480F-B00C-A16A4F79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C3EA6-ECAD-4F6E-A7BF-0158547D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C9219-A7AD-4AEB-8E48-0E4A102D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72B6C-F57D-4E3B-A2F1-1ABFFAC4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D7745-FE52-4A72-A5C4-3948259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CCD69-BA0A-4454-A218-0DFF269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12605-B802-421B-B52F-A44914F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519F9-5819-443F-B4DA-B970732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61266-E995-4304-B12D-61E4AAFF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1A145-326E-40F5-914E-37007BD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211-B51C-4DC2-8DF9-3A4184C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5A16B-2147-401E-8F02-0E0D15F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1D50C-A8DE-4B0D-8ACB-61FA1E8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5A6B4-0043-4E44-8578-F7FEAB5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8573A-BE13-4A47-8812-42A25FB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A9650-F4A3-42A8-B103-31683ED4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42E-B63C-4204-95C3-CEE5A8A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A68F-D364-4178-992C-3F92FE88A2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055-8E9C-480C-8F6D-42E00A638E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FF8-035F-4F05-89A6-7BD29B23F7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B2D7-2BB5-454F-B746-EB8E4AD204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B9B-6EA6-4C2A-8D60-9BFA58EEBA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732D-0997-4903-A15F-C679CAB7E1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7D55-C993-4494-8187-C9E08968AD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5f6d"/>
                </a:solidFill>
                <a:latin typeface="Century Schoolbook"/>
              </a:rPr>
              <a:t>СТЕПЕНЬ ЧИСЛ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Мяконькая К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ТО ТАКОЕ СТЕПЕНЬ C НАТУРАЛЬНЫМ ПОКАЗАТЕЛ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Содержимое 2"/>
          <p:cNvSpPr/>
          <p:nvPr/>
        </p:nvSpPr>
        <p:spPr>
          <a:xfrm>
            <a:off x="457200" y="1557360"/>
            <a:ext cx="8229600" cy="177948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entury Schoolbook"/>
                <a:ea typeface="Arial"/>
              </a:rPr>
              <a:t>Степень с натуральным показателем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число, полученное путем возведения основания степени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показатель степени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п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который является положительным целым числ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500040" y="3645000"/>
            <a:ext cx="81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ражение      называют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пень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Число а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основанием степен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Числ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казатель степен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казатель степени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туральное число, или натуральный показатель степен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Объект 4"/>
              <p:cNvSpPr txBox="1"/>
              <p:nvPr/>
            </p:nvSpPr>
            <p:spPr>
              <a:xfrm>
                <a:off x="2627280" y="3613320"/>
                <a:ext cx="623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ТАКИМ ОБРАЗОМ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Содержимое 2"/>
          <p:cNvSpPr/>
          <p:nvPr/>
        </p:nvSpPr>
        <p:spPr>
          <a:xfrm>
            <a:off x="900000" y="1700280"/>
            <a:ext cx="6264360" cy="857160"/>
          </a:xfrm>
          <a:prstGeom prst="rect">
            <a:avLst/>
          </a:prstGeom>
          <a:noFill/>
          <a:ln w="7632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а · а · а · … · а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Объект 2"/>
              <p:cNvSpPr txBox="1"/>
              <p:nvPr/>
            </p:nvSpPr>
            <p:spPr>
              <a:xfrm>
                <a:off x="6297480" y="1700280"/>
                <a:ext cx="857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Правая фигурная скобка 5"/>
          <p:cNvSpPr/>
          <p:nvPr/>
        </p:nvSpPr>
        <p:spPr>
          <a:xfrm rot="5400000">
            <a:off x="3242520" y="465480"/>
            <a:ext cx="642960" cy="446400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4464000"/>
              <a:gd name="textAreaBottom" fmla="*/ 444744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59"/>
                </a:cubicBezTo>
                <a:lnTo>
                  <a:pt x="10800" y="10541"/>
                </a:lnTo>
                <a:cubicBezTo>
                  <a:pt x="10800" y="10671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59"/>
                </a:cubicBezTo>
                <a:lnTo>
                  <a:pt x="10800" y="21341"/>
                </a:lnTo>
                <a:cubicBezTo>
                  <a:pt x="10800" y="214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3381480" y="3019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116000" y="4005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тепень с натуральным показател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 основание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- показатель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7"/>
              <p:cNvSpPr txBox="1"/>
              <p:nvPr/>
            </p:nvSpPr>
            <p:spPr>
              <a:xfrm>
                <a:off x="1332000" y="3860640"/>
                <a:ext cx="569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7" name="Прямоугольник 8"/>
          <p:cNvSpPr/>
          <p:nvPr/>
        </p:nvSpPr>
        <p:spPr>
          <a:xfrm>
            <a:off x="539640" y="55213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пись      читают так: «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й степ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Объект 9"/>
              <p:cNvSpPr txBox="1"/>
              <p:nvPr/>
            </p:nvSpPr>
            <p:spPr>
              <a:xfrm>
                <a:off x="2340000" y="5430960"/>
                <a:ext cx="5698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ОЗВЕДЕНИЕ В СТЕПЕН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50920" y="1773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хождение значения степени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озведением в степ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2" name="Объект 6"/>
          <p:cNvGraphicFramePr/>
          <p:nvPr/>
        </p:nvGraphicFramePr>
        <p:xfrm>
          <a:off x="3117960" y="2585880"/>
          <a:ext cx="29066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2585880"/>
                    <a:ext cx="2906640" cy="50328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4" name="TextBox 7"/>
          <p:cNvSpPr/>
          <p:nvPr/>
        </p:nvSpPr>
        <p:spPr>
          <a:xfrm>
            <a:off x="282600" y="335772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ри возведении в степень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ожительного числа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учается положительное числ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826920" y="4221000"/>
            <a:ext cx="7201080" cy="368280"/>
          </a:xfrm>
          <a:prstGeom prst="rect">
            <a:avLst/>
          </a:prstGeom>
          <a:noFill/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ри возведени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в степень нуля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учается в но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6" name="Объект 9"/>
          <p:cNvGraphicFramePr/>
          <p:nvPr/>
        </p:nvGraphicFramePr>
        <p:xfrm>
          <a:off x="3235320" y="4797360"/>
          <a:ext cx="277668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5320" y="4797360"/>
                    <a:ext cx="2776680" cy="173052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РАССМОТРИМ ЧИСЛО В СТЕПЕНИ 1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385920" y="1773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Степенью числа а с показателем 1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зывается само это число, т.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0" name="Объект 3"/>
          <p:cNvGraphicFramePr/>
          <p:nvPr/>
        </p:nvGraphicFramePr>
        <p:xfrm>
          <a:off x="3780000" y="2276640"/>
          <a:ext cx="9093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76640"/>
                    <a:ext cx="909360" cy="45540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2" name="Прямоугольник 5"/>
          <p:cNvSpPr/>
          <p:nvPr/>
        </p:nvSpPr>
        <p:spPr>
          <a:xfrm>
            <a:off x="628560" y="32130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снование степен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жет быть числом: натуральным, целым и даже дроб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оказатель степен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– число натурально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2" descr="https://xn--j1ahfl.xn--p1ai/data/images/u183825/t1521278941ac.jpg"/>
          <p:cNvPicPr/>
          <p:nvPr/>
        </p:nvPicPr>
        <p:blipFill>
          <a:blip r:embed="rId3"/>
          <a:stretch/>
        </p:blipFill>
        <p:spPr>
          <a:xfrm>
            <a:off x="2916360" y="4365720"/>
            <a:ext cx="34430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СЧИТАЕМ ПРИМЕР, ЗНАЯ О СВОЙСТВАХ СТЕПЕНЕ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6" name="Объект 3"/>
          <p:cNvGraphicFramePr/>
          <p:nvPr/>
        </p:nvGraphicFramePr>
        <p:xfrm>
          <a:off x="2521080" y="4308480"/>
          <a:ext cx="27223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4308480"/>
                    <a:ext cx="2722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Прямоугольник 2"/>
          <p:cNvSpPr/>
          <p:nvPr/>
        </p:nvSpPr>
        <p:spPr>
          <a:xfrm>
            <a:off x="46836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ак можно заменить 4*4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можно записать в виде: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684360" y="1562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4*4*4*4*4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Объект 4"/>
          <p:cNvGraphicFramePr/>
          <p:nvPr/>
        </p:nvGraphicFramePr>
        <p:xfrm>
          <a:off x="5580000" y="2216160"/>
          <a:ext cx="954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216160"/>
                    <a:ext cx="954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Объект 5"/>
          <p:cNvGraphicFramePr/>
          <p:nvPr/>
        </p:nvGraphicFramePr>
        <p:xfrm>
          <a:off x="468360" y="2997360"/>
          <a:ext cx="37558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997360"/>
                    <a:ext cx="3755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Box 6"/>
          <p:cNvSpPr/>
          <p:nvPr/>
        </p:nvSpPr>
        <p:spPr>
          <a:xfrm>
            <a:off x="468360" y="3716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Зная свойства степеней, мы можем записать в виде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68360" y="522936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 мы получаем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6" name="Объект 8"/>
          <p:cNvGraphicFramePr/>
          <p:nvPr/>
        </p:nvGraphicFramePr>
        <p:xfrm>
          <a:off x="3408480" y="5732640"/>
          <a:ext cx="1101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8480" y="5732640"/>
                    <a:ext cx="1101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ЕДЕМ К ПРИМЕРУ В СТЕПЕНЬ ЧИСЛА 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9" name="Объект 2"/>
          <p:cNvGraphicFramePr/>
          <p:nvPr/>
        </p:nvGraphicFramePr>
        <p:xfrm>
          <a:off x="2987640" y="2440080"/>
          <a:ext cx="19638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40080"/>
                    <a:ext cx="1963800" cy="36036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1" name="Объект 3"/>
          <p:cNvGraphicFramePr/>
          <p:nvPr/>
        </p:nvGraphicFramePr>
        <p:xfrm>
          <a:off x="2484360" y="5661000"/>
          <a:ext cx="300348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661000"/>
                    <a:ext cx="3003480" cy="43200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3" name="Rectangle 3"/>
          <p:cNvSpPr/>
          <p:nvPr/>
        </p:nvSpPr>
        <p:spPr>
          <a:xfrm>
            <a:off x="284040" y="1559520"/>
            <a:ext cx="868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возвести число 10, достаточно после единицы количество нулей, равное показателю степе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84040" y="280620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торую степень числа называют квадратом чис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Значит число 10 во второй степени это число 100. Связано это с тем, что число 10 во второй степени это произведение двух множителей, каждый из которых равен 10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 вы думаете, какое число получится, если 10 возвести в третью степен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284040" y="4499280"/>
            <a:ext cx="868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ретью степень числа называют кубом чис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озводя число 10 в третью степень, мы получаем 1000.Связано это с тем, что количество нулей равно показателю степе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ВТОРУЮ СТЕПЕН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ИСЛА НАЗЫВАЮТ КВАДРАТОМ ЭТОГО ЧИСЛ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7" name="Объект 3"/>
          <p:cNvGraphicFramePr/>
          <p:nvPr/>
        </p:nvGraphicFramePr>
        <p:xfrm>
          <a:off x="3132000" y="3429000"/>
          <a:ext cx="2192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429000"/>
                    <a:ext cx="2192400" cy="50472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Rectangle 3"/>
          <p:cNvSpPr/>
          <p:nvPr/>
        </p:nvSpPr>
        <p:spPr>
          <a:xfrm>
            <a:off x="250920" y="19450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 запись в виде         можно прочитать ка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0920" y="250092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о второй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 квадрат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51" name="Объект 6"/>
          <p:cNvGraphicFramePr/>
          <p:nvPr/>
        </p:nvGraphicFramePr>
        <p:xfrm>
          <a:off x="3132000" y="1919160"/>
          <a:ext cx="43200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919160"/>
                    <a:ext cx="432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ТРЕТЬЮ СТЕПЕНЬ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ИСЛА НАЗЫВАЮТ КУБОМ ЭТОГО ЧИСЛ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54" name="Объект 2"/>
          <p:cNvGraphicFramePr/>
          <p:nvPr/>
        </p:nvGraphicFramePr>
        <p:xfrm>
          <a:off x="3132000" y="1657440"/>
          <a:ext cx="36036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657440"/>
                    <a:ext cx="360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3"/>
          <p:cNvGraphicFramePr/>
          <p:nvPr/>
        </p:nvGraphicFramePr>
        <p:xfrm>
          <a:off x="3059280" y="3357720"/>
          <a:ext cx="20620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357720"/>
                    <a:ext cx="2062080" cy="43164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3"/>
          <p:cNvSpPr/>
          <p:nvPr/>
        </p:nvSpPr>
        <p:spPr>
          <a:xfrm>
            <a:off x="324000" y="16578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 запись в виде         можно прочитать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324000" y="24231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ва в третьей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 куб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9840" y="620640"/>
            <a:ext cx="74674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ЧИТАЙТЕ СТЕПЕН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61" name="Объект 2"/>
          <p:cNvGraphicFramePr/>
          <p:nvPr/>
        </p:nvGraphicFramePr>
        <p:xfrm>
          <a:off x="520560" y="2205000"/>
          <a:ext cx="4510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05000"/>
                    <a:ext cx="451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3"/>
          <p:cNvGraphicFramePr/>
          <p:nvPr/>
        </p:nvGraphicFramePr>
        <p:xfrm>
          <a:off x="468360" y="2836800"/>
          <a:ext cx="43164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836800"/>
                    <a:ext cx="4316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4"/>
          <p:cNvGraphicFramePr/>
          <p:nvPr/>
        </p:nvGraphicFramePr>
        <p:xfrm>
          <a:off x="557280" y="3525840"/>
          <a:ext cx="4856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280" y="3525840"/>
                    <a:ext cx="485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5"/>
          <p:cNvSpPr/>
          <p:nvPr/>
        </p:nvSpPr>
        <p:spPr>
          <a:xfrm>
            <a:off x="1042920" y="22636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Четыре в шестой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058760" y="2970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Семь в восьмой степени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257480" y="3433320"/>
            <a:ext cx="3458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Пять в двенадц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4960" y="333360"/>
            <a:ext cx="8074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УМНОЖЕНИЕ СТЕПЕН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324000" y="1341360"/>
            <a:ext cx="8280360" cy="15570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перемножить степени, нужно по отдельности вычислить каждую степень, и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множ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Прямоугольник 3"/>
          <p:cNvSpPr/>
          <p:nvPr/>
        </p:nvSpPr>
        <p:spPr>
          <a:xfrm>
            <a:off x="346680" y="2708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Объект 4"/>
              <p:cNvSpPr txBox="1"/>
              <p:nvPr/>
            </p:nvSpPr>
            <p:spPr>
              <a:xfrm>
                <a:off x="2457360" y="2690640"/>
                <a:ext cx="4229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Box 9"/>
          <p:cNvSpPr/>
          <p:nvPr/>
        </p:nvSpPr>
        <p:spPr>
          <a:xfrm>
            <a:off x="324000" y="3357720"/>
            <a:ext cx="8280360" cy="119124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показатели степени одинаковы, то можно записать одно основание, а в качестве показателя записать сумму исходных степе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Прямоугольник 7"/>
          <p:cNvSpPr/>
          <p:nvPr/>
        </p:nvSpPr>
        <p:spPr>
          <a:xfrm>
            <a:off x="363960" y="486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Объект 8"/>
              <p:cNvSpPr txBox="1"/>
              <p:nvPr/>
            </p:nvSpPr>
            <p:spPr>
              <a:xfrm>
                <a:off x="2019240" y="4746600"/>
                <a:ext cx="5335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Прямоугольник 9"/>
          <p:cNvSpPr/>
          <p:nvPr/>
        </p:nvSpPr>
        <p:spPr>
          <a:xfrm>
            <a:off x="-183600" y="5533920"/>
            <a:ext cx="54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Это основное свойство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78" name="Объект 12"/>
          <p:cNvGraphicFramePr/>
          <p:nvPr/>
        </p:nvGraphicFramePr>
        <p:xfrm>
          <a:off x="5292720" y="5522760"/>
          <a:ext cx="178920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5522760"/>
                    <a:ext cx="1789200" cy="43524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0" name="TextBox 11"/>
          <p:cNvSpPr/>
          <p:nvPr/>
        </p:nvSpPr>
        <p:spPr>
          <a:xfrm>
            <a:off x="324000" y="6035760"/>
            <a:ext cx="8280360" cy="100872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еремножении степеней с одинаковыми основаниями, основание оставляют без изменений, а показатели складывают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Е СЛОЖЕНИЕ ОДИНАКОВЫХ СЛАГАЕМ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900000" y="1989000"/>
            <a:ext cx="4054680" cy="8575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3+3+3+3+3=1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462240" y="3459240"/>
            <a:ext cx="45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число является слагаемы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538200" y="4479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олько здесь всего слагаемых представлено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5136480" y="3375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160960" y="4479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2" descr=""/>
          <p:cNvPicPr/>
          <p:nvPr/>
        </p:nvPicPr>
        <p:blipFill>
          <a:blip r:embed="rId1"/>
          <a:stretch/>
        </p:blipFill>
        <p:spPr>
          <a:xfrm>
            <a:off x="2219400" y="1219320"/>
            <a:ext cx="43704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9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ЕДЕНИЕ ПРОИЗВЕДЕНИЯ В СТЕП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TextBox 2"/>
          <p:cNvSpPr/>
          <p:nvPr/>
        </p:nvSpPr>
        <p:spPr>
          <a:xfrm>
            <a:off x="395280" y="1484280"/>
            <a:ext cx="8280360" cy="91692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тобы возвести в степень произведение, нужно возвести в указанную степень каждый множитель этого произведения и перемножить полученные результа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61128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85" name="Объект 4"/>
          <p:cNvGraphicFramePr/>
          <p:nvPr/>
        </p:nvGraphicFramePr>
        <p:xfrm>
          <a:off x="593640" y="3357720"/>
          <a:ext cx="863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35772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Box 5"/>
          <p:cNvSpPr/>
          <p:nvPr/>
        </p:nvSpPr>
        <p:spPr>
          <a:xfrm>
            <a:off x="611280" y="3357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озвести произведение (2*3) во вторую степень означает  повторить данное произведение два раза.  А если повторить его два раза, то получается следующее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02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ОЗВЕДЕНИЕ СТЕПЕНИ В СТЕПЕН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250920" y="1484280"/>
            <a:ext cx="8424720" cy="6426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возведении степень в степень основание оставляют без изменения, а показатели перемножаю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596880" y="2668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250920" y="389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анное правило основано на предыдущих правилах: возведение в степень произведения и основного свойства степе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2" name="Объект 5"/>
          <p:cNvGraphicFramePr/>
          <p:nvPr/>
        </p:nvGraphicFramePr>
        <p:xfrm>
          <a:off x="3132000" y="3213000"/>
          <a:ext cx="187020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213000"/>
                    <a:ext cx="18702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Объект 6"/>
          <p:cNvGraphicFramePr/>
          <p:nvPr/>
        </p:nvGraphicFramePr>
        <p:xfrm>
          <a:off x="1692360" y="4941720"/>
          <a:ext cx="49942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941720"/>
                    <a:ext cx="49942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912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ЕЛЕНИЕ СТЕПЕНЕ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395280" y="1557360"/>
            <a:ext cx="7993080" cy="6426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тобы выполнить деление степеней, нужно найти значение каждой степени, затем выполнить деление обыкновенных дроб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596880" y="2668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9" name="Объект 4"/>
          <p:cNvGraphicFramePr/>
          <p:nvPr/>
        </p:nvGraphicFramePr>
        <p:xfrm>
          <a:off x="826920" y="3071880"/>
          <a:ext cx="6922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071880"/>
                    <a:ext cx="6922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Box 5"/>
          <p:cNvSpPr/>
          <p:nvPr/>
        </p:nvSpPr>
        <p:spPr>
          <a:xfrm>
            <a:off x="755640" y="30369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озведем делимое и делитель в степ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2" name="Объект 6"/>
          <p:cNvGraphicFramePr/>
          <p:nvPr/>
        </p:nvGraphicFramePr>
        <p:xfrm>
          <a:off x="755640" y="3603600"/>
          <a:ext cx="189864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603600"/>
                    <a:ext cx="1898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Box 7"/>
          <p:cNvSpPr/>
          <p:nvPr/>
        </p:nvSpPr>
        <p:spPr>
          <a:xfrm>
            <a:off x="2771640" y="38210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олучим 64:4=1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574560" y="4508640"/>
            <a:ext cx="75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ли при делении степеней основания окажутся одинаковыми , то  основание можно оставить без изменений, а из показателя степени делимого вычесть показатель степени делите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6" name="Объект 9"/>
          <p:cNvGraphicFramePr/>
          <p:nvPr/>
        </p:nvGraphicFramePr>
        <p:xfrm>
          <a:off x="2556000" y="5877000"/>
          <a:ext cx="230004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5877000"/>
                    <a:ext cx="2300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Box 10"/>
          <p:cNvSpPr/>
          <p:nvPr/>
        </p:nvSpPr>
        <p:spPr>
          <a:xfrm>
            <a:off x="755640" y="589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2" descr=""/>
          <p:cNvPicPr/>
          <p:nvPr/>
        </p:nvPicPr>
        <p:blipFill>
          <a:blip r:embed="rId1"/>
          <a:stretch/>
        </p:blipFill>
        <p:spPr>
          <a:xfrm>
            <a:off x="2219400" y="1359000"/>
            <a:ext cx="40053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ЗАДАЧА №1.</a:t>
            </a:r>
            <a:r>
              <a:rPr b="0" lang="ru-RU" sz="49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ЙДЕМ ЗНАЧЕНИЯ ВЫРАЖЕНИЙ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11" name="Объект 3"/>
          <p:cNvGraphicFramePr/>
          <p:nvPr/>
        </p:nvGraphicFramePr>
        <p:xfrm>
          <a:off x="365040" y="1619280"/>
          <a:ext cx="200520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619280"/>
                    <a:ext cx="20052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Объект 4"/>
          <p:cNvGraphicFramePr/>
          <p:nvPr/>
        </p:nvGraphicFramePr>
        <p:xfrm>
          <a:off x="631800" y="2811600"/>
          <a:ext cx="74469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800" y="2811600"/>
                    <a:ext cx="74469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5"/>
          <p:cNvGraphicFramePr/>
          <p:nvPr/>
        </p:nvGraphicFramePr>
        <p:xfrm>
          <a:off x="324000" y="4221000"/>
          <a:ext cx="20602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221000"/>
                    <a:ext cx="2060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Объект 6"/>
          <p:cNvGraphicFramePr/>
          <p:nvPr/>
        </p:nvGraphicFramePr>
        <p:xfrm>
          <a:off x="590400" y="5805360"/>
          <a:ext cx="582156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8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400" y="5805360"/>
                    <a:ext cx="58215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Box 1"/>
          <p:cNvSpPr/>
          <p:nvPr/>
        </p:nvSpPr>
        <p:spPr>
          <a:xfrm>
            <a:off x="611280" y="227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 можно расписать         ?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0" name="Объект 3"/>
          <p:cNvGraphicFramePr/>
          <p:nvPr/>
        </p:nvGraphicFramePr>
        <p:xfrm>
          <a:off x="3276720" y="2276640"/>
          <a:ext cx="3078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Объект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276640"/>
                    <a:ext cx="307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4"/>
          <p:cNvGraphicFramePr/>
          <p:nvPr/>
        </p:nvGraphicFramePr>
        <p:xfrm>
          <a:off x="5219640" y="2276640"/>
          <a:ext cx="12254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3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2276640"/>
                    <a:ext cx="12254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5"/>
          <p:cNvSpPr/>
          <p:nvPr/>
        </p:nvSpPr>
        <p:spPr>
          <a:xfrm>
            <a:off x="468360" y="48402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 необходимо сделать в начале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5076720" y="488304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ужно 100+5=10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611280" y="52848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 можно расписать           ?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7" name="Объект 7"/>
          <p:cNvGraphicFramePr/>
          <p:nvPr/>
        </p:nvGraphicFramePr>
        <p:xfrm>
          <a:off x="3203640" y="5284800"/>
          <a:ext cx="47628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3640" y="5284800"/>
                    <a:ext cx="476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Объект 8"/>
          <p:cNvGraphicFramePr/>
          <p:nvPr/>
        </p:nvGraphicFramePr>
        <p:xfrm>
          <a:off x="5292720" y="5348160"/>
          <a:ext cx="1582920" cy="320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92720" y="5348160"/>
                    <a:ext cx="158292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ЗАДАЧА №2. КАК КОРОЧЕ И УДОБНЕЙ ЗАПИСАТЬ ПРИМЕРЫ ТАКОГО ВИДА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Прямоугольник 2"/>
          <p:cNvSpPr/>
          <p:nvPr/>
        </p:nvSpPr>
        <p:spPr>
          <a:xfrm>
            <a:off x="468360" y="184464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*5*5*5*5*5*5*5*5*5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*7*7*7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*2*2*2*2*2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Прямоугольник 3"/>
          <p:cNvSpPr/>
          <p:nvPr/>
        </p:nvSpPr>
        <p:spPr>
          <a:xfrm>
            <a:off x="5272200" y="319896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5272200" y="253692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Прямоугольник 5"/>
          <p:cNvSpPr/>
          <p:nvPr/>
        </p:nvSpPr>
        <p:spPr>
          <a:xfrm>
            <a:off x="5272200" y="184464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6" name="Объект 6"/>
          <p:cNvGraphicFramePr/>
          <p:nvPr/>
        </p:nvGraphicFramePr>
        <p:xfrm>
          <a:off x="5554800" y="1881360"/>
          <a:ext cx="39024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0" y="1881360"/>
                    <a:ext cx="3902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Объект 7"/>
          <p:cNvGraphicFramePr/>
          <p:nvPr/>
        </p:nvGraphicFramePr>
        <p:xfrm>
          <a:off x="5580000" y="2563920"/>
          <a:ext cx="3398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563920"/>
                    <a:ext cx="339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Объект 8"/>
          <p:cNvGraphicFramePr/>
          <p:nvPr/>
        </p:nvGraphicFramePr>
        <p:xfrm>
          <a:off x="5580000" y="3246480"/>
          <a:ext cx="33984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3246480"/>
                    <a:ext cx="339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537840"/>
            <a:ext cx="8289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ТЕПЕНЬ С НАТУРАЛЬНЫМ ПОКАЗАТЕЛЕМ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250920" y="214236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пень с натуральным показател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это число, полученное путем возведения основания степени в показатель степени, который является положительным целым числ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снование степени 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может быть числом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туральным, целым, дробны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казатель степени </a:t>
            </a:r>
            <a:r>
              <a:rPr b="0" lang="en-BZ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число натурально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Рисунок 2" descr=""/>
          <p:cNvPicPr/>
          <p:nvPr/>
        </p:nvPicPr>
        <p:blipFill>
          <a:blip r:embed="rId1"/>
          <a:stretch/>
        </p:blipFill>
        <p:spPr>
          <a:xfrm>
            <a:off x="487440" y="353880"/>
            <a:ext cx="3541680" cy="368784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3" descr=""/>
          <p:cNvPicPr/>
          <p:nvPr/>
        </p:nvPicPr>
        <p:blipFill>
          <a:blip r:embed="rId2"/>
          <a:stretch/>
        </p:blipFill>
        <p:spPr>
          <a:xfrm>
            <a:off x="5022720" y="353880"/>
            <a:ext cx="3475080" cy="383400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4" descr=""/>
          <p:cNvPicPr/>
          <p:nvPr/>
        </p:nvPicPr>
        <p:blipFill>
          <a:blip r:embed="rId3"/>
          <a:stretch/>
        </p:blipFill>
        <p:spPr>
          <a:xfrm>
            <a:off x="1206360" y="4022640"/>
            <a:ext cx="3475080" cy="235908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5" descr=""/>
          <p:cNvPicPr/>
          <p:nvPr/>
        </p:nvPicPr>
        <p:blipFill>
          <a:blip r:embed="rId4"/>
          <a:stretch/>
        </p:blipFill>
        <p:spPr>
          <a:xfrm>
            <a:off x="4591080" y="3986280"/>
            <a:ext cx="3333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К СУММУ РАВНЫХ СЛАГАЕМЫХ ЗАМЕНИТЬ ПРОИЗВЕДЕНИ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468360" y="1844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+5+5+5+5+5+5+5+5+5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+7+7+7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+2+2+2+2+2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короче и удоб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5055120" y="1846440"/>
            <a:ext cx="104328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5*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5142240" y="2571840"/>
            <a:ext cx="86940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7*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5142240" y="3271680"/>
            <a:ext cx="86940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2*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ТОГДА ПРОИЗВЕДЕНИЕ – ЭТО 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47300" t="42264" r="17899" b="35797"/>
          <a:stretch/>
        </p:blipFill>
        <p:spPr>
          <a:xfrm>
            <a:off x="1835280" y="2133720"/>
            <a:ext cx="5257800" cy="18619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68436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оизвед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сумма одинаковых слагаем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ЧЕТЫРЕ АРИФМЕТИЧЕСКИХ ДЕЙСТВ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395280" y="1628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 уже знаете четыре арифметических действ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сложе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вычита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умноже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дел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556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ЙДЕМ ЗНАЧЕНИЕ ВЫРАЖЕНИЯ РАЗНЫМИ СПОСОБАМ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24000" y="846360"/>
            <a:ext cx="8280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Найдем значение выражения разными способам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*4*4*4*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1 способ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. 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 умножить на 4?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4*4=1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16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16 умножить на 4?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6*4=6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6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64 умножить на 4?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64*4=25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 256*4=102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2 способ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Где 4*4=16, тогд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16*16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16 умножить на 16?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6*16=25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256*4=102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3 способ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ак можно заменить 4*4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можно записать в виде: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Объект 3"/>
          <p:cNvGraphicFramePr/>
          <p:nvPr/>
        </p:nvGraphicFramePr>
        <p:xfrm>
          <a:off x="468360" y="6054840"/>
          <a:ext cx="30938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054840"/>
                    <a:ext cx="3093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Объект 2"/>
          <p:cNvGraphicFramePr/>
          <p:nvPr/>
        </p:nvGraphicFramePr>
        <p:xfrm>
          <a:off x="6300720" y="5445000"/>
          <a:ext cx="882720" cy="2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5445000"/>
                    <a:ext cx="88272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РАССМОТРИМ НА ПРИМЕР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Содержимое 2"/>
          <p:cNvSpPr/>
          <p:nvPr/>
        </p:nvSpPr>
        <p:spPr>
          <a:xfrm>
            <a:off x="360360" y="1557360"/>
            <a:ext cx="82821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было первое действие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 – (3 · 3 · 3 · 3 · 3 ) + 13 = 270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Умножали 3 на себя 5 ра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Содержимое 2"/>
          <p:cNvSpPr/>
          <p:nvPr/>
        </p:nvSpPr>
        <p:spPr>
          <a:xfrm>
            <a:off x="517680" y="3141720"/>
            <a:ext cx="4054320" cy="8571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3*3*3*3*3=24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443880" y="4049640"/>
            <a:ext cx="53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число является слагаемы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6159600" y="3865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546120" y="4941720"/>
            <a:ext cx="51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олько здесь всего слагаемых представлен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6159600" y="5033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5680" y="1125360"/>
            <a:ext cx="8642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 МАТЕМАТИКЕ ДЛЯ ТАКОГО ДЕЙСТВИЯ, КАК УМНОЖЕНИЕ ЧИСЛА САМО НА СЕБЯ НЕСКОЛЬКО РАЗ ВВЕДЕНО ПОНЯТИЕ: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Century Schoolbook"/>
              </a:rPr>
              <a:t>СТЕПЕНЬ С НАТУРАЛЬНЫМ ПОКАЗАТЕЛЕ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Содержимое 2"/>
          <p:cNvSpPr/>
          <p:nvPr/>
        </p:nvSpPr>
        <p:spPr>
          <a:xfrm>
            <a:off x="179280" y="4221000"/>
            <a:ext cx="5184720" cy="7923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*3*3*3*3=3</a:t>
            </a:r>
            <a:r>
              <a:rPr b="0" lang="en-BZ" sz="4000" spc="-1" strike="noStrike">
                <a:solidFill>
                  <a:srgbClr val="000000"/>
                </a:solidFill>
                <a:latin typeface="Century Schoolbook"/>
              </a:rPr>
              <a:t>^5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=24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Century Schoolbook"/>
              </a:rPr>
              <a:t>Степень с натуральным показателе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79280" y="5084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озведение в степень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это пятое арифметическое действие, с которым мы сегодня познакомим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РАССМОТРИМ ПРИМЕ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Содержимое 2"/>
          <p:cNvSpPr/>
          <p:nvPr/>
        </p:nvSpPr>
        <p:spPr>
          <a:xfrm>
            <a:off x="39528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ражение     называется </a:t>
            </a:r>
            <a:r>
              <a:rPr b="1" lang="ru-RU" sz="2800" spc="-1" strike="noStrike">
                <a:solidFill>
                  <a:srgbClr val="e75c01"/>
                </a:solidFill>
                <a:latin typeface="Century Schoolbook"/>
                <a:ea typeface="Arial"/>
              </a:rPr>
              <a:t>степенью с натуральным показателе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826920" y="3127320"/>
            <a:ext cx="1729080" cy="121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4"/>
              <p:cNvSpPr txBox="1"/>
              <p:nvPr/>
            </p:nvSpPr>
            <p:spPr>
              <a:xfrm>
                <a:off x="1312920" y="3224160"/>
                <a:ext cx="957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90" name="Прямая со стрелкой 5"/>
          <p:cNvCxnSpPr/>
          <p:nvPr/>
        </p:nvCxnSpPr>
        <p:spPr>
          <a:xfrm>
            <a:off x="2269800" y="3498840"/>
            <a:ext cx="572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1" name="Прямая со стрелкой 6"/>
          <p:cNvCxnSpPr/>
          <p:nvPr/>
        </p:nvCxnSpPr>
        <p:spPr>
          <a:xfrm>
            <a:off x="1692000" y="4203720"/>
            <a:ext cx="1080" cy="536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2" name="TextBox 8"/>
          <p:cNvSpPr/>
          <p:nvPr/>
        </p:nvSpPr>
        <p:spPr>
          <a:xfrm>
            <a:off x="3124080" y="329868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Показатель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540360" y="486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Основание степен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4" name="Объект 10"/>
          <p:cNvGraphicFramePr/>
          <p:nvPr/>
        </p:nvGraphicFramePr>
        <p:xfrm>
          <a:off x="2887560" y="1484280"/>
          <a:ext cx="4716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7560" y="1484280"/>
                    <a:ext cx="471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8T12:23:29Z</dcterms:created>
  <dc:creator>Ксения</dc:creator>
  <dc:description/>
  <dc:language>en-US</dc:language>
  <cp:lastModifiedBy>Ксения</cp:lastModifiedBy>
  <dcterms:modified xsi:type="dcterms:W3CDTF">2023-12-13T14:38:35Z</dcterms:modified>
  <cp:revision>103</cp:revision>
  <dc:subject/>
  <dc:title>Презентация PowerPoint</dc:title>
</cp:coreProperties>
</file>