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9CB-342F-42D3-99DA-C3ADDBDD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36A-794D-47A1-AE44-1E73A366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7E7-002A-41F8-8067-2066ADA1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008-9172-441C-8423-4F538415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961-EB2C-426F-A3F2-10D535C4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F4E-BD99-468B-924D-62F9B02E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2C9-BC71-4C3B-B080-22F56381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264-BF2F-4B4A-A741-4F9C45E4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BA3-A4B4-4D8C-8163-9743467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141-A25A-435C-8C04-748B3049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D32-9E48-43D1-B9B3-BFF55360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66C-297D-443E-A649-EAD2DC3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2DAF-4231-45C3-BD81-7D2685B68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Делай так - делай эда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0" y="1789200"/>
            <a:ext cx="6696000" cy="4848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771640" y="6381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:  Даукенова Л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1266133\Desktop\Без имени 6.png"/>
          <p:cNvPicPr/>
          <p:nvPr/>
        </p:nvPicPr>
        <p:blipFill>
          <a:blip r:embed="rId1"/>
          <a:stretch/>
        </p:blipFill>
        <p:spPr>
          <a:xfrm>
            <a:off x="1619280" y="264960"/>
            <a:ext cx="5476680" cy="506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487760" y="3579840"/>
            <a:ext cx="4681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1266133\Desktop\Без имени 7.png"/>
          <p:cNvPicPr/>
          <p:nvPr/>
        </p:nvPicPr>
        <p:blipFill>
          <a:blip r:embed="rId1"/>
          <a:stretch/>
        </p:blipFill>
        <p:spPr>
          <a:xfrm>
            <a:off x="1763640" y="115920"/>
            <a:ext cx="5688000" cy="5132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462560" y="3573360"/>
            <a:ext cx="46814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707160"/>
          </a:xfrm>
          <a:prstGeom prst="rect">
            <a:avLst/>
          </a:prstGeom>
          <a:ln w="0">
            <a:noFill/>
          </a:ln>
        </p:spPr>
      </p:pic>
      <p:sp>
        <p:nvSpPr>
          <p:cNvPr id="76" name="Пятно 1 3"/>
          <p:cNvSpPr/>
          <p:nvPr/>
        </p:nvSpPr>
        <p:spPr>
          <a:xfrm>
            <a:off x="108000" y="0"/>
            <a:ext cx="8712000" cy="68580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А теперь  поиграйте  самостоятель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грающие стоят в кругу лицом к центру, в центре – водящ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556000" y="2673360"/>
            <a:ext cx="41320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ужно подражать водящему, когда он командует: «Делай та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360" y="2830680"/>
            <a:ext cx="8207280" cy="371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1266133\Desktop\Без имени 1.png"/>
          <p:cNvPicPr/>
          <p:nvPr/>
        </p:nvPicPr>
        <p:blipFill>
          <a:blip r:embed="rId2"/>
          <a:stretch/>
        </p:blipFill>
        <p:spPr>
          <a:xfrm>
            <a:off x="2627280" y="2813040"/>
            <a:ext cx="4213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ичего не делать, когда он произноси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Делай эда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11280" y="2646360"/>
            <a:ext cx="4133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8000" y="1341000"/>
            <a:ext cx="8928000" cy="20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опустивший ошибку должен выполнить какое-либо движение, которое находящиеся в кругу должны повторить, а затем следует сменить водя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71640" y="3556080"/>
            <a:ext cx="7289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1266133\Desktop\Без имени 2.png"/>
          <p:cNvPicPr/>
          <p:nvPr/>
        </p:nvPicPr>
        <p:blipFill>
          <a:blip r:embed="rId2"/>
          <a:stretch/>
        </p:blipFill>
        <p:spPr>
          <a:xfrm>
            <a:off x="3059280" y="3546360"/>
            <a:ext cx="2808000" cy="311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1266133\Desktop\Без имени 3.png"/>
          <p:cNvPicPr/>
          <p:nvPr/>
        </p:nvPicPr>
        <p:blipFill>
          <a:blip r:embed="rId3"/>
          <a:stretch/>
        </p:blipFill>
        <p:spPr>
          <a:xfrm>
            <a:off x="6012000" y="1773360"/>
            <a:ext cx="2903400" cy="3246480"/>
          </a:xfrm>
          <a:prstGeom prst="rect">
            <a:avLst/>
          </a:prstGeom>
          <a:ln w="0">
            <a:noFill/>
          </a:ln>
        </p:spPr>
      </p:pic>
      <p:sp>
        <p:nvSpPr>
          <p:cNvPr id="61" name="Пятно 1 3"/>
          <p:cNvSpPr/>
          <p:nvPr/>
        </p:nvSpPr>
        <p:spPr>
          <a:xfrm>
            <a:off x="1187280" y="309600"/>
            <a:ext cx="6913800" cy="3527280"/>
          </a:xfrm>
          <a:prstGeom prst="irregularSeal1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ОИГРАЕМ?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24000" y="-162000"/>
            <a:ext cx="8521560" cy="6799320"/>
          </a:xfrm>
          <a:prstGeom prst="rect">
            <a:avLst/>
          </a:prstGeom>
          <a:ln w="0">
            <a:noFill/>
          </a:ln>
        </p:spPr>
      </p:pic>
      <p:sp>
        <p:nvSpPr>
          <p:cNvPr id="63" name="Овал 6"/>
          <p:cNvSpPr/>
          <p:nvPr/>
        </p:nvSpPr>
        <p:spPr>
          <a:xfrm>
            <a:off x="1052640" y="4357800"/>
            <a:ext cx="7561080" cy="23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НАЧИНАЕШЬ ТЫ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1266133\Desktop\Без имени 1.png"/>
          <p:cNvPicPr/>
          <p:nvPr/>
        </p:nvPicPr>
        <p:blipFill>
          <a:blip r:embed="rId1"/>
          <a:stretch/>
        </p:blipFill>
        <p:spPr>
          <a:xfrm>
            <a:off x="1824120" y="260280"/>
            <a:ext cx="5492520" cy="4851360"/>
          </a:xfrm>
          <a:prstGeom prst="rect">
            <a:avLst/>
          </a:prstGeom>
          <a:ln w="0">
            <a:noFill/>
          </a:ln>
        </p:spPr>
      </p:pic>
      <p:sp>
        <p:nvSpPr>
          <p:cNvPr id="65" name="Пятно 1 3"/>
          <p:cNvSpPr/>
          <p:nvPr/>
        </p:nvSpPr>
        <p:spPr>
          <a:xfrm rot="19436400">
            <a:off x="4619520" y="3665520"/>
            <a:ext cx="4768920" cy="287496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ЛАЙ Т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1266133\Desktop\Без имени 4.png"/>
          <p:cNvPicPr/>
          <p:nvPr/>
        </p:nvPicPr>
        <p:blipFill>
          <a:blip r:embed="rId1"/>
          <a:stretch/>
        </p:blipFill>
        <p:spPr>
          <a:xfrm>
            <a:off x="1835280" y="260280"/>
            <a:ext cx="5473440" cy="49784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1763640" y="189000"/>
            <a:ext cx="561672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ятно 1 7"/>
          <p:cNvSpPr/>
          <p:nvPr/>
        </p:nvSpPr>
        <p:spPr>
          <a:xfrm rot="19436400">
            <a:off x="4619520" y="3665520"/>
            <a:ext cx="4768920" cy="287496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ЛАЙ ЭД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1266133\Desktop\Без имени 5.png"/>
          <p:cNvPicPr/>
          <p:nvPr/>
        </p:nvPicPr>
        <p:blipFill>
          <a:blip r:embed="rId1"/>
          <a:stretch/>
        </p:blipFill>
        <p:spPr>
          <a:xfrm>
            <a:off x="1835280" y="189000"/>
            <a:ext cx="5316480" cy="48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451400" y="3427560"/>
            <a:ext cx="468144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3T12:27:01Z</dcterms:created>
  <dc:creator>1266133</dc:creator>
  <dc:description/>
  <dc:language>en-US</dc:language>
  <cp:lastModifiedBy>1266133</cp:lastModifiedBy>
  <dcterms:modified xsi:type="dcterms:W3CDTF">2023-12-13T14:51:40Z</dcterms:modified>
  <cp:revision>14</cp:revision>
  <dc:subject/>
  <dc:title>Игра «Делай так - делай эдак»</dc:title>
</cp:coreProperties>
</file>