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132E-CFEC-4092-985A-F47455F9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4814-DD2B-4967-BDC7-CBB64643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25B-A673-4966-B338-457F4688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821-A651-4C76-9FD8-C812B59B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3B6-4B09-4AD3-851E-EB8E4B37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3D2-3645-4C7D-B4AF-B782EB71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C90-5D47-4420-BE9C-092989E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977E-E549-43EA-B81B-A380BEAE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811-604D-43DB-8E1A-3F235C20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23E7-9B87-4E8D-AAE9-466FA67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ADD-3A06-4798-9F45-8CBC9546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FC1-B665-47F2-AE9B-E05E24E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D1C9-5055-4AF0-A3A1-76C76E1ED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гра «Делай так - делай эдак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0" y="1789200"/>
            <a:ext cx="6696000" cy="4848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771640" y="638172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читель:  Даукенова Л.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1266133\Desktop\Без имени 6.png"/>
          <p:cNvPicPr/>
          <p:nvPr/>
        </p:nvPicPr>
        <p:blipFill>
          <a:blip r:embed="rId1"/>
          <a:stretch/>
        </p:blipFill>
        <p:spPr>
          <a:xfrm>
            <a:off x="1619280" y="264960"/>
            <a:ext cx="5476680" cy="506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4487760" y="3579840"/>
            <a:ext cx="4681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1266133\Desktop\Без имени 7.png"/>
          <p:cNvPicPr/>
          <p:nvPr/>
        </p:nvPicPr>
        <p:blipFill>
          <a:blip r:embed="rId1"/>
          <a:stretch/>
        </p:blipFill>
        <p:spPr>
          <a:xfrm>
            <a:off x="1763640" y="115920"/>
            <a:ext cx="5688000" cy="5132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462560" y="3573360"/>
            <a:ext cx="468144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187280" y="0"/>
            <a:ext cx="6707520" cy="6707160"/>
          </a:xfrm>
          <a:prstGeom prst="rect">
            <a:avLst/>
          </a:prstGeom>
          <a:ln w="0">
            <a:noFill/>
          </a:ln>
        </p:spPr>
      </p:pic>
      <p:sp>
        <p:nvSpPr>
          <p:cNvPr id="76" name="Пятно 1 3"/>
          <p:cNvSpPr/>
          <p:nvPr/>
        </p:nvSpPr>
        <p:spPr>
          <a:xfrm>
            <a:off x="108000" y="0"/>
            <a:ext cx="8712000" cy="6858000"/>
          </a:xfrm>
          <a:prstGeom prst="irregularSeal1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А теперь  поиграйте  самостоятельно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Играющие стоят в кругу лицом к центру, в центре – водящ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556000" y="2673360"/>
            <a:ext cx="41320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ужно подражать водящему, когда он командует: «Делай т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68360" y="2830680"/>
            <a:ext cx="8207280" cy="371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1266133\Desktop\Без имени 1.png"/>
          <p:cNvPicPr/>
          <p:nvPr/>
        </p:nvPicPr>
        <p:blipFill>
          <a:blip r:embed="rId2"/>
          <a:stretch/>
        </p:blipFill>
        <p:spPr>
          <a:xfrm>
            <a:off x="2627280" y="2813040"/>
            <a:ext cx="42130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Ничего не делать, когда он произносит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«Делай эда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11280" y="2646360"/>
            <a:ext cx="41338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8000" y="1341000"/>
            <a:ext cx="8928000" cy="208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опустивший ошибку должен выполнить какое-либо движение, которое находящиеся в кругу должны повторить, а затем следует сменить водя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71640" y="3556080"/>
            <a:ext cx="7289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1266133\Desktop\Без имени 2.png"/>
          <p:cNvPicPr/>
          <p:nvPr/>
        </p:nvPicPr>
        <p:blipFill>
          <a:blip r:embed="rId2"/>
          <a:stretch/>
        </p:blipFill>
        <p:spPr>
          <a:xfrm>
            <a:off x="3059280" y="3546360"/>
            <a:ext cx="2808000" cy="311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Users\1266133\Desktop\Без имени 3.png"/>
          <p:cNvPicPr/>
          <p:nvPr/>
        </p:nvPicPr>
        <p:blipFill>
          <a:blip r:embed="rId3"/>
          <a:stretch/>
        </p:blipFill>
        <p:spPr>
          <a:xfrm>
            <a:off x="6012000" y="1773360"/>
            <a:ext cx="2903400" cy="3246480"/>
          </a:xfrm>
          <a:prstGeom prst="rect">
            <a:avLst/>
          </a:prstGeom>
          <a:ln w="0">
            <a:noFill/>
          </a:ln>
        </p:spPr>
      </p:pic>
      <p:sp>
        <p:nvSpPr>
          <p:cNvPr id="61" name="Пятно 1 3"/>
          <p:cNvSpPr/>
          <p:nvPr/>
        </p:nvSpPr>
        <p:spPr>
          <a:xfrm>
            <a:off x="1187280" y="309600"/>
            <a:ext cx="6913800" cy="3527280"/>
          </a:xfrm>
          <a:prstGeom prst="irregularSeal1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ОИГРАЕМ?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324000" y="-162000"/>
            <a:ext cx="8521560" cy="6799320"/>
          </a:xfrm>
          <a:prstGeom prst="rect">
            <a:avLst/>
          </a:prstGeom>
          <a:ln w="0">
            <a:noFill/>
          </a:ln>
        </p:spPr>
      </p:pic>
      <p:sp>
        <p:nvSpPr>
          <p:cNvPr id="63" name="Овал 6"/>
          <p:cNvSpPr/>
          <p:nvPr/>
        </p:nvSpPr>
        <p:spPr>
          <a:xfrm>
            <a:off x="1052640" y="4357800"/>
            <a:ext cx="7561080" cy="2305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omic Sans MS"/>
              </a:rPr>
              <a:t>НАЧИНАЕШЬ ТЫ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Users\1266133\Desktop\Без имени 1.png"/>
          <p:cNvPicPr/>
          <p:nvPr/>
        </p:nvPicPr>
        <p:blipFill>
          <a:blip r:embed="rId1"/>
          <a:stretch/>
        </p:blipFill>
        <p:spPr>
          <a:xfrm>
            <a:off x="1824120" y="260280"/>
            <a:ext cx="5492520" cy="4851360"/>
          </a:xfrm>
          <a:prstGeom prst="rect">
            <a:avLst/>
          </a:prstGeom>
          <a:ln w="0">
            <a:noFill/>
          </a:ln>
        </p:spPr>
      </p:pic>
      <p:sp>
        <p:nvSpPr>
          <p:cNvPr id="65" name="Пятно 1 3"/>
          <p:cNvSpPr/>
          <p:nvPr/>
        </p:nvSpPr>
        <p:spPr>
          <a:xfrm rot="19436400">
            <a:off x="4619520" y="3665520"/>
            <a:ext cx="4768920" cy="287496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ЛАЙ Т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C:\Users\1266133\Desktop\Без имени 4.png"/>
          <p:cNvPicPr/>
          <p:nvPr/>
        </p:nvPicPr>
        <p:blipFill>
          <a:blip r:embed="rId1"/>
          <a:stretch/>
        </p:blipFill>
        <p:spPr>
          <a:xfrm>
            <a:off x="1835280" y="260280"/>
            <a:ext cx="5473440" cy="497844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1763640" y="189000"/>
            <a:ext cx="561672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ятно 1 7"/>
          <p:cNvSpPr/>
          <p:nvPr/>
        </p:nvSpPr>
        <p:spPr>
          <a:xfrm rot="19436400">
            <a:off x="4619520" y="3665520"/>
            <a:ext cx="4768920" cy="287496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ЕЛАЙ ЭД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1266133\Desktop\Без имени 5.png"/>
          <p:cNvPicPr/>
          <p:nvPr/>
        </p:nvPicPr>
        <p:blipFill>
          <a:blip r:embed="rId1"/>
          <a:stretch/>
        </p:blipFill>
        <p:spPr>
          <a:xfrm>
            <a:off x="1835280" y="189000"/>
            <a:ext cx="5316480" cy="4895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4451400" y="3427560"/>
            <a:ext cx="4681440" cy="34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3T12:27:01Z</dcterms:created>
  <dc:creator>1266133</dc:creator>
  <dc:description/>
  <dc:language>en-US</dc:language>
  <cp:lastModifiedBy>1266133</cp:lastModifiedBy>
  <dcterms:modified xsi:type="dcterms:W3CDTF">2023-12-13T14:51:40Z</dcterms:modified>
  <cp:revision>14</cp:revision>
  <dc:subject/>
  <dc:title>Игра «Делай так - делай эдак»</dc:title>
</cp:coreProperties>
</file>