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301-A3A7-4DC4-ADE5-BF46FD4B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068-ECD0-4938-B1CB-D643D048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0D0-8D98-4BAD-8DC2-033DCE57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65D-3AA9-4FB4-85DD-1611D18C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CDB-8C9A-4EE0-9402-6956A2C5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C6A-7A1B-4DBF-83A5-551AEBBF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8BE-5335-44C2-8C77-2F4FDE09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6E9-2DAB-47C3-AFA1-CD1609D6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C5A-D4B6-4D1D-8A10-E02CADB7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5C4-815E-4C1A-8AB3-43DD4EA4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195-FD2E-4661-A25F-476E8B5C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994-54FF-4296-BFD6-27CE85F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4F7F-5055-4EB2-B883-1DCFF6450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2" descr="лист 1"/>
          <p:cNvPicPr/>
          <p:nvPr/>
        </p:nvPicPr>
        <p:blipFill>
          <a:blip r:embed="rId1"/>
          <a:stretch/>
        </p:blipFill>
        <p:spPr>
          <a:xfrm>
            <a:off x="6072120" y="507204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1" descr="лист 1"/>
          <p:cNvPicPr/>
          <p:nvPr/>
        </p:nvPicPr>
        <p:blipFill>
          <a:blip r:embed="rId2"/>
          <a:stretch/>
        </p:blipFill>
        <p:spPr>
          <a:xfrm>
            <a:off x="7500960" y="5500800"/>
            <a:ext cx="1079640" cy="92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28760" y="357120"/>
          <a:ext cx="8429400" cy="628668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0980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8"/>
          <p:cNvSpPr/>
          <p:nvPr/>
        </p:nvSpPr>
        <p:spPr>
          <a:xfrm>
            <a:off x="642960" y="857160"/>
            <a:ext cx="242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ter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3357720" y="2643120"/>
            <a:ext cx="257148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конкретное время в прош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лова- спу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 Simple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3429000" y="500040"/>
            <a:ext cx="2428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o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286680" y="1071720"/>
            <a:ext cx="2428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6286680" y="2643120"/>
            <a:ext cx="242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mo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6215040" y="4714920"/>
            <a:ext cx="2428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ours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3429000" y="4786200"/>
            <a:ext cx="2428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 days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642960" y="4919760"/>
            <a:ext cx="2428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642960" y="2571840"/>
            <a:ext cx="242892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s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43000" y="2428920"/>
            <a:ext cx="23241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3102840" y="3214800"/>
            <a:ext cx="13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554720" y="4071960"/>
            <a:ext cx="15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6602040" y="478620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00008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– was/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–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–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–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–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–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–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– w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-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al-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-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лист"/>
          <p:cNvPicPr/>
          <p:nvPr/>
        </p:nvPicPr>
        <p:blipFill>
          <a:blip r:embed="rId2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t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2484360" y="981000"/>
            <a:ext cx="15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o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i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6929280" y="35712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r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076 0.04005 L 0.08281 0.59653 E">
                                      <p:cBhvr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2963 L -0.14549 0.61759 E">
                                      <p:cBhvr>
                                        <p:cTn id="17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9 0.00857 L -0.42899 0.58611 E">
                                      <p:cBhvr>
                                        <p:cTn id="18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0.03634 L -0.42517 0.61319 E">
                                      <p:cBhvr>
                                        <p:cTn id="19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2963 L 0.03142 0.50024 E">
                                      <p:cBhvr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3982 L 0.12188 0.53264 E">
                                      <p:cBhvr>
                                        <p:cTn id="21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-0.12986 0.50208 E">
                                      <p:cBhvr>
                                        <p:cTn id="22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42800" y="928800"/>
            <a:ext cx="554364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(а) что-то новое для себ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143000" y="571680"/>
            <a:ext cx="107172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1143000" y="1785960"/>
            <a:ext cx="1071720" cy="100008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1143000" y="2928960"/>
            <a:ext cx="1071720" cy="1071720"/>
          </a:xfrm>
          <a:prstGeom prst="rect">
            <a:avLst/>
          </a:prstGeom>
          <a:solidFill>
            <a:srgbClr val="ffdd7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1143000" y="4143240"/>
            <a:ext cx="1143000" cy="1143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1143000" y="5357880"/>
            <a:ext cx="1143000" cy="1071360"/>
          </a:xfrm>
          <a:prstGeom prst="rect">
            <a:avLst/>
          </a:prstGeom>
          <a:solidFill>
            <a:srgbClr val="fda1e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071880" y="1928880"/>
            <a:ext cx="55436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помнил(а) все правила и 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643120" y="3500280"/>
            <a:ext cx="55436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лег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3214800" y="4429080"/>
            <a:ext cx="55432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3000240" y="5643720"/>
            <a:ext cx="55436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интересно, я все з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Zverdvd.org</cp:lastModifiedBy>
  <dcterms:modified xsi:type="dcterms:W3CDTF">2023-02-27T04:38:44Z</dcterms:modified>
  <cp:revision>25</cp:revision>
  <dc:subject/>
  <dc:title>Слайд 1</dc:title>
</cp:coreProperties>
</file>