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5A18-6B93-4593-A501-C211EE5F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85A-2177-4DD3-B36E-9340AAD3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176-6682-4ACD-9366-56B9CBC9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3D1-B7FD-4EBA-B146-0C3FE6448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BD5F-2BFA-47C6-8A9C-DD6C41E5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B26-C73C-46B9-9384-25B338CD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1D2-571C-4BE2-8AB4-891EA318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DB1-7E21-4297-9E96-250D765B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AE7-DA8D-461A-9FCE-61007F69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BAA9-1A11-4866-B364-0B8C8A10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21B-18ED-44A2-B019-8A49EB6A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16C-762A-4E1F-BF34-7217A78C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758D-B077-463E-A875-D0DF17F3D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2" descr="лист 1"/>
          <p:cNvPicPr/>
          <p:nvPr/>
        </p:nvPicPr>
        <p:blipFill>
          <a:blip r:embed="rId1"/>
          <a:stretch/>
        </p:blipFill>
        <p:spPr>
          <a:xfrm>
            <a:off x="6072120" y="507204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1" descr="лист 1"/>
          <p:cNvPicPr/>
          <p:nvPr/>
        </p:nvPicPr>
        <p:blipFill>
          <a:blip r:embed="rId2"/>
          <a:stretch/>
        </p:blipFill>
        <p:spPr>
          <a:xfrm>
            <a:off x="7500960" y="5500800"/>
            <a:ext cx="1079640" cy="92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28760" y="357120"/>
          <a:ext cx="8429400" cy="6286680"/>
        </p:xfrm>
        <a:graphic>
          <a:graphicData uri="http://schemas.openxmlformats.org/drawingml/2006/table">
            <a:tbl>
              <a:tblPr/>
              <a:tblGrid>
                <a:gridCol w="2809800"/>
                <a:gridCol w="2809800"/>
                <a:gridCol w="2809800"/>
              </a:tblGrid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8"/>
          <p:cNvSpPr/>
          <p:nvPr/>
        </p:nvSpPr>
        <p:spPr>
          <a:xfrm>
            <a:off x="642960" y="857160"/>
            <a:ext cx="242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ter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3357720" y="2643120"/>
            <a:ext cx="257148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аз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конкретное время в прош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лова- спут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t Simple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3429000" y="500040"/>
            <a:ext cx="2428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Mo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6286680" y="1071720"/>
            <a:ext cx="2428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we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6286680" y="2643120"/>
            <a:ext cx="24285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mon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6215040" y="4714920"/>
            <a:ext cx="2428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hours 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3429000" y="4786200"/>
            <a:ext cx="2428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 days 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5"/>
          <p:cNvSpPr/>
          <p:nvPr/>
        </p:nvSpPr>
        <p:spPr>
          <a:xfrm>
            <a:off x="642960" y="4919760"/>
            <a:ext cx="2428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un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6"/>
          <p:cNvSpPr/>
          <p:nvPr/>
        </p:nvSpPr>
        <p:spPr>
          <a:xfrm>
            <a:off x="642960" y="2571840"/>
            <a:ext cx="2428920" cy="20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ys 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143000" y="2428920"/>
            <a:ext cx="232416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3102840" y="3214800"/>
            <a:ext cx="13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4554720" y="4071960"/>
            <a:ext cx="15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7"/>
          <p:cNvSpPr/>
          <p:nvPr/>
        </p:nvSpPr>
        <p:spPr>
          <a:xfrm>
            <a:off x="6602040" y="4786200"/>
            <a:ext cx="16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100008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– was/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e – c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–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– w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–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–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– s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– wr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-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al-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-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лист"/>
          <p:cNvPicPr/>
          <p:nvPr/>
        </p:nvPicPr>
        <p:blipFill>
          <a:blip r:embed="rId2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t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2484360" y="981000"/>
            <a:ext cx="15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o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o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s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i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6929280" y="357120"/>
            <a:ext cx="17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ar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076 0.04005 L 0.08281 0.59653 E">
                                      <p:cBhvr>
                                        <p:cTn id="1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25 0.02963 L -0.14549 0.61759 E">
                                      <p:cBhvr>
                                        <p:cTn id="17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639 0.00857 L -0.42899 0.58611 E">
                                      <p:cBhvr>
                                        <p:cTn id="18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4 0.03634 L -0.42517 0.61319 E">
                                      <p:cBhvr>
                                        <p:cTn id="19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2963 L 0.03142 0.50024 E">
                                      <p:cBhvr>
                                        <p:cTn id="20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03982 L 0.12188 0.53264 E">
                                      <p:cBhvr>
                                        <p:cTn id="21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L -0.12986 0.50208 E">
                                      <p:cBhvr>
                                        <p:cTn id="22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42800" y="928800"/>
            <a:ext cx="554364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знал(а) что-то новое для себ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1143000" y="571680"/>
            <a:ext cx="1071720" cy="1000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6"/>
          <p:cNvSpPr/>
          <p:nvPr/>
        </p:nvSpPr>
        <p:spPr>
          <a:xfrm>
            <a:off x="1143000" y="1785960"/>
            <a:ext cx="1071720" cy="100008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1143000" y="2928960"/>
            <a:ext cx="1071720" cy="1071720"/>
          </a:xfrm>
          <a:prstGeom prst="rect">
            <a:avLst/>
          </a:prstGeom>
          <a:solidFill>
            <a:srgbClr val="ffdd7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8"/>
          <p:cNvSpPr/>
          <p:nvPr/>
        </p:nvSpPr>
        <p:spPr>
          <a:xfrm>
            <a:off x="1143000" y="4143240"/>
            <a:ext cx="1143000" cy="1143000"/>
          </a:xfrm>
          <a:prstGeom prst="rect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1143000" y="5357880"/>
            <a:ext cx="1143000" cy="1071360"/>
          </a:xfrm>
          <a:prstGeom prst="rect">
            <a:avLst/>
          </a:prstGeom>
          <a:solidFill>
            <a:srgbClr val="fda1e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3071880" y="1928880"/>
            <a:ext cx="55436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помнил(а) все правила и глаг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2643120" y="3500280"/>
            <a:ext cx="55436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ло лег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3214800" y="4429080"/>
            <a:ext cx="55432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у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Заголовок 1"/>
          <p:cNvSpPr/>
          <p:nvPr/>
        </p:nvSpPr>
        <p:spPr>
          <a:xfrm>
            <a:off x="3000240" y="5643720"/>
            <a:ext cx="55436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ыло интересно, я все зн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Zverdvd.org</cp:lastModifiedBy>
  <dcterms:modified xsi:type="dcterms:W3CDTF">2023-02-27T04:38:44Z</dcterms:modified>
  <cp:revision>25</cp:revision>
  <dc:subject/>
  <dc:title>Слайд 1</dc:title>
</cp:coreProperties>
</file>