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6E9-8EA1-4833-9239-81606D12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376-D0CC-4BE1-88E8-69933C0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A8B-E090-4A30-B72A-5FFACF1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FDA-D1BD-4D33-AC22-2BE7477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722-A37C-4F4A-AD7C-0B9C4CE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5FD-469E-4C48-8E7B-0BC3C5D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7DE-38FF-4271-8BC5-4DBDB19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6E7-DBFA-4291-8D95-9007529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F75-EC2D-45F4-8274-4771BE2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CDF-0FAD-426A-A53B-6405EFE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3E1-3DB5-4DF6-BE4A-8B86689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9A8-8FB8-4D44-9D1D-DB791F5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02F-B235-407C-97C1-DEDE11723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oard"/>
          <p:cNvPicPr/>
          <p:nvPr/>
        </p:nvPicPr>
        <p:blipFill>
          <a:blip r:embed="rId1"/>
          <a:stretch/>
        </p:blipFill>
        <p:spPr>
          <a:xfrm>
            <a:off x="250920" y="0"/>
            <a:ext cx="2520720" cy="227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82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Rockwell Extra Bold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Rockwell Extra Bold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ПРАВОПИСАНИЕ ПРЕДЛОГ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00000" y="1409760"/>
          <a:ext cx="7344000" cy="4751280"/>
        </p:xfrm>
        <a:graphic>
          <a:graphicData uri="http://schemas.openxmlformats.org/drawingml/2006/table">
            <a:tbl>
              <a:tblPr/>
              <a:tblGrid>
                <a:gridCol w="3562560"/>
                <a:gridCol w="37814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Е пишем на конце следующих предлогов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И пишем на конце следующих предлогов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ЕДСТВ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ДОЛЖ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КЛЮЧ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ДОБ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ЛИЧ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РАВН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РОТЯЖ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1"/>
          <p:cNvSpPr/>
          <p:nvPr/>
        </p:nvSpPr>
        <p:spPr>
          <a:xfrm>
            <a:off x="39528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Е и И на конце некоторых предлогов</a:t>
            </a:r>
            <a:endParaRPr b="0" i="1" lang="en-US" sz="3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ТЕ!!!</a:t>
            </a:r>
            <a:endParaRPr b="0" i="1" lang="en-US" sz="32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2276640"/>
          <a:ext cx="7489800" cy="4149720"/>
        </p:xfrm>
        <a:graphic>
          <a:graphicData uri="http://schemas.openxmlformats.org/drawingml/2006/table">
            <a:tbl>
              <a:tblPr/>
              <a:tblGrid>
                <a:gridCol w="4368960"/>
                <a:gridCol w="312084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ЧЕТАНИЕ СУЩЕСТВИТЕЛЬНОГО В П.п С ПРЕДЛОГО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ТЬ РАБОТУ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ЫШЛЯЯ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ПРОДОЛЖ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АТЬ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ЗАКЛЮЧ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течен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овора наметился неожиданный поворо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узна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продолжен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иал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провести пять лет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заключени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Box 1"/>
          <p:cNvSpPr/>
          <p:nvPr/>
        </p:nvSpPr>
        <p:spPr>
          <a:xfrm>
            <a:off x="971640" y="907920"/>
            <a:ext cx="74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Сравните, как отличается правописание предлогов с Е и И на конце от сочетаний существительных с предлогом:</a:t>
            </a:r>
            <a:endParaRPr b="0" i="1" lang="en-US" sz="20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870200" y="98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ИНАЕМ</a:t>
            </a:r>
            <a:r>
              <a:rPr b="1" i="1" lang="ru-RU" sz="1800" spc="-1" strike="noStrike">
                <a:solidFill>
                  <a:srgbClr val="ff0000"/>
                </a:solidFill>
                <a:latin typeface="Gungsuh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5" name="Прямая соединительная линия 3"/>
          <p:cNvSpPr/>
          <p:nvPr/>
        </p:nvSpPr>
        <p:spPr>
          <a:xfrm>
            <a:off x="3994200" y="134928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6" name="Прямая соединительная линия 5"/>
          <p:cNvSpPr/>
          <p:nvPr/>
        </p:nvSpPr>
        <p:spPr>
          <a:xfrm>
            <a:off x="900000" y="2205000"/>
            <a:ext cx="52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>
            <a:off x="900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50920" y="2781360"/>
            <a:ext cx="16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З ДЕФИС ПИШУТСЯ ПРЕДЛОГИ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95280" y="3789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ПОД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НАД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З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0" name="Прямая соединительная линия 11"/>
          <p:cNvSpPr/>
          <p:nvPr/>
        </p:nvSpPr>
        <p:spPr>
          <a:xfrm>
            <a:off x="305928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2124000" y="2781360"/>
            <a:ext cx="18702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ГИ,. КОТОРЫЕ ПИШУТСЯ СЛИТНО: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484360" y="3933720"/>
            <a:ext cx="1366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ВИДУ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МЕСТО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СЛЕДСТВИ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СЧЕТ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ПОДОБИ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ЕСМОТРЯ НА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ЕВЗИРАЯ  НА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ВСТРЕЧУ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РОД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61182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4" name="Прямоугольник 18"/>
          <p:cNvSpPr/>
          <p:nvPr/>
        </p:nvSpPr>
        <p:spPr>
          <a:xfrm>
            <a:off x="4811760" y="278136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ГИ, КОТОРЫЕ ПИШУТСЯ РАЗДЕЛЬНО</a:t>
            </a:r>
            <a:endParaRPr b="0" i="1" lang="en-US" sz="16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4811760" y="4005360"/>
            <a:ext cx="2639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ОЛЖ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И ОТ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68360" y="4762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М ИТОГИ УРОК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г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ловами всегда пишутся разд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ами предлоги могут писать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, слитно, раздельно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 пишутся сложные предлоги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предлога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зирая на, несмотря 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сегда слит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пишется на конце предлог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, в течение, в продолжение, в заключение, наподобие, в отличие от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апомнить какие предлог пишутся слитно, а какие раздель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бы правильно писать предлог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до уметь отличать их от других частей речи 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Ц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ЕЛЬ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бщие принципы написания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Какие предлоги в русском языке пишутся через дефи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сновные правила правоисания производных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Как отличать предлоги от других частей речи и почему это важно умет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S00559_1"/>
          <p:cNvPicPr/>
          <p:nvPr/>
        </p:nvPicPr>
        <p:blipFill>
          <a:blip r:embed="rId1"/>
          <a:stretch/>
        </p:blipFill>
        <p:spPr>
          <a:xfrm>
            <a:off x="0" y="0"/>
            <a:ext cx="327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84360" y="765000"/>
            <a:ext cx="7632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ТО НУЖНО ОБРАЩАТЬ ВНИМАНИЕ ПРИ НАПИСАНИИ ПРЕДЛОГОВ?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МНИ , чт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о словами всегда пишутся раздельно.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 предлоги могут писа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т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ьн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регулируется отдельными правилами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бы правильно писать предлоги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меть их отличать от других частей речи.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 u="sng">
              <a:solidFill>
                <a:srgbClr val="006600"/>
              </a:solidFill>
              <a:uFillTx/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50920" y="333360"/>
            <a:ext cx="8713800" cy="626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95280" y="549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А ПРАВОПИСАНИЯ ПРЕДЛОГОВ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фис в предлогах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в некоторых предлогах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литное написание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дельное написание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 или И на конце некоторых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</p:txBody>
      </p:sp>
      <p:pic>
        <p:nvPicPr>
          <p:cNvPr id="51" name="Объект 8" descr=""/>
          <p:cNvPicPr/>
          <p:nvPr/>
        </p:nvPicPr>
        <p:blipFill>
          <a:blip r:embed="rId1"/>
          <a:stretch/>
        </p:blipFill>
        <p:spPr>
          <a:xfrm>
            <a:off x="4572000" y="3686040"/>
            <a:ext cx="3989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1.Дефис в предлогах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рез дефис пишутся сложные предлоги , образованные путём повтора двух простых предлогов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-за, по-над, из-под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шибся из-за невнимательно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кочил из-под ди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5122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2781360"/>
          <a:ext cx="8464320" cy="3900600"/>
        </p:xfrm>
        <a:graphic>
          <a:graphicData uri="http://schemas.openxmlformats.org/drawingml/2006/table">
            <a:tbl>
              <a:tblPr/>
              <a:tblGrid>
                <a:gridCol w="4105080"/>
                <a:gridCol w="4359240"/>
              </a:tblGrid>
              <a:tr h="106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Деепричастие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взирая 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погоды, мы отправились в поход (=вопреки прогнозу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смотря 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т, он вернулся в город(=вопреки запрету, предлог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взира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а него, а лишь чувствуя его присутствии (=не глядя, сохраняет прямое значение «смотреть глазами»), не с деепричастие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смотр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стоящих рядом людей(=не глядя, сохраняет прямое значение «смотреть глазами»), н с деепричастие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468360" y="692280"/>
            <a:ext cx="7632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Правописание НЕ в предлогах</a:t>
            </a:r>
            <a:endParaRPr b="0" i="1" lang="en-US" sz="2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предлога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рая на, н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ря 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СЛИТ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! Эти предлоги необходимо различать о деепричастий с частицей Н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: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Слитно пишутся следующие предлоги:</a:t>
            </a:r>
            <a:br>
              <a:rPr sz="3200"/>
            </a:b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р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де, 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с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ёт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в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ду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м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сто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с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едствие, 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в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ечу,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п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добие,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з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мен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!Эти предлоги необходимо отличать от сочетаний существительных с предлогами.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ГАЕТ СДЕЛАТЬ ЭТО ПРАВИЛЬНО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мотреть на смысл и помнить, чт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редлог обычно можно заменить другим предлогом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едлог обычно нельзя у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000" y="549360"/>
          <a:ext cx="8534520" cy="5688000"/>
        </p:xfrm>
        <a:graphic>
          <a:graphicData uri="http://schemas.openxmlformats.org/drawingml/2006/table">
            <a:tbl>
              <a:tblPr/>
              <a:tblGrid>
                <a:gridCol w="4138560"/>
                <a:gridCol w="4395960"/>
              </a:tblGrid>
              <a:tr h="155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ЧЕТАНИЕ СУЩЕСТВИТЕЛЬНОГО С ПРЕДЛОГОМ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поездку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виду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го снегопада(из-за, по причин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а вышла из стро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ледств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ной ошибки (=из-за, по причин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л фигуру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род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ара (=наподоби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вори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сче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пуска (=ОБ отпуск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и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место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с(=за нас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я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вид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амятника (=около, вблизи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меть в виду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этом сочетании всегда раздельн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следстви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лу Юдашкина внесли поправки=в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ОД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ледствия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овать слова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род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падеже (=грамматическая категория рода, в мужском роде; нельзя заменить словом наподоби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ести деньги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 сче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банке(=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банковски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чёт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4.РАЗДЕЛЬНО ПИШУТСЯ СЛЕДДУЮЩИЕ 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чение 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лючение, в продолжение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е, в отличие от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язи с , в сравнении с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 п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тяжении, в целях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л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описание этих предлогов необходимо запомнить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7:12:58Z</dcterms:created>
  <dc:creator>Леонид</dc:creator>
  <dc:description/>
  <dc:language>en-US</dc:language>
  <cp:lastModifiedBy>Сергей</cp:lastModifiedBy>
  <dcterms:modified xsi:type="dcterms:W3CDTF">2022-02-14T15:09:23Z</dcterms:modified>
  <cp:revision>23</cp:revision>
  <dc:subject/>
  <dc:title>ТЕМА УРОКА</dc:title>
</cp:coreProperties>
</file>