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CAB4-67C2-4B47-901D-19CFE4D3D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12DD-631B-48BF-ADDB-34613AC3B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2BF5-052D-4586-A6B0-70FD02C15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FB98-6868-48D9-9369-9E675891A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1955-DCB6-4173-BB0E-270B2B376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C3A0-0539-4028-8034-D499BD290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86A0-B4D4-4C58-BAB3-5EFC2E9F6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C0DC-6CF9-4DB6-AD56-97AB3DF4C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F918-8D24-4FB5-9362-60D484144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98D7-C981-439C-A278-6D9A0E8A0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0D7B-3DF3-4E3B-858F-31CBAD1A1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2632-510C-4D93-8819-0E2FF7AF7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Gungsuh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Gungsuh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8DCF8-6599-47B6-9AC4-164C6BA432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Gungsuh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board"/>
          <p:cNvPicPr/>
          <p:nvPr/>
        </p:nvPicPr>
        <p:blipFill>
          <a:blip r:embed="rId1"/>
          <a:stretch/>
        </p:blipFill>
        <p:spPr>
          <a:xfrm>
            <a:off x="250920" y="0"/>
            <a:ext cx="2520720" cy="2276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987640" y="333000"/>
            <a:ext cx="58276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66"/>
                </a:solidFill>
                <a:latin typeface="Rockwell Extra Bold"/>
              </a:rPr>
              <a:t>  </a:t>
            </a:r>
            <a:r>
              <a:rPr b="1" lang="ru-RU" sz="6000" spc="-1" strike="noStrike">
                <a:solidFill>
                  <a:srgbClr val="ff0066"/>
                </a:solidFill>
                <a:latin typeface="Rockwell Extra Bold"/>
              </a:rPr>
              <a:t>ТЕМА УРО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94920" y="2349360"/>
            <a:ext cx="828036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00"/>
                </a:solidFill>
                <a:latin typeface="Arial"/>
              </a:rPr>
              <a:t>ПРАВОПИСАНИЕ ПРЕДЛОГО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900000" y="1409760"/>
          <a:ext cx="7344000" cy="4751280"/>
        </p:xfrm>
        <a:graphic>
          <a:graphicData uri="http://schemas.openxmlformats.org/drawingml/2006/table">
            <a:tbl>
              <a:tblPr/>
              <a:tblGrid>
                <a:gridCol w="3562560"/>
                <a:gridCol w="378144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90033"/>
                          </a:solidFill>
                          <a:latin typeface="Arial"/>
                          <a:ea typeface="Times New Roman"/>
                        </a:rPr>
                        <a:t>Е пишем на конце следующих предлогов: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Gungsuh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И пишем на конце следующих предлогов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Gungsuh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2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ЛЕДСТВИ</a:t>
                      </a:r>
                      <a:r>
                        <a:rPr b="1" lang="ru-RU" sz="20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</a:rPr>
                        <a:t>Е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Gungsuh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</a:t>
                      </a:r>
                      <a:r>
                        <a:rPr b="1" lang="ru-RU" sz="20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</a:rPr>
                        <a:t>Е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Gungsuh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РОДОЛЖЕНИ</a:t>
                      </a:r>
                      <a:r>
                        <a:rPr b="1" lang="ru-RU" sz="20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</a:rPr>
                        <a:t>Е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Gungsuh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ЗАКЛЮЧЕНИ</a:t>
                      </a:r>
                      <a:r>
                        <a:rPr b="1" lang="ru-RU" sz="20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</a:rPr>
                        <a:t>Е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Gungsuh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ОДОБИ</a:t>
                      </a:r>
                      <a:r>
                        <a:rPr b="1" lang="ru-RU" sz="20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</a:rPr>
                        <a:t>Е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Gungsuh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ТЛИЧИ</a:t>
                      </a:r>
                      <a:r>
                        <a:rPr b="1" lang="ru-RU" sz="20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</a:rPr>
                        <a:t>Е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ОТ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Gungsuh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СРАВНЕНИ</a:t>
                      </a:r>
                      <a:r>
                        <a:rPr b="1" lang="ru-RU" sz="20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И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С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Gungsuh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 ПРОТЯЖЕНИ</a:t>
                      </a:r>
                      <a:r>
                        <a:rPr b="1" lang="ru-RU" sz="20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И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Gungsuh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TextBox 1"/>
          <p:cNvSpPr/>
          <p:nvPr/>
        </p:nvSpPr>
        <p:spPr>
          <a:xfrm>
            <a:off x="395280" y="333360"/>
            <a:ext cx="79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. Е и И на конце некоторых предлогов</a:t>
            </a:r>
            <a:endParaRPr b="0" i="1" lang="en-US" sz="3200" spc="-1" strike="noStrike">
              <a:solidFill>
                <a:srgbClr val="000000"/>
              </a:solidFill>
              <a:latin typeface="Gungsuh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ПОМНИТЕ!!!</a:t>
            </a:r>
            <a:endParaRPr b="0" i="1" lang="en-US" sz="3200" spc="-1" strike="noStrike">
              <a:solidFill>
                <a:srgbClr val="000000"/>
              </a:solidFill>
              <a:latin typeface="Gungsu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900000" y="2276640"/>
          <a:ext cx="7489800" cy="4149720"/>
        </p:xfrm>
        <a:graphic>
          <a:graphicData uri="http://schemas.openxmlformats.org/drawingml/2006/table">
            <a:tbl>
              <a:tblPr/>
              <a:tblGrid>
                <a:gridCol w="4368960"/>
                <a:gridCol w="3120840"/>
              </a:tblGrid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ПРЕДЛОГ</a:t>
                      </a:r>
                      <a:endParaRPr b="0" i="1" lang="en-US" sz="3600" spc="-1" strike="noStrike">
                        <a:solidFill>
                          <a:srgbClr val="000000"/>
                        </a:solidFill>
                        <a:latin typeface="Gungsuh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СОЧЕТАНИЕ СУЩЕСТВИТЕЛЬНОГО В П.п С ПРЕДЛОГОМ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Gungsuh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0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ИТЬ РАБОТУ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 ТЕЧЕНИЕ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Я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Gungsuh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600" spc="-1" strike="noStrike">
                        <a:solidFill>
                          <a:srgbClr val="000000"/>
                        </a:solidFill>
                        <a:latin typeface="Gungsuh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600" spc="-1" strike="noStrike">
                        <a:solidFill>
                          <a:srgbClr val="000000"/>
                        </a:solidFill>
                        <a:latin typeface="Gungsuh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600" spc="-1" strike="noStrike">
                        <a:solidFill>
                          <a:srgbClr val="000000"/>
                        </a:solidFill>
                        <a:latin typeface="Gungsuh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МЫШЛЯЯ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 ПРОДОЛЖЕНИЕ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А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Gungsuh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600" spc="-1" strike="noStrike">
                        <a:solidFill>
                          <a:srgbClr val="000000"/>
                        </a:solidFill>
                        <a:latin typeface="Gungsuh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АЗАТЬ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 ЗАКЛЮЧЕНИЕ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КЦИИ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Gungsuh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: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в течении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говора наметился неожиданный поворот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Gungsuh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: узнать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в продолжении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риала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Gungsuh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: провести пять лет 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в заключении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Gungsuh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TextBox 1"/>
          <p:cNvSpPr/>
          <p:nvPr/>
        </p:nvSpPr>
        <p:spPr>
          <a:xfrm>
            <a:off x="971640" y="907920"/>
            <a:ext cx="748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Сравните, как отличается правописание предлогов с Е и И на конце от сочетаний существительных с предлогом:</a:t>
            </a:r>
            <a:endParaRPr b="0" i="1" lang="en-US" sz="2000" spc="-1" strike="noStrike">
              <a:solidFill>
                <a:srgbClr val="000000"/>
              </a:solidFill>
              <a:latin typeface="Gungsu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"/>
          <p:cNvSpPr/>
          <p:nvPr/>
        </p:nvSpPr>
        <p:spPr>
          <a:xfrm>
            <a:off x="1870200" y="98100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ПОМИНАЕМ</a:t>
            </a:r>
            <a:r>
              <a:rPr b="1" i="1" lang="ru-RU" sz="1800" spc="-1" strike="noStrike">
                <a:solidFill>
                  <a:srgbClr val="ff0000"/>
                </a:solidFill>
                <a:latin typeface="Gungsuh"/>
              </a:rPr>
              <a:t>!</a:t>
            </a:r>
            <a:endParaRPr b="0" i="1" lang="en-US" sz="1800" spc="-1" strike="noStrike">
              <a:solidFill>
                <a:srgbClr val="000000"/>
              </a:solidFill>
              <a:latin typeface="Gungsuh"/>
            </a:endParaRPr>
          </a:p>
        </p:txBody>
      </p:sp>
      <p:sp>
        <p:nvSpPr>
          <p:cNvPr id="65" name="Прямая соединительная линия 3"/>
          <p:cNvSpPr/>
          <p:nvPr/>
        </p:nvSpPr>
        <p:spPr>
          <a:xfrm>
            <a:off x="3994200" y="1349280"/>
            <a:ext cx="0" cy="85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Gungsuh"/>
            </a:endParaRPr>
          </a:p>
        </p:txBody>
      </p:sp>
      <p:sp>
        <p:nvSpPr>
          <p:cNvPr id="66" name="Прямая соединительная линия 5"/>
          <p:cNvSpPr/>
          <p:nvPr/>
        </p:nvSpPr>
        <p:spPr>
          <a:xfrm>
            <a:off x="900000" y="2205000"/>
            <a:ext cx="521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Gungsuh"/>
            </a:endParaRPr>
          </a:p>
        </p:txBody>
      </p:sp>
      <p:sp>
        <p:nvSpPr>
          <p:cNvPr id="67" name="Прямая соединительная линия 7"/>
          <p:cNvSpPr/>
          <p:nvPr/>
        </p:nvSpPr>
        <p:spPr>
          <a:xfrm>
            <a:off x="900000" y="220500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Gungsuh"/>
            </a:endParaRPr>
          </a:p>
        </p:txBody>
      </p:sp>
      <p:sp>
        <p:nvSpPr>
          <p:cNvPr id="68" name="Прямоугольник 8"/>
          <p:cNvSpPr/>
          <p:nvPr/>
        </p:nvSpPr>
        <p:spPr>
          <a:xfrm>
            <a:off x="250920" y="2781360"/>
            <a:ext cx="161928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ЕРЕЗ ДЕФИС ПИШУТСЯ ПРЕДЛОГИ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i="1" lang="en-US" sz="1800" spc="-1" strike="noStrike">
              <a:solidFill>
                <a:srgbClr val="000000"/>
              </a:solidFill>
              <a:latin typeface="Gungsuh"/>
            </a:endParaRPr>
          </a:p>
        </p:txBody>
      </p:sp>
      <p:sp>
        <p:nvSpPr>
          <p:cNvPr id="69" name="TextBox 9"/>
          <p:cNvSpPr/>
          <p:nvPr/>
        </p:nvSpPr>
        <p:spPr>
          <a:xfrm>
            <a:off x="395280" y="3789360"/>
            <a:ext cx="136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-ЗА</a:t>
            </a:r>
            <a:endParaRPr b="0" i="1" lang="en-US" sz="1800" spc="-1" strike="noStrike">
              <a:solidFill>
                <a:srgbClr val="000000"/>
              </a:solidFill>
              <a:latin typeface="Gungsuh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-ПОД</a:t>
            </a:r>
            <a:endParaRPr b="0" i="1" lang="en-US" sz="1800" spc="-1" strike="noStrike">
              <a:solidFill>
                <a:srgbClr val="000000"/>
              </a:solidFill>
              <a:latin typeface="Gungsuh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-НАД</a:t>
            </a:r>
            <a:endParaRPr b="0" i="1" lang="en-US" sz="1800" spc="-1" strike="noStrike">
              <a:solidFill>
                <a:srgbClr val="000000"/>
              </a:solidFill>
              <a:latin typeface="Gungsuh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-ЗА</a:t>
            </a:r>
            <a:endParaRPr b="0" i="1" lang="en-US" sz="1800" spc="-1" strike="noStrike">
              <a:solidFill>
                <a:srgbClr val="000000"/>
              </a:solidFill>
              <a:latin typeface="Gungsuh"/>
            </a:endParaRPr>
          </a:p>
        </p:txBody>
      </p:sp>
      <p:sp>
        <p:nvSpPr>
          <p:cNvPr id="70" name="Прямая соединительная линия 11"/>
          <p:cNvSpPr/>
          <p:nvPr/>
        </p:nvSpPr>
        <p:spPr>
          <a:xfrm>
            <a:off x="3059280" y="2205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Gungsuh"/>
            </a:endParaRPr>
          </a:p>
        </p:txBody>
      </p:sp>
      <p:sp>
        <p:nvSpPr>
          <p:cNvPr id="71" name="Прямоугольник 12"/>
          <p:cNvSpPr/>
          <p:nvPr/>
        </p:nvSpPr>
        <p:spPr>
          <a:xfrm>
            <a:off x="2124000" y="2781360"/>
            <a:ext cx="18702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ДЛОГИ,. КОТОРЫЕ ПИШУТСЯ СЛИТНО:</a:t>
            </a:r>
            <a:endParaRPr b="0" i="1" lang="en-US" sz="1400" spc="-1" strike="noStrike">
              <a:solidFill>
                <a:srgbClr val="000000"/>
              </a:solidFill>
              <a:latin typeface="Gungsuh"/>
            </a:endParaRPr>
          </a:p>
        </p:txBody>
      </p:sp>
      <p:sp>
        <p:nvSpPr>
          <p:cNvPr id="72" name="TextBox 13"/>
          <p:cNvSpPr/>
          <p:nvPr/>
        </p:nvSpPr>
        <p:spPr>
          <a:xfrm>
            <a:off x="2484360" y="3933720"/>
            <a:ext cx="136692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Gungsuh"/>
              </a:rPr>
              <a:t>ВВИДУ</a:t>
            </a:r>
            <a:endParaRPr b="0" i="1" lang="en-US" sz="1200" spc="-1" strike="noStrike">
              <a:solidFill>
                <a:srgbClr val="000000"/>
              </a:solidFill>
              <a:latin typeface="Gungsuh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Gungsuh"/>
              </a:rPr>
              <a:t>ВМЕСТО</a:t>
            </a:r>
            <a:endParaRPr b="0" i="1" lang="en-US" sz="1200" spc="-1" strike="noStrike">
              <a:solidFill>
                <a:srgbClr val="000000"/>
              </a:solidFill>
              <a:latin typeface="Gungsuh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Gungsuh"/>
              </a:rPr>
              <a:t>ВСЛЕДСТВИЕ</a:t>
            </a:r>
            <a:endParaRPr b="0" i="1" lang="en-US" sz="1200" spc="-1" strike="noStrike">
              <a:solidFill>
                <a:srgbClr val="000000"/>
              </a:solidFill>
              <a:latin typeface="Gungsuh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Gungsuh"/>
              </a:rPr>
              <a:t>НАСЧЕТ</a:t>
            </a:r>
            <a:endParaRPr b="0" i="1" lang="en-US" sz="1200" spc="-1" strike="noStrike">
              <a:solidFill>
                <a:srgbClr val="000000"/>
              </a:solidFill>
              <a:latin typeface="Gungsuh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Gungsuh"/>
              </a:rPr>
              <a:t>НАПОДОБИЕ</a:t>
            </a:r>
            <a:endParaRPr b="0" i="1" lang="en-US" sz="1200" spc="-1" strike="noStrike">
              <a:solidFill>
                <a:srgbClr val="000000"/>
              </a:solidFill>
              <a:latin typeface="Gungsuh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Gungsuh"/>
              </a:rPr>
              <a:t>НЕСМОТРЯ НА</a:t>
            </a:r>
            <a:endParaRPr b="0" i="1" lang="en-US" sz="1200" spc="-1" strike="noStrike">
              <a:solidFill>
                <a:srgbClr val="000000"/>
              </a:solidFill>
              <a:latin typeface="Gungsuh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Gungsuh"/>
              </a:rPr>
              <a:t>НЕВЗИРАЯ  НА</a:t>
            </a:r>
            <a:endParaRPr b="0" i="1" lang="en-US" sz="1200" spc="-1" strike="noStrike">
              <a:solidFill>
                <a:srgbClr val="000000"/>
              </a:solidFill>
              <a:latin typeface="Gungsuh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Gungsuh"/>
              </a:rPr>
              <a:t>НАВСТРЕЧУ</a:t>
            </a:r>
            <a:endParaRPr b="0" i="1" lang="en-US" sz="1200" spc="-1" strike="noStrike">
              <a:solidFill>
                <a:srgbClr val="000000"/>
              </a:solidFill>
              <a:latin typeface="Gungsuh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Gungsuh"/>
              </a:rPr>
              <a:t>ВРОДЕ</a:t>
            </a:r>
            <a:endParaRPr b="0" i="1" lang="en-US" sz="1200" spc="-1" strike="noStrike">
              <a:solidFill>
                <a:srgbClr val="000000"/>
              </a:solidFill>
              <a:latin typeface="Gungsuh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Gungsuh"/>
            </a:endParaRPr>
          </a:p>
        </p:txBody>
      </p:sp>
      <p:sp>
        <p:nvSpPr>
          <p:cNvPr id="73" name="Прямая соединительная линия 17"/>
          <p:cNvSpPr/>
          <p:nvPr/>
        </p:nvSpPr>
        <p:spPr>
          <a:xfrm>
            <a:off x="6118200" y="2205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Gungsuh"/>
            </a:endParaRPr>
          </a:p>
        </p:txBody>
      </p:sp>
      <p:sp>
        <p:nvSpPr>
          <p:cNvPr id="74" name="Прямоугольник 18"/>
          <p:cNvSpPr/>
          <p:nvPr/>
        </p:nvSpPr>
        <p:spPr>
          <a:xfrm>
            <a:off x="4811760" y="2781360"/>
            <a:ext cx="2376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ДЛОГИ, КОТОРЫЕ ПИШУТСЯ РАЗДЕЛЬНО</a:t>
            </a:r>
            <a:endParaRPr b="0" i="1" lang="en-US" sz="1600" spc="-1" strike="noStrike">
              <a:solidFill>
                <a:srgbClr val="000000"/>
              </a:solidFill>
              <a:latin typeface="Gungsuh"/>
            </a:endParaRPr>
          </a:p>
        </p:txBody>
      </p:sp>
      <p:sp>
        <p:nvSpPr>
          <p:cNvPr id="75" name="TextBox 19"/>
          <p:cNvSpPr/>
          <p:nvPr/>
        </p:nvSpPr>
        <p:spPr>
          <a:xfrm>
            <a:off x="4811760" y="4005360"/>
            <a:ext cx="26398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ВИДЕ</a:t>
            </a:r>
            <a:endParaRPr b="0" i="1" lang="en-US" sz="1400" spc="-1" strike="noStrike">
              <a:solidFill>
                <a:srgbClr val="000000"/>
              </a:solidFill>
              <a:latin typeface="Gungsuh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ЧЕНИЕ</a:t>
            </a:r>
            <a:endParaRPr b="0" i="1" lang="en-US" sz="1400" spc="-1" strike="noStrike">
              <a:solidFill>
                <a:srgbClr val="000000"/>
              </a:solidFill>
              <a:latin typeface="Gungsuh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ДОЛЖЕНИЕ</a:t>
            </a:r>
            <a:endParaRPr b="0" i="1" lang="en-US" sz="1400" spc="-1" strike="noStrike">
              <a:solidFill>
                <a:srgbClr val="000000"/>
              </a:solidFill>
              <a:latin typeface="Gungsuh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АКЛЮЧЕНИЕ</a:t>
            </a:r>
            <a:endParaRPr b="0" i="1" lang="en-US" sz="1400" spc="-1" strike="noStrike">
              <a:solidFill>
                <a:srgbClr val="000000"/>
              </a:solidFill>
              <a:latin typeface="Gungsuh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ИЛУ</a:t>
            </a:r>
            <a:endParaRPr b="0" i="1" lang="en-US" sz="1400" spc="-1" strike="noStrike">
              <a:solidFill>
                <a:srgbClr val="000000"/>
              </a:solidFill>
              <a:latin typeface="Gungsuh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ЦЕЛЯХ</a:t>
            </a:r>
            <a:endParaRPr b="0" i="1" lang="en-US" sz="1400" spc="-1" strike="noStrike">
              <a:solidFill>
                <a:srgbClr val="000000"/>
              </a:solidFill>
              <a:latin typeface="Gungsuh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ЛИЧИИ ОТ</a:t>
            </a:r>
            <a:endParaRPr b="0" i="1" lang="en-US" sz="1400" spc="-1" strike="noStrike">
              <a:solidFill>
                <a:srgbClr val="000000"/>
              </a:solidFill>
              <a:latin typeface="Gungsuh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ВЯЗИ С </a:t>
            </a:r>
            <a:endParaRPr b="0" i="1" lang="en-US" sz="1400" spc="-1" strike="noStrike">
              <a:solidFill>
                <a:srgbClr val="000000"/>
              </a:solidFill>
              <a:latin typeface="Gungsuh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ОТЯЖЕНИИ</a:t>
            </a:r>
            <a:endParaRPr b="0" i="1" lang="en-US" sz="1400" spc="-1" strike="noStrike">
              <a:solidFill>
                <a:srgbClr val="000000"/>
              </a:solidFill>
              <a:latin typeface="Gungsuh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АВНЕНИИ С</a:t>
            </a:r>
            <a:endParaRPr b="0" i="1" lang="en-US" sz="1400" spc="-1" strike="noStrike">
              <a:solidFill>
                <a:srgbClr val="000000"/>
              </a:solidFill>
              <a:latin typeface="Gungsu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1"/>
          <p:cNvSpPr/>
          <p:nvPr/>
        </p:nvSpPr>
        <p:spPr>
          <a:xfrm>
            <a:off x="468360" y="476280"/>
            <a:ext cx="7848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ВЕДЕМ ИТОГИ УРОКА</a:t>
            </a:r>
            <a:endParaRPr b="0" i="1" lang="en-US" sz="1800" spc="-1" strike="noStrike">
              <a:solidFill>
                <a:srgbClr val="000000"/>
              </a:solidFill>
              <a:latin typeface="Gungsuh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Gungsuh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Предлог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 словами всегда пишутся раздельн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i="1" lang="en-US" sz="2400" spc="-1" strike="noStrike">
              <a:solidFill>
                <a:srgbClr val="000000"/>
              </a:solidFill>
              <a:latin typeface="Gungsuh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Сами предлоги могут писатьс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з дефис, слитно, раздельно.</a:t>
            </a:r>
            <a:endParaRPr b="0" i="1" lang="en-US" sz="2400" spc="-1" strike="noStrike">
              <a:solidFill>
                <a:srgbClr val="000000"/>
              </a:solidFill>
              <a:latin typeface="Gungsuh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з дефис пишутся сложные предлоги</a:t>
            </a:r>
            <a:endParaRPr b="0" i="1" lang="en-US" sz="2400" spc="-1" strike="noStrike">
              <a:solidFill>
                <a:srgbClr val="000000"/>
              </a:solidFill>
              <a:latin typeface="Gungsuh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в предлогах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взирая на, несмотря н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шется всегда слитно</a:t>
            </a:r>
            <a:endParaRPr b="0" i="1" lang="en-US" sz="2400" spc="-1" strike="noStrike">
              <a:solidFill>
                <a:srgbClr val="000000"/>
              </a:solidFill>
              <a:latin typeface="Gungsuh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 пишется на конце предлогов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ледствие, в течение, в продолжение, в заключение, наподобие, в отличие от.</a:t>
            </a:r>
            <a:endParaRPr b="0" i="1" lang="en-US" sz="2400" spc="-1" strike="noStrike">
              <a:solidFill>
                <a:srgbClr val="000000"/>
              </a:solidFill>
              <a:latin typeface="Gungsuh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жно запомнить какие предлог пишутся слитно, а какие раздельно</a:t>
            </a:r>
            <a:endParaRPr b="0" i="1" lang="en-US" sz="2400" spc="-1" strike="noStrike">
              <a:solidFill>
                <a:srgbClr val="000000"/>
              </a:solidFill>
              <a:latin typeface="Gungsuh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Чтобы правильно писать предлог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адо уметь отличать их от других частей речи </a:t>
            </a:r>
            <a:endParaRPr b="0" i="1" lang="en-US" sz="2400" spc="-1" strike="noStrike">
              <a:solidFill>
                <a:srgbClr val="000000"/>
              </a:solidFill>
              <a:latin typeface="Gungsu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780000" y="274320"/>
            <a:ext cx="490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66"/>
                </a:solidFill>
                <a:latin typeface="Arial"/>
              </a:rPr>
              <a:t>Ц</a:t>
            </a:r>
            <a:r>
              <a:rPr b="1" lang="ru-RU" sz="5400" spc="-1" strike="noStrike">
                <a:solidFill>
                  <a:srgbClr val="ff0066"/>
                </a:solidFill>
                <a:latin typeface="Arial"/>
              </a:rPr>
              <a:t>ЕЛЬ УРО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Общие принципы написания предлог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Какие предлоги в русском языке пишутся через дефи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Основные правила правоисания производных предлог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Arial"/>
              </a:rPr>
              <a:t>Как отличать предлоги от других частей речи и почему это важно уметь дел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BS00559_1"/>
          <p:cNvPicPr/>
          <p:nvPr/>
        </p:nvPicPr>
        <p:blipFill>
          <a:blip r:embed="rId1"/>
          <a:stretch/>
        </p:blipFill>
        <p:spPr>
          <a:xfrm>
            <a:off x="0" y="0"/>
            <a:ext cx="327672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684360" y="765000"/>
            <a:ext cx="763272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 ЧТО НУЖНО ОБРАЩАТЬ ВНИМАНИЕ ПРИ НАПИСАНИИ ПРЕДЛОГОВ?</a:t>
            </a:r>
            <a:endParaRPr b="0" i="1" lang="en-US" sz="2400" spc="-1" strike="noStrike">
              <a:solidFill>
                <a:srgbClr val="000000"/>
              </a:solidFill>
              <a:latin typeface="Gungsuh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ПОМНИ , что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ги со словами всегда пишутся раздельно.</a:t>
            </a:r>
            <a:endParaRPr b="0" i="1" lang="en-US" sz="3600" spc="-1" strike="noStrike">
              <a:solidFill>
                <a:srgbClr val="000000"/>
              </a:solidFill>
              <a:latin typeface="Gungsuh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и предлоги могут писаться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з дефис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итн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ли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ьно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Это регулируется отдельными правилами</a:t>
            </a:r>
            <a:endParaRPr b="0" i="1" lang="en-US" sz="3600" spc="-1" strike="noStrike">
              <a:solidFill>
                <a:srgbClr val="000000"/>
              </a:solidFill>
              <a:latin typeface="Gungsuh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Чтобы правильно писать предлоги,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о уметь их отличать от других частей речи.</a:t>
            </a:r>
            <a:endParaRPr b="0" i="1" lang="en-US" sz="3600" spc="-1" strike="noStrike">
              <a:solidFill>
                <a:srgbClr val="000000"/>
              </a:solidFill>
              <a:latin typeface="Gungsu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7200" spc="-1" strike="noStrike" u="sng">
              <a:solidFill>
                <a:srgbClr val="006600"/>
              </a:solidFill>
              <a:uFillTx/>
              <a:latin typeface="Arial"/>
            </a:endParaRPr>
          </a:p>
        </p:txBody>
      </p:sp>
      <p:sp>
        <p:nvSpPr>
          <p:cNvPr id="49" name="Прямоугольник 4"/>
          <p:cNvSpPr/>
          <p:nvPr/>
        </p:nvSpPr>
        <p:spPr>
          <a:xfrm>
            <a:off x="250920" y="333360"/>
            <a:ext cx="8713800" cy="626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Gungsuh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395280" y="549360"/>
            <a:ext cx="8353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А ПРАВОПИСАНИЯ ПРЕДЛОГОВ</a:t>
            </a:r>
            <a:endParaRPr b="0" i="1" lang="en-US" sz="1800" spc="-1" strike="noStrike">
              <a:solidFill>
                <a:srgbClr val="000000"/>
              </a:solidFill>
              <a:latin typeface="Gungsuh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Дефис в предлогах</a:t>
            </a:r>
            <a:endParaRPr b="0" i="1" lang="en-US" sz="3600" spc="-1" strike="noStrike">
              <a:solidFill>
                <a:srgbClr val="000000"/>
              </a:solidFill>
              <a:latin typeface="Gungsuh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НЕ в некоторых предлогах</a:t>
            </a:r>
            <a:endParaRPr b="0" i="1" lang="en-US" sz="3600" spc="-1" strike="noStrike">
              <a:solidFill>
                <a:srgbClr val="000000"/>
              </a:solidFill>
              <a:latin typeface="Gungsuh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литное написание предлогов</a:t>
            </a:r>
            <a:endParaRPr b="0" i="1" lang="en-US" sz="3600" spc="-1" strike="noStrike">
              <a:solidFill>
                <a:srgbClr val="000000"/>
              </a:solidFill>
              <a:latin typeface="Gungsuh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Раздельное написание предлогов</a:t>
            </a:r>
            <a:endParaRPr b="0" i="1" lang="en-US" sz="3600" spc="-1" strike="noStrike">
              <a:solidFill>
                <a:srgbClr val="000000"/>
              </a:solidFill>
              <a:latin typeface="Gungsuh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Е или И на конце некоторых предлогов</a:t>
            </a:r>
            <a:endParaRPr b="0" i="1" lang="en-US" sz="3600" spc="-1" strike="noStrike">
              <a:solidFill>
                <a:srgbClr val="000000"/>
              </a:solidFill>
              <a:latin typeface="Gungsuh"/>
            </a:endParaRPr>
          </a:p>
        </p:txBody>
      </p:sp>
      <p:pic>
        <p:nvPicPr>
          <p:cNvPr id="51" name="Объект 8" descr=""/>
          <p:cNvPicPr/>
          <p:nvPr/>
        </p:nvPicPr>
        <p:blipFill>
          <a:blip r:embed="rId1"/>
          <a:stretch/>
        </p:blipFill>
        <p:spPr>
          <a:xfrm>
            <a:off x="4572000" y="3686040"/>
            <a:ext cx="398952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1.Дефис в предлогах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Через дефис пишутся сложные предлоги , образованные путём повтора двух простых предлогов: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з-за, по-над, из-под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МЕРЫ: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шибся из-за невнимательности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скочил из-под дива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988640"/>
            <a:ext cx="51228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250920" y="2781360"/>
          <a:ext cx="8464320" cy="3900600"/>
        </p:xfrm>
        <a:graphic>
          <a:graphicData uri="http://schemas.openxmlformats.org/drawingml/2006/table">
            <a:tbl>
              <a:tblPr/>
              <a:tblGrid>
                <a:gridCol w="4105080"/>
                <a:gridCol w="4359240"/>
              </a:tblGrid>
              <a:tr h="1064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Предлог</a:t>
                      </a:r>
                      <a:endParaRPr b="0" i="1" lang="en-US" sz="3600" spc="-1" strike="noStrike">
                        <a:solidFill>
                          <a:srgbClr val="000000"/>
                        </a:solidFill>
                        <a:latin typeface="Gungsuh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Деепричастие</a:t>
                      </a:r>
                      <a:endParaRPr b="0" i="1" lang="en-US" sz="3600" spc="-1" strike="noStrike">
                        <a:solidFill>
                          <a:srgbClr val="000000"/>
                        </a:solidFill>
                        <a:latin typeface="Gungsuh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евзирая на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гноз погоды, мы отправились в поход (=вопреки прогнозу)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Gungsuh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Gungsuh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есмотря на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рет, он вернулся в город(=вопреки запрету, предлог)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Gungsuh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Не взирая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на него, а лишь чувствуя его присутствии (=не глядя, сохраняет прямое значение «смотреть глазами»), не с деепричастием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Gungsuh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НЕ смотря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 стоящих рядом людей(=не глядя, сохраняет прямое значение «смотреть глазами»), н с деепричастием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Gungsuh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TextBox 1"/>
          <p:cNvSpPr/>
          <p:nvPr/>
        </p:nvSpPr>
        <p:spPr>
          <a:xfrm>
            <a:off x="468360" y="692280"/>
            <a:ext cx="763272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2.Правописание НЕ в предлогах</a:t>
            </a:r>
            <a:endParaRPr b="0" i="1" lang="en-US" sz="2800" spc="-1" strike="noStrike">
              <a:solidFill>
                <a:srgbClr val="000000"/>
              </a:solidFill>
              <a:latin typeface="Gungsuh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в предлогах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в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рая на, н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с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тря н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шется СЛИТНО</a:t>
            </a:r>
            <a:endParaRPr b="0" i="1" lang="en-US" sz="2400" spc="-1" strike="noStrike">
              <a:solidFill>
                <a:srgbClr val="000000"/>
              </a:solidFill>
              <a:latin typeface="Gungsuh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О! Эти предлоги необходимо различать о деепричастий с частицей НЕ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ите:</a:t>
            </a:r>
            <a:endParaRPr b="0" i="1" lang="en-US" sz="2400" spc="-1" strike="noStrike">
              <a:solidFill>
                <a:srgbClr val="000000"/>
              </a:solidFill>
              <a:latin typeface="Gungsu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560" y="404640"/>
            <a:ext cx="8569080" cy="590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Слитно пишутся следующие предлоги:</a:t>
            </a:r>
            <a:br>
              <a:rPr sz="3200"/>
            </a:br>
            <a:r>
              <a:rPr b="1" lang="ru-RU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Вр</a:t>
            </a:r>
            <a:r>
              <a:rPr b="1" lang="ru-RU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оде, н</a:t>
            </a:r>
            <a:r>
              <a:rPr b="1" lang="ru-RU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ас</a:t>
            </a:r>
            <a:r>
              <a:rPr b="1" lang="ru-RU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чёт, </a:t>
            </a:r>
            <a:r>
              <a:rPr b="1" lang="ru-RU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вв</a:t>
            </a:r>
            <a:r>
              <a:rPr b="1" lang="ru-RU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иду, </a:t>
            </a:r>
            <a:r>
              <a:rPr b="1" lang="ru-RU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вм</a:t>
            </a:r>
            <a:r>
              <a:rPr b="1" lang="ru-RU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есто, </a:t>
            </a:r>
            <a:r>
              <a:rPr b="1" lang="ru-RU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вс</a:t>
            </a:r>
            <a:r>
              <a:rPr b="1" lang="ru-RU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ледствие, н</a:t>
            </a:r>
            <a:r>
              <a:rPr b="1" lang="ru-RU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ав</a:t>
            </a:r>
            <a:r>
              <a:rPr b="1" lang="ru-RU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стречу,н</a:t>
            </a:r>
            <a:r>
              <a:rPr b="1" lang="ru-RU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ап</a:t>
            </a:r>
            <a:r>
              <a:rPr b="1" lang="ru-RU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одобие,</a:t>
            </a:r>
            <a:r>
              <a:rPr b="1" lang="ru-RU" sz="32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вз</a:t>
            </a:r>
            <a:r>
              <a:rPr b="1" lang="ru-RU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амен.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О!Эти предлоги необходимо отличать от сочетаний существительных с предлогами.</a:t>
            </a:r>
            <a:br>
              <a:rPr sz="3200"/>
            </a:br>
            <a:br>
              <a:rPr sz="32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ПОМОГАЕТ СДЕЛАТЬ ЭТО ПРАВИЛЬНО?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 смотреть на смысл и помнить, что: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предлог обычно можно заменить другим предлогом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предлог обычно нельзя убр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08000" y="549360"/>
          <a:ext cx="8534520" cy="5688000"/>
        </p:xfrm>
        <a:graphic>
          <a:graphicData uri="http://schemas.openxmlformats.org/drawingml/2006/table">
            <a:tbl>
              <a:tblPr/>
              <a:tblGrid>
                <a:gridCol w="4138560"/>
                <a:gridCol w="4395960"/>
              </a:tblGrid>
              <a:tr h="1555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Предлог</a:t>
                      </a:r>
                      <a:endParaRPr b="0" i="1" lang="en-US" sz="3600" spc="-1" strike="noStrike">
                        <a:solidFill>
                          <a:srgbClr val="000000"/>
                        </a:solidFill>
                        <a:latin typeface="Gungsuh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СОЧЕТАНИЕ СУЩЕСТВИТЕЛЬНОГО С ПРЕДЛОГОМ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Gungsuh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32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менить поездку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виду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ильного снегопада(из-за, по причине)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Gungsuh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Gungsuh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шина вышла из строя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следствие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допущенной ошибки (=из-за, по причине)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Gungsuh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Gungsuh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ял фигуру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роде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шара (=наподобие)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Gungsuh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говорить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асчет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отпуска (=ОБ отпуске)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Gungsuh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журить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место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нас(=за нас)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Gungsuh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оять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в виду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памятника (=около, вблизи)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Gungsuh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Иметь в виду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в этом сочетании всегда раздельно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Gungsuh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В следствие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делу Юдашкина внесли поправки=в </a:t>
                      </a: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ХОДЕ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следствия)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Gungsuh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гласовать слова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в роде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 падеже (=грамматическая категория рода, в мужском роде; нельзя заменить словом наподобие)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Gungsuh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евести деньги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на счет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в банке(=на </a:t>
                      </a:r>
                      <a:r>
                        <a:rPr b="1" lang="ru-RU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банковский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счёт)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Gungsuh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4.РАЗДЕЛЬНО ПИШУТСЯ СЛЕДДУЮЩИЕ ПРЕДЛО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569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В т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ечение ,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в з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ключение, в продолжение,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в в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де, в отличие от,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в с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язи с , в сравнении с,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на п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отяжении, в целях,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в с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лу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равописание этих предлогов необходимо запомнить!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07:12:58Z</dcterms:created>
  <dc:creator>Леонид</dc:creator>
  <dc:description/>
  <dc:language>en-US</dc:language>
  <cp:lastModifiedBy>Сергей</cp:lastModifiedBy>
  <dcterms:modified xsi:type="dcterms:W3CDTF">2022-02-14T15:09:23Z</dcterms:modified>
  <cp:revision>23</cp:revision>
  <dc:subject/>
  <dc:title>ТЕМА УРОКА</dc:title>
</cp:coreProperties>
</file>