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DCDB3-FB85-4856-BE3E-5121CF99D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8A364-79F6-450D-AA3A-ACE3B9331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0D9B85-09F8-4DF4-AC2D-D833EDF4B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1C688-A2FE-4383-A554-0664AA4D4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D02E73-A8FD-456F-8218-B4A9FEAE2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ABF7E-4AC9-478C-A179-7D3A5CF21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C8A502-26C5-49C1-B042-0D2C336D4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7BE88-6C2D-438E-A120-58F0E0FC3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20413-5F76-4603-A88F-BAC15644A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E8FEA-336A-4A4E-8FC2-2F5DF2CF2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E6781-EAD5-473C-BEBC-F794C5541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A6150-02E6-4B6B-9366-BA0E05488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39ED2-7469-41B2-914A-A83667C84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72762-D5F3-4F15-AA56-448B05213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E93AE-0524-48A6-ACEC-0E56538C2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5EA06-5B7A-49C6-BAEB-045EABCD5E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3E9EA-D70D-4B80-8F59-9C32E9DB96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FD26E1-7122-488C-8D02-C0EA3CE960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925EA3-CAD8-4821-846E-66AD0E0CFB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78BF74-AB6C-467D-B61E-A9FE1F0CC3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5216F8-6574-4D9D-810D-E5034A7347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8D8044-5E75-4D8F-8DA5-DD155C854B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087C1-46A6-46D5-A6EA-753D2F072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5A885F-8192-49E2-982E-36560510C7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17DA8-4B5C-4912-AA97-B8D61365D1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33AC83-37BD-4A81-8352-62E5A187AB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80865A-BD82-4DE0-BAC4-46F30A3F2F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C493C5-0415-41F0-A884-0D0E0AFF23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A9B9F5-235A-49C1-A415-BD172F662A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A89C1F-7259-4130-BA48-2946BE2314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DE7ECA-1E3D-4D2C-9135-F3DD917119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0C9EE0-87A0-4B33-A42A-B0B24FF594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DE3C7B-2327-475C-BE48-7F42EE8EDB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F88C0-0757-4507-9E88-FCB00BB70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6D6152-814A-46A4-A19D-F8B1090AB7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0C37B3-B06A-43E8-8C7D-D28DC66F04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96477E-A988-42AC-A51A-88A7AE5A68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DB10E8-EA6C-4296-B253-88BD301E28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874D3A-0B7F-49B6-9D49-7FC43C25F6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B847B3-8CA3-48EC-827D-1840F0DFC8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079A0B-0642-43F6-BA57-EDD9B58651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DD25EC-9456-4642-A28D-416E135D1F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A654D3-67FE-418D-942B-E4B444E713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4A4FA-B116-438A-BF4F-6E6DD30EC0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5C683-BE5B-4D95-84C1-4A25AF13A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6A25F-94A5-429C-A447-E0787CF9A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04CFA-9248-414F-B415-D501E4FE2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8F568-BEDE-4C75-991E-E510541ED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D723B-89A4-42B1-95A7-52AF2D055B42}" type="slidenum">
              <a:rPr b="0" lang="ru-RU"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TextBox 12"/>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Arial"/>
            </a:endParaRPr>
          </a:p>
        </p:txBody>
      </p:sp>
      <p:sp>
        <p:nvSpPr>
          <p:cNvPr id="74" name="TextBox 13"/>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Arial"/>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1DE4C-DC68-4523-B850-C655C50A57D8}" type="slidenum">
              <a:rPr b="0" lang="ru-RU"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63FB4-F2EF-4C19-A648-513651EC6B1B}" type="slidenum">
              <a:rPr b="0" lang="ru-RU"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C2EC3-090D-43E2-BE81-7432FC5D3E56}" type="slidenum">
              <a:rPr b="0" lang="ru-RU"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267920"/>
            <a:ext cx="7772400" cy="2016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ebebeb"/>
                </a:solidFill>
                <a:latin typeface="Century Gothic"/>
              </a:rPr>
              <a:t>Тема № 1. Взаимосвязь индивидуальности человека и дизайна рекламы.</a:t>
            </a:r>
            <a:endParaRPr b="0" lang="en-US" sz="3200" spc="-1" strike="noStrike">
              <a:solidFill>
                <a:srgbClr val="ebebeb"/>
              </a:solidFill>
              <a:latin typeface="Century Gothic"/>
            </a:endParaRPr>
          </a:p>
        </p:txBody>
      </p:sp>
      <p:sp>
        <p:nvSpPr>
          <p:cNvPr id="235" name="PlaceHolder 2"/>
          <p:cNvSpPr>
            <a:spLocks noGrp="1"/>
          </p:cNvSpPr>
          <p:nvPr>
            <p:ph type="subTitle"/>
          </p:nvPr>
        </p:nvSpPr>
        <p:spPr>
          <a:xfrm>
            <a:off x="539640" y="3284640"/>
            <a:ext cx="7920000" cy="2016000"/>
          </a:xfrm>
          <a:prstGeom prst="rect">
            <a:avLst/>
          </a:prstGeom>
          <a:noFill/>
          <a:ln w="0">
            <a:noFill/>
          </a:ln>
        </p:spPr>
        <p:txBody>
          <a:bodyPr anchor="t">
            <a:noAutofit/>
          </a:bodyPr>
          <a:p>
            <a:pPr marL="343080"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8ad0d6"/>
                </a:solidFill>
                <a:latin typeface="Century Gothic"/>
              </a:rPr>
              <a:t>ПСИХОЛОГИЧЕСКИЕ ОСОБЕННОСТИ И ТИП ЛИЧНОСТИ ЗАКАЗЧИКА.</a:t>
            </a:r>
            <a:endParaRPr b="0" lang="en-US" sz="1700" spc="-1" strike="noStrike">
              <a:solidFill>
                <a:srgbClr val="ffffff"/>
              </a:solidFill>
              <a:latin typeface="Century Gothic"/>
            </a:endParaRPr>
          </a:p>
          <a:p>
            <a:pPr marL="343080" indent="-343080">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8ad0d6"/>
                </a:solidFill>
                <a:latin typeface="Century Gothic"/>
              </a:rPr>
              <a:t>СОЦИАЛЬНО-ПСИХОЛОГИЧЕСКИЕ ОСНОВЫ ЭФФЕКТИВНОЙ РЕКЛАМЫ.</a:t>
            </a:r>
            <a:endParaRPr b="0" lang="en-US" sz="1700" spc="-1" strike="noStrike">
              <a:solidFill>
                <a:srgbClr val="ffffff"/>
              </a:solidFill>
              <a:latin typeface="Century Gothic"/>
            </a:endParaRPr>
          </a:p>
          <a:p>
            <a:pPr marL="343080" indent="-343080">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8ad0d6"/>
                </a:solidFill>
                <a:latin typeface="Century Gothic"/>
              </a:rPr>
              <a:t>ПСИХОЛОГИЧЕСКОЕ ВОЗДЕЙСТВИЕ РЕКЛАМЫ. </a:t>
            </a:r>
            <a:endParaRPr b="0" lang="en-US" sz="1700" spc="-1" strike="noStrike">
              <a:solidFill>
                <a:srgbClr val="ffffff"/>
              </a:solidFill>
              <a:latin typeface="Century Gothic"/>
            </a:endParaRPr>
          </a:p>
          <a:p>
            <a:pPr marL="343080" indent="-343080">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8ad0d6"/>
                </a:solidFill>
                <a:latin typeface="Century Gothic"/>
              </a:rPr>
              <a:t>ПОЗИЦИОНИРОВАНИЕ КАК ФОРМУЛА УСПЕХА.  </a:t>
            </a:r>
            <a:endParaRPr b="0" lang="en-US" sz="1700" spc="-1" strike="noStrike">
              <a:solidFill>
                <a:srgbClr val="ffffff"/>
              </a:solidFill>
              <a:latin typeface="Century Gothic"/>
            </a:endParaRPr>
          </a:p>
          <a:p>
            <a:pPr marL="343080" indent="-343080">
              <a:buClr>
                <a:srgbClr val="8ad0d6"/>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8ad0d6"/>
                </a:solidFill>
                <a:latin typeface="Century Gothic"/>
              </a:rPr>
              <a:t>ПСИХОТЕХНОЛОГИИ РЕКЛАМНЫХ СРЕДСТВ. </a:t>
            </a:r>
            <a:endParaRPr b="0" lang="en-US" sz="1700" spc="-1" strike="noStrike">
              <a:solidFill>
                <a:srgbClr val="ffffff"/>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200" spc="-1" strike="noStrike">
                <a:solidFill>
                  <a:srgbClr val="ebebeb"/>
                </a:solidFill>
                <a:latin typeface="Century Gothic"/>
              </a:rPr>
              <a:t>Оптические иллюзии</a:t>
            </a:r>
            <a:endParaRPr b="0" lang="en-US" sz="4200" spc="-1" strike="noStrike">
              <a:solidFill>
                <a:srgbClr val="ebebeb"/>
              </a:solidFill>
              <a:latin typeface="Century Gothic"/>
            </a:endParaRPr>
          </a:p>
        </p:txBody>
      </p:sp>
      <p:sp>
        <p:nvSpPr>
          <p:cNvPr id="24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Century Gothic"/>
              </a:rPr>
              <a:t>Иллюзии - это искаженное, неадекватное отражение свойств воспринимаемого объекта. В переводе с латыни слово "иллюзия" означает "ошибка, заблуждение". Это говорит о том, что иллюзии с давних времен интерпретировались как некие сбои в работе зрительной системы. Изучением причин их возникновения занимались многие исследователи. Основной вопрос, интересующий не только психологов, но и художников, - как на основе двухмерного изображения на сетчатке воссоздается трехмерный видимый мир. Возможно, зрительная система использует определенные признаки глубины и удаленности, например, принцип перспективы, предполагающий, что все параллельные линии сходятся на уровне горизонта, а размеры объекта по мере его удаления от наблюдателя пропорционально уменьшаются.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8" descr="ris5"/>
          <p:cNvPicPr/>
          <p:nvPr/>
        </p:nvPicPr>
        <p:blipFill>
          <a:blip r:embed="rId1"/>
          <a:stretch/>
        </p:blipFill>
        <p:spPr>
          <a:xfrm>
            <a:off x="3348000" y="4076640"/>
            <a:ext cx="1905120" cy="1695600"/>
          </a:xfrm>
          <a:prstGeom prst="rect">
            <a:avLst/>
          </a:prstGeom>
          <a:ln w="0">
            <a:noFill/>
          </a:ln>
        </p:spPr>
      </p:pic>
      <p:sp>
        <p:nvSpPr>
          <p:cNvPr id="251" name="Rectangle 5"/>
          <p:cNvSpPr/>
          <p:nvPr/>
        </p:nvSpPr>
        <p:spPr>
          <a:xfrm>
            <a:off x="611280" y="2781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bebeb"/>
                </a:solidFill>
                <a:latin typeface="Arial"/>
              </a:rPr>
              <a:t>«Невозможная» лестница Пенроуза</a:t>
            </a:r>
            <a:r>
              <a:rPr b="0" lang="ru-RU" sz="4400" spc="-1" strike="noStrike">
                <a:solidFill>
                  <a:srgbClr val="ebebeb"/>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r>
              <a:rPr b="1" lang="ru-RU" sz="2800" spc="-1" strike="noStrike">
                <a:solidFill>
                  <a:srgbClr val="ebebeb"/>
                </a:solidFill>
                <a:latin typeface="Century Gothic"/>
              </a:rPr>
              <a:t>Основные закономерности зрительного восприятия.</a:t>
            </a:r>
            <a:br>
              <a:rPr sz="2800"/>
            </a:br>
            <a:endParaRPr b="0" lang="en-US" sz="2800" spc="-1" strike="noStrike">
              <a:solidFill>
                <a:srgbClr val="ebebeb"/>
              </a:solidFill>
              <a:latin typeface="Century Gothic"/>
            </a:endParaRPr>
          </a:p>
        </p:txBody>
      </p:sp>
      <p:sp>
        <p:nvSpPr>
          <p:cNvPr id="253" name=""/>
          <p:cNvSpPr txBox="1"/>
          <p:nvPr/>
        </p:nvSpPr>
        <p:spPr>
          <a:xfrm>
            <a:off x="971640" y="1628640"/>
            <a:ext cx="7129440" cy="4321440"/>
          </a:xfrm>
          <a:prstGeom prst="rect">
            <a:avLst/>
          </a:prstGeom>
          <a:noFill/>
          <a:ln w="0">
            <a:noFill/>
          </a:ln>
        </p:spPr>
        <p:txBody>
          <a:bodyPr anchor="t">
            <a:normAutofit/>
          </a:bodyPr>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Century Gothic"/>
              </a:rPr>
              <a:t>Константность. </a:t>
            </a:r>
            <a:r>
              <a:rPr b="0" lang="ru-RU" sz="1800" spc="-1" strike="noStrike">
                <a:solidFill>
                  <a:srgbClr val="ffffff"/>
                </a:solidFill>
                <a:latin typeface="Century Gothic"/>
              </a:rPr>
              <a:t>Постоянство восприятия величины и формы – это механизм корректирования, обеспечивающий адекватность зрительного образа объекта самому объекту.</a:t>
            </a:r>
            <a:endParaRPr b="0" lang="en-US" sz="18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Century Gothic"/>
              </a:rPr>
              <a:t>Соотносительность. </a:t>
            </a:r>
            <a:r>
              <a:rPr b="0" lang="ru-RU" sz="1800" spc="-1" strike="noStrike">
                <a:solidFill>
                  <a:srgbClr val="ffffff"/>
                </a:solidFill>
                <a:latin typeface="Century Gothic"/>
              </a:rPr>
              <a:t>Это особенность восприятия, выражающаяся в том, что все свойства одних предметов воспринимаются в сравнении с теми же свойствами других предметов.</a:t>
            </a:r>
            <a:endParaRPr b="0" lang="en-US" sz="18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Century Gothic"/>
              </a:rPr>
              <a:t>Иллюзорность. </a:t>
            </a:r>
            <a:r>
              <a:rPr b="0" lang="ru-RU" sz="1800" spc="-1" strike="noStrike">
                <a:solidFill>
                  <a:srgbClr val="ffffff"/>
                </a:solidFill>
                <a:latin typeface="Century Gothic"/>
              </a:rPr>
              <a:t>Причина обманчивости зрительного восприятия лежит как в физических свойствах предметов, так и особенностях устройства глаза.</a:t>
            </a:r>
            <a:endParaRPr b="0" lang="en-US" sz="18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Century Gothic"/>
              </a:rPr>
              <a:t>Ассоциативность. </a:t>
            </a:r>
            <a:r>
              <a:rPr b="0" lang="ru-RU" sz="1800" spc="-1" strike="noStrike">
                <a:solidFill>
                  <a:srgbClr val="ffffff"/>
                </a:solidFill>
                <a:latin typeface="Century Gothic"/>
              </a:rPr>
              <a:t>Она устанавливает связи между отдельными представлениями, вследствие чего одно из них вызывает другое и т.д.</a:t>
            </a:r>
            <a:endParaRPr b="0" lang="en-US" sz="18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ffffff"/>
                </a:solidFill>
                <a:latin typeface="Century Gothic"/>
              </a:rPr>
              <a:t>Образность. </a:t>
            </a:r>
            <a:r>
              <a:rPr b="0" lang="ru-RU" sz="1800" spc="-1" strike="noStrike">
                <a:solidFill>
                  <a:srgbClr val="ffffff"/>
                </a:solidFill>
                <a:latin typeface="Century Gothic"/>
              </a:rPr>
              <a:t>Это способность на ассоциативности способность возбуждать в сознании художественные образы.</a:t>
            </a:r>
            <a:endParaRPr b="0" lang="en-US" sz="1800" spc="-1" strike="noStrike">
              <a:solidFill>
                <a:srgbClr val="ffffff"/>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919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200" spc="-1" strike="noStrike">
                <a:solidFill>
                  <a:srgbClr val="ebebeb"/>
                </a:solidFill>
                <a:latin typeface="Century Gothic"/>
              </a:rPr>
              <a:t>Зоны визуального поля</a:t>
            </a:r>
            <a:endParaRPr b="0" lang="en-US" sz="3200" spc="-1" strike="noStrike">
              <a:solidFill>
                <a:srgbClr val="ebebeb"/>
              </a:solidFill>
              <a:latin typeface="Century Gothic"/>
            </a:endParaRPr>
          </a:p>
        </p:txBody>
      </p:sp>
      <p:sp>
        <p:nvSpPr>
          <p:cNvPr id="255" name=""/>
          <p:cNvSpPr txBox="1"/>
          <p:nvPr/>
        </p:nvSpPr>
        <p:spPr>
          <a:xfrm>
            <a:off x="826560" y="2052360"/>
            <a:ext cx="6712200" cy="4195800"/>
          </a:xfrm>
          <a:prstGeom prst="rect">
            <a:avLst/>
          </a:prstGeom>
          <a:noFill/>
          <a:ln w="0">
            <a:noFill/>
          </a:ln>
        </p:spPr>
        <p:txBody>
          <a:bodyPr anchor="t">
            <a:normAutofit/>
          </a:bodyPr>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Century Gothic"/>
              </a:rPr>
              <a:t>Любая двухмерная площадь, ограниченная рамкой, является визуальным полем, будь то экран телевизора, формат журнального листа или размер стенда. Рамка замыкает площадь зрительного внимания. </a:t>
            </a:r>
            <a:endParaRPr b="0" lang="en-US" sz="20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Century Gothic"/>
              </a:rPr>
              <a:t>У большинства (80%) людей бессознательные движения глазных яблок при рассматривании какого-либо объекта можно условно ограничить девятью зонами. Каждая из зрительных зон соответствует тому, какая система восприятия и мышления действует в данный момент. </a:t>
            </a:r>
            <a:endParaRPr b="0" lang="en-US" sz="20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Century Gothic"/>
              </a:rPr>
              <a:t>В верхней левой зоне глаза "отыскивают" виденные ранее образы, те, что составляют пережитый опыт человека. </a:t>
            </a:r>
            <a:endParaRPr b="0" lang="en-US" sz="20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000" spc="-1" strike="noStrike">
                <a:solidFill>
                  <a:srgbClr val="ffffff"/>
                </a:solidFill>
                <a:latin typeface="Century Gothic"/>
              </a:rPr>
              <a:t>Влево по горизонтали находится зона звуковой памяти.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1042920" y="691920"/>
            <a:ext cx="7345440" cy="532908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ffffff"/>
                </a:solidFill>
                <a:latin typeface="Century Gothic"/>
              </a:rPr>
              <a:t>Размещение информации с учётом визуальных зон вызывает эффект присоединения к системам восприятия и механизмам мышления. Такое расположение визуальной информации уместно особенно в полиграфической, плакатной и стендовой рекламе: фотографию красочной упаковки рекламируемого товара лучше помещать в верхнюю часть плаката или газетного листа, а фотографию самого продукта (особенно если он съедобен) – в правый нижний угол.</a:t>
            </a:r>
            <a:endParaRPr b="0" lang="en-US" sz="28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899640" y="764640"/>
            <a:ext cx="7559640" cy="536580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Century Gothic"/>
              </a:rPr>
              <a:t>Повышению привлекательности предмета способствует задействование визуальных субмодальностей, например: приближение; увеличение размера; освещенности, насыщенности цветом; добавление бликов и блеска, ореола, контрастности. Если при этом один образ должен быть привлекательнее другого, то второй образ лучше сделать черно-белым, в серых тонах, размытым, с затемнением фона. [5, с.96]</a:t>
            </a:r>
            <a:endParaRPr b="0" lang="en-US" sz="2400" spc="-1" strike="noStrike">
              <a:solidFill>
                <a:srgbClr val="ffffff"/>
              </a:solidFill>
              <a:latin typeface="Century Gothic"/>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Century Gothic"/>
              </a:rPr>
              <a:t>Еще один параметр, влияющий на восприятие - ассоциированность. Ассоциированное восприятие усиливает переживание, диссоциированное - уменьшает.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404640"/>
            <a:ext cx="8229600" cy="572616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400" spc="-1" strike="noStrike">
                <a:solidFill>
                  <a:srgbClr val="ffffff"/>
                </a:solidFill>
                <a:latin typeface="Century Gothic"/>
              </a:rPr>
              <a:t>Человеческий мозг обладает определенными особенностями восприятия окружающей нас действительности, которые необходимо помнить при создании творческих работ (разумеется, если вы хотите адекватной реакции от зрителя). Превосходя по своим возможностям современные компьютеры, мозг отличается от них тем, что имеет склонность концентрировать внимание на определенных объектах и исключать из внимания не интересующие его. </a:t>
            </a:r>
            <a:endParaRPr b="0" lang="en-US" sz="2400" spc="-1" strike="noStrike">
              <a:solidFill>
                <a:srgbClr val="ffffff"/>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ffffff"/>
                </a:solidFill>
                <a:latin typeface="Century Gothic"/>
              </a:rPr>
              <a:t>Реакция на опасность.</a:t>
            </a:r>
            <a:br>
              <a:rPr sz="2400"/>
            </a:br>
            <a:br>
              <a:rPr sz="2400"/>
            </a:br>
            <a:r>
              <a:rPr b="0" lang="ru-RU" sz="2400" spc="-1" strike="noStrike">
                <a:solidFill>
                  <a:srgbClr val="ffffff"/>
                </a:solidFill>
                <a:latin typeface="Century Gothic"/>
              </a:rPr>
              <a:t>В процессе эволюции человеческий мозг в целях самосохранения выработал определенные реакции ( на уровне подсознания ) на различные виды объектов, и при наличии некоторых факторов объект вызывает реакцию отторжения.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333360"/>
            <a:ext cx="8229600" cy="5797440"/>
          </a:xfrm>
          <a:prstGeom prst="rect">
            <a:avLst/>
          </a:prstGeom>
          <a:noFill/>
          <a:ln w="0">
            <a:noFill/>
          </a:ln>
        </p:spPr>
        <p:txBody>
          <a:bodyPr anchor="t">
            <a:normAutofit/>
          </a:bodyPr>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Размер </a:t>
            </a:r>
            <a:br>
              <a:rPr sz="2000"/>
            </a:br>
            <a:r>
              <a:rPr b="0" lang="ru-RU" sz="2000" spc="-1" strike="noStrike">
                <a:solidFill>
                  <a:srgbClr val="ffffff"/>
                </a:solidFill>
                <a:latin typeface="Century Gothic"/>
              </a:rPr>
              <a:t>Большие объекты (и псевдоувеличенные) острее воспринимаются, но чем сильнее реакция на объект - тем сильнее отторжение. Щит наружной рекламы на магистрали воспринимается более спокойно (расстояние, скорость, состояние защищенности в автомобиле). И тот же щит на пешеходной дорожке может просто подавить зрителя своими размерами и огромными цветовыми пятнами. </a:t>
            </a:r>
            <a:endParaRPr b="0" lang="en-US" sz="2000" spc="-1" strike="noStrike">
              <a:solidFill>
                <a:srgbClr val="ffffff"/>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Цвет </a:t>
            </a:r>
            <a:br>
              <a:rPr sz="2000"/>
            </a:br>
            <a:r>
              <a:rPr b="0" lang="ru-RU" sz="2000" spc="-1" strike="noStrike">
                <a:solidFill>
                  <a:srgbClr val="ffffff"/>
                </a:solidFill>
                <a:latin typeface="Century Gothic"/>
              </a:rPr>
              <a:t>В определенных пропорциях цвет способен создавать настроение и привлекать внимание, но при нарушении этих соотношений в сторону увеличения может восприниматься как опасность и вызывать реакцию недоверия.</a:t>
            </a:r>
            <a:endParaRPr b="0" lang="en-US" sz="2000" spc="-1" strike="noStrike">
              <a:solidFill>
                <a:srgbClr val="ffffff"/>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Естественность и уместность </a:t>
            </a:r>
            <a:br>
              <a:rPr sz="2000"/>
            </a:br>
            <a:r>
              <a:rPr b="0" lang="ru-RU" sz="2000" spc="-1" strike="noStrike">
                <a:solidFill>
                  <a:srgbClr val="ffffff"/>
                </a:solidFill>
                <a:latin typeface="Century Gothic"/>
              </a:rPr>
              <a:t>Любой объект или изображение может быть естественным в одной ситуации и неуместным в другой. </a:t>
            </a:r>
            <a:endParaRPr b="0" lang="en-US" sz="2000" spc="-1" strike="noStrike">
              <a:solidFill>
                <a:srgbClr val="ffffff"/>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Выделение объекта из среды. </a:t>
            </a:r>
            <a:br>
              <a:rPr sz="2000"/>
            </a:br>
            <a:r>
              <a:rPr b="0" lang="ru-RU" sz="2000" spc="-1" strike="noStrike">
                <a:solidFill>
                  <a:srgbClr val="ffffff"/>
                </a:solidFill>
                <a:latin typeface="Century Gothic"/>
              </a:rPr>
              <a:t>Среди однородных объектов внимание концентрируется на тот объект, который отличается какими-то качествами. Одна черная корова среди стада рыжих, большое объявление на полосе газеты среди маленьких, цветное изображение среди черно-белых и наоборот.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475920"/>
            <a:ext cx="8229600" cy="5654520"/>
          </a:xfrm>
          <a:prstGeom prst="rect">
            <a:avLst/>
          </a:prstGeom>
          <a:noFill/>
          <a:ln w="0">
            <a:noFill/>
          </a:ln>
        </p:spPr>
        <p:txBody>
          <a:bodyPr anchor="t">
            <a:normAutofit/>
          </a:bodyPr>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900" spc="-1" strike="noStrike">
                <a:solidFill>
                  <a:srgbClr val="ffffff"/>
                </a:solidFill>
                <a:latin typeface="Century Gothic"/>
              </a:rPr>
              <a:t>УГОЛ ЗРЕНИЯ </a:t>
            </a:r>
            <a:br>
              <a:rPr sz="1900"/>
            </a:br>
            <a:r>
              <a:rPr b="0" lang="ru-RU" sz="1900" spc="-1" strike="noStrike">
                <a:solidFill>
                  <a:srgbClr val="ffffff"/>
                </a:solidFill>
                <a:latin typeface="Century Gothic"/>
              </a:rPr>
              <a:t>Глаз обладает определенным углом зрения, что обеспечивает поле благоприятного восприятия. Максимальный угол восприятия глаза 57 градусов, оптимальный - 35-40 градусов. Эти данные позволяют вычислять наиболее благоприятные размеры рекламы на различных расстояниях. Если экран находится на расстоянии в среднем 35-40 см от глаз, то оптимальный размер изображения составляет 15 - 18 см по высоте и 10-14см по ширине (учтены особенности бинокулярного зрения).  </a:t>
            </a:r>
            <a:endParaRPr b="0" lang="en-US" sz="1900" spc="-1" strike="noStrike">
              <a:solidFill>
                <a:srgbClr val="ffffff"/>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900" spc="-1" strike="noStrike">
                <a:solidFill>
                  <a:srgbClr val="ffffff"/>
                </a:solidFill>
                <a:latin typeface="Century Gothic"/>
              </a:rPr>
              <a:t>Фокусировка взгляда.</a:t>
            </a:r>
            <a:br>
              <a:rPr sz="1900"/>
            </a:br>
            <a:r>
              <a:rPr b="0" lang="ru-RU" sz="1900" spc="-1" strike="noStrike">
                <a:solidFill>
                  <a:srgbClr val="ffffff"/>
                </a:solidFill>
                <a:latin typeface="Century Gothic"/>
              </a:rPr>
              <a:t>Важен не только благоприятный размер, но и определенное размещение особо важных элементов в композиции. Наш взгляд концентрирует внимание на достаточно небольшой зоне, а остальную, ближе к краям как бы размывает. На самом деле мозг просто отметает эту информацию. </a:t>
            </a:r>
            <a:endParaRPr b="0" lang="en-US" sz="1900" spc="-1" strike="noStrike">
              <a:solidFill>
                <a:srgbClr val="ffffff"/>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300" spc="-1" strike="noStrike">
                <a:solidFill>
                  <a:srgbClr val="ffffff"/>
                </a:solidFill>
                <a:latin typeface="Century Gothic"/>
              </a:rPr>
              <a:t>Вы разместили на вашей странице большое количество анимированных изображений, блинков и бегущих строк, каждое из которых активно привлекает внимание, потому-что шевелится. Мозг инстинктивно направляет внимание на нее, потому как природа заложила в него приоритет движущихся предметов и изображений перед статичными в целях самосохранения индивиума. Но соседний объект так же активно требует внимания, ну и остальные тоже. В результате мозг зрителя в растерянности - на что же ему таки смотреть в первую очередь. Подсознательно возникает реакция тревоги и отторжения </a:t>
            </a:r>
            <a:endParaRPr b="0" lang="en-US" sz="1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476280"/>
            <a:ext cx="8229600" cy="5905440"/>
          </a:xfrm>
          <a:prstGeom prst="rect">
            <a:avLst/>
          </a:prstGeom>
          <a:noFill/>
          <a:ln w="0">
            <a:noFill/>
          </a:ln>
        </p:spPr>
        <p:txBody>
          <a:bodyPr anchor="t">
            <a:normAutofit/>
          </a:bodyPr>
          <a:p>
            <a:pPr marL="343080" indent="-34308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ffffff"/>
                </a:solidFill>
                <a:latin typeface="Century Gothic"/>
              </a:rPr>
              <a:t>Психологи выделяют три типа мышления</a:t>
            </a:r>
            <a:endParaRPr b="0" lang="en-US" sz="1900" spc="-1" strike="noStrike">
              <a:solidFill>
                <a:srgbClr val="ffffff"/>
              </a:solidFill>
              <a:latin typeface="Century Gothic"/>
            </a:endParaRPr>
          </a:p>
          <a:p>
            <a:pPr marL="343080" indent="-34308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marL="343080" indent="-343080">
              <a:lnSpc>
                <a:spcPct val="90000"/>
              </a:lnSpc>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900" spc="-1" strike="noStrike">
                <a:solidFill>
                  <a:srgbClr val="ffffff"/>
                </a:solidFill>
                <a:latin typeface="Century Gothic"/>
              </a:rPr>
              <a:t>Визуальный тип мышления.</a:t>
            </a:r>
            <a:r>
              <a:rPr b="0" lang="ru-RU" sz="1900" spc="-1" strike="noStrike">
                <a:solidFill>
                  <a:srgbClr val="ffffff"/>
                </a:solidFill>
                <a:latin typeface="Century Gothic"/>
              </a:rPr>
              <a:t> </a:t>
            </a:r>
            <a:endParaRPr b="0" lang="en-US" sz="1900" spc="-1" strike="noStrike">
              <a:solidFill>
                <a:srgbClr val="ffffff"/>
              </a:solidFill>
              <a:latin typeface="Century Gothic"/>
            </a:endParaRPr>
          </a:p>
          <a:p>
            <a:pPr marL="343080" indent="-34308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      </a:t>
            </a:r>
            <a:r>
              <a:rPr b="0" lang="ru-RU" sz="1700" spc="-1" strike="noStrike">
                <a:solidFill>
                  <a:srgbClr val="ffffff"/>
                </a:solidFill>
                <a:latin typeface="Century Gothic"/>
              </a:rPr>
              <a:t>Характерен для 35% руководителей. Эти люди воспринимают информацию с помощью визуальных образов. Идею для визуального типа мышления необходимо представлять, рисуя яркие словесные картины и используя современное презентационное оборудование. </a:t>
            </a:r>
            <a:endParaRPr b="0" lang="en-US" sz="1700" spc="-1" strike="noStrike">
              <a:solidFill>
                <a:srgbClr val="ffffff"/>
              </a:solidFill>
              <a:latin typeface="Century Gothic"/>
            </a:endParaRPr>
          </a:p>
          <a:p>
            <a:pPr marL="343080" indent="-34308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900" spc="-1" strike="noStrike">
                <a:solidFill>
                  <a:srgbClr val="ffffff"/>
                </a:solidFill>
                <a:latin typeface="Century Gothic"/>
              </a:rPr>
              <a:t>Аудиальный тип мышления.</a:t>
            </a:r>
            <a:r>
              <a:rPr b="0" lang="ru-RU" sz="1900" spc="-1" strike="noStrike">
                <a:solidFill>
                  <a:srgbClr val="ffffff"/>
                </a:solidFill>
                <a:latin typeface="Century Gothic"/>
              </a:rPr>
              <a:t> </a:t>
            </a:r>
            <a:endParaRPr b="0" lang="en-US" sz="1900" spc="-1" strike="noStrike">
              <a:solidFill>
                <a:srgbClr val="ffffff"/>
              </a:solidFill>
              <a:latin typeface="Century Gothic"/>
            </a:endParaRPr>
          </a:p>
          <a:p>
            <a:pPr marL="343080" indent="-34308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ffffff"/>
                </a:solidFill>
                <a:latin typeface="Century Gothic"/>
              </a:rPr>
              <a:t>     </a:t>
            </a:r>
            <a:r>
              <a:rPr b="0" lang="ru-RU" sz="1700" spc="-1" strike="noStrike">
                <a:solidFill>
                  <a:srgbClr val="ffffff"/>
                </a:solidFill>
                <a:latin typeface="Century Gothic"/>
              </a:rPr>
              <a:t>Отличает 25% руководителей. Особое значение приобретают высота, тембр голоса презентатора и используемые им интонации. Для проведения презентаций для людей с аудиальным типом мышления целесообразно привлекать нескольких сотрудников агентства, каждый из которых мог бы представить свою часть проекта.</a:t>
            </a:r>
            <a:r>
              <a:rPr b="0" lang="ru-RU" sz="1900" spc="-1" strike="noStrike">
                <a:solidFill>
                  <a:srgbClr val="ffffff"/>
                </a:solidFill>
                <a:latin typeface="Century Gothic"/>
              </a:rPr>
              <a:t> </a:t>
            </a:r>
            <a:endParaRPr b="0" lang="en-US" sz="1900" spc="-1" strike="noStrike">
              <a:solidFill>
                <a:srgbClr val="ffffff"/>
              </a:solidFill>
              <a:latin typeface="Century Gothic"/>
            </a:endParaRPr>
          </a:p>
          <a:p>
            <a:pPr marL="343080" indent="-34308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marL="343080" indent="-343080">
              <a:lnSpc>
                <a:spcPct val="90000"/>
              </a:lnSpc>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900" spc="-1" strike="noStrike">
                <a:solidFill>
                  <a:srgbClr val="ffffff"/>
                </a:solidFill>
                <a:latin typeface="Century Gothic"/>
              </a:rPr>
              <a:t>Кинестетический тип мышлений.</a:t>
            </a:r>
            <a:r>
              <a:rPr b="0" lang="ru-RU" sz="1900" spc="-1" strike="noStrike">
                <a:solidFill>
                  <a:srgbClr val="ffffff"/>
                </a:solidFill>
                <a:latin typeface="Century Gothic"/>
              </a:rPr>
              <a:t> </a:t>
            </a:r>
            <a:endParaRPr b="0" lang="en-US" sz="1900" spc="-1" strike="noStrike">
              <a:solidFill>
                <a:srgbClr val="ffffff"/>
              </a:solidFill>
              <a:latin typeface="Century Gothic"/>
            </a:endParaRPr>
          </a:p>
          <a:p>
            <a:pPr marL="343080" indent="-34308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     </a:t>
            </a:r>
            <a:r>
              <a:rPr b="0" lang="ru-RU" sz="1700" spc="-1" strike="noStrike">
                <a:solidFill>
                  <a:srgbClr val="ffffff"/>
                </a:solidFill>
                <a:latin typeface="Century Gothic"/>
              </a:rPr>
              <a:t>Такой тип мышления встречается у 40% руководителей. Для людей этого типа характерен тактильный способ восприятия информации. Им нужно все самим попробовать и потрогать руками. В презентациях для таких руководителей особенно важно превратить представление проекта в некоторое театральное действо, где актеры перемешались бы по сцене и менялись местами.</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476280"/>
            <a:ext cx="822960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Открытое и критическое мышление</a:t>
            </a:r>
            <a:r>
              <a:rPr b="0" lang="ru-RU" sz="2000" spc="-1" strike="noStrike">
                <a:solidFill>
                  <a:srgbClr val="ffffff"/>
                </a:solidFill>
                <a:latin typeface="Century Gothic"/>
              </a:rPr>
              <a:t> </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8" name="Rectangle 4"/>
          <p:cNvSpPr/>
          <p:nvPr/>
        </p:nvSpPr>
        <p:spPr>
          <a:xfrm>
            <a:off x="611280" y="1125360"/>
            <a:ext cx="79930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Креативный процесс строится на основе сочетания открытого и критического мышлени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В открытом мышлении акцент делается на активное поощрение как можно большего количества самых оригинальных идеи, независимо от возможности их реализации и от того, насколько они аргументирован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Критическое мышление предполагает рациональное обсуждение разработанных идеи с учетом таких параметров, как направленность идеи на решение задачи, время, бюджет и др.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Эти два типа мышления имеют следующие характеристик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Century Gothic"/>
              </a:rPr>
              <a:t>Открытое мышление:</a:t>
            </a:r>
            <a:r>
              <a:rPr b="1" lang="ru-RU" sz="1800" spc="-1" strike="noStrike" u="sng">
                <a:solidFill>
                  <a:srgbClr val="ffffff"/>
                </a:solidFill>
                <a:uFillTx/>
                <a:latin typeface="Century Gothic"/>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Эмоциональное и полностью интуитивно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Возможна даже самая бредовая идея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Комбинация самых разнородных новых элементов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Все разрешено, нет никаких запретов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Century Gothic"/>
              </a:rPr>
              <a:t>Критическое мышление:</a:t>
            </a:r>
            <a:r>
              <a:rPr b="1" lang="ru-RU" sz="1800" spc="-1" strike="noStrike" u="sng">
                <a:solidFill>
                  <a:srgbClr val="ffffff"/>
                </a:solidFill>
                <a:uFillTx/>
                <a:latin typeface="Century Gothic"/>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Критическое и аналитическо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Практическая реализация идеи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Функциональность — будет ли это работать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Ориентация на политические и экономические реали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ebebeb"/>
                </a:solidFill>
                <a:latin typeface="Century Gothic"/>
              </a:rPr>
              <a:t>Алгоритм креативного процесса</a:t>
            </a:r>
            <a:r>
              <a:rPr b="0" lang="ru-RU" sz="4000" spc="-1" strike="noStrike">
                <a:solidFill>
                  <a:srgbClr val="ebebeb"/>
                </a:solidFill>
                <a:latin typeface="Century Gothic"/>
              </a:rPr>
              <a:t> </a:t>
            </a:r>
            <a:endParaRPr b="0" lang="en-US" sz="4000" spc="-1" strike="noStrike">
              <a:solidFill>
                <a:srgbClr val="ebebeb"/>
              </a:solidFill>
              <a:latin typeface="Century Gothic"/>
            </a:endParaRPr>
          </a:p>
        </p:txBody>
      </p:sp>
      <p:sp>
        <p:nvSpPr>
          <p:cNvPr id="240" name=""/>
          <p:cNvSpPr txBox="1"/>
          <p:nvPr/>
        </p:nvSpPr>
        <p:spPr>
          <a:xfrm>
            <a:off x="826560" y="2052360"/>
            <a:ext cx="6712200" cy="4195800"/>
          </a:xfrm>
          <a:prstGeom prst="rect">
            <a:avLst/>
          </a:prstGeom>
          <a:noFill/>
          <a:ln w="0">
            <a:noFill/>
          </a:ln>
        </p:spPr>
        <p:txBody>
          <a:bodyPr anchor="t">
            <a:normAutofit/>
          </a:bodyPr>
          <a:p>
            <a:pPr marL="343080" indent="-3430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Алгоритм креативного процесса можно представить о виде пяти последовательных стадий: </a:t>
            </a:r>
            <a:endParaRPr b="0" lang="en-US" sz="1700" spc="-1" strike="noStrike">
              <a:solidFill>
                <a:srgbClr val="ffffff"/>
              </a:solidFill>
              <a:latin typeface="Century Gothic"/>
            </a:endParaRPr>
          </a:p>
          <a:p>
            <a:pPr marL="343080" indent="-3430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информация;  инкубация; озарение; интеграция; иллюстрация. </a:t>
            </a:r>
            <a:endParaRPr b="0" lang="en-US" sz="1700" spc="-1" strike="noStrike">
              <a:solidFill>
                <a:srgbClr val="ffffff"/>
              </a:solidFill>
              <a:latin typeface="Century Gothic"/>
            </a:endParaRPr>
          </a:p>
          <a:p>
            <a:pPr marL="343080" indent="-3430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900" spc="-1" strike="noStrike">
                <a:solidFill>
                  <a:srgbClr val="ffffff"/>
                </a:solidFill>
                <a:latin typeface="Century Gothic"/>
              </a:rPr>
              <a:t>Информация. </a:t>
            </a:r>
            <a:endParaRPr b="0" lang="en-US" sz="1900" spc="-1" strike="noStrike">
              <a:solidFill>
                <a:srgbClr val="ffffff"/>
              </a:solidFill>
              <a:latin typeface="Century Gothic"/>
            </a:endParaRPr>
          </a:p>
          <a:p>
            <a:pPr marL="343080" indent="-3430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Любой творческий процесс начинается с информации. </a:t>
            </a:r>
            <a:endParaRPr b="0" lang="en-US" sz="1700" spc="-1" strike="noStrike">
              <a:solidFill>
                <a:srgbClr val="ffffff"/>
              </a:solidFill>
              <a:latin typeface="Century Gothic"/>
            </a:endParaRPr>
          </a:p>
          <a:p>
            <a:pPr marL="343080" indent="-3430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Сначала появляется задача или проблема, которую необходимо решить.</a:t>
            </a:r>
            <a:endParaRPr b="0" lang="en-US" sz="1700" spc="-1" strike="noStrike">
              <a:solidFill>
                <a:srgbClr val="ffffff"/>
              </a:solidFill>
              <a:latin typeface="Century Gothic"/>
            </a:endParaRPr>
          </a:p>
          <a:p>
            <a:pPr marL="343080" indent="-3430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Затем необходимо разложить проблему на фрагменты и собрать</a:t>
            </a:r>
            <a:endParaRPr b="0" lang="en-US" sz="1700" spc="-1" strike="noStrike">
              <a:solidFill>
                <a:srgbClr val="ffffff"/>
              </a:solidFill>
              <a:latin typeface="Century Gothic"/>
            </a:endParaRPr>
          </a:p>
          <a:p>
            <a:pPr marL="343080" indent="-3430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дополнительные факты, относящиеся к делу. Одной из самых главных</a:t>
            </a:r>
            <a:endParaRPr b="0" lang="en-US" sz="1700" spc="-1" strike="noStrike">
              <a:solidFill>
                <a:srgbClr val="ffffff"/>
              </a:solidFill>
              <a:latin typeface="Century Gothic"/>
            </a:endParaRPr>
          </a:p>
          <a:p>
            <a:pPr marL="343080" indent="-343080">
              <a:lnSpc>
                <a:spcPct val="11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задач является наиболее четкая формулировка проблемы. </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620640"/>
            <a:ext cx="8229600" cy="5510160"/>
          </a:xfrm>
          <a:prstGeom prst="rect">
            <a:avLst/>
          </a:prstGeom>
          <a:noFill/>
          <a:ln w="0">
            <a:noFill/>
          </a:ln>
        </p:spPr>
        <p:txBody>
          <a:bodyPr anchor="t">
            <a:normAutofit/>
          </a:bodyPr>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Инкубация.</a:t>
            </a:r>
            <a:r>
              <a:rPr b="1" lang="ru-RU" sz="4000" spc="-1" strike="noStrike">
                <a:solidFill>
                  <a:srgbClr val="ffffff"/>
                </a:solidFill>
                <a:latin typeface="Century Gothic"/>
              </a:rPr>
              <a:t> </a:t>
            </a:r>
            <a:endParaRPr b="0" lang="en-US" sz="4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entury Gothic"/>
              </a:rPr>
              <a:t>Инкубация — это важнейшая стадия, на которой происходит творческая работа на бессознательном уровне, Суть этой стадии заключается в том, что, получив креативный бриф и собрав дополнительную информацию по PR-проекту, необходимо на время отложить работу над ним и переключиться на другие текущие задачи. В этот момент размышления над проектом будут перенесены из активного сознания в подсознание, что позволит идеям двигаться сразу в нескольких направлениях на пути к новому интересному решению. </a:t>
            </a:r>
            <a:endParaRPr b="0" lang="en-US" sz="1800" spc="-1" strike="noStrike">
              <a:solidFill>
                <a:srgbClr val="ffffff"/>
              </a:solidFill>
              <a:latin typeface="Century Gothic"/>
            </a:endParaRPr>
          </a:p>
          <a:p>
            <a:pPr marL="343080" indent="-343080" algn="ct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Озарение.</a:t>
            </a:r>
            <a:r>
              <a:rPr b="0" i="1" lang="ru-RU" sz="1800" spc="-1" strike="noStrike">
                <a:solidFill>
                  <a:srgbClr val="ffffff"/>
                </a:solidFill>
                <a:latin typeface="Century Gothic"/>
              </a:rPr>
              <a:t> </a:t>
            </a:r>
            <a:endParaRPr b="0" lang="en-US" sz="18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entury Gothic"/>
              </a:rPr>
              <a:t>Момент озарения, когда идеи приходят абсолютно спонтанно, как будто падают с неба, является результатом этапов информации и инкубации. </a:t>
            </a:r>
            <a:endParaRPr b="0" lang="en-US" sz="18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entury Gothic"/>
              </a:rPr>
              <a:t>Идеи не появляются из ниоткуда. Человек сначала знакомиться с проблемой, изучает дополнительную информацию, затем, отключаясь от мыслей над проектом через какое-то время начинает продумывать те или иные решения. Это происходит тогда, когда подсознание уже поработало над проблемой и под воздействием жизненных впечатлений вывело в сознание несколько возможных решений и новых идей.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476280"/>
            <a:ext cx="8229600" cy="6121440"/>
          </a:xfrm>
          <a:prstGeom prst="rect">
            <a:avLst/>
          </a:prstGeom>
          <a:noFill/>
          <a:ln w="0">
            <a:noFill/>
          </a:ln>
        </p:spPr>
        <p:txBody>
          <a:bodyPr anchor="t">
            <a:normAutofit/>
          </a:bodyPr>
          <a:p>
            <a:pPr marL="343080" indent="-343080"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Интеграция.</a:t>
            </a:r>
            <a:r>
              <a:rPr b="0" lang="ru-RU"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entury Gothic"/>
              </a:rPr>
              <a:t>Рожденная на этапе озарения идея как правило никогда не является конечным продуктом. На примере написания пресс-релиза это выглядит так. Утром вы изучили бриф (этап информации) и переключились на другие текущие дела (этап инкубации). Когда к вам пришла идея (этап озарения) и вы начинаете фиксировать ее на бумаге, как правило, появляются новые мысли и нюансы, которые дополняют, а порой изменяют первоначальный замысел. Вы можете переставлять абзацы, придумывать разные заголовки и метафоры, изменять дизайн пресс-релиза. Таким образом, когда подсознание предлагает идею сознанию (озарение) сознание активно включается в работу и доводит идею до ее окончательной формы (интеграция), которая вполне может отличаться от первоначальной. </a:t>
            </a:r>
            <a:endParaRPr b="0" lang="en-US" sz="1800" spc="-1" strike="noStrike">
              <a:solidFill>
                <a:srgbClr val="ffffff"/>
              </a:solidFill>
              <a:latin typeface="Century Gothic"/>
            </a:endParaRPr>
          </a:p>
          <a:p>
            <a:pPr marL="343080" indent="-343080"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Иллюстрация.</a:t>
            </a:r>
            <a:r>
              <a:rPr b="0" lang="ru-RU" sz="1800" spc="-1" strike="noStrike">
                <a:solidFill>
                  <a:srgbClr val="ffffff"/>
                </a:solidFill>
                <a:latin typeface="Century Gothic"/>
              </a:rPr>
              <a:t> </a:t>
            </a:r>
            <a:endParaRPr b="0" lang="en-US" sz="18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entury Gothic"/>
              </a:rPr>
              <a:t>Этап иллюстрации — это важнейший этап креативною процесса, который определяет, какие идеи будут осуществлены, о каким суждено остаться в виде документа Word или презентации Power Point. Этап иллюстрации — это, по существу, презентация вашей идеи потенциальному заказчику. В это время форма подачи идеи выходит на первый план и определяющую роль начинают играть несколько факторов: </a:t>
            </a:r>
            <a:endParaRPr b="0" lang="en-US" sz="18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entury Gothic"/>
              </a:rPr>
              <a:t>легитимация источника идеи; </a:t>
            </a:r>
            <a:endParaRPr b="0" lang="en-US" sz="18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entury Gothic"/>
              </a:rPr>
              <a:t>управление временем; </a:t>
            </a:r>
            <a:endParaRPr b="0" lang="en-US" sz="18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ffffff"/>
                </a:solidFill>
                <a:latin typeface="Century Gothic"/>
              </a:rPr>
              <a:t>адаптация идеи под клиента. </a:t>
            </a:r>
            <a:endParaRPr b="0" lang="en-US" sz="18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200" spc="-1" strike="noStrike">
                <a:solidFill>
                  <a:srgbClr val="ebebeb"/>
                </a:solidFill>
                <a:latin typeface="Century Gothic"/>
              </a:rPr>
              <a:t>Позиционирование</a:t>
            </a:r>
            <a:endParaRPr b="0" lang="en-US" sz="4200" spc="-1" strike="noStrike">
              <a:solidFill>
                <a:srgbClr val="ebebeb"/>
              </a:solidFill>
              <a:latin typeface="Century Gothic"/>
            </a:endParaRPr>
          </a:p>
        </p:txBody>
      </p:sp>
      <p:sp>
        <p:nvSpPr>
          <p:cNvPr id="244" name=""/>
          <p:cNvSpPr txBox="1"/>
          <p:nvPr/>
        </p:nvSpPr>
        <p:spPr>
          <a:xfrm>
            <a:off x="826560" y="2052360"/>
            <a:ext cx="6712200" cy="4195800"/>
          </a:xfrm>
          <a:prstGeom prst="rect">
            <a:avLst/>
          </a:prstGeom>
          <a:noFill/>
          <a:ln w="0">
            <a:noFill/>
          </a:ln>
        </p:spPr>
        <p:txBody>
          <a:bodyPr anchor="t">
            <a:normAutofit/>
          </a:bodyPr>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Под позиционированием, понимается деятельность компании направленная на особое, отличающееся от конкурентов представление товара потребителю. Так как основной целью позиционирования является занятие определенной и при этом, максимально эффективной позиции товара по отношению к конкурентам, то начинить позиционирование необходимо с исследования рынка и определения позиций конкурентных товаров. Чем более исчерпывающую информацию о присутствующих на рынке товарах, их отличительных особенностях и об отношении потребителей к ним вы получите, с помощью исследования рынка, тем более точно сможете определить наилучшую позицию для вашего товара.</a:t>
            </a:r>
            <a:endParaRPr b="0" lang="en-US" sz="17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700" spc="-1" strike="noStrike">
                <a:solidFill>
                  <a:srgbClr val="ffffff"/>
                </a:solidFill>
                <a:latin typeface="Century Gothic"/>
              </a:rPr>
              <a:t> </a:t>
            </a:r>
            <a:br>
              <a:rPr sz="1700"/>
            </a:br>
            <a:r>
              <a:rPr b="0" lang="ru-RU" sz="1700" spc="-1" strike="noStrike">
                <a:solidFill>
                  <a:srgbClr val="ffffff"/>
                </a:solidFill>
                <a:latin typeface="Century Gothic"/>
              </a:rPr>
              <a:t>    </a:t>
            </a:r>
            <a:r>
              <a:rPr b="0" lang="ru-RU" sz="1700" spc="-1" strike="noStrike">
                <a:solidFill>
                  <a:srgbClr val="ffffff"/>
                </a:solidFill>
                <a:latin typeface="Century Gothic"/>
              </a:rPr>
              <a:t>Позиционирование товара относительно конкурентов может осуществляться по нескольким направлениям. К ним можно отнести и особенные свойства продукта, и стоимость, и определенное эмоциональное отношение. </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200" spc="-1" strike="noStrike">
                <a:solidFill>
                  <a:srgbClr val="ebebeb"/>
                </a:solidFill>
                <a:latin typeface="Century Gothic"/>
              </a:rPr>
              <a:t>Психотехнологии в рекламе</a:t>
            </a:r>
            <a:endParaRPr b="0" lang="en-US" sz="4200" spc="-1" strike="noStrike">
              <a:solidFill>
                <a:srgbClr val="ebebeb"/>
              </a:solidFill>
              <a:latin typeface="Century Gothic"/>
            </a:endParaRPr>
          </a:p>
        </p:txBody>
      </p:sp>
      <p:sp>
        <p:nvSpPr>
          <p:cNvPr id="246"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200" spc="-1" strike="noStrike">
                <a:solidFill>
                  <a:srgbClr val="ffffff"/>
                </a:solidFill>
                <a:latin typeface="Century Gothic"/>
              </a:rPr>
              <a:t>Психологическая технология (известная также как психотехнология или психотехника) – это метод «правильного» обращения с психикой человека, то есть метод создания определенных переживаний – ощущений, эмоций, воспоминаний, действий, нужных для достижения какой-то цели. Другими словами, если мы хотим добиться чего-то от себя или от других людей, мы должны проделать определенные действия в определенном порядке. В некотором смысле, психотехнология - это карта нашего мышления, описание того, как мы мыслим, когда что-то делаем. </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7200" y="333000"/>
            <a:ext cx="8229600" cy="6048360"/>
          </a:xfrm>
          <a:prstGeom prst="rect">
            <a:avLst/>
          </a:prstGeom>
          <a:noFill/>
          <a:ln w="0">
            <a:noFill/>
          </a:ln>
        </p:spPr>
        <p:txBody>
          <a:bodyPr anchor="t">
            <a:normAutofit/>
          </a:bodyPr>
          <a:p>
            <a:pPr marL="343080" indent="-343080" algn="ctr">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600" spc="-1" strike="noStrike">
                <a:solidFill>
                  <a:srgbClr val="ffffff"/>
                </a:solidFill>
                <a:latin typeface="Century Gothic"/>
              </a:rPr>
              <a:t>М. Эриксон разделяет восприятие человека на осознанное и неосознанное.</a:t>
            </a:r>
            <a:r>
              <a:rPr b="0" lang="ru-RU" sz="1900" spc="-1" strike="noStrike">
                <a:solidFill>
                  <a:srgbClr val="ffffff"/>
                </a:solidFill>
                <a:latin typeface="Century Gothic"/>
              </a:rPr>
              <a:t> </a:t>
            </a:r>
            <a:endParaRPr b="0" lang="en-US" sz="1900" spc="-1" strike="noStrike">
              <a:solidFill>
                <a:srgbClr val="ffffff"/>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ffffff"/>
                </a:solidFill>
                <a:latin typeface="Century Gothic"/>
              </a:rPr>
              <a:t>Сознание - это буфер, который в силу своих ограничений отфильтровывает поток получаемой информации. </a:t>
            </a:r>
            <a:endParaRPr b="0" lang="en-US" sz="1900" spc="-1" strike="noStrike">
              <a:solidFill>
                <a:srgbClr val="ffffff"/>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ffffff"/>
                </a:solidFill>
                <a:latin typeface="Century Gothic"/>
              </a:rPr>
              <a:t>Сознательное восприятие - это получение информации через сфокусированное внимание. Сопротивление чему-либо, как ответная реакция на информацию, во многом обязано мышлению (функции сознания). Та (и большая) часть информации, которая не осознаётся - воспринимается подсознанием и утилизируется системой врождённых и приобретённых автоматизмов. </a:t>
            </a:r>
            <a:endParaRPr b="0" lang="en-US" sz="19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marL="343080" indent="-343080">
              <a:lnSpc>
                <a:spcPct val="7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ffffff"/>
                </a:solidFill>
                <a:latin typeface="Century Gothic"/>
              </a:rPr>
              <a:t>Если рекламная  информация конфигурирована так, что, в "обход" сознания, она направлена на использование автоматических стереотипов, то речь идёт о манипулировании. </a:t>
            </a:r>
            <a:endParaRPr b="0" lang="en-US" sz="1900" spc="-1" strike="noStrike">
              <a:solidFill>
                <a:srgbClr val="ffffff"/>
              </a:solidFill>
              <a:latin typeface="Century Gothic"/>
            </a:endParaRPr>
          </a:p>
          <a:p>
            <a:pPr marL="343080" indent="-343080">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900" spc="-1" strike="noStrike">
                <a:solidFill>
                  <a:srgbClr val="ffffff"/>
                </a:solidFill>
                <a:latin typeface="Century Gothic"/>
              </a:rPr>
              <a:t>     </a:t>
            </a:r>
            <a:r>
              <a:rPr b="0" lang="ru-RU" sz="1900" spc="-1" strike="noStrike">
                <a:solidFill>
                  <a:srgbClr val="ffffff"/>
                </a:solidFill>
                <a:latin typeface="Century Gothic"/>
              </a:rPr>
              <a:t>Результат действия рекламы - формирование общественного мнения. Она, по своей сути, является инструментом манипуляции. Инструменты психотехнологий дают возможность экологично манипулировать поведением человека. </a:t>
            </a: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4T22:49:54Z</dcterms:created>
  <dc:creator>luid</dc:creator>
  <dc:description/>
  <dc:language>en-US</dc:language>
  <cp:lastModifiedBy>Пользователь Windows</cp:lastModifiedBy>
  <dcterms:modified xsi:type="dcterms:W3CDTF">2019-09-12T12:05:37Z</dcterms:modified>
  <cp:revision>37</cp:revision>
  <dc:subject/>
  <dc:title>Тема № 1. Определение целей и задач курса.</dc:title>
</cp:coreProperties>
</file>