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8A2-CDA8-49FD-9EC8-FA2F02F7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D579-6D5A-4A4B-84C1-ACE9EEA9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DF9-3E9B-46A4-BD2C-A26E7A47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4AA-2906-46FD-8ED9-915300E4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3292-9C0B-446A-BD2F-D68114FC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1399-94D1-49FB-9FEC-8FE9184C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7D43-6A9B-4D81-A380-288C43C7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58A5-1247-45EC-9462-05E7FB40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DE0A-B266-47E7-8A0F-4199E2DF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9D1B-11C8-4C44-9119-5A84C4E2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B067-4B9A-4371-8AD9-89025E24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AF2-D548-4323-BBB5-38EF622C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EA39-2239-4AC6-87F1-4C78D57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56BD-B38D-47B4-B2D0-3D1BED2B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AC16-582C-42FF-B5E6-9F5BD31B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057A-2546-495D-BEF9-0FA5235D7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19C3-2132-458C-ABB8-AFCB9913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EC20-BDD1-4B7C-B7E3-30F0299B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F4D-BDA2-4382-9F04-E3EDA93F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904-F813-48CB-A886-E13C03EE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E2E-F31C-4573-9505-2C865E95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EEB-2B84-4C31-B00D-FEFEB6D5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004-E81F-47EB-AB85-0663CBBB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00F-E0E1-402B-B59F-DB981AFE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0AE8-F0AC-48D4-AACD-D6F2255ECC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CFA3-B6AF-4CE2-987B-406B37EBEB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7335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ые задачи и принципы формирования математических представлений у детей с речевыми нарушениям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23920" y="59436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инцип программирования при формировании психических функций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ый принцип позволяет формировать в развернутом виде психологическую структуру той или иной деятельности школьника. Каждая из операций сложной деятельности выносится во внешний план, отрабатывается изолированно и доводится до автоматизма. В процессе дальнейшего обучения обеспечивается интеграция различных операций в единую программу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инцип максимального включения речи на всех этапах формирования умственных действий и учебной деятельности школьника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бусловлено тем, что речь является средством интеллектуальной деятельности. Она включается в учебную деятельность как на фазе ориентировки, так и на фазе реализации и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Копия 1613568101_158-p-fon-dlya-prezentatsii-po-matematike-188"/>
          <p:cNvPicPr/>
          <p:nvPr/>
        </p:nvPicPr>
        <p:blipFill>
          <a:blip r:embed="rId1"/>
          <a:stretch/>
        </p:blipFill>
        <p:spPr>
          <a:xfrm>
            <a:off x="2590920" y="3022560"/>
            <a:ext cx="3886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инцип системного подхода к процессу коррекции и развит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в учебный план речевой школы включены не только общеобразовательные предметы, но и коррекционные занятия. Предполагается тесная взаимосвязь в содержании программ по общеобразовательным предметам и по коррекции нарушений речи. На протяжении всего периода обучения по всем учебным предметам, включая математику, наряду с решением общеобразовательных задач должна проводиться целенаправленная и систематическая работа по коррекции нарушений речи и развитию фонетико-фонематического и лексико-грамматического строя, формированию диалогической и монологической речи. Эта работа осуществляется с использованием различных методов, но имеет главной целью корригирование недостатков речевого развития детей с ТНР(тяжелым недоразвитием речи) , создание предпосылок для овладения школьными знаниями, умениями и навы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математике в школе для детей с нарушениями речи должно происходить на практическом материале для осознания связи науки и практики. В начальной школе дети должны овладеть элементарными умениями и навыками, необходимыми для изменения величин (длины, площади, массы, времени), решения текстовых задач, устных и письменных вычисл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на уроке математики должна быть построена таким образом, чтобы не допускать перегрузки учебным материалом, переутомления. Необходимо соблюдать охранительный режим (физминутки, гимнастика для глаз и пальцев рук, динамическая организация урока); включать в урок игровые приёмы работы. Дидактические игры на уроках математики должны носить коррекционно-развивающий, коррекционно-обучающи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индивидуальных и групповых логопедических занятиях необходимо отрабатывать правильное произношение математической терминологии, работа над слоговой структурой многосложных сл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1646024533_4-abrakadabra-fun-p-matematika-na-prozrachnom-fone-8"/>
          <p:cNvPicPr/>
          <p:nvPr/>
        </p:nvPicPr>
        <p:blipFill>
          <a:blip r:embed="rId1"/>
          <a:stretch/>
        </p:blipFill>
        <p:spPr>
          <a:xfrm>
            <a:off x="2057400" y="4033800"/>
            <a:ext cx="51004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выработки навыков устного счёта на каждом уроке математики проводятся тренировочные упражнения в устных вычислениях. Учащиеся должные не только овладеть разными способами вычислений, но и доводить счёт до автоматизма (табличное сложение и вычитание, умножение и деление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ки математики должны способствовать организации активной деятельности учеников, повышать работоспособность, формировать навыки самостоятельной работы, самоконт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imgonline-com-ua-CompressBySize-5mjlKSs8nIQCVNd"/>
          <p:cNvPicPr/>
          <p:nvPr/>
        </p:nvPicPr>
        <p:blipFill>
          <a:blip r:embed="rId1"/>
          <a:stretch/>
        </p:blipFill>
        <p:spPr>
          <a:xfrm>
            <a:off x="2590920" y="3657600"/>
            <a:ext cx="4267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жение предметных результатов по математике осуществляется в основном на уроках под руководством учителя. Однако со 2 класса вводятся домашние задания, которые требуют систематического выполнения. Домашние задания должны быть строго дозированы и быть доступны для выполнения дет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достижения положительных предметных результатов по математике в речевой школе необходимо осуществлять любые виды работ на основе практических действий и постоянной систематической работы по коррекции речевых нарушений. Например, при счёте предметов рекомендуется называть не только число, но и сам предмет: одна конфета, две конфеты, пять конфет и т.д. Таким образом отрабатывается навык согласования существительного и числительн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ктуальность проблем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течественной и зарубежной литературы известно, что дети, имеющие нарушения речи, по ряду существенных психологических параметров отстают от детей с нормальным речевым развит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 проблемы заключается в том, что отставания в психическом и речевом развитии влекут за собой трудности в усвоении школьной программы, в частности большие трудности возникают при изучении математики в начальной шк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счётных операций осуществляется с учётом поэтапности формирования умственных действий: предметные действия с конкретными предметами с помощью учителя, затем самостоятельные действия с опорой на наглядность и громкую речь, потом - выполнение математических действий в речевом плане и, наконец, выполнение математических действий во внутреннем плане, что является главным признаком автоматизированного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учении простых и составных арифметических задач происходит усвоение многих математических понятий, формируется навык постановки вопросов, понимания смысла прочитанного, развития связного устного высказывания. Учащиеся постепенно овладевают умением осознанно выделять в задаче её основные части, пересказывать задачу, делать краткую запись различными способами. В ходе изучения задач дети должны научиться решать задачи разных видов с целью исключения возможности выработки штампов при решении. С этой целью можно использовать задачи с одинаковыми данными, но с различными вопрос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ифметическая задача является хорошим материалом для тренировки связного речевого высказывания, что немаловажно в школе для детей с тяжёлыми нарушениями речи. Школьники учатся самостоятельно ставить вопрос, давать развёрнутый ответ на вопрос задачи, анализировать содержание задачи, выявлять причинно-следственные зависимости, объяснять лексическое значение слов, содержащихся в задаче, пересказывать условие, находить решение и объяснять его. Кроме того отрабатывается навык смыслового чтения и правильного звукопроизношения при устной работе с задачей, формируется навык оформления развёрнутого ответа на вопрос задачи в устной и письмен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езным упражнением является самостоятельное составление (придумывание) детьми задач по рисунку, заданию учителя, краткой записи, чертежу, выражению и т.д. Это способствует развитию творческих способностей детей, активизирует отбор необходимых языковых средств, способствует развитию связ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645073591_59-phonoteka-org-p-fon-po-matematike-dlya-doshkolnikov-63"/>
          <p:cNvPicPr/>
          <p:nvPr/>
        </p:nvPicPr>
        <p:blipFill>
          <a:blip r:embed="rId1"/>
          <a:stretch/>
        </p:blipFill>
        <p:spPr>
          <a:xfrm>
            <a:off x="1905120" y="3909960"/>
            <a:ext cx="5257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ое внимание уделяется изучению геометрического материала. Младшие школьники должны знать названия геометрических фигур, делать чертёж фигуры по линейке, моделировать фигуру, измерять и чертить отрезки, вычислять площадь и периметр прямоугольника и квадрата, отражать результаты измерений и вычислений в форме связного речевого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ключ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ю при работе необходимо помнить о том, что особенности речи детей свидетельствуют о необходимости системного воздействия на преодоление и устранение значительных недостатков в общем речевом развитии. Такая работа должна проводится систематически и целенаправленно на уроках лингвистического цикла и уроках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330033"/>
                </a:solidFill>
                <a:latin typeface="Times New Roman"/>
              </a:rPr>
              <a:t>Спасибо за внимание!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рвых этапах развития ребёнка сложные психические функции формируются на базе боле простых функций. Речь – это более сложный психический процесс, поэтому первичную базу для её формирования создают восприятие, внимание, память и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645073591_59-phonoteka-org-p-fon-po-matematike-dlya-doshkolnikov-63"/>
          <p:cNvPicPr/>
          <p:nvPr/>
        </p:nvPicPr>
        <p:blipFill>
          <a:blip r:embed="rId1"/>
          <a:stretch/>
        </p:blipFill>
        <p:spPr>
          <a:xfrm>
            <a:off x="1905120" y="3909960"/>
            <a:ext cx="5257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же речь в свою очередь начинает оказывать существенное влияние на развитие процессов восприятия, уточняя и обобщая их, а восприятие играет важную роль в развитии памяти и мышления. С появлением речи начинает формироваться словесно-логическое мышление. С одной стороны, речь не формируется без определенной психологической базы, с другой стороны, речь, развиваясь, совершенствует все психические проце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0033"/>
                </a:solidFill>
                <a:latin typeface="Times New Roman"/>
              </a:rPr>
              <a:t>Наблюдения показали, что учащиеся 1 класса речевой школы имеют значительные нарушения познавательной деятельности, которые в разной степени выражены у всех детей:</a:t>
            </a: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0" y="2209680"/>
            <a:ext cx="3276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жность реш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стейших математичес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ч, ребусов, загад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ловоломок и т.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2895480" y="1447920"/>
            <a:ext cx="3276720" cy="1904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ставание в развит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овесно-лог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ш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9"/>
          <p:cNvSpPr/>
          <p:nvPr/>
        </p:nvSpPr>
        <p:spPr>
          <a:xfrm>
            <a:off x="0" y="3809880"/>
            <a:ext cx="3276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зки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адения математи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инологи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2895480" y="4648320"/>
            <a:ext cx="3276720" cy="1904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удность сосредото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удерживания внимани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весном материале в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глядной ситу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5867280" y="2057400"/>
            <a:ext cx="3276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риятия дли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струк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олн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5867280" y="3809880"/>
            <a:ext cx="3276720" cy="19051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зкая работоспособ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т.д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ная взаимосвязь речи и других психических процессов делает справедливым вывод о том, что коррекционную работу с такими детьми надо строить, учитывая индивидуальные особенности, уровень развития речи и сформированности словесно-логического мышления учащихся с речевой патолог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637981457_14-flomaster-club-p-matematicheskie-risunki-dlya-detei-detskie-14"/>
          <p:cNvPicPr/>
          <p:nvPr/>
        </p:nvPicPr>
        <p:blipFill>
          <a:blip r:embed="rId1"/>
          <a:stretch/>
        </p:blipFill>
        <p:spPr>
          <a:xfrm>
            <a:off x="5638680" y="1828800"/>
            <a:ext cx="2908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7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330033"/>
                </a:solidFill>
                <a:latin typeface="Times New Roman"/>
              </a:rPr>
              <a:t>Уроки математики школе должны решать коррекционные задачи, направленные на преодоление основного речевого дефекта и нарушений психического развития учащихся:</a:t>
            </a:r>
            <a:endParaRPr b="0" lang="en-US" sz="2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ширение, обогащение и активизация словарного запаса за счёт введения в речь математической терми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грамматического строя речи за счёт включения математических терминов в различные грамматические конструкции (словосочетание и предлож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выка смыслового чтения и навыков работы с информацией, представленной разными способами (чтение текста задачи, формулировка правила, составление таблиц и алгоритм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связной устной и письменной речи (составление связного учебного высказывания с опорой на алгоритм, оречевлениесобственных действий, использование в связной речи новой математической терминолог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коммуникативной функции речи за счёт специально организованных ситуаций общения на уроке математики (диалог, работа в парах, в группах и п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высших психических функций, формирование абстрактного мышления, обучение обобщать, классифицировать; профилактика дискалькул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звукопроизношения в процессе построения речевого высказывания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Специальные принципы обучения математике детей с нарушениями реч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19" name="Organization Chart 33"/>
          <p:cNvGrpSpPr/>
          <p:nvPr/>
        </p:nvGrpSpPr>
        <p:grpSpPr>
          <a:xfrm>
            <a:off x="0" y="1617840"/>
            <a:ext cx="9143640" cy="4494600"/>
            <a:chOff x="0" y="1617840"/>
            <a:chExt cx="9143640" cy="449460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 rot="16200000">
              <a:off x="6005520" y="1981440"/>
              <a:ext cx="899640" cy="3766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2" idx="2"/>
            </p:cNvCxnSpPr>
            <p:nvPr/>
          </p:nvCxnSpPr>
          <p:spPr>
            <a:xfrm flipV="1" rot="16200000">
              <a:off x="5064120" y="2922840"/>
              <a:ext cx="899640" cy="1883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030"/>
            <p:cNvCxnSpPr>
              <a:stCxn id="126" idx="0"/>
              <a:endCxn id="122" idx="2"/>
            </p:cNvCxnSpPr>
            <p:nvPr/>
          </p:nvCxnSpPr>
          <p:spPr>
            <a:xfrm flipV="1" rot="16200000">
              <a:off x="4123440" y="3863520"/>
              <a:ext cx="899640" cy="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031"/>
            <p:cNvCxnSpPr>
              <a:stCxn id="128" idx="0"/>
              <a:endCxn id="122" idx="2"/>
            </p:cNvCxnSpPr>
            <p:nvPr/>
          </p:nvCxnSpPr>
          <p:spPr>
            <a:xfrm flipH="1" flipV="1" rot="5400000">
              <a:off x="3181320" y="2923200"/>
              <a:ext cx="899640" cy="18835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1032"/>
            <p:cNvCxnSpPr>
              <a:stCxn id="130" idx="0"/>
              <a:endCxn id="122" idx="2"/>
            </p:cNvCxnSpPr>
            <p:nvPr/>
          </p:nvCxnSpPr>
          <p:spPr>
            <a:xfrm flipH="1" flipV="1" rot="5400000">
              <a:off x="2239920" y="1981800"/>
              <a:ext cx="899640" cy="3766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2" name="_s1033"/>
            <p:cNvSpPr/>
            <p:nvPr/>
          </p:nvSpPr>
          <p:spPr>
            <a:xfrm>
              <a:off x="3763800" y="1617840"/>
              <a:ext cx="1613880" cy="179784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4"/>
            <p:cNvSpPr/>
            <p:nvPr/>
          </p:nvSpPr>
          <p:spPr>
            <a:xfrm>
              <a:off x="0" y="4314600"/>
              <a:ext cx="1613880" cy="179784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нц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еятель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ост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дход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35"/>
            <p:cNvSpPr/>
            <p:nvPr/>
          </p:nvSpPr>
          <p:spPr>
            <a:xfrm>
              <a:off x="1882800" y="4314600"/>
              <a:ext cx="1613880" cy="179784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инц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этап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ормирован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мствен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ействи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6"/>
            <p:cNvSpPr/>
            <p:nvPr/>
          </p:nvSpPr>
          <p:spPr>
            <a:xfrm>
              <a:off x="3765600" y="4314600"/>
              <a:ext cx="1613880" cy="179784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инц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рограммир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ания пр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ормировани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сихически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функци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37"/>
            <p:cNvSpPr/>
            <p:nvPr/>
          </p:nvSpPr>
          <p:spPr>
            <a:xfrm>
              <a:off x="5648760" y="4314600"/>
              <a:ext cx="1613880" cy="179784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62">
                  <a:moveTo>
                    <a:pt x="3600" y="0"/>
                  </a:moveTo>
                  <a:arcTo wR="3600" hR="3600" stAng="16200000" swAng="-5400000"/>
                  <a:lnTo>
                    <a:pt x="0" y="20462"/>
                  </a:lnTo>
                  <a:arcTo wR="3600" hR="3600" stAng="10800000" swAng="-5400000"/>
                  <a:lnTo>
                    <a:pt x="18000" y="240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инц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максималь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ключения реч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38"/>
            <p:cNvSpPr/>
            <p:nvPr/>
          </p:nvSpPr>
          <p:spPr>
            <a:xfrm>
              <a:off x="7531560" y="4314600"/>
              <a:ext cx="1612080" cy="1797840"/>
            </a:xfrm>
            <a:custGeom>
              <a:avLst/>
              <a:gdLst>
                <a:gd name="textAreaLeft" fmla="*/ 78480 w 1612080"/>
                <a:gd name="textAreaRight" fmla="*/ 1533600 w 1612080"/>
                <a:gd name="textAreaTop" fmla="*/ 78480 h 1797840"/>
                <a:gd name="textAreaBottom" fmla="*/ 1719360 h 1797840"/>
              </a:gdLst>
              <a:ahLst/>
              <a:rect l="textAreaLeft" t="textAreaTop" r="textAreaRight" b="textAreaBottom"/>
              <a:pathLst>
                <a:path w="21600" h="24088">
                  <a:moveTo>
                    <a:pt x="3600" y="0"/>
                  </a:moveTo>
                  <a:arcTo wR="3600" hR="3600" stAng="16200000" swAng="-5400000"/>
                  <a:lnTo>
                    <a:pt x="0" y="20488"/>
                  </a:lnTo>
                  <a:arcTo wR="3600" hR="3600" stAng="10800000" swAng="-5400000"/>
                  <a:lnTo>
                    <a:pt x="18000" y="2408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инцип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истемн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дхода к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цессу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ррекции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звити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инцип деятельностного подхода, учет сложной структуры учебной деятельности (мотивационно-целевой, операционный этап, этап контроля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формировании операционного компонента учебной деятельности (овладение чтением, письмом, счетными операциями и т.д.) важнейшее значение приобретает учет психологической структуры процесса овладения чтением, письмом, счетными операциям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язи с этим на начальных этапах должно быть предусмотрено формирование предпосылок для овладения школьными навыками и умениями. В программах для начальных классов предусмотрена взаимосвязь в формировании перцептивных, речевых и интеллектуальных предпосылок овладения учебным материа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3-12-11T16:27:4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