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7DA-C9A5-484D-AA50-6E6375BC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F9D-A829-438F-BAAB-44F881D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84D-B8D5-42D8-A2D0-BB1F5EE9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3E8-DC69-4143-84A3-1ABB05F6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EE5A-7FF8-48C4-AEAB-C0BB0E44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9B0E-5179-4EF9-BFA0-68802D77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9D79-E383-4D22-A903-C5110E1A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AB34-354E-4FB9-9643-FEDEF97D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886A-B842-4215-88CF-7A2E1212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DA21-1B57-4202-B5BD-B6657C1D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CCC5-0F6B-44C8-A574-56C1C67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CC3-607F-4B86-ABB4-765BD510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B82F-EF41-4968-90A1-6C5633F9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A58-820B-4D61-9512-75A039AE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FF5B-6FDB-43C7-8022-816BD68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0D2-DFA9-4C78-A5CA-06D08411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E482-4668-4715-878B-DEC4E026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1D9-61E9-4489-948E-83450BCA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257-F2FE-47D4-A59D-54FD02F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E8F-207C-4FAC-B300-46A2872D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834-F0BA-4954-A197-D454D255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2E9-BBB7-4DAF-BE6D-9E35673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ED6-BD8E-480E-8F8D-92CA048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93F-CDEE-4B20-B92A-6CD60D0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A1A-A138-421C-BE67-40D9D837BF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D0E-8DAD-42C5-AD5B-BE94D29643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ые задачи и принципы формирования математических представлений у детей с речевыми нарушения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23920" y="5943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нцип программирования при формировании психических функций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принцип позволяет формировать в развернутом виде психологическую структуру той или иной деятельности школьника. Каждая из операций сложной деятельности выносится во внешний план, отрабатывается изолированно и доводится до автоматизма. В процессе дальнейшего обучения обеспечивается интеграция различных операций в единую программу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нцип максимального включения речи на всех этапах формирования умственных действий и учебной деятельности школьника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условлено тем, что речь является средством интеллектуальной деятельности. Она включается в учебную деятельность как на фазе ориентировки, так и на фазе реализации и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Копия 1613568101_158-p-fon-dlya-prezentatsii-po-matematike-188"/>
          <p:cNvPicPr/>
          <p:nvPr/>
        </p:nvPicPr>
        <p:blipFill>
          <a:blip r:embed="rId1"/>
          <a:stretch/>
        </p:blipFill>
        <p:spPr>
          <a:xfrm>
            <a:off x="2590920" y="3022560"/>
            <a:ext cx="3886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цип системного подхода к процессу коррекции и развит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в учебный план речевой школы включены не только общеобразовательные предметы, но и коррекционные занятия. Предполагается тесная взаимосвязь в содержании программ по общеобразовательным предметам и по коррекции нарушений речи. На протяжении всего периода обучения по всем учебным предметам, включая математику, наряду с решением общеобразовательных задач должна проводиться целенаправленная и систематическая работа по коррекции нарушений речи и развитию фонетико-фонематического и лексико-грамматического строя, формированию диалогической и монологической речи. Эта работа осуществляется с использованием различных методов, но имеет главной целью корригирование недостатков речевого развития детей с ТНР(тяжелым недоразвитием речи) , создание предпосылок для овладения школьными знаниями, умениями 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математике в школе для детей с нарушениями речи должно происходить на практическом материале для осознания связи науки и практики. В начальной школе дети должны овладеть элементарными умениями и навыками, необходимыми для изменения величин (длины, площади, массы, времени), решения текстовых задач, устных и письменных вычис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на уроке математики должна быть построена таким образом, чтобы не допускать перегрузки учебным материалом, переутомления. Необходимо соблюдать охранительный режим (физминутки, гимнастика для глаз и пальцев рук, динамическая организация урока); включать в урок игровые приёмы работы. Дидактические игры на уроках математики должны носить коррекционно-развивающий, коррекционно-обучающ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индивидуальных и групповых логопедических занятиях необходимо отрабатывать правильное произношение математической терминологии, работа над слоговой структурой многосложных 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1646024533_4-abrakadabra-fun-p-matematika-na-prozrachnom-fone-8"/>
          <p:cNvPicPr/>
          <p:nvPr/>
        </p:nvPicPr>
        <p:blipFill>
          <a:blip r:embed="rId1"/>
          <a:stretch/>
        </p:blipFill>
        <p:spPr>
          <a:xfrm>
            <a:off x="2057400" y="4033800"/>
            <a:ext cx="51004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работки навыков устного счёта на каждом уроке математики проводятся тренировочные упражнения в устных вычислениях. Учащиеся должные не только овладеть разными способами вычислений, но и доводить счёт до автоматизма (табличное сложение и вычитание, умножение и деле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математики должны способствовать организации активной деятельности учеников, повышать работоспособность, формировать навыки самостоятельной работы, само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mgonline-com-ua-CompressBySize-5mjlKSs8nIQCVNd"/>
          <p:cNvPicPr/>
          <p:nvPr/>
        </p:nvPicPr>
        <p:blipFill>
          <a:blip r:embed="rId1"/>
          <a:stretch/>
        </p:blipFill>
        <p:spPr>
          <a:xfrm>
            <a:off x="2590920" y="3657600"/>
            <a:ext cx="4267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е предметных результатов по математике осуществляется в основном на уроках под руководством учителя. Однако со 2 класса вводятся домашние задания, которые требуют систематического выполнения. Домашние задания должны быть строго дозированы и быть доступны для выполнения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положительных предметных результатов по математике в речевой школе необходимо осуществлять любые виды работ на основе практических действий и постоянной систематической работы по коррекции речевых нарушений. Например, при счёте предметов рекомендуется называть не только число, но и сам предмет: одна конфета, две конфеты, пять конфет и т.д. Таким образом отрабатывается навык согласования существительного и числ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ктуальность проблем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течественной и зарубежной литературы известно, что дети, имеющие нарушения речи, по ряду существенных психологических параметров отстают от детей с нормальным речевым развит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проблемы заключается в том, что отставания в психическом и речевом развитии влекут за собой трудности в усвоении школьной программы, в частности большие трудности возникают при изучении математики 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чётных операций осуществляется с учётом поэтапности формирования умственных действий: предметные действия с конкретными предметами с помощью учителя, затем самостоятельные действия с опорой на наглядность и громкую речь, потом - выполнение математических действий в речевом плане и, наконец, выполнение математических действий во внутреннем плане, что является главным признаком автоматизированног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простых и составных арифметических задач происходит усвоение многих математических понятий, формируется навык постановки вопросов, понимания смысла прочитанного, развития связного устного высказывания. Учащиеся постепенно овладевают умением осознанно выделять в задаче её основные части, пересказывать задачу, делать краткую запись различными способами. В ходе изучения задач дети должны научиться решать задачи разных видов с целью исключения возможности выработки штампов при решении. С этой целью можно использовать задачи с одинаковыми данными, но с различными вопро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етическая задача является хорошим материалом для тренировки связного речевого высказывания, что немаловажно в школе для детей с тяжёлыми нарушениями речи. Школьники учатся самостоятельно ставить вопрос, давать развёрнутый ответ на вопрос задачи, анализировать содержание задачи, выявлять причинно-следственные зависимости, объяснять лексическое значение слов, содержащихся в задаче, пересказывать условие, находить решение и объяснять его. Кроме того отрабатывается навык смыслового чтения и правильного звукопроизношения при устной работе с задачей, формируется навык оформления развёрнутого ответа на вопрос задачи в устной и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ым упражнением является самостоятельное составление (придумывание) детьми задач по рисунку, заданию учителя, краткой записи, чертежу, выражению и т.д. Это способствует развитию творческих способностей детей, активизирует отбор необходимых языковых средств, способствует развитию связ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645073591_59-phonoteka-org-p-fon-po-matematike-dlya-doshkolnikov-63"/>
          <p:cNvPicPr/>
          <p:nvPr/>
        </p:nvPicPr>
        <p:blipFill>
          <a:blip r:embed="rId1"/>
          <a:stretch/>
        </p:blipFill>
        <p:spPr>
          <a:xfrm>
            <a:off x="1905120" y="3909960"/>
            <a:ext cx="5257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внимание уделяется изучению геометрического материала. Младшие школьники должны знать названия геометрических фигур, делать чертёж фигуры по линейке, моделировать фигуру, измерять и чертить отрезки, вычислять площадь и периметр прямоугольника и квадрата, отражать результаты измерений и вычислений в форме связного речевого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при работе необходимо помнить о том, что особенности речи детей свидетельствуют о необходимости системного воздействия на преодоление и устранение значительных недостатков в общем речевом развитии. Такая работа должна проводится систематически и целенаправленно на уроках лингвистического цикла и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х этапах развития ребёнка сложные психические функции формируются на базе боле простых функций. Речь – это более сложный психический процесс, поэтому первичную базу для её формирования создают восприятие, внимание, память и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645073591_59-phonoteka-org-p-fon-po-matematike-dlya-doshkolnikov-63"/>
          <p:cNvPicPr/>
          <p:nvPr/>
        </p:nvPicPr>
        <p:blipFill>
          <a:blip r:embed="rId1"/>
          <a:stretch/>
        </p:blipFill>
        <p:spPr>
          <a:xfrm>
            <a:off x="1905120" y="3909960"/>
            <a:ext cx="5257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 речь в свою очередь начинает оказывать существенное влияние на развитие процессов восприятия, уточняя и обобщая их, а восприятие играет важную роль в развитии памяти и мышления. С появлением речи начинает формироваться словесно-логическое мышление. С одной стороны, речь не формируется без определенной психологической базы, с другой стороны, речь, развиваясь, совершенствует все психически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33"/>
                </a:solidFill>
                <a:latin typeface="Times New Roman"/>
              </a:rPr>
              <a:t>Наблюдения показали, что учащиеся 1 класса речевой школы имеют значительные нарушения познавательной деятельности, которые в разной степени выражены у всех детей: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0" y="220968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ость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тейших математ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, ребусов, загад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ловоломок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895480" y="1447920"/>
            <a:ext cx="327672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тавание в разви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есно-л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0" y="380988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ения математ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инолог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2895480" y="4648320"/>
            <a:ext cx="327672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удность сосредот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удерживания внимани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есном материале в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глядной ситу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5867280" y="205740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риятия дли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к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5867280" y="380988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ая работоспособ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ная взаимосвязь речи и других психических процессов делает справедливым вывод о том, что коррекционную работу с такими детьми надо строить, учитывая индивидуальные особенности, уровень развития речи и сформированности словесно-логического мышления учащихся с речевой патолог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637981457_14-flomaster-club-p-matematicheskie-risunki-dlya-detei-detskie-14"/>
          <p:cNvPicPr/>
          <p:nvPr/>
        </p:nvPicPr>
        <p:blipFill>
          <a:blip r:embed="rId1"/>
          <a:stretch/>
        </p:blipFill>
        <p:spPr>
          <a:xfrm>
            <a:off x="5638680" y="182880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0033"/>
                </a:solidFill>
                <a:latin typeface="Times New Roman"/>
              </a:rPr>
              <a:t>Уроки математики школе должны решать коррекционные задачи, направленные на преодоление основного речевого дефекта и нарушений психического развития учащихся:</a:t>
            </a:r>
            <a:endParaRPr b="0" lang="en-US" sz="2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ие, обогащение и активизация словарного запаса за счёт введения в речь математической терми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рамматического строя речи за счёт включения математических терминов в различные грамматические конструкции (словосочетание и предлож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выка смыслового чтения и навыков работы с информацией, представленной разными способами (чтение текста задачи, формулировка правила, составление таблиц и алгорит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вязной устной и письменной речи (составление связного учебного высказывания с опорой на алгоритм, оречевлениесобственных действий, использование в связной речи новой математической терминолог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муникативной функции речи за счёт специально организованных ситуаций общения на уроке математики (диалог, работа в парах, в группах и п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высших психических функций, формирование абстрактного мышления, обучение обобщать, классифицировать; профилактика дискалькул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звукопроизношения в процессе построения речевого высказыва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пециальные принципы обучения математике детей с нарушениями реч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9" name="Organization Chart 33"/>
          <p:cNvGrpSpPr/>
          <p:nvPr/>
        </p:nvGrpSpPr>
        <p:grpSpPr>
          <a:xfrm>
            <a:off x="0" y="1617840"/>
            <a:ext cx="9143640" cy="4494600"/>
            <a:chOff x="0" y="1617840"/>
            <a:chExt cx="9143640" cy="449460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6005520" y="1981440"/>
              <a:ext cx="899640" cy="3766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2" idx="2"/>
            </p:cNvCxnSpPr>
            <p:nvPr/>
          </p:nvCxnSpPr>
          <p:spPr>
            <a:xfrm flipV="1" rot="16200000">
              <a:off x="5064120" y="2922840"/>
              <a:ext cx="899640" cy="1883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0"/>
            <p:cNvCxnSpPr>
              <a:stCxn id="126" idx="0"/>
              <a:endCxn id="122" idx="2"/>
            </p:cNvCxnSpPr>
            <p:nvPr/>
          </p:nvCxnSpPr>
          <p:spPr>
            <a:xfrm flipV="1" rot="16200000">
              <a:off x="4123440" y="386352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31"/>
            <p:cNvCxnSpPr>
              <a:stCxn id="128" idx="0"/>
              <a:endCxn id="122" idx="2"/>
            </p:cNvCxnSpPr>
            <p:nvPr/>
          </p:nvCxnSpPr>
          <p:spPr>
            <a:xfrm flipH="1" flipV="1" rot="5400000">
              <a:off x="3181320" y="2923200"/>
              <a:ext cx="899640" cy="1883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2"/>
            <p:cNvCxnSpPr>
              <a:stCxn id="130" idx="0"/>
              <a:endCxn id="122" idx="2"/>
            </p:cNvCxnSpPr>
            <p:nvPr/>
          </p:nvCxnSpPr>
          <p:spPr>
            <a:xfrm flipH="1" flipV="1" rot="5400000">
              <a:off x="2239920" y="1981800"/>
              <a:ext cx="899640" cy="3766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1033"/>
            <p:cNvSpPr/>
            <p:nvPr/>
          </p:nvSpPr>
          <p:spPr>
            <a:xfrm>
              <a:off x="3763800" y="161784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ятель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ст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ход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5"/>
            <p:cNvSpPr/>
            <p:nvPr/>
          </p:nvSpPr>
          <p:spPr>
            <a:xfrm>
              <a:off x="188280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этап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рмирова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мствен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йств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6"/>
            <p:cNvSpPr/>
            <p:nvPr/>
          </p:nvSpPr>
          <p:spPr>
            <a:xfrm>
              <a:off x="376560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граммир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ания пр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рмирован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сихическ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ункц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7"/>
            <p:cNvSpPr/>
            <p:nvPr/>
          </p:nvSpPr>
          <p:spPr>
            <a:xfrm>
              <a:off x="564876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аксималь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ключения реч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8"/>
            <p:cNvSpPr/>
            <p:nvPr/>
          </p:nvSpPr>
          <p:spPr>
            <a:xfrm>
              <a:off x="7531560" y="4314600"/>
              <a:ext cx="1612080" cy="1797840"/>
            </a:xfrm>
            <a:custGeom>
              <a:avLst/>
              <a:gdLst>
                <a:gd name="textAreaLeft" fmla="*/ 78480 w 1612080"/>
                <a:gd name="textAreaRight" fmla="*/ 1533600 w 16120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88">
                  <a:moveTo>
                    <a:pt x="3600" y="0"/>
                  </a:moveTo>
                  <a:arcTo wR="3600" hR="3600" stAng="16200000" swAng="-5400000"/>
                  <a:lnTo>
                    <a:pt x="0" y="20488"/>
                  </a:lnTo>
                  <a:arcTo wR="3600" hR="3600" stAng="10800000" swAng="-5400000"/>
                  <a:lnTo>
                    <a:pt x="18000" y="240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истем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дхода 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ррекции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звит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нцип деятельностного подхода, учет сложной структуры учебной деятельности (мотивационно-целевой, операционный этап, этап контроля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формировании операционного компонента учебной деятельности (овладение чтением, письмом, счетными операциями и т.д.) важнейшее значение приобретает учет психологической структуры процесса овладения чтением, письмом, счетными операция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этим на начальных этапах должно быть предусмотрено формирование предпосылок для овладения школьными навыками и умениями. В программах для начальных классов предусмотрена взаимосвязь в формировании перцептивных, речевых и интеллектуальных предпосылок овладения учебным материа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12-11T16:27:4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