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7.jpeg" ContentType="image/jpeg"/>
  <Override PartName="/ppt/media/image6.jpeg" ContentType="image/jpeg"/>
  <Override PartName="/ppt/media/image10.png" ContentType="image/png"/>
  <Override PartName="/ppt/media/image29.jpeg" ContentType="image/jpeg"/>
  <Override PartName="/ppt/media/image5.png" ContentType="image/png"/>
  <Override PartName="/ppt/media/image8.png" ContentType="image/png"/>
  <Override PartName="/ppt/media/image14.jpeg" ContentType="image/jpeg"/>
  <Override PartName="/ppt/media/image13.png" ContentType="image/png"/>
  <Override PartName="/ppt/media/image28.jpeg" ContentType="image/jpeg"/>
  <Override PartName="/ppt/media/image7.jpeg" ContentType="image/jpeg"/>
  <Override PartName="/ppt/media/image19.jpeg" ContentType="image/jpeg"/>
  <Override PartName="/ppt/media/image20.jpeg" ContentType="image/jpeg"/>
  <Override PartName="/ppt/media/image30.jpeg" ContentType="image/jpeg"/>
  <Override PartName="/ppt/media/image24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11.png" ContentType="image/png"/>
  <Override PartName="/ppt/media/image9.jpeg" ContentType="image/jpeg"/>
  <Override PartName="/ppt/media/image2.png" ContentType="image/png"/>
  <Override PartName="/ppt/media/image25.jpeg" ContentType="image/jpeg"/>
  <Override PartName="/ppt/media/image1.png" ContentType="image/png"/>
  <Override PartName="/ppt/media/image15.jpeg" ContentType="image/jpeg"/>
  <Override PartName="/ppt/media/image16.jpeg" ContentType="image/jpeg"/>
  <Override PartName="/ppt/media/image18.jpeg" ContentType="image/jpeg"/>
  <Override PartName="/ppt/media/image21.jpeg" ContentType="image/jpeg"/>
  <Override PartName="/ppt/media/image22.jpeg" ContentType="image/jpeg"/>
  <Override PartName="/ppt/media/image12.png" ContentType="image/png"/>
  <Override PartName="/ppt/media/image2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336A-DC98-40CF-A001-ECEC71701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63EC-725E-417C-A005-651E6869A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5F01-F0B7-4201-B44E-0452E9D23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FA08-43E9-46C9-B7CA-FA6F50A0A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194F-89BA-4CCB-A4B6-7D6D7AAB9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15D0-2860-403C-BE65-571FFD252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918B-3643-42F0-BED4-419E131FE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F033-F196-47A3-B1FA-4094C64B0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4889-16D5-43DD-A5A4-6CB090D20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AACE-1461-4066-B245-469658111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3C23-5D22-47E6-AB16-1FABDE730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0D0A-5A0F-4B7C-B3C5-810BEB3A8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88A22-3DCC-4198-ABEF-D8AA08AFFF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4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539640" y="1341360"/>
            <a:ext cx="7877160" cy="73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1" i="1" lang="en-US" sz="6600" spc="1" strike="noStrike">
              <a:ln w="0">
                <a:noFill/>
              </a:ln>
              <a:solidFill>
                <a:srgbClr val="8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2" name="Picture 21" descr="3952472c479a07a7a7c09e206ef7f9e4"/>
          <p:cNvPicPr/>
          <p:nvPr/>
        </p:nvPicPr>
        <p:blipFill>
          <a:blip r:embed="rId1"/>
          <a:stretch/>
        </p:blipFill>
        <p:spPr>
          <a:xfrm>
            <a:off x="2195640" y="2924280"/>
            <a:ext cx="1143000" cy="13334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3952472c479a07a7a7c09e206ef7f9e4"/>
          <p:cNvPicPr/>
          <p:nvPr/>
        </p:nvPicPr>
        <p:blipFill>
          <a:blip r:embed="rId2"/>
          <a:stretch/>
        </p:blipFill>
        <p:spPr>
          <a:xfrm>
            <a:off x="8001000" y="260280"/>
            <a:ext cx="1143000" cy="13334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3" descr="3952472c479a07a7a7c09e206ef7f9e4"/>
          <p:cNvPicPr/>
          <p:nvPr/>
        </p:nvPicPr>
        <p:blipFill>
          <a:blip r:embed="rId3"/>
          <a:stretch/>
        </p:blipFill>
        <p:spPr>
          <a:xfrm>
            <a:off x="250920" y="189000"/>
            <a:ext cx="1143000" cy="13334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4" descr="3952472c479a07a7a7c09e206ef7f9e4"/>
          <p:cNvPicPr/>
          <p:nvPr/>
        </p:nvPicPr>
        <p:blipFill>
          <a:blip r:embed="rId4"/>
          <a:stretch/>
        </p:blipFill>
        <p:spPr>
          <a:xfrm>
            <a:off x="7451640" y="2637000"/>
            <a:ext cx="1143000" cy="13334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5" descr="3952472c479a07a7a7c09e206ef7f9e4"/>
          <p:cNvPicPr/>
          <p:nvPr/>
        </p:nvPicPr>
        <p:blipFill>
          <a:blip r:embed="rId5"/>
          <a:stretch/>
        </p:blipFill>
        <p:spPr>
          <a:xfrm>
            <a:off x="4140360" y="260280"/>
            <a:ext cx="1143000" cy="13334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1" descr="8612979c6a4473757a9dcdd956742584"/>
          <p:cNvPicPr/>
          <p:nvPr/>
        </p:nvPicPr>
        <p:blipFill>
          <a:blip r:embed="rId6"/>
          <a:stretch/>
        </p:blipFill>
        <p:spPr>
          <a:xfrm>
            <a:off x="5148360" y="4221000"/>
            <a:ext cx="714240" cy="11908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3" descr="e4404eced2f23a5fde3f48c7232c2b30"/>
          <p:cNvPicPr/>
          <p:nvPr/>
        </p:nvPicPr>
        <p:blipFill>
          <a:blip r:embed="rId7"/>
          <a:stretch/>
        </p:blipFill>
        <p:spPr>
          <a:xfrm>
            <a:off x="3952800" y="2571840"/>
            <a:ext cx="1238400" cy="17143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4" descr="e4404eced2f23a5fde3f48c7232c2b30"/>
          <p:cNvPicPr/>
          <p:nvPr/>
        </p:nvPicPr>
        <p:blipFill>
          <a:blip r:embed="rId8"/>
          <a:stretch/>
        </p:blipFill>
        <p:spPr>
          <a:xfrm>
            <a:off x="395280" y="2492280"/>
            <a:ext cx="1238400" cy="17146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5" descr="e4404eced2f23a5fde3f48c7232c2b30"/>
          <p:cNvPicPr/>
          <p:nvPr/>
        </p:nvPicPr>
        <p:blipFill>
          <a:blip r:embed="rId9"/>
          <a:stretch/>
        </p:blipFill>
        <p:spPr>
          <a:xfrm>
            <a:off x="5435640" y="1268280"/>
            <a:ext cx="1238040" cy="17146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6" descr="e4404eced2f23a5fde3f48c7232c2b30"/>
          <p:cNvPicPr/>
          <p:nvPr/>
        </p:nvPicPr>
        <p:blipFill>
          <a:blip r:embed="rId10"/>
          <a:stretch/>
        </p:blipFill>
        <p:spPr>
          <a:xfrm>
            <a:off x="5724360" y="2997360"/>
            <a:ext cx="1238400" cy="17143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7" descr="e4404eced2f23a5fde3f48c7232c2b30"/>
          <p:cNvPicPr/>
          <p:nvPr/>
        </p:nvPicPr>
        <p:blipFill>
          <a:blip r:embed="rId11"/>
          <a:stretch/>
        </p:blipFill>
        <p:spPr>
          <a:xfrm>
            <a:off x="6227640" y="404640"/>
            <a:ext cx="1238400" cy="1714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8" descr="e4404eced2f23a5fde3f48c7232c2b30"/>
          <p:cNvPicPr/>
          <p:nvPr/>
        </p:nvPicPr>
        <p:blipFill>
          <a:blip r:embed="rId12"/>
          <a:stretch/>
        </p:blipFill>
        <p:spPr>
          <a:xfrm>
            <a:off x="2484360" y="1197000"/>
            <a:ext cx="1238400" cy="17143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9" descr="e4404eced2f23a5fde3f48c7232c2b30"/>
          <p:cNvPicPr/>
          <p:nvPr/>
        </p:nvPicPr>
        <p:blipFill>
          <a:blip r:embed="rId13"/>
          <a:stretch/>
        </p:blipFill>
        <p:spPr>
          <a:xfrm>
            <a:off x="3952800" y="4956120"/>
            <a:ext cx="3952800" cy="10508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0" descr="e4404eced2f23a5fde3f48c7232c2b30"/>
          <p:cNvPicPr/>
          <p:nvPr/>
        </p:nvPicPr>
        <p:blipFill>
          <a:blip r:embed="rId14"/>
          <a:stretch/>
        </p:blipFill>
        <p:spPr>
          <a:xfrm>
            <a:off x="3059280" y="2781360"/>
            <a:ext cx="1238040" cy="17143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1" descr="e4404eced2f23a5fde3f48c7232c2b30"/>
          <p:cNvPicPr/>
          <p:nvPr/>
        </p:nvPicPr>
        <p:blipFill>
          <a:blip r:embed="rId15"/>
          <a:stretch/>
        </p:blipFill>
        <p:spPr>
          <a:xfrm>
            <a:off x="5580000" y="4842000"/>
            <a:ext cx="2174760" cy="17143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2" descr="e4404eced2f23a5fde3f48c7232c2b30"/>
          <p:cNvPicPr/>
          <p:nvPr/>
        </p:nvPicPr>
        <p:blipFill>
          <a:blip r:embed="rId16"/>
          <a:stretch/>
        </p:blipFill>
        <p:spPr>
          <a:xfrm>
            <a:off x="7905600" y="5013360"/>
            <a:ext cx="1238400" cy="1714320"/>
          </a:xfrm>
          <a:prstGeom prst="rect">
            <a:avLst/>
          </a:prstGeom>
          <a:ln w="0">
            <a:noFill/>
          </a:ln>
        </p:spPr>
      </p:pic>
      <p:sp>
        <p:nvSpPr>
          <p:cNvPr id="58" name="Прямоугольник 2"/>
          <p:cNvSpPr/>
          <p:nvPr/>
        </p:nvSpPr>
        <p:spPr>
          <a:xfrm>
            <a:off x="0" y="310500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43434"/>
                </a:solidFill>
                <a:latin typeface="Times New Roman"/>
                <a:ea typeface="Times New Roman"/>
              </a:rPr>
              <a:t>ФЛОРИСТИКА – ИСКУССТВО СОСТАВЛЕНИЯ БУКЕТ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Параллельная техн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-17640" y="1417680"/>
            <a:ext cx="9144000" cy="538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Собирая букет в такой технике, следует учитывать определенные правил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- центральный цветок букета должен занимать самое высокое положен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- стебли цветов устанавливаются так, чтобы они не перекрещивались, а прилегали дуг к друг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- растения используются с длинными стеблями, которые в конце подрезаю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Букет в параллельной технике можно собирать в оазисе (так называемая флористическая губка, которая отлично впитывает воду и длительное время остается во влажном состоянии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Параллельная сборка идеально подходит для мужских буке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140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Параллельная техн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https://krots.top/uploads/posts/2022-02/1645634407_5-krot-info-p-parallelnaya-tekhnika-sborki-buketa-tsveti-5.jpg"/>
          <p:cNvPicPr/>
          <p:nvPr/>
        </p:nvPicPr>
        <p:blipFill>
          <a:blip r:embed="rId1"/>
          <a:stretch/>
        </p:blipFill>
        <p:spPr>
          <a:xfrm>
            <a:off x="0" y="1417680"/>
            <a:ext cx="4356000" cy="54403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Берграс в букете"/>
          <p:cNvPicPr/>
          <p:nvPr/>
        </p:nvPicPr>
        <p:blipFill>
          <a:blip r:embed="rId2"/>
          <a:stretch/>
        </p:blipFill>
        <p:spPr>
          <a:xfrm>
            <a:off x="4356000" y="1417680"/>
            <a:ext cx="4788000" cy="54403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Техника сборки букетов по спирали появилась существенно позднее, но также относится к современным флористическим тенденци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Спираль во флористике"/>
          <p:cNvPicPr/>
          <p:nvPr/>
        </p:nvPicPr>
        <p:blipFill>
          <a:blip r:embed="rId1"/>
          <a:stretch/>
        </p:blipFill>
        <p:spPr>
          <a:xfrm>
            <a:off x="-19080" y="1441440"/>
            <a:ext cx="4245120" cy="54165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Букет в спиральной технике"/>
          <p:cNvPicPr/>
          <p:nvPr/>
        </p:nvPicPr>
        <p:blipFill>
          <a:blip r:embed="rId2"/>
          <a:stretch/>
        </p:blipFill>
        <p:spPr>
          <a:xfrm>
            <a:off x="4226040" y="1441440"/>
            <a:ext cx="4917960" cy="54259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иральная техн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0" y="1599840"/>
            <a:ext cx="91440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Спиральная техника начинается с центрального цветка (рис.4). Также центром могут выступать одновременно и три буто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При такой технике основную функцию выполняют новые элементы и необходимо выдерживать уровень наклона спирал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Выполняя букеты по такой технике, рекомендуется пользоваться следующими советам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- устанавливать цветок под углом, направляя его движение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- стараться не нарушать движения по спирал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- при погружении спирального букета в ёмкость с водой, поворачивать букет в том же направлении, в каком закручены элемен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Спиральная сборка бук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https://eduherald.ru/i/2019/4/3656/image004.jpg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55897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Спиральная сборка бук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https://eduherald.ru/i/2019/4/3656/image005.jpg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55897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Спиральная сборка бук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" descr="https://eduherald.ru/i/2019/4/3656/image006.jpg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56610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0240" y="-360"/>
            <a:ext cx="917424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Сегодня искусно и оригинально составленный букет – неотъемлемая часть любого праздника либо мероприятия, а так же незабываемый подарок близкому челове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" descr="Букет роз"/>
          <p:cNvPicPr/>
          <p:nvPr/>
        </p:nvPicPr>
        <p:blipFill>
          <a:blip r:embed="rId1"/>
          <a:stretch/>
        </p:blipFill>
        <p:spPr>
          <a:xfrm>
            <a:off x="0" y="1600200"/>
            <a:ext cx="5076720" cy="55738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" descr="Элегантный букет"/>
          <p:cNvPicPr/>
          <p:nvPr/>
        </p:nvPicPr>
        <p:blipFill>
          <a:blip r:embed="rId1"/>
          <a:stretch/>
        </p:blipFill>
        <p:spPr>
          <a:xfrm>
            <a:off x="1908000" y="1417680"/>
            <a:ext cx="5256360" cy="54403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Во флористике помимо техники сборки букетов существует ряд классификаций по различным признак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-360" y="1599840"/>
            <a:ext cx="37083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Первый из них – форма: традиционная и нетрадиционн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Среди традиционной выделяю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а)круглы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б)каркасны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в)структурны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г)ниспадающий каскад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д)гламели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2" descr="https://eduherald.ru/i/2019/4/3656/image007.jpg"/>
          <p:cNvPicPr/>
          <p:nvPr/>
        </p:nvPicPr>
        <p:blipFill>
          <a:blip r:embed="rId1"/>
          <a:stretch/>
        </p:blipFill>
        <p:spPr>
          <a:xfrm>
            <a:off x="3708360" y="1600200"/>
            <a:ext cx="5435640" cy="52578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лорист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Флористика – особый вид искусства, когда объектом художника - профессионала выступают живые цветы, которые в процессе преображаются при помощи вымысла и яркой фантазии в уникальные, необычные, великолепные цветочные композиции и букеты, представляющие собой неподражаемые шедевры. Каждый букет, создаваемый руками флориста необычен, одно произведение выражает настрой, характер и послание автора, другое передает различные чувства – дружбу, любовь, благодарность и нежность. Цветочный букет – это своего рода традиционный дар в нашем современном обществе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17136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Нетрадиционные формы постоянно расширяются, среди устоявших выделя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-360" y="1599840"/>
            <a:ext cx="34923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а)зонтик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б)веер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в)сумоч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г)скипетр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д)C, S и L – образ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https://eduherald.ru/i/2019/4/3656/image008.jpg"/>
          <p:cNvPicPr/>
          <p:nvPr/>
        </p:nvPicPr>
        <p:blipFill>
          <a:blip r:embed="rId1"/>
          <a:stretch/>
        </p:blipFill>
        <p:spPr>
          <a:xfrm>
            <a:off x="3492360" y="1600200"/>
            <a:ext cx="5631120" cy="54021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3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В зависимости от того, кому предназначается букет или композиция, выделяют</a:t>
            </a:r>
            <a:r>
              <a:rPr b="0" lang="ru-RU" sz="4400" spc="-1" strike="noStrike">
                <a:solidFill>
                  <a:srgbClr val="333333"/>
                </a:solidFill>
                <a:latin typeface="Open Sans"/>
              </a:rPr>
              <a:t>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-360" y="2636640"/>
            <a:ext cx="910908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а) мужск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б) женск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г) детск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2" descr="https://eduherald.ru/i/2019/4/3656/image009.jpg"/>
          <p:cNvPicPr/>
          <p:nvPr/>
        </p:nvPicPr>
        <p:blipFill>
          <a:blip r:embed="rId1"/>
          <a:stretch/>
        </p:blipFill>
        <p:spPr>
          <a:xfrm>
            <a:off x="0" y="4292640"/>
            <a:ext cx="9144000" cy="25653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В зависимости от мероприятия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0" y="1626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а)  новогодн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б) свадебны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в) юбилейны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г) оформительно-интерьер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2" descr="https://eduherald.ru/i/2019/4/3656/image010.jpg"/>
          <p:cNvPicPr/>
          <p:nvPr/>
        </p:nvPicPr>
        <p:blipFill>
          <a:blip r:embed="rId1"/>
          <a:stretch/>
        </p:blipFill>
        <p:spPr>
          <a:xfrm>
            <a:off x="0" y="4005360"/>
            <a:ext cx="9144000" cy="28526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314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Искусство флористики берет своё начало ещё в древние времена.</a:t>
            </a:r>
            <a:br>
              <a:rPr sz="2400"/>
            </a:b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Изначально, первыми цветочными произведениями были венки из цветов, а также гирлянды, выступающие в качестве украшения различных помещений, дворцов, храмов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Цветочные композиции: а) венки; б) гирлянды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0" y="2565360"/>
            <a:ext cx="9144000" cy="42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Рисунок 6" descr=""/>
          <p:cNvPicPr/>
          <p:nvPr/>
        </p:nvPicPr>
        <p:blipFill>
          <a:blip r:embed="rId1"/>
          <a:stretch/>
        </p:blipFill>
        <p:spPr>
          <a:xfrm>
            <a:off x="0" y="2565360"/>
            <a:ext cx="9144000" cy="42926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8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Вскоре люди стали применять цветы, как украшения. Так, венками из плюща, роз и фиалок одаривались победители спортивных состязаний, которым на шею одевали такие цветочные изделия.</a:t>
            </a: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Объект 3" descr=""/>
          <p:cNvPicPr/>
          <p:nvPr/>
        </p:nvPicPr>
        <p:blipFill>
          <a:blip r:embed="rId1"/>
          <a:stretch/>
        </p:blipFill>
        <p:spPr>
          <a:xfrm>
            <a:off x="0" y="2781360"/>
            <a:ext cx="3022560" cy="405756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4" descr=""/>
          <p:cNvPicPr/>
          <p:nvPr/>
        </p:nvPicPr>
        <p:blipFill>
          <a:blip r:embed="rId2"/>
          <a:stretch/>
        </p:blipFill>
        <p:spPr>
          <a:xfrm>
            <a:off x="6529320" y="2781360"/>
            <a:ext cx="2614680" cy="407664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5" descr=""/>
          <p:cNvPicPr/>
          <p:nvPr/>
        </p:nvPicPr>
        <p:blipFill>
          <a:blip r:embed="rId3"/>
          <a:stretch/>
        </p:blipFill>
        <p:spPr>
          <a:xfrm>
            <a:off x="3044880" y="2781360"/>
            <a:ext cx="3484440" cy="40575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100080"/>
            <a:ext cx="9144000" cy="151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Япония – это то государство, к которому относят наиболее древние композиции из цветов (IV век). Здесь наибольшую популярность привнесло искусство икеба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Объект 3" descr=""/>
          <p:cNvPicPr/>
          <p:nvPr/>
        </p:nvPicPr>
        <p:blipFill>
          <a:blip r:embed="rId1"/>
          <a:stretch/>
        </p:blipFill>
        <p:spPr>
          <a:xfrm>
            <a:off x="5904000" y="4362480"/>
            <a:ext cx="3240000" cy="249552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5" descr=""/>
          <p:cNvPicPr/>
          <p:nvPr/>
        </p:nvPicPr>
        <p:blipFill>
          <a:blip r:embed="rId2"/>
          <a:stretch/>
        </p:blipFill>
        <p:spPr>
          <a:xfrm>
            <a:off x="0" y="1341360"/>
            <a:ext cx="5904000" cy="551664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6" descr=""/>
          <p:cNvPicPr/>
          <p:nvPr/>
        </p:nvPicPr>
        <p:blipFill>
          <a:blip r:embed="rId3"/>
          <a:stretch/>
        </p:blipFill>
        <p:spPr>
          <a:xfrm>
            <a:off x="5904000" y="1325520"/>
            <a:ext cx="3230640" cy="30369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708360" cy="1434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Икеба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кеты, которые радуют наш глаз сегодня, появились же во Франции, где в Средние века композиции из цветов составлялись в качестве украшения интерьера, являлись элементами декора, использовались цветы также и при создании причесок. В букете применялись венчики цветов, надетые на проволоку и декорированные лентами. Составление букета требовало неукоснительного соблюдения правил – в центре размещались цветы одного оттенка, а далее, по кругу, цветы других тонов, соответствующие смыслу и языку цветов. Расцветка подбиралась, исходя из предполагаемой смысловой нагруз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Рисунок 5" descr=""/>
          <p:cNvPicPr/>
          <p:nvPr/>
        </p:nvPicPr>
        <p:blipFill>
          <a:blip r:embed="rId1"/>
          <a:stretch/>
        </p:blipFill>
        <p:spPr>
          <a:xfrm>
            <a:off x="0" y="1434960"/>
            <a:ext cx="3886200" cy="228132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6" descr=""/>
          <p:cNvPicPr/>
          <p:nvPr/>
        </p:nvPicPr>
        <p:blipFill>
          <a:blip r:embed="rId2"/>
          <a:stretch/>
        </p:blipFill>
        <p:spPr>
          <a:xfrm>
            <a:off x="0" y="3716280"/>
            <a:ext cx="3886200" cy="314172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-360" y="3644640"/>
            <a:ext cx="3886200" cy="32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Во флористике выделяют две техники составления букетов: спиральную и параллельну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Букет в спиральной технике"/>
          <p:cNvPicPr/>
          <p:nvPr/>
        </p:nvPicPr>
        <p:blipFill>
          <a:blip r:embed="rId1"/>
          <a:stretch/>
        </p:blipFill>
        <p:spPr>
          <a:xfrm>
            <a:off x="0" y="1773360"/>
            <a:ext cx="4211640" cy="51022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Оригинальные Свадебные букеты"/>
          <p:cNvPicPr/>
          <p:nvPr/>
        </p:nvPicPr>
        <p:blipFill>
          <a:blip r:embed="rId2"/>
          <a:stretch/>
        </p:blipFill>
        <p:spPr>
          <a:xfrm>
            <a:off x="4211640" y="1773360"/>
            <a:ext cx="4932360" cy="50670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" descr="Сборка букета по спирали пошагово схема"/>
          <p:cNvPicPr/>
          <p:nvPr/>
        </p:nvPicPr>
        <p:blipFill>
          <a:blip r:embed="rId1"/>
          <a:stretch/>
        </p:blipFill>
        <p:spPr>
          <a:xfrm>
            <a:off x="1258920" y="0"/>
            <a:ext cx="6697800" cy="69022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Параллельная техника – самый простой способ сборки бук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-360" y="1196640"/>
            <a:ext cx="442764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Такая сборка знакома с детства, когда складывали первые букеты из ромашек, одуванчиков. Но, оказавшись в руках умелого флориста, такие букеты отличаются аккуратностью и чёткостью ли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https://eduherald.ru/i/2019/4/3656/image003.jpg"/>
          <p:cNvPicPr/>
          <p:nvPr/>
        </p:nvPicPr>
        <p:blipFill>
          <a:blip r:embed="rId1"/>
          <a:stretch/>
        </p:blipFill>
        <p:spPr>
          <a:xfrm>
            <a:off x="4643280" y="907920"/>
            <a:ext cx="4500720" cy="59500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5T17:04:46Z</dcterms:created>
  <dc:creator>Берюхова</dc:creator>
  <dc:description/>
  <dc:language>en-US</dc:language>
  <cp:lastModifiedBy>HP</cp:lastModifiedBy>
  <dcterms:modified xsi:type="dcterms:W3CDTF">2023-12-13T12:08:48Z</dcterms:modified>
  <cp:revision>34</cp:revision>
  <dc:subject/>
  <dc:title>Слайд 1</dc:title>
</cp:coreProperties>
</file>