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29.jpeg" ContentType="image/jpeg"/>
  <Override PartName="/ppt/media/image5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28.jpeg" ContentType="image/jpeg"/>
  <Override PartName="/ppt/media/image7.jpeg" ContentType="image/jpeg"/>
  <Override PartName="/ppt/media/image19.jpeg" ContentType="image/jpeg"/>
  <Override PartName="/ppt/media/image20.jpeg" ContentType="image/jpeg"/>
  <Override PartName="/ppt/media/image30.jpeg" ContentType="image/jpeg"/>
  <Override PartName="/ppt/media/image24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1.jpeg" ContentType="image/jpeg"/>
  <Override PartName="/ppt/media/image22.jpeg" ContentType="image/jpe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6D1E-82E9-4D45-AC17-139E5E214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5B9E-87F9-4FAB-9A13-6E9F1DB7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8CAF-B4F3-4040-8B76-3817818DD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E688-C3B9-4535-87E9-63480CD85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C7C0-41CE-4A80-83EF-03065F4B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EBFD-A900-4B41-8068-1938625D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FD7E-6A96-4F68-A6C5-3F1F16A7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084A-A48E-4163-9F1A-03633656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013E-BA48-4ADF-8614-A31B16FC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C10C-7F85-4D50-8EB9-0AEA4290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77E8-72C4-4F6E-A3D7-BBCA54D5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7882-C5F1-4C14-BEA2-3931572E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FB10-D40C-4BAE-A313-B938787A83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539640" y="1341360"/>
            <a:ext cx="7877160" cy="73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i="1" lang="en-US" sz="66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Picture 21" descr="3952472c479a07a7a7c09e206ef7f9e4"/>
          <p:cNvPicPr/>
          <p:nvPr/>
        </p:nvPicPr>
        <p:blipFill>
          <a:blip r:embed="rId1"/>
          <a:stretch/>
        </p:blipFill>
        <p:spPr>
          <a:xfrm>
            <a:off x="2195640" y="292428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3952472c479a07a7a7c09e206ef7f9e4"/>
          <p:cNvPicPr/>
          <p:nvPr/>
        </p:nvPicPr>
        <p:blipFill>
          <a:blip r:embed="rId2"/>
          <a:stretch/>
        </p:blipFill>
        <p:spPr>
          <a:xfrm>
            <a:off x="8001000" y="26028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3" descr="3952472c479a07a7a7c09e206ef7f9e4"/>
          <p:cNvPicPr/>
          <p:nvPr/>
        </p:nvPicPr>
        <p:blipFill>
          <a:blip r:embed="rId3"/>
          <a:stretch/>
        </p:blipFill>
        <p:spPr>
          <a:xfrm>
            <a:off x="250920" y="18900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4" descr="3952472c479a07a7a7c09e206ef7f9e4"/>
          <p:cNvPicPr/>
          <p:nvPr/>
        </p:nvPicPr>
        <p:blipFill>
          <a:blip r:embed="rId4"/>
          <a:stretch/>
        </p:blipFill>
        <p:spPr>
          <a:xfrm>
            <a:off x="7451640" y="263700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5" descr="3952472c479a07a7a7c09e206ef7f9e4"/>
          <p:cNvPicPr/>
          <p:nvPr/>
        </p:nvPicPr>
        <p:blipFill>
          <a:blip r:embed="rId5"/>
          <a:stretch/>
        </p:blipFill>
        <p:spPr>
          <a:xfrm>
            <a:off x="4140360" y="26028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1" descr="8612979c6a4473757a9dcdd956742584"/>
          <p:cNvPicPr/>
          <p:nvPr/>
        </p:nvPicPr>
        <p:blipFill>
          <a:blip r:embed="rId6"/>
          <a:stretch/>
        </p:blipFill>
        <p:spPr>
          <a:xfrm>
            <a:off x="5148360" y="4221000"/>
            <a:ext cx="714240" cy="1190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3" descr="e4404eced2f23a5fde3f48c7232c2b30"/>
          <p:cNvPicPr/>
          <p:nvPr/>
        </p:nvPicPr>
        <p:blipFill>
          <a:blip r:embed="rId7"/>
          <a:stretch/>
        </p:blipFill>
        <p:spPr>
          <a:xfrm>
            <a:off x="3952800" y="257184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4" descr="e4404eced2f23a5fde3f48c7232c2b30"/>
          <p:cNvPicPr/>
          <p:nvPr/>
        </p:nvPicPr>
        <p:blipFill>
          <a:blip r:embed="rId8"/>
          <a:stretch/>
        </p:blipFill>
        <p:spPr>
          <a:xfrm>
            <a:off x="395280" y="249228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5" descr="e4404eced2f23a5fde3f48c7232c2b30"/>
          <p:cNvPicPr/>
          <p:nvPr/>
        </p:nvPicPr>
        <p:blipFill>
          <a:blip r:embed="rId9"/>
          <a:stretch/>
        </p:blipFill>
        <p:spPr>
          <a:xfrm>
            <a:off x="5435640" y="1268280"/>
            <a:ext cx="1238040" cy="1714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6" descr="e4404eced2f23a5fde3f48c7232c2b30"/>
          <p:cNvPicPr/>
          <p:nvPr/>
        </p:nvPicPr>
        <p:blipFill>
          <a:blip r:embed="rId10"/>
          <a:stretch/>
        </p:blipFill>
        <p:spPr>
          <a:xfrm>
            <a:off x="5724360" y="299736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7" descr="e4404eced2f23a5fde3f48c7232c2b30"/>
          <p:cNvPicPr/>
          <p:nvPr/>
        </p:nvPicPr>
        <p:blipFill>
          <a:blip r:embed="rId11"/>
          <a:stretch/>
        </p:blipFill>
        <p:spPr>
          <a:xfrm>
            <a:off x="6227640" y="404640"/>
            <a:ext cx="1238400" cy="1714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8" descr="e4404eced2f23a5fde3f48c7232c2b30"/>
          <p:cNvPicPr/>
          <p:nvPr/>
        </p:nvPicPr>
        <p:blipFill>
          <a:blip r:embed="rId12"/>
          <a:stretch/>
        </p:blipFill>
        <p:spPr>
          <a:xfrm>
            <a:off x="2484360" y="1197000"/>
            <a:ext cx="1238400" cy="1714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9" descr="e4404eced2f23a5fde3f48c7232c2b30"/>
          <p:cNvPicPr/>
          <p:nvPr/>
        </p:nvPicPr>
        <p:blipFill>
          <a:blip r:embed="rId13"/>
          <a:stretch/>
        </p:blipFill>
        <p:spPr>
          <a:xfrm>
            <a:off x="3952800" y="4956120"/>
            <a:ext cx="3952800" cy="1050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0" descr="e4404eced2f23a5fde3f48c7232c2b30"/>
          <p:cNvPicPr/>
          <p:nvPr/>
        </p:nvPicPr>
        <p:blipFill>
          <a:blip r:embed="rId14"/>
          <a:stretch/>
        </p:blipFill>
        <p:spPr>
          <a:xfrm>
            <a:off x="3059280" y="2781360"/>
            <a:ext cx="1238040" cy="1714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1" descr="e4404eced2f23a5fde3f48c7232c2b30"/>
          <p:cNvPicPr/>
          <p:nvPr/>
        </p:nvPicPr>
        <p:blipFill>
          <a:blip r:embed="rId15"/>
          <a:stretch/>
        </p:blipFill>
        <p:spPr>
          <a:xfrm>
            <a:off x="5580000" y="4842000"/>
            <a:ext cx="2174760" cy="1714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2" descr="e4404eced2f23a5fde3f48c7232c2b30"/>
          <p:cNvPicPr/>
          <p:nvPr/>
        </p:nvPicPr>
        <p:blipFill>
          <a:blip r:embed="rId16"/>
          <a:stretch/>
        </p:blipFill>
        <p:spPr>
          <a:xfrm>
            <a:off x="7905600" y="5013360"/>
            <a:ext cx="1238400" cy="171432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2"/>
          <p:cNvSpPr/>
          <p:nvPr/>
        </p:nvSpPr>
        <p:spPr>
          <a:xfrm>
            <a:off x="0" y="3105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43434"/>
                </a:solidFill>
                <a:latin typeface="Times New Roman"/>
                <a:ea typeface="Times New Roman"/>
              </a:rPr>
              <a:t>ФЛОРИСТИКА – ИСКУССТВО СОСТАВЛЕНИЯ БУКЕ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араллельная тех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-17640" y="1417680"/>
            <a:ext cx="9144000" cy="53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обирая букет в такой технике, следует учитывать определенные прав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центральный цветок букета должен занимать самое высокое полож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стебли цветов устанавливаются так, чтобы они не перекрещивались, а прилегали дуг к друг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растения используются с длинными стеблями, которые в конце подрез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Букет в параллельной технике можно собирать в оазисе (так называемая флористическая губка, которая отлично впитывает воду и длительное время остается во влажном состоян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араллельная сборка идеально подходит для мужских бук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4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араллельная тех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ttps://krots.top/uploads/posts/2022-02/1645634407_5-krot-info-p-parallelnaya-tekhnika-sborki-buketa-tsveti-5.jpg"/>
          <p:cNvPicPr/>
          <p:nvPr/>
        </p:nvPicPr>
        <p:blipFill>
          <a:blip r:embed="rId1"/>
          <a:stretch/>
        </p:blipFill>
        <p:spPr>
          <a:xfrm>
            <a:off x="0" y="1417680"/>
            <a:ext cx="4356000" cy="5440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Берграс в букете"/>
          <p:cNvPicPr/>
          <p:nvPr/>
        </p:nvPicPr>
        <p:blipFill>
          <a:blip r:embed="rId2"/>
          <a:stretch/>
        </p:blipFill>
        <p:spPr>
          <a:xfrm>
            <a:off x="4356000" y="1417680"/>
            <a:ext cx="4788000" cy="5440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Техника сборки букетов по спирали появилась существенно позднее, но также относится к современным флористическим тенденц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Спираль во флористике"/>
          <p:cNvPicPr/>
          <p:nvPr/>
        </p:nvPicPr>
        <p:blipFill>
          <a:blip r:embed="rId1"/>
          <a:stretch/>
        </p:blipFill>
        <p:spPr>
          <a:xfrm>
            <a:off x="-19080" y="1441440"/>
            <a:ext cx="4245120" cy="5416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Букет в спиральной технике"/>
          <p:cNvPicPr/>
          <p:nvPr/>
        </p:nvPicPr>
        <p:blipFill>
          <a:blip r:embed="rId2"/>
          <a:stretch/>
        </p:blipFill>
        <p:spPr>
          <a:xfrm>
            <a:off x="4226040" y="1441440"/>
            <a:ext cx="4917960" cy="5425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ральная тех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599840"/>
            <a:ext cx="91440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пиральная техника начинается с центрального цветка (рис.4). Также центром могут выступать одновременно и три бут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ри такой технике основную функцию выполняют новые элементы и необходимо выдерживать уровень наклона спира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ыполняя букеты по такой технике, рекомендуется пользоваться следующими совет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устанавливать цветок под углом, направляя его движени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стараться не нарушать движения по спирал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при погружении спирального букета в ёмкость с водой, поворачивать букет в том же направлении, в каком закручены элеме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пиральная сборка бук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https://eduherald.ru/i/2019/4/3656/image004.jp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пиральная сборка бук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https://eduherald.ru/i/2019/4/3656/image005.jp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пиральная сборка бук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https://eduherald.ru/i/2019/4/3656/image006.jp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0240" y="-360"/>
            <a:ext cx="917424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егодня искусно и оригинально составленный букет – неотъемлемая часть любого праздника либо мероприятия, а так же незабываемый подарок близкому челове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Букет роз"/>
          <p:cNvPicPr/>
          <p:nvPr/>
        </p:nvPicPr>
        <p:blipFill>
          <a:blip r:embed="rId1"/>
          <a:stretch/>
        </p:blipFill>
        <p:spPr>
          <a:xfrm>
            <a:off x="0" y="1600200"/>
            <a:ext cx="5076720" cy="5573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Элегантный букет"/>
          <p:cNvPicPr/>
          <p:nvPr/>
        </p:nvPicPr>
        <p:blipFill>
          <a:blip r:embed="rId1"/>
          <a:stretch/>
        </p:blipFill>
        <p:spPr>
          <a:xfrm>
            <a:off x="1908000" y="1417680"/>
            <a:ext cx="5256360" cy="5440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о флористике помимо техники сборки букетов существует ряд классификаций по различным призна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1599840"/>
            <a:ext cx="3708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ервый из них – форма: традиционная и нетрадицион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реди традиционной выделя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а)кругл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б)каркас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)структур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г)ниспадающий каска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д)гламел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https://eduherald.ru/i/2019/4/3656/image007.jpg"/>
          <p:cNvPicPr/>
          <p:nvPr/>
        </p:nvPicPr>
        <p:blipFill>
          <a:blip r:embed="rId1"/>
          <a:stretch/>
        </p:blipFill>
        <p:spPr>
          <a:xfrm>
            <a:off x="3708360" y="1600200"/>
            <a:ext cx="543564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лорис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Флористика – особый вид искусства, когда объектом художника - профессионала выступают живые цветы, которые в процессе преображаются при помощи вымысла и яркой фантазии в уникальные, необычные, великолепные цветочные композиции и букеты, представляющие собой неподражаемые шедевры. Каждый букет, создаваемый руками флориста необычен, одно произведение выражает настрой, характер и послание автора, другое передает различные чувства – дружбу, любовь, благодарность и нежность. Цветочный букет – это своего рода традиционный дар в нашем современном обществе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Нетрадиционные формы постоянно расширяются, среди устоявших выделя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1599840"/>
            <a:ext cx="3492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а)зонт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б)вее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)сумоч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г)скипет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д)C, S и L – образ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https://eduherald.ru/i/2019/4/3656/image008.jpg"/>
          <p:cNvPicPr/>
          <p:nvPr/>
        </p:nvPicPr>
        <p:blipFill>
          <a:blip r:embed="rId1"/>
          <a:stretch/>
        </p:blipFill>
        <p:spPr>
          <a:xfrm>
            <a:off x="3492360" y="1600200"/>
            <a:ext cx="5631120" cy="5402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3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 зависимости от того, кому предназначается букет или композиция, выделяют</a:t>
            </a:r>
            <a:r>
              <a:rPr b="0" lang="ru-RU" sz="4400" spc="-1" strike="noStrike">
                <a:solidFill>
                  <a:srgbClr val="333333"/>
                </a:solidFill>
                <a:latin typeface="Open Sans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2636640"/>
            <a:ext cx="91090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а) мужск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б) женск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г) детск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https://eduherald.ru/i/2019/4/3656/image009.jpg"/>
          <p:cNvPicPr/>
          <p:nvPr/>
        </p:nvPicPr>
        <p:blipFill>
          <a:blip r:embed="rId1"/>
          <a:stretch/>
        </p:blipFill>
        <p:spPr>
          <a:xfrm>
            <a:off x="0" y="4292640"/>
            <a:ext cx="9144000" cy="2565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 зависимости от мероприятия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1626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а)  новогод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б) свадеб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) юбилей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г) оформительно-интерье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https://eduherald.ru/i/2019/4/3656/image010.jpg"/>
          <p:cNvPicPr/>
          <p:nvPr/>
        </p:nvPicPr>
        <p:blipFill>
          <a:blip r:embed="rId1"/>
          <a:stretch/>
        </p:blipFill>
        <p:spPr>
          <a:xfrm>
            <a:off x="0" y="4005360"/>
            <a:ext cx="9144000" cy="2852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1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Искусство флористики берет своё начало ещё в древние времена.</a:t>
            </a:r>
            <a:br>
              <a:rPr sz="2400"/>
            </a:b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Изначально, первыми цветочными произведениями были венки из цветов, а также гирлянды, выступающие в качестве украшения различных помещений, дворцов, храмов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Цветочные композиции: а) венки; б) гирлянд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2565360"/>
            <a:ext cx="914400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6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4292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скоре люди стали применять цветы, как украшения. Так, венками из плюща, роз и фиалок одаривались победители спортивных состязаний, которым на шею одевали такие цветочные изделия.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0" y="2781360"/>
            <a:ext cx="3022560" cy="40575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"/>
          <p:cNvPicPr/>
          <p:nvPr/>
        </p:nvPicPr>
        <p:blipFill>
          <a:blip r:embed="rId2"/>
          <a:stretch/>
        </p:blipFill>
        <p:spPr>
          <a:xfrm>
            <a:off x="6529320" y="2781360"/>
            <a:ext cx="2614680" cy="40766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"/>
          <p:cNvPicPr/>
          <p:nvPr/>
        </p:nvPicPr>
        <p:blipFill>
          <a:blip r:embed="rId3"/>
          <a:stretch/>
        </p:blipFill>
        <p:spPr>
          <a:xfrm>
            <a:off x="3044880" y="2781360"/>
            <a:ext cx="3484440" cy="4057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100080"/>
            <a:ext cx="9144000" cy="15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Япония – это то государство, к которому относят наиболее древние композиции из цветов (IV век). Здесь наибольшую популярность привнесло искусство икеб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Объект 3" descr=""/>
          <p:cNvPicPr/>
          <p:nvPr/>
        </p:nvPicPr>
        <p:blipFill>
          <a:blip r:embed="rId1"/>
          <a:stretch/>
        </p:blipFill>
        <p:spPr>
          <a:xfrm>
            <a:off x="5904000" y="4362480"/>
            <a:ext cx="3240000" cy="24955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5" descr=""/>
          <p:cNvPicPr/>
          <p:nvPr/>
        </p:nvPicPr>
        <p:blipFill>
          <a:blip r:embed="rId2"/>
          <a:stretch/>
        </p:blipFill>
        <p:spPr>
          <a:xfrm>
            <a:off x="0" y="1341360"/>
            <a:ext cx="5904000" cy="55166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6" descr=""/>
          <p:cNvPicPr/>
          <p:nvPr/>
        </p:nvPicPr>
        <p:blipFill>
          <a:blip r:embed="rId3"/>
          <a:stretch/>
        </p:blipFill>
        <p:spPr>
          <a:xfrm>
            <a:off x="5904000" y="1325520"/>
            <a:ext cx="3230640" cy="3036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70836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Икеба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еты, которые радуют наш глаз сегодня, появились же во Франции, где в Средние века композиции из цветов составлялись в качестве украшения интерьера, являлись элементами декора, использовались цветы также и при создании причесок. В букете применялись венчики цветов, надетые на проволоку и декорированные лентами. Составление букета требовало неукоснительного соблюдения правил – в центре размещались цветы одного оттенка, а далее, по кругу, цветы других тонов, соответствующие смыслу и языку цветов. Расцветка подбиралась, исходя из предполагаемой смысловой нагруз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5" descr=""/>
          <p:cNvPicPr/>
          <p:nvPr/>
        </p:nvPicPr>
        <p:blipFill>
          <a:blip r:embed="rId1"/>
          <a:stretch/>
        </p:blipFill>
        <p:spPr>
          <a:xfrm>
            <a:off x="0" y="1434960"/>
            <a:ext cx="3886200" cy="22813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6" descr=""/>
          <p:cNvPicPr/>
          <p:nvPr/>
        </p:nvPicPr>
        <p:blipFill>
          <a:blip r:embed="rId2"/>
          <a:stretch/>
        </p:blipFill>
        <p:spPr>
          <a:xfrm>
            <a:off x="0" y="3716280"/>
            <a:ext cx="3886200" cy="31417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3644640"/>
            <a:ext cx="388620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о флористике выделяют две техники составления букетов: спиральную и параллельну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Букет в спиральной технике"/>
          <p:cNvPicPr/>
          <p:nvPr/>
        </p:nvPicPr>
        <p:blipFill>
          <a:blip r:embed="rId1"/>
          <a:stretch/>
        </p:blipFill>
        <p:spPr>
          <a:xfrm>
            <a:off x="0" y="1773360"/>
            <a:ext cx="4211640" cy="5102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Оригинальные Свадебные букеты"/>
          <p:cNvPicPr/>
          <p:nvPr/>
        </p:nvPicPr>
        <p:blipFill>
          <a:blip r:embed="rId2"/>
          <a:stretch/>
        </p:blipFill>
        <p:spPr>
          <a:xfrm>
            <a:off x="4211640" y="1773360"/>
            <a:ext cx="4932360" cy="5067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Сборка букета по спирали пошагово схема"/>
          <p:cNvPicPr/>
          <p:nvPr/>
        </p:nvPicPr>
        <p:blipFill>
          <a:blip r:embed="rId1"/>
          <a:stretch/>
        </p:blipFill>
        <p:spPr>
          <a:xfrm>
            <a:off x="1258920" y="0"/>
            <a:ext cx="6697800" cy="69022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араллельная техника – самый простой способ сборки бук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-360" y="1196640"/>
            <a:ext cx="44276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Такая сборка знакома с детства, когда складывали первые букеты из ромашек, одуванчиков. Но, оказавшись в руках умелого флориста, такие букеты отличаются аккуратностью и чёткостью ли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s://eduherald.ru/i/2019/4/3656/image003.jpg"/>
          <p:cNvPicPr/>
          <p:nvPr/>
        </p:nvPicPr>
        <p:blipFill>
          <a:blip r:embed="rId1"/>
          <a:stretch/>
        </p:blipFill>
        <p:spPr>
          <a:xfrm>
            <a:off x="4643280" y="907920"/>
            <a:ext cx="4500720" cy="5950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17:04:46Z</dcterms:created>
  <dc:creator>Берюхова</dc:creator>
  <dc:description/>
  <dc:language>en-US</dc:language>
  <cp:lastModifiedBy>HP</cp:lastModifiedBy>
  <dcterms:modified xsi:type="dcterms:W3CDTF">2023-12-13T12:08:48Z</dcterms:modified>
  <cp:revision>34</cp:revision>
  <dc:subject/>
  <dc:title>Слайд 1</dc:title>
</cp:coreProperties>
</file>