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5.png" ContentType="image/png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DA3-98A4-4B44-9F0D-AB618A00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8EA-14DA-4A40-961C-FC56E42C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32F-3222-467E-A956-624881E4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3E1-CA1E-49B1-AABE-BE3E6E05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E440-2118-42AE-A340-549497CE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E1D0-770A-4F58-8185-C9F7F492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14AB-0618-4350-AB48-5CC2819B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6F14-383F-4B11-8491-390B5B16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DA2C-D9C0-4F3D-A076-2C75D722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4F93-D670-49CB-B25F-FBD0E12F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FF3C-9E30-403B-A5B9-4431B564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380-492D-43C4-95E2-670494E0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53A1-E232-4A90-8863-C17B0BD9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99D0-11FA-43DA-8699-B080B338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094A-2F56-4ADD-937F-7FBAB992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8680-7BB3-4C41-853F-16EEDAA8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4664-B031-4E16-B9C7-5CD1FCBA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37F-1F05-4C1A-97C4-A91D1C9D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257-4CEF-4581-9C37-1136FBD9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2FD-853E-4318-ABFF-AECD3828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E7A-EC1B-48C1-A1CD-48901501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9A5-5E83-42CB-A51B-4FDE3DF8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9CC8-2F07-41EE-BD57-2AD37E7B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B84-A402-42C2-BB2C-41F21D57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8D6E-4C10-4C02-A672-CCF9AEC653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3C73-4B53-4E58-8666-6EE9320B69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ff0000"/>
                </a:solidFill>
                <a:latin typeface="Garamond"/>
              </a:rPr>
              <a:t>Родительское собрание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cc"/>
                </a:solidFill>
                <a:latin typeface="Verdana"/>
              </a:rPr>
              <a:t>Подросток и родите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podrostok_150608"/>
          <p:cNvPicPr/>
          <p:nvPr/>
        </p:nvPicPr>
        <p:blipFill>
          <a:blip r:embed="rId1"/>
          <a:stretch/>
        </p:blipFill>
        <p:spPr>
          <a:xfrm>
            <a:off x="380880" y="3198960"/>
            <a:ext cx="2428920" cy="3659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159219_image_large"/>
          <p:cNvPicPr/>
          <p:nvPr/>
        </p:nvPicPr>
        <p:blipFill>
          <a:blip r:embed="rId2"/>
          <a:stretch/>
        </p:blipFill>
        <p:spPr>
          <a:xfrm>
            <a:off x="4572000" y="3429000"/>
            <a:ext cx="3581280" cy="2759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D:\документы\Frends\анимацции\люди\дети\baby90.gif"/>
          <p:cNvPicPr/>
          <p:nvPr/>
        </p:nvPicPr>
        <p:blipFill>
          <a:blip r:embed="rId3"/>
          <a:stretch/>
        </p:blipFill>
        <p:spPr>
          <a:xfrm>
            <a:off x="8220240" y="228600"/>
            <a:ext cx="923760" cy="87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D:\документы\Frends\анимацции\люди\дети\baby92.gif"/>
          <p:cNvPicPr/>
          <p:nvPr/>
        </p:nvPicPr>
        <p:blipFill>
          <a:blip r:embed="rId4"/>
          <a:stretch/>
        </p:blipFill>
        <p:spPr>
          <a:xfrm>
            <a:off x="304920" y="1600200"/>
            <a:ext cx="799920" cy="981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4724280" y="6400800"/>
            <a:ext cx="40388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Verdana"/>
              </a:rPr>
              <a:t>Педагог-психолог Азарова Г.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рограмма «Путь к успеху»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51814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Цикл родительских собраний по программ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«Путь к успех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с 1 по 11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Object 2"/>
          <p:cNvGraphicFramePr/>
          <p:nvPr/>
        </p:nvGraphicFramePr>
        <p:xfrm>
          <a:off x="5562720" y="2684520"/>
          <a:ext cx="3173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684520"/>
                    <a:ext cx="3173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5"/>
          <p:cNvSpPr/>
          <p:nvPr/>
        </p:nvSpPr>
        <p:spPr>
          <a:xfrm>
            <a:off x="4800600" y="1600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Самозащита семьи от наркотиз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7" descr="zdorovie"/>
          <p:cNvPicPr/>
          <p:nvPr/>
        </p:nvPicPr>
        <p:blipFill>
          <a:blip r:embed="rId3"/>
          <a:stretch/>
        </p:blipFill>
        <p:spPr>
          <a:xfrm>
            <a:off x="457200" y="4545000"/>
            <a:ext cx="28195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990101"/>
                </a:solidFill>
                <a:latin typeface="Garamond"/>
              </a:rPr>
              <a:t>Подростковый возрас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Физиологические изменения:</a:t>
            </a:r>
            <a:br>
              <a:rPr sz="4400"/>
            </a:b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зкое увеличение роста и вес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Начало полового созрева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урное протекание и смена эмоц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D:\документы\Frends\анимацции\люди\дети\baby99.gif"/>
          <p:cNvPicPr/>
          <p:nvPr/>
        </p:nvPicPr>
        <p:blipFill>
          <a:blip r:embed="rId1"/>
          <a:stretch/>
        </p:blipFill>
        <p:spPr>
          <a:xfrm>
            <a:off x="7543800" y="5257800"/>
            <a:ext cx="1427040" cy="114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документы\Frends\анимацции\люди\дети\baby93.gif"/>
          <p:cNvPicPr/>
          <p:nvPr/>
        </p:nvPicPr>
        <p:blipFill>
          <a:blip r:embed="rId2"/>
          <a:stretch/>
        </p:blipFill>
        <p:spPr>
          <a:xfrm>
            <a:off x="8077320" y="152280"/>
            <a:ext cx="79992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Психологические измен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явление интереса к своему внутреннему мир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урное развитие критического мышления, склонность к рефлексии, формирование само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оптивост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прямство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гативизм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оеволи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есценивание взрослых, отрицательное отношение к их требованиям, ранее выполнявшимся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ест-бунт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увство  взросл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вышенный интерес к собственной внеш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вышенный интерес к противоположному полу, сексуальным отношения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D:\документы\Frends\анимацции\люди\0020.gif"/>
          <p:cNvPicPr/>
          <p:nvPr/>
        </p:nvPicPr>
        <p:blipFill>
          <a:blip r:embed="rId1"/>
          <a:stretch/>
        </p:blipFill>
        <p:spPr>
          <a:xfrm>
            <a:off x="7010280" y="2286000"/>
            <a:ext cx="1714680" cy="1886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D:\документы\Frends\анимацции\люди\640_ecolier.gif"/>
          <p:cNvPicPr/>
          <p:nvPr/>
        </p:nvPicPr>
        <p:blipFill>
          <a:blip r:embed="rId2"/>
          <a:stretch/>
        </p:blipFill>
        <p:spPr>
          <a:xfrm>
            <a:off x="2666880" y="5638680"/>
            <a:ext cx="60192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:\документы\Frends\анимацции\люди\aff012eee399bacb54a6b85cdd155ed1.gif"/>
          <p:cNvPicPr/>
          <p:nvPr/>
        </p:nvPicPr>
        <p:blipFill>
          <a:blip r:embed="rId3"/>
          <a:stretch/>
        </p:blipFill>
        <p:spPr>
          <a:xfrm>
            <a:off x="53341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D:\документы\Frends\анимацции\люди\t1.gif"/>
          <p:cNvPicPr/>
          <p:nvPr/>
        </p:nvPicPr>
        <p:blipFill>
          <a:blip r:embed="rId4"/>
          <a:stretch/>
        </p:blipFill>
        <p:spPr>
          <a:xfrm>
            <a:off x="7896240" y="5486400"/>
            <a:ext cx="1247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610840" cy="101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101"/>
                </a:solidFill>
                <a:latin typeface="Arial"/>
              </a:rPr>
              <a:t>Парадоксы подросткового возраст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росток хочет вырваться из – под опеки взрослых, получить свободу, при этом не зная, что с ней делать: хочет выразить себя, но не знает ка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росток стремится иметь свое лицо, «выделиться из толпы» - при полной слитности со своим окружением, «быть как все» - в компании, в классе, во дворе и т.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есно все сразу и ничег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чется всего, сразу и если позже – «то вообще тогда зачем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всей своей самоуверенности подросток очень неуверен в себ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D:\документы\Frends\анимацции\люди\дети\baby89.gif"/>
          <p:cNvPicPr/>
          <p:nvPr/>
        </p:nvPicPr>
        <p:blipFill>
          <a:blip r:embed="rId1"/>
          <a:stretch/>
        </p:blipFill>
        <p:spPr>
          <a:xfrm>
            <a:off x="8220240" y="3200400"/>
            <a:ext cx="923760" cy="961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D:\документы\Frends\анимацции\люди\дети\baby67.gif"/>
          <p:cNvPicPr/>
          <p:nvPr/>
        </p:nvPicPr>
        <p:blipFill>
          <a:blip r:embed="rId2"/>
          <a:stretch/>
        </p:blipFill>
        <p:spPr>
          <a:xfrm>
            <a:off x="7924680" y="5429160"/>
            <a:ext cx="952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5"/>
          <p:cNvSpPr/>
          <p:nvPr/>
        </p:nvSpPr>
        <p:spPr>
          <a:xfrm>
            <a:off x="609480" y="11430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D:\документы\Frends\анимацции\люди\aff012eee399bacb54a6b85cdd155ed1.gif"/>
          <p:cNvPicPr/>
          <p:nvPr/>
        </p:nvPicPr>
        <p:blipFill>
          <a:blip r:embed="rId1"/>
          <a:stretch/>
        </p:blipFill>
        <p:spPr>
          <a:xfrm>
            <a:off x="784872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:\документы\Frends\анимацции\люди\танцоры\dance28.gif"/>
          <p:cNvPicPr/>
          <p:nvPr/>
        </p:nvPicPr>
        <p:blipFill>
          <a:blip r:embed="rId2"/>
          <a:stretch/>
        </p:blipFill>
        <p:spPr>
          <a:xfrm>
            <a:off x="7238880" y="5600880"/>
            <a:ext cx="1665360" cy="12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468360" y="1052640"/>
          <a:ext cx="8229600" cy="6194160"/>
        </p:xfrm>
        <a:graphic>
          <a:graphicData uri="http://schemas.openxmlformats.org/drawingml/2006/table">
            <a:tbl>
              <a:tblPr/>
              <a:tblGrid>
                <a:gridCol w="3743280"/>
                <a:gridCol w="448632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ОС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ЗРОСЛ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УЖЕ Н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БЕ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Н ЕЩЕ МАЛЕНЬ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МОГУ ПОСТУПАТЬ САМОСТОЯТЕЛЬ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Н  НУЖДАЕТСЯ  В ПОСТОЯННОМ КОНТР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ДИТЕЛИ ДОЛЖНЫ ОБРАЩАТЬСЯ СО МНОЙ ИНАЧЕ, ЧЕМ РАНЬ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ШИ ОТНОШЕНИЯ  НЕ НУЖДАЮТСЯ В ИЗМЕНЕНИ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САМ ДОБЬЮСЬ ИЗМЕНЕНИЯ НАШИХ ОТНОШЕНИЙ И СОБЛЮДЕНИЯ СВОИХ 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ЛЯ ЕГО БЕЗОПАСНОСТИ НЕОБХОДИМО ЗАБОТИТЬСЯ О ТОМ, ЧТОБЫ НАШИ ОТНОШЕНИЯ ОСТАЛИСЬ НЕИЗМЕННЫ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58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ликты родителей и подростков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304920" y="228600"/>
            <a:ext cx="8534160" cy="60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ты общения с подрост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йте спокойно, не повышайте голос, старайтесь сохранять выдержку и сдержанность в любом случае, будьте вежливы, не давайте волю своим чувствам, не оскорбляйте ребенка - он этого не забуд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енок выражает желание с вами поговорить, выслушайте его внимательно и спокойно, без криков и упрек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жидайте, что подросток примет любой ваш совет или распоряжение и беспрекословно станет его выполнять - настраиваясь заранее на покорность и послушание, вы испытаете сильный стресс, когда этого не произой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ремя ссоры ребенок может выпалить то, что он не думает на самом деле - что он не любит вас, ненавидит и так далее. Имейте в виду, что это сказано под воздействием эмоций, в запале, не делайте далеко идущих выводов, не впадайте в пани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304920" y="380880"/>
            <a:ext cx="8686800" cy="72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те, что не бывает идеальных родителей, все в чем-то делают ошибки, не надо постоянно винить себя, что вы плохая мать или никчемный отец, - это только увеличит вашу неуверенность в себе и не позволит принять верное решение в нужный момен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йте не личность подростка, а его поступки. Говорите на языке чувств (не «ты - негодяй», а «твой поступок меня расстроил, я переживаю, испытываю горечь, негодование…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 и умело регулируйте выбор друзей. Как бы невзначай раскрывайте сыну или дочери глаза на  положительные и отрицательные качества его друзей, поговорите о последствиях дурных влияний. Воспитывайте волю и уверенность в себе – барьеры против нежелательных внуше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ила, ограничения, требования, запреты, обязательно должны быть в жизни каждого подрос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ил, ограничений, требований не должно быть слишком много, и они должны быть гибки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 Азарова</cp:lastModifiedBy>
  <dcterms:modified xsi:type="dcterms:W3CDTF">2023-12-13T10:52:3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