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5.png" ContentType="image/pn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AA1C-5655-41E3-9516-83946E30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85DA-0275-4A44-8388-B177B2DA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C6D-D464-4348-8B08-A7D69365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FD1-7C6B-44C4-AC16-4579FE62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82EE-0401-4764-9355-0999E0CC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B56F-51BA-4636-8D45-9F83C42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26E1-8199-432B-998C-2EDAC928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1829-EAAE-48FA-B6D6-72EDC21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962F-9197-436C-9A7D-1A068CE9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C6EC-4903-44FB-A4B5-EAB5CA59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7867-EAC9-4F81-99B9-BCCF9B56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114-9C28-4BB3-9062-ED344E5C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6630-FB76-4CED-8081-838DDA52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3EA2-7E4B-4EA1-9BCF-164B5C50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18BE-EE3D-4AD9-9A4C-050AB6C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C717-2781-4286-92DC-24E1BA07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7915-A2ED-484A-BBCF-221D7BA5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B5D-20E6-42B7-9B27-02370845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A1A-A76C-4167-982B-863780F7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9FA-29C5-4762-A7DF-98B1B8B7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018-05BC-400C-A79A-112BC513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6B7-03E9-43F9-9A42-4DEEEDFF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D62-FE5C-424E-9FC7-B6C83F4B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D164-86C2-47E9-9A39-D59B15B0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B5FA-20EE-4F7D-810D-AD39C6118A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D48-E14D-4B44-A197-3DC1F34EDBA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0000"/>
                </a:solidFill>
                <a:latin typeface="Garamond"/>
              </a:rPr>
              <a:t>Родительское собрание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900cc"/>
                </a:solidFill>
                <a:latin typeface="Verdana"/>
              </a:rPr>
              <a:t>Подросток и родител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podrostok_150608"/>
          <p:cNvPicPr/>
          <p:nvPr/>
        </p:nvPicPr>
        <p:blipFill>
          <a:blip r:embed="rId1"/>
          <a:stretch/>
        </p:blipFill>
        <p:spPr>
          <a:xfrm>
            <a:off x="380880" y="3198960"/>
            <a:ext cx="2428920" cy="365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159219_image_large"/>
          <p:cNvPicPr/>
          <p:nvPr/>
        </p:nvPicPr>
        <p:blipFill>
          <a:blip r:embed="rId2"/>
          <a:stretch/>
        </p:blipFill>
        <p:spPr>
          <a:xfrm>
            <a:off x="4572000" y="3429000"/>
            <a:ext cx="3581280" cy="2759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D:\документы\Frends\анимацции\люди\дети\baby90.gif"/>
          <p:cNvPicPr/>
          <p:nvPr/>
        </p:nvPicPr>
        <p:blipFill>
          <a:blip r:embed="rId3"/>
          <a:stretch/>
        </p:blipFill>
        <p:spPr>
          <a:xfrm>
            <a:off x="8220240" y="228600"/>
            <a:ext cx="923760" cy="87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:\документы\Frends\анимацции\люди\дети\baby92.gif"/>
          <p:cNvPicPr/>
          <p:nvPr/>
        </p:nvPicPr>
        <p:blipFill>
          <a:blip r:embed="rId4"/>
          <a:stretch/>
        </p:blipFill>
        <p:spPr>
          <a:xfrm>
            <a:off x="304920" y="1600200"/>
            <a:ext cx="799920" cy="981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4724280" y="6400800"/>
            <a:ext cx="40388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Verdana"/>
              </a:rPr>
              <a:t>Педагог-психолог Азарова Г.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Программа «Путь к успеху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5181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Цикл родительских собраний по программ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«Путь к успех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Verdana"/>
              </a:rPr>
              <a:t>с 1 по 11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5562720" y="2684520"/>
          <a:ext cx="31734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684520"/>
                    <a:ext cx="3173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5"/>
          <p:cNvSpPr/>
          <p:nvPr/>
        </p:nvSpPr>
        <p:spPr>
          <a:xfrm>
            <a:off x="4800600" y="1600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Самозащита семьи от наркотиз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7" descr="zdorovie"/>
          <p:cNvPicPr/>
          <p:nvPr/>
        </p:nvPicPr>
        <p:blipFill>
          <a:blip r:embed="rId3"/>
          <a:stretch/>
        </p:blipFill>
        <p:spPr>
          <a:xfrm>
            <a:off x="457200" y="4545000"/>
            <a:ext cx="28195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990101"/>
                </a:solidFill>
                <a:latin typeface="Garamond"/>
              </a:rPr>
              <a:t>Подростковый возрас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Физиологические изменения:</a:t>
            </a:r>
            <a:br>
              <a:rPr sz="4400"/>
            </a:b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зкое увеличение роста и вес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чало полового созрева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Бурное протекание и смена эмоц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D:\документы\Frends\анимацции\люди\дети\baby99.gif"/>
          <p:cNvPicPr/>
          <p:nvPr/>
        </p:nvPicPr>
        <p:blipFill>
          <a:blip r:embed="rId1"/>
          <a:stretch/>
        </p:blipFill>
        <p:spPr>
          <a:xfrm>
            <a:off x="7543800" y="5257800"/>
            <a:ext cx="1427040" cy="11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документы\Frends\анимацции\люди\дети\baby93.gif"/>
          <p:cNvPicPr/>
          <p:nvPr/>
        </p:nvPicPr>
        <p:blipFill>
          <a:blip r:embed="rId2"/>
          <a:stretch/>
        </p:blipFill>
        <p:spPr>
          <a:xfrm>
            <a:off x="8077320" y="152280"/>
            <a:ext cx="79992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Психологические изменени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интереса к своему внутреннему мир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урное развитие критического мышления, склонность к рефлексии, формирование само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троптивость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прямство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гативизм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воевол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есценивание взрослых, отрицательное отношение к их требованиям, ранее выполнявшимся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ст-бун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увство  взросл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вышенный интерес к собственной внеш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cc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вышенный интерес к противоположному полу, сексуальным отношени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D:\документы\Frends\анимацции\люди\0020.gif"/>
          <p:cNvPicPr/>
          <p:nvPr/>
        </p:nvPicPr>
        <p:blipFill>
          <a:blip r:embed="rId1"/>
          <a:stretch/>
        </p:blipFill>
        <p:spPr>
          <a:xfrm>
            <a:off x="7010280" y="2286000"/>
            <a:ext cx="1714680" cy="188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D:\документы\Frends\анимацции\люди\640_ecolier.gif"/>
          <p:cNvPicPr/>
          <p:nvPr/>
        </p:nvPicPr>
        <p:blipFill>
          <a:blip r:embed="rId2"/>
          <a:stretch/>
        </p:blipFill>
        <p:spPr>
          <a:xfrm>
            <a:off x="2666880" y="5638680"/>
            <a:ext cx="601920" cy="1219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:\документы\Frends\анимацции\люди\aff012eee399bacb54a6b85cdd155ed1.gif"/>
          <p:cNvPicPr/>
          <p:nvPr/>
        </p:nvPicPr>
        <p:blipFill>
          <a:blip r:embed="rId3"/>
          <a:stretch/>
        </p:blipFill>
        <p:spPr>
          <a:xfrm>
            <a:off x="53341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D:\документы\Frends\анимацции\люди\t1.gif"/>
          <p:cNvPicPr/>
          <p:nvPr/>
        </p:nvPicPr>
        <p:blipFill>
          <a:blip r:embed="rId4"/>
          <a:stretch/>
        </p:blipFill>
        <p:spPr>
          <a:xfrm>
            <a:off x="7896240" y="5486400"/>
            <a:ext cx="1247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610840" cy="101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101"/>
                </a:solidFill>
                <a:latin typeface="Arial"/>
              </a:rPr>
              <a:t>Парадоксы подросткового возраста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осток хочет вырваться из – под опеки взрослых, получить свободу, при этом не зная, что с ней делать: хочет выразить себя, но не знает ка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осток стремится иметь свое лицо, «выделиться из толпы» - при полной слитности со своим окружением, «быть как все» - в компании, в классе, во дворе и т.д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есно все сразу и ниче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чется всего, сразу и если позже – «то вообще тогда зачем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всей своей самоуверенности подросток очень неуверен в себ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D:\документы\Frends\анимацции\люди\дети\baby89.gif"/>
          <p:cNvPicPr/>
          <p:nvPr/>
        </p:nvPicPr>
        <p:blipFill>
          <a:blip r:embed="rId1"/>
          <a:stretch/>
        </p:blipFill>
        <p:spPr>
          <a:xfrm>
            <a:off x="8220240" y="3200400"/>
            <a:ext cx="923760" cy="96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D:\документы\Frends\анимацции\люди\дети\baby67.gif"/>
          <p:cNvPicPr/>
          <p:nvPr/>
        </p:nvPicPr>
        <p:blipFill>
          <a:blip r:embed="rId2"/>
          <a:stretch/>
        </p:blipFill>
        <p:spPr>
          <a:xfrm>
            <a:off x="7924680" y="5429160"/>
            <a:ext cx="952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609480" y="114300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D:\документы\Frends\анимацции\люди\aff012eee399bacb54a6b85cdd155ed1.gif"/>
          <p:cNvPicPr/>
          <p:nvPr/>
        </p:nvPicPr>
        <p:blipFill>
          <a:blip r:embed="rId1"/>
          <a:stretch/>
        </p:blipFill>
        <p:spPr>
          <a:xfrm>
            <a:off x="7848720" y="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документы\Frends\анимацции\люди\танцоры\dance28.gif"/>
          <p:cNvPicPr/>
          <p:nvPr/>
        </p:nvPicPr>
        <p:blipFill>
          <a:blip r:embed="rId2"/>
          <a:stretch/>
        </p:blipFill>
        <p:spPr>
          <a:xfrm>
            <a:off x="7238880" y="5600880"/>
            <a:ext cx="166536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468360" y="1052640"/>
          <a:ext cx="8229600" cy="6194160"/>
        </p:xfrm>
        <a:graphic>
          <a:graphicData uri="http://schemas.openxmlformats.org/drawingml/2006/table">
            <a:tbl>
              <a:tblPr/>
              <a:tblGrid>
                <a:gridCol w="3743280"/>
                <a:gridCol w="4486320"/>
              </a:tblGrid>
              <a:tr h="57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РОС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ЗРОСЛ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УЖЕ Н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Н ЕЩЕ МАЛЕНЬ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МОГУ ПОСТУПАТЬ САМОСТОЯТЕЛЬ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Н  НУЖДАЕТСЯ  В ПОСТОЯННОМ КОНТР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ДИТЕЛИ ДОЛЖНЫ ОБРАЩАТЬСЯ СО МНОЙ ИНАЧЕ, ЧЕМ РАНЬШ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ШИ ОТНОШЕНИЯ  НЕ НУЖДАЮТСЯ В ИЗМЕНЕНИЯ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 САМ ДОБЬЮСЬ ИЗМЕНЕНИЯ НАШИХ ОТНОШЕНИЙ И СОБЛЮДЕНИЯ СВОИХ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ЛЯ ЕГО БЕЗОПАСНОСТИ НЕОБХОДИМО ЗАБОТИТЬСЯ О ТОМ, ЧТОБЫ НАШИ ОТНОШЕНИЯ ОСТАЛИСЬ НЕИЗМЕНН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58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ликты родителей и подростков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304920" y="228600"/>
            <a:ext cx="853416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ты общения с подрос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аривайте спокойно, не повышайте голос, старайтесь сохранять выдержку и сдержанность в любом случае, будьте вежливы, не давайте волю своим чувствам, не оскорбляйте ребенка - он этого не забуд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аш ребенок выражает желание с вами поговорить, выслушайте его внимательно и спокойно, без криков и упрек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жидайте, что подросток примет любой ваш совет или распоряжение и беспрекословно станет его выполнять - настраиваясь заранее на покорность и послушание, вы испытаете сильный стресс, когда этого не произойд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 время ссоры ребенок может выпалить то, что он не думает на самом деле - что он не любит вас, ненавидит и так далее. Имейте в виду, что это сказано под воздействием эмоций, в запале, не делайте далеко идущих выводов, не впадайте в пани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304920" y="380880"/>
            <a:ext cx="8686800" cy="72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те, что не бывает идеальных родителей, все в чем-то делают ошибки, не надо постоянно винить себя, что вы плохая мать или никчемный отец, - это только увеличит вашу неуверенность в себе и не позволит принять верное решение в нужный момен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йте не личность подростка, а его поступки. Говорите на языке чувств (не «ты - негодяй», а «твой поступок меня расстроил, я переживаю, испытываю горечь, негодование…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орожно и умело регулируйте выбор друзей. Как бы невзначай раскрывайте сыну или дочери глаза на  положительные и отрицательные качества его друзей, поговорите о последствиях дурных влияний. Воспитывайте волю и уверенность в себе – барьеры против нежелательных внуш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а, ограничения, требования, запреты, обязательно должны быть в жизни каждого подрост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авил, ограничений, требований не должно быть слишком много, и они должны быть гибки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 Азарова</cp:lastModifiedBy>
  <dcterms:modified xsi:type="dcterms:W3CDTF">2023-12-13T10:52:34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