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029-FB55-49BB-ABA6-BF483FB1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550-4A60-456A-A33B-404E8FA4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5D7-00EA-47AC-A4E5-72F0EE0C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365-38B1-403B-9363-97684E9D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8A5-BD30-4641-9C39-F951CD62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D28-1BC3-40DD-B316-83913BE4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7A1-4B7B-4D28-9D1C-B206F8FF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9AE-3C71-47CA-81B1-D8B593E9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485-6BE7-4D9A-AA61-B56EFBF4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9F3-0FD5-4427-80B5-0DCA98ED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D3D-5960-4F08-B0FB-AF92979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64A-2479-4E5A-A891-880C93E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4BC4-590A-4C9A-99A6-96889F869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fore Art Thou Rom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7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85889146_743664_Titanic1081815"/>
          <p:cNvPicPr/>
          <p:nvPr/>
        </p:nvPicPr>
        <p:blipFill>
          <a:blip r:embed="rId1"/>
          <a:stretch/>
        </p:blipFill>
        <p:spPr>
          <a:xfrm>
            <a:off x="0" y="0"/>
            <a:ext cx="100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a318668e0aa"/>
          <p:cNvPicPr/>
          <p:nvPr/>
        </p:nvPicPr>
        <p:blipFill>
          <a:blip r:embed="rId1"/>
          <a:stretch/>
        </p:blipFill>
        <p:spPr>
          <a:xfrm>
            <a:off x="0" y="0"/>
            <a:ext cx="9828360" cy="680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62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299048065_1358331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56000" y="549360"/>
            <a:ext cx="4788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so he got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The Golde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Glob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for the best men’s role i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The Avi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Каприо Леонардо ди"/>
          <p:cNvPicPr/>
          <p:nvPr/>
        </p:nvPicPr>
        <p:blipFill>
          <a:blip r:embed="rId1"/>
          <a:stretch/>
        </p:blipFill>
        <p:spPr>
          <a:xfrm>
            <a:off x="155520" y="46080"/>
            <a:ext cx="397044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"/>
          <p:cNvPicPr/>
          <p:nvPr/>
        </p:nvPicPr>
        <p:blipFill>
          <a:blip r:embed="rId1"/>
          <a:stretch/>
        </p:blipFill>
        <p:spPr>
          <a:xfrm>
            <a:off x="0" y="620640"/>
            <a:ext cx="8988480" cy="5772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t1@4cf41aae-1307-49b5-a073-d9abdc4b97a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 1997 he was included into the list of the 50 most handsome persons of the worl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Леонардо Ди Каприо"/>
          <p:cNvPicPr/>
          <p:nvPr/>
        </p:nvPicPr>
        <p:blipFill>
          <a:blip r:embed="rId1"/>
          <a:stretch/>
        </p:blipFill>
        <p:spPr>
          <a:xfrm>
            <a:off x="4500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0" y="404640"/>
            <a:ext cx="9468000" cy="644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swer the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Why did L.DiCaprio was picked out as Rom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What did he think about his ro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Did he like Claire Danes as Juli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How did Buz Luhrman find the actor to star as Rom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719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i?id=443070558-30-72&amp;n=21"/>
          <p:cNvPicPr/>
          <p:nvPr/>
        </p:nvPicPr>
        <p:blipFill>
          <a:blip r:embed="rId1"/>
          <a:stretch/>
        </p:blipFill>
        <p:spPr>
          <a:xfrm>
            <a:off x="0" y="260280"/>
            <a:ext cx="4716360" cy="3144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?id=172434817-62-72&amp;n=21"/>
          <p:cNvPicPr/>
          <p:nvPr/>
        </p:nvPicPr>
        <p:blipFill>
          <a:blip r:embed="rId2"/>
          <a:stretch/>
        </p:blipFill>
        <p:spPr>
          <a:xfrm>
            <a:off x="4356000" y="3665520"/>
            <a:ext cx="478800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i?id=164136881-56-72&amp;n=21"/>
          <p:cNvPicPr/>
          <p:nvPr/>
        </p:nvPicPr>
        <p:blipFill>
          <a:blip r:embed="rId3"/>
          <a:stretch/>
        </p:blipFill>
        <p:spPr>
          <a:xfrm>
            <a:off x="0" y="3660840"/>
            <a:ext cx="4859280" cy="319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i?id=59124867-11-72&amp;n=21"/>
          <p:cNvPicPr/>
          <p:nvPr/>
        </p:nvPicPr>
        <p:blipFill>
          <a:blip r:embed="rId4"/>
          <a:stretch/>
        </p:blipFill>
        <p:spPr>
          <a:xfrm>
            <a:off x="4716360" y="306360"/>
            <a:ext cx="4427640" cy="3255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448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68996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stared in many films. Here are some of the tit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is Boy’s Life, The Quick And The Dead, The Man In The Iron Mask, Celebrity, The Beach, Catch Me If You can, The Departed, Poison Iv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iCap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5003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was born on the 1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November 1974 in Los Angeles, the U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was born in the family of   Hippy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?id=246459465-42-72&amp;n=21"/>
          <p:cNvPicPr/>
          <p:nvPr/>
        </p:nvPicPr>
        <p:blipFill>
          <a:blip r:embed="rId1"/>
          <a:stretch/>
        </p:blipFill>
        <p:spPr>
          <a:xfrm>
            <a:off x="4788000" y="1268280"/>
            <a:ext cx="4091040" cy="5156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5062680" y="549360"/>
            <a:ext cx="4081320" cy="593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Жизнь Леонардо Ди Каприо в фотографиях"/>
          <p:cNvPicPr/>
          <p:nvPr/>
        </p:nvPicPr>
        <p:blipFill>
          <a:blip r:embed="rId2"/>
          <a:stretch/>
        </p:blipFill>
        <p:spPr>
          <a:xfrm>
            <a:off x="0" y="1916280"/>
            <a:ext cx="5076720" cy="338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980640"/>
            <a:ext cx="7618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 has American, Italian, German and Russian roots. His grandmother Elena Smirnova  left Russia and stayed in Germa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4956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14 he decided to be an actor. He was shot in several series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n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arba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Also he had 30 advertise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Просмотр фото"/>
          <p:cNvPicPr/>
          <p:nvPr/>
        </p:nvPicPr>
        <p:blipFill>
          <a:blip r:embed="rId1"/>
          <a:stretch/>
        </p:blipFill>
        <p:spPr>
          <a:xfrm>
            <a:off x="4427640" y="620640"/>
            <a:ext cx="4491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and Johnny De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611280" y="1341360"/>
            <a:ext cx="788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Bred Pitt ,199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755640" y="1268280"/>
            <a:ext cx="795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 1997 he stared i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Titanic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This film became the event of the year. Leonardo was awarded by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The Golde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Glob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After this film he became one of the most expensive actors in Hollywood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0:33:09Z</dcterms:created>
  <dc:creator>User</dc:creator>
  <dc:description/>
  <dc:language>en-US</dc:language>
  <cp:lastModifiedBy>User</cp:lastModifiedBy>
  <dcterms:modified xsi:type="dcterms:W3CDTF">2023-12-13T11:00:53Z</dcterms:modified>
  <cp:revision>5</cp:revision>
  <dc:subject/>
  <dc:title>Wherefore Art Thou Romeo?</dc:title>
</cp:coreProperties>
</file>