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E1C4-E186-497D-8DC0-9642989BC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3C47-99A0-42BC-B88E-56BF9B66B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F8DC-D940-40CC-B676-16C3DFEDE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FC16-FDE2-4E4E-8A02-223B84AC1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1EE6-4B61-4DA3-9084-577EF2592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9C4B-6E9D-4EA8-900B-154D1D4E9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3E75-CF2F-47B1-B0D1-DAFD575C5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5B27-B9BC-46D4-A5C5-FC1D9D931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EA67-C742-4303-B102-439AED95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9EED-3E82-4F48-8F66-F2FB5423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40A6-3408-41BB-9DAE-A09C9210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3F58-D05E-496E-BC19-3913D663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45407-6739-4D32-9466-4C83E79C1F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27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fore Art Thou Rome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7"/>
          <p:cNvPicPr/>
          <p:nvPr/>
        </p:nvPicPr>
        <p:blipFill>
          <a:blip r:embed="rId1"/>
          <a:stretch/>
        </p:blipFill>
        <p:spPr>
          <a:xfrm>
            <a:off x="0" y="-69840"/>
            <a:ext cx="9144000" cy="6927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85889146_743664_Titanic1081815"/>
          <p:cNvPicPr/>
          <p:nvPr/>
        </p:nvPicPr>
        <p:blipFill>
          <a:blip r:embed="rId1"/>
          <a:stretch/>
        </p:blipFill>
        <p:spPr>
          <a:xfrm>
            <a:off x="0" y="0"/>
            <a:ext cx="100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aa318668e0aa"/>
          <p:cNvPicPr/>
          <p:nvPr/>
        </p:nvPicPr>
        <p:blipFill>
          <a:blip r:embed="rId1"/>
          <a:stretch/>
        </p:blipFill>
        <p:spPr>
          <a:xfrm>
            <a:off x="0" y="0"/>
            <a:ext cx="9828360" cy="6802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0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7625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1299048065_1358331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356000" y="549360"/>
            <a:ext cx="47880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lso he got </a:t>
            </a: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The Golden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Globe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for the best men’s role in </a:t>
            </a: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The Aviato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Каприо Леонардо ди"/>
          <p:cNvPicPr/>
          <p:nvPr/>
        </p:nvPicPr>
        <p:blipFill>
          <a:blip r:embed="rId1"/>
          <a:stretch/>
        </p:blipFill>
        <p:spPr>
          <a:xfrm>
            <a:off x="155520" y="46080"/>
            <a:ext cx="397044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"/>
          <p:cNvPicPr/>
          <p:nvPr/>
        </p:nvPicPr>
        <p:blipFill>
          <a:blip r:embed="rId1"/>
          <a:stretch/>
        </p:blipFill>
        <p:spPr>
          <a:xfrm>
            <a:off x="0" y="620640"/>
            <a:ext cx="8988480" cy="57722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t1@4cf41aae-1307-49b5-a073-d9abdc4b97a2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0"/>
            <a:ext cx="44956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n 1997 he was included into the list of the 50 most handsome persons of the world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Леонардо Ди Каприо"/>
          <p:cNvPicPr/>
          <p:nvPr/>
        </p:nvPicPr>
        <p:blipFill>
          <a:blip r:embed="rId1"/>
          <a:stretch/>
        </p:blipFill>
        <p:spPr>
          <a:xfrm>
            <a:off x="4500720" y="0"/>
            <a:ext cx="487656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Жизнь Леонардо Ди Каприо в фотографиях"/>
          <p:cNvPicPr/>
          <p:nvPr/>
        </p:nvPicPr>
        <p:blipFill>
          <a:blip r:embed="rId1"/>
          <a:stretch/>
        </p:blipFill>
        <p:spPr>
          <a:xfrm>
            <a:off x="0" y="404640"/>
            <a:ext cx="9468000" cy="6448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nswer the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Why did L.DiCaprio was picked out as Rome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What did he think about his ro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Did he like Claire Danes as Julie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How did Buz Luhrman find the actor to star as Rome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1" descr="Жизнь Леонардо Ди Каприо в фотографиях"/>
          <p:cNvPicPr/>
          <p:nvPr/>
        </p:nvPicPr>
        <p:blipFill>
          <a:blip r:embed="rId1"/>
          <a:stretch/>
        </p:blipFill>
        <p:spPr>
          <a:xfrm>
            <a:off x="155520" y="46080"/>
            <a:ext cx="8737560" cy="67197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i?id=443070558-30-72&amp;n=21"/>
          <p:cNvPicPr/>
          <p:nvPr/>
        </p:nvPicPr>
        <p:blipFill>
          <a:blip r:embed="rId1"/>
          <a:stretch/>
        </p:blipFill>
        <p:spPr>
          <a:xfrm>
            <a:off x="0" y="260280"/>
            <a:ext cx="4716360" cy="31449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i?id=172434817-62-72&amp;n=21"/>
          <p:cNvPicPr/>
          <p:nvPr/>
        </p:nvPicPr>
        <p:blipFill>
          <a:blip r:embed="rId2"/>
          <a:stretch/>
        </p:blipFill>
        <p:spPr>
          <a:xfrm>
            <a:off x="4356000" y="3665520"/>
            <a:ext cx="4788000" cy="3192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i?id=164136881-56-72&amp;n=21"/>
          <p:cNvPicPr/>
          <p:nvPr/>
        </p:nvPicPr>
        <p:blipFill>
          <a:blip r:embed="rId3"/>
          <a:stretch/>
        </p:blipFill>
        <p:spPr>
          <a:xfrm>
            <a:off x="0" y="3660840"/>
            <a:ext cx="4859280" cy="3197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3" descr="i?id=59124867-11-72&amp;n=21"/>
          <p:cNvPicPr/>
          <p:nvPr/>
        </p:nvPicPr>
        <p:blipFill>
          <a:blip r:embed="rId4"/>
          <a:stretch/>
        </p:blipFill>
        <p:spPr>
          <a:xfrm>
            <a:off x="4716360" y="306360"/>
            <a:ext cx="4427640" cy="32558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Жизнь Леонардо Ди Каприо в фотографиях"/>
          <p:cNvPicPr/>
          <p:nvPr/>
        </p:nvPicPr>
        <p:blipFill>
          <a:blip r:embed="rId1"/>
          <a:stretch/>
        </p:blipFill>
        <p:spPr>
          <a:xfrm>
            <a:off x="155520" y="46080"/>
            <a:ext cx="8737560" cy="64483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39280" y="333000"/>
            <a:ext cx="7689960" cy="579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onardo stared in many films. Here are some of the titl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is Boy’s Life, The Quick And The Dead, The Man In The Iron Mask, Celebrity, The Beach, Catch Me If You can, The Departed, Poison Iv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nd other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onardo DiCap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-360" y="1197000"/>
            <a:ext cx="5003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 was born on the 1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f November 1974 in Los Angeles, the US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 was born in the family of   Hippy.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i?id=246459465-42-72&amp;n=21"/>
          <p:cNvPicPr/>
          <p:nvPr/>
        </p:nvPicPr>
        <p:blipFill>
          <a:blip r:embed="rId1"/>
          <a:stretch/>
        </p:blipFill>
        <p:spPr>
          <a:xfrm>
            <a:off x="4788000" y="1268280"/>
            <a:ext cx="4091040" cy="51562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Жизнь Леонардо Ди Каприо в фотографиях"/>
          <p:cNvPicPr/>
          <p:nvPr/>
        </p:nvPicPr>
        <p:blipFill>
          <a:blip r:embed="rId1"/>
          <a:stretch/>
        </p:blipFill>
        <p:spPr>
          <a:xfrm>
            <a:off x="5062680" y="549360"/>
            <a:ext cx="4081320" cy="5930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Жизнь Леонардо Ди Каприо в фотографиях"/>
          <p:cNvPicPr/>
          <p:nvPr/>
        </p:nvPicPr>
        <p:blipFill>
          <a:blip r:embed="rId2"/>
          <a:stretch/>
        </p:blipFill>
        <p:spPr>
          <a:xfrm>
            <a:off x="0" y="1916280"/>
            <a:ext cx="5076720" cy="3384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11280" y="980640"/>
            <a:ext cx="76183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 has American, Italian, German and Russian roots. His grandmother Elena Smirnova  left Russia and stayed in German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44956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 14 he decided to be an actor. He was shot in several series of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ant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Barbar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 Also he had 30 advertisement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Просмотр фото"/>
          <p:cNvPicPr/>
          <p:nvPr/>
        </p:nvPicPr>
        <p:blipFill>
          <a:blip r:embed="rId1"/>
          <a:stretch/>
        </p:blipFill>
        <p:spPr>
          <a:xfrm>
            <a:off x="4427640" y="620640"/>
            <a:ext cx="44910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onardo and Johnny Dep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Жизнь Леонардо Ди Каприо в фотографиях"/>
          <p:cNvPicPr/>
          <p:nvPr/>
        </p:nvPicPr>
        <p:blipFill>
          <a:blip r:embed="rId1"/>
          <a:stretch/>
        </p:blipFill>
        <p:spPr>
          <a:xfrm>
            <a:off x="611280" y="1341360"/>
            <a:ext cx="78850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th Bred Pitt ,199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Жизнь Леонардо Ди Каприо в фотографиях"/>
          <p:cNvPicPr/>
          <p:nvPr/>
        </p:nvPicPr>
        <p:blipFill>
          <a:blip r:embed="rId1"/>
          <a:stretch/>
        </p:blipFill>
        <p:spPr>
          <a:xfrm>
            <a:off x="755640" y="1268280"/>
            <a:ext cx="795672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n 1997 he stared in </a:t>
            </a: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Titanic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. This film became the event of the year. Leonardo was awarded by </a:t>
            </a: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The Golden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5400" spc="-1" strike="noStrike">
                <a:solidFill>
                  <a:srgbClr val="000000"/>
                </a:solidFill>
                <a:latin typeface="Arial"/>
              </a:rPr>
              <a:t>Globe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. After this film he became one of the most expensive actors in Hollywood.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3T10:33:09Z</dcterms:created>
  <dc:creator>User</dc:creator>
  <dc:description/>
  <dc:language>en-US</dc:language>
  <cp:lastModifiedBy>User</cp:lastModifiedBy>
  <dcterms:modified xsi:type="dcterms:W3CDTF">2023-12-13T11:00:53Z</dcterms:modified>
  <cp:revision>5</cp:revision>
  <dc:subject/>
  <dc:title>Wherefore Art Thou Romeo?</dc:title>
</cp:coreProperties>
</file>