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D254-8809-4149-9769-2621F61BCC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790D-8D96-489B-9132-0A2EB3065D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"/>
          <p:cNvSpPr/>
          <p:nvPr/>
        </p:nvSpPr>
        <p:spPr>
          <a:xfrm>
            <a:off x="1143000" y="676440"/>
            <a:ext cx="457056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10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0AFA-B392-491F-9A3A-D716988B8F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"/>
          <p:cNvSpPr/>
          <p:nvPr/>
        </p:nvSpPr>
        <p:spPr>
          <a:xfrm>
            <a:off x="1143000" y="676440"/>
            <a:ext cx="4570560" cy="344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3B84-43AE-4A89-8C09-3ADB5822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8F8E-D524-471E-91C3-57F804C0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D48718-D01F-4451-BC8B-36CA4F83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5CA7F-4113-4E02-BADE-1CD7E907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78718-D533-41DF-814C-901DBB53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E0B995-FFD8-44B2-933A-532DE6D6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41279E-AB11-4558-B852-DF4C4CCD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C8AD1-E477-495B-9E58-40871C08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5704DD-1369-4382-93AA-BABB3D14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52FD7-225D-474E-B342-F2B95806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74F77C-965D-47BE-8FF7-A7E9E0F8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EF8E9D-C6BE-45E9-B25C-CA7455A0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870F-B14D-4F02-BF8B-1E0E1930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E74963-655A-40C1-8D08-C5793659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F87738-B1F3-42F9-ADE7-E5F2B619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6E0055-A134-4B3E-86ED-651AD723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08D48-D778-4755-9E8E-E5DC8E2A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F7883B-9E55-4BE8-9C8D-0C309315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C8BCF-1DF8-454A-8422-55AEBF5A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59C4C9-8DC9-485A-9A05-4ACF9A40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AD032-D69F-42AD-A8C3-5606D24C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45BD3-FC6D-4AA7-9BA0-DF2D4BE3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E61BE-673E-4BC6-A797-A9212CC4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F8C5-4D3C-4DE0-A4EB-D9A5B22E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D61DC2-BFEF-41C7-8505-42BB3C7C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7B610-87A3-4627-BECC-085720392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CA1E0-246F-4FEF-AA74-344BC83A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2E8E6-4BC0-45DC-8247-6F832FD8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C8599-70BA-4699-AC87-F61DAC85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B9437-D95C-49B4-8625-22ADD25C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D9ED0-41EF-4D33-A2BA-CE80C765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54177-38D0-4DBE-A8CE-67410403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E7300-D56E-496B-9197-158FD16C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BB6E2-C871-4A66-B854-48FA1C6C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9AC3-1124-422E-ADAA-ECA2EE57D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27774-2633-4931-8AFA-70EA7073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22DB2-2CD5-4C2E-9BD2-9B7EDC44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E50D4-4B29-4754-A53F-0ECDCA49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94816F-3AF6-45B9-8C7C-1E3754A97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773AF7-FD94-4B26-A05A-32CAEF91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3EB10F-F73E-4D16-A49E-69AD487F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3A01F4-7165-41B4-9C49-B693325F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9DEFA-2E3B-4D5C-B22E-5D0C2794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C5B4E7-ADEC-4E80-9840-C6D8DEAD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292206-6A3A-4E5D-8222-80BFF510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7AD6-429C-4687-A433-7BCD8FD6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08C4EC-77DF-49F7-91C4-4BD9AC05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D57707-6C21-4CAB-AA4B-CB6B8914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9DA996-7BFD-43B6-8515-140AB486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BEF080-CADB-4CE7-9F86-D70DDF30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FB167E-EF83-42D3-90A7-A798784F3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861F-81D6-4592-B2C7-7BA9B296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2FF4-2D8D-4041-B8B5-F31738D8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3A24-21C9-403B-B6D5-0F84C3C0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378F-84C6-450A-BCF9-ADA1FA03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7CFD-3297-40E9-91BC-610A35EC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435D-7684-4726-ACAD-0C48FBFB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BF2C-5600-4DCC-9CA5-ABE865D6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23EC-AA20-45BC-9253-0F19B324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1BDB-F2CB-4DD0-B6A1-644BCF8F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336E-2304-465E-A183-A9E6FE76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5301-1872-4267-A35C-7642F226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E8CE6-BBDC-4052-A6E6-A900DEA5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0925D-31CD-4A5C-861F-1AC121A5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0E627-D12D-4FA9-824A-B880A418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188BD-2F72-48F1-AD4E-E74B80A9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15FB2-4437-4CDD-8F95-0DAB8BD4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1FD-06CE-45C5-B5AF-E588C0C2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9CBB7-E4A8-4DA6-92BF-02F8DBF1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8E15E-7D93-4E38-8DE5-AC4A8602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DDB2F-AC7D-4905-98BD-B4DC281B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042CD-86D3-4B68-A4DA-A27008C4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16A69-A0FA-4505-8F2F-2ED594C3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11939-11F1-43CE-B5AE-CDF09ADC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3BB22-525E-4757-BFD2-DA78760A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640E9-A65E-4487-BA37-150E7C27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035E4-1C50-4C81-A75C-39749405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34163-6EAF-4FF4-8057-73E9A634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A231-6274-4C5C-BEE7-865F5435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8DC3E-CCE8-4056-9ECF-BBDC818B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8683F-8695-4DA5-B325-3E463085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0092C-0BED-4EB3-88E1-93FB1DD9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F8448-4749-4B26-9C47-26FD7EC0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7568A-0A5E-4B66-8C6F-C03CF97D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BA7AE-1D13-44FA-AC7D-2B5B0FB2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3418C-9588-4F2A-8D3D-A43AF902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6FC22-0011-48DE-A0E1-7F04D957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043DC-6F32-4D7C-90E2-48BEF1B2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5D221-E47F-4865-9019-CEFAA97C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C725-229C-4B82-9CE2-EA0ABE0E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81890-02A2-4F05-9BE5-C190C18C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AC712-1594-413A-973F-F8EA1E59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D59B5-ACA1-4F43-AA95-623AE064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D296E-3597-41BC-B8E7-AA52812C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9983E-CFE1-44AE-82F6-A68E7342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81EFD-685A-4A40-89F2-6C45F08F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DABF4-E485-4702-B5CA-63A3BB3C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0C1E4-A4E9-414B-A6BE-E47A8C4F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9FAC6-6406-4B5D-897B-D6BF76DA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F0C8E-B202-4C0B-83FD-3D8D9CDD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E87E-0614-4B27-8BAF-0682D889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2A101-61ED-438D-90DC-03B148EA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C4A63-E6AA-43D9-8BFD-6F515369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E2DF3-D6F1-4015-9E45-F301E044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5AB1F-EB43-4A91-B3BA-7055D750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CDECC-7CE4-4CEB-BCF5-DB2CCBB6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6C206-1347-4173-9451-1F7B5A89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CE0DB-B664-4800-BB6A-0B8A1910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F5690-3358-426C-91C4-627C088A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BEE28-1DC8-4FAA-80E8-6A03A42C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15D43-30BB-4123-BB9A-76AFCA15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008-A924-4BD7-A6C4-2564530F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7AC7B-0402-429C-9F14-70F17212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59E03-2E30-403C-BB93-87221295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07E09-E799-461D-9FE4-830F21D5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6A473-2C05-4EFF-8828-32C09BE1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7CD32-D040-4800-A8A5-910C4B12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365A6-1D6C-4795-A733-6D7943F8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4338D-6335-499E-97E9-7A11EA04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24732-B8C3-48AE-9442-271BCE78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0F1D8-59F9-4601-93DA-F133BCA6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38C45-350C-4065-811B-C229138A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A241-5DFC-4244-BD17-374D6E4D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EF654-3D42-4D1E-AF06-83E1449B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52307-9141-4D8E-A724-74095C4A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FDE5E-5432-4A44-86E6-6DCC2871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2BF38-A7A3-42F6-A290-B980470C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8A4EE-428B-4C30-9C20-BB7F36F6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CCD72-FB3B-4B92-BC85-DB3AD14F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5CD17-5ED0-4CD9-B87B-D8DABFDD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619F5-4E88-4AE8-B131-53B0B2AD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0EF42-FB96-4FEE-B259-B32545A0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2E7EC-2905-4903-95ED-E4218BD0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B6F-CB47-4894-8C54-2778C4D6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E08A5-D6E2-4040-9ECD-F0D76AE0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7C0C6-51CB-4234-A83B-30385394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5B7CC-08EA-4B85-B9C8-C73FDEC0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20D7D-4291-43F8-80B4-BF5FD9E6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777C6-5971-4101-B2EC-C4E7A592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825FD-E12E-401D-B829-F29269A68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125AB-4283-4471-B10E-ADA49AB7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58DA9-5EE7-4B00-8997-91961BA6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D6B218-E528-4E61-BF34-243162D6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18C113-28E6-4D09-8D37-2AB543A6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6D3F-FB00-4249-AD9E-75C7B38EF3B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1BF7-708E-44D4-86D5-9E59FDB118B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0979-E2CE-4CD2-954C-B9DA2BC41F8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CD94-3389-4980-B30B-57E4D7E41AA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98FA-0EF2-454E-AEA7-47127166766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198E-F4F7-4BF5-BAC3-E4594A65484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92FA-7968-4ACA-B143-63FCF252369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DE34-CD95-4C37-86E5-7554640CACE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3C56-6D2B-4738-81CC-357D2171C6A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D27D-40F6-4117-A6BD-A8430EF7A7A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0306-3C02-4462-91A2-0C9C752A322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1C47-8196-4A46-8C0E-126083D708F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739116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d16349"/>
                </a:solidFill>
                <a:latin typeface="Georgia"/>
              </a:rPr>
              <a:t>ОСОБЕННОСТИ СУИЦИДАЛЬНОГО ПОВЕДЕНИЯ ДЕТЕЙ И ПОДРОСТКОВ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4" name="Picture 2" descr="http://go2.imgsmail.ru/imgpreview?u=http%3A//www.lossofsoul.com/DEATH/suicide/70.jpg&amp;mb=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43280" y="3213000"/>
            <a:ext cx="3211560" cy="31798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e8f85"/>
                </a:solidFill>
                <a:latin typeface="Georgia"/>
              </a:rPr>
              <a:t>Ситуационные </a:t>
            </a:r>
            <a:r>
              <a:rPr b="1" lang="en-GB" sz="4400" spc="-1" strike="noStrike">
                <a:solidFill>
                  <a:srgbClr val="9e8f85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9e8f85"/>
                </a:solidFill>
                <a:latin typeface="Georgia"/>
              </a:rPr>
              <a:t> </a:t>
            </a:r>
            <a:r>
              <a:rPr b="1" lang="en-GB" sz="4400" spc="-1" strike="noStrike">
                <a:solidFill>
                  <a:srgbClr val="9e8f85"/>
                </a:solidFill>
                <a:latin typeface="Georgia"/>
              </a:rPr>
              <a:t>признаки: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9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Человек может решиться на самоубийство, если он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1. Социально изолирован (не имеет друзей или имеет только одного друга), чувствует себя отверженным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2. Живет в нестабильном состоянии (серьезный кризис в семье, в отношениях к родителям или родителей друг с другом)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3. Ощущает себя жертвой насилия – физического, сексуального или эмоционального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4. Предпринимал попытку суицида ранее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5. Имеет склонность к самоубийству вследствие того, что оно совершалось кем-то из друзей, знакомых или членов семь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6. 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еренес тяжелую потерю (смерть кого-то из близких, развод родителей)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48040" indent="-2480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404280"/>
            <a:ext cx="853452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b9899"/>
                </a:solidFill>
                <a:latin typeface="Georgia"/>
              </a:rPr>
              <a:t>Внешний вид и поведение подростка, склонного к суициду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250920" y="1557000"/>
            <a:ext cx="6121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вигательное возбуждение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ремление к самоповреждению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ряшливость в одежде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пущенный вид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кспрессивно- патетические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ормы поведения (заламывание рук, стоны, рыдания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грессивное поведе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7" name="Picture 3" descr="H:\Documents and Settings\Ольга\Мои документы\Мои рисунки\Суицид\suicid-kak-predotvratit-samoubiistvo[1].jpg"/>
          <p:cNvPicPr/>
          <p:nvPr/>
        </p:nvPicPr>
        <p:blipFill>
          <a:blip r:embed="rId1"/>
          <a:stretch/>
        </p:blipFill>
        <p:spPr>
          <a:xfrm>
            <a:off x="6500880" y="2428920"/>
            <a:ext cx="2266920" cy="3214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b9899"/>
                </a:solidFill>
                <a:latin typeface="Georgia"/>
              </a:rPr>
              <a:t>Нарушение психических процессов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ышление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торможенность мышления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рачные мысл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вязчивые мысли о смер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нимание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способность сосредоточить внимани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b9899"/>
                </a:solidFill>
                <a:latin typeface="Georgia"/>
              </a:rPr>
              <a:t>Эмоциональные нарушения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кука, грусть, уныние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грюмость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лобность, раздражительность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рчливость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раждебное отношений к окружающим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езразличное отношение к себе, окружающим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ревога (немотивированная)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ра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1265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130d"/>
                </a:solidFill>
                <a:latin typeface="Georgia"/>
              </a:rPr>
              <a:t>Динамика развития суицидального поведения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68360" y="169992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ервая стадия – </a:t>
            </a:r>
            <a:r>
              <a:rPr b="0" lang="ru-RU" sz="3200" spc="-1" strike="noStrike">
                <a:solidFill>
                  <a:srgbClr val="00a3d6"/>
                </a:solidFill>
                <a:latin typeface="Georgia"/>
              </a:rPr>
              <a:t>стадия  вопросов о смерти и смысле жизн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торая стадия – </a:t>
            </a:r>
            <a:r>
              <a:rPr b="0" lang="ru-RU" sz="3200" spc="-1" strike="noStrike">
                <a:solidFill>
                  <a:srgbClr val="00a3d6"/>
                </a:solidFill>
                <a:latin typeface="Georgia"/>
              </a:rPr>
              <a:t>суицидальные замысл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Третья стадия – </a:t>
            </a:r>
            <a:r>
              <a:rPr b="0" lang="ru-RU" sz="3200" spc="-1" strike="noStrike">
                <a:solidFill>
                  <a:srgbClr val="00a3d6"/>
                </a:solidFill>
                <a:latin typeface="Georgia"/>
              </a:rPr>
              <a:t>суицидальные намерения  и собственно суицидальная попытка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0"/>
            <a:ext cx="853452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b9899"/>
                </a:solidFill>
                <a:latin typeface="Georgia"/>
              </a:rPr>
              <a:t>Факторы, ведущие к самоубийству среди подростков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39640" y="1699920"/>
            <a:ext cx="7777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облемы семь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епонимание со стороны родителей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онфликты с родителями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лкоголизм родителей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мерть родителей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вод родителей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эмоциональная депревац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жестокое обращение, насили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сутствие уважения, теплых семейных отношени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333000"/>
            <a:ext cx="85345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b9899"/>
                </a:solidFill>
                <a:latin typeface="Georgia"/>
              </a:rPr>
              <a:t>Факторы, ведущие к самоубийству среди подростков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68360" y="1699920"/>
            <a:ext cx="60926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онфликты в школе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 учителями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 одноклассниками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золяция (бойкот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ичностные особенност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езответная любовь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сутствие отношений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рыв отношений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кцентуация характер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694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7b9899"/>
                </a:solidFill>
                <a:latin typeface="Georgia"/>
              </a:rPr>
              <a:t>Антисуицидальные факторы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94920" y="184428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ежелание вызывать отрицательные переживание у близких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чувство долга перед родителями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религиозность (грех самоубийства)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личие нереализованных планов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любовь к жизни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468360" y="404640"/>
            <a:ext cx="7848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Суицид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-  намеренное лишение себя жизни или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попытка нанести себе травмы, несовместимые с жизнью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Суициды делятся на три основные группы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 algn="just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Истинный суицид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(направляется желанием умереть, не бывает спонтанным. Ему предшествует угнетенное настроение и депрессивное состояние)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 algn="just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Демонстративный суицид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(не связан с желанием умереть, а является способом обратить внимание на свои проблемы, позвать на помощь, вести диалог)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 algn="just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Скрытый суицид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(косвенное самоубийство. Это действие сопровождающееся высокой вероятностью летального исхода. Это суицидально-обусловленное поведение: занятия экстремальными видами спорта, употребление психоактивных веществ)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064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 МИРОВОЙ СТАТИСТИКЕ БОЛЬШЕ ВСЕГО САМОУБИЙСТВ РЕГИСТРИРУЕТСЯ ОСЕНЬЮ И ВЕСНОЙ, ОСОБЕННО ВЕСНОЙ, КОГДА ЧЕЛОВЕЧЕСКИЕ НЕСЧАСТЬЯ КОНТРАСТИРУЮТ С ЦВЕТЕНИЕМ ОКРУЖАЮЩЕЙ ПРИРОДЫ. РЕЗКОЕ НЕСООТВЕТСТВИЕ ВЕСЕННЕГО РАДУЮЩЕГОСЯ МИРА И ОТЧАЯННОГО СОСТОЯНИЯ ДУШИ МОЖЕТ ПРОВОЦИРОВАТЬ САМОУБИЙСТВА. 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</a:rPr>
              <a:t>УРОВЕНЬ СУИЦИДОВ В АПРЕЛЕ ВЫШЕ ПРИМЕРНО НА 120%, ЧЕМ СРЕДНЕГОДОВОЙ. СУИЦИДЫ УЧАЩАЮТСЯ ВО ВРЕМЯ РОЖДЕСТВЕНСКИХ ПРАЗДНИКОВ («СЧАСТЛИВЫЙ СЕЗОН» НЕ ПРИНОСИТ ОЖИДАЕМОЙ РАДОСТИ).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b9899"/>
                </a:solidFill>
                <a:latin typeface="Georgia"/>
              </a:rPr>
              <a:t>Статистика</a:t>
            </a:r>
            <a:endParaRPr b="0" lang="en-US" sz="5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4"/>
          <p:cNvSpPr/>
          <p:nvPr/>
        </p:nvSpPr>
        <p:spPr>
          <a:xfrm>
            <a:off x="1692360" y="260280"/>
            <a:ext cx="564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46b86"/>
                </a:solidFill>
                <a:latin typeface="Times New Roman"/>
              </a:rPr>
              <a:t>Статис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9"/>
          <p:cNvSpPr/>
          <p:nvPr/>
        </p:nvSpPr>
        <p:spPr>
          <a:xfrm>
            <a:off x="611280" y="1844640"/>
            <a:ext cx="79214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% после неудачной попытки суицида в течении двух лет повторяют ее и достигают желаем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0% покончивших с собой, пытались сделать это в прошлом по крайней мере однаж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611280" y="4581360"/>
            <a:ext cx="777708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6% покончивших с собой, один из родителей был самоубий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7b9899"/>
                </a:solidFill>
                <a:latin typeface="Georgia"/>
              </a:rPr>
              <a:t>Подростковый суицид</a:t>
            </a:r>
            <a:endParaRPr b="0" lang="en-US" sz="4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179280" y="1268280"/>
            <a:ext cx="856944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За последнее время самоубийства среди подростков выросло в 3 раза. Основные причины суицид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а) неразделенная любовь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б) конфликты с родителями, сверстниками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в) страх перед будущим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г) одиночество.</a:t>
            </a: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жегодно каждый двенадцатый подросток в возрасте 15-19 лет пытается совершить попытку самоубий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75% зарегистрированных суицидов это дети из вполне обеспеченных и благополучных семей. Все больше случаев суицида фиксируется в таких экономически благополучных странах, как Швеция, Норвегия, Япо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4"/>
          <p:cNvSpPr/>
          <p:nvPr/>
        </p:nvSpPr>
        <p:spPr>
          <a:xfrm>
            <a:off x="1785960" y="285840"/>
            <a:ext cx="6753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46b86"/>
                </a:solidFill>
                <a:latin typeface="Times New Roman"/>
              </a:rPr>
              <a:t>Подростковый суици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7" descr="Causes-For-Teenage-Suicide"/>
          <p:cNvPicPr/>
          <p:nvPr/>
        </p:nvPicPr>
        <p:blipFill>
          <a:blip r:embed="rId1"/>
          <a:stretch/>
        </p:blipFill>
        <p:spPr>
          <a:xfrm>
            <a:off x="250920" y="1844640"/>
            <a:ext cx="2928960" cy="438804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8"/>
          <p:cNvSpPr/>
          <p:nvPr/>
        </p:nvSpPr>
        <p:spPr>
          <a:xfrm>
            <a:off x="3419640" y="1844640"/>
            <a:ext cx="5184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оказывает практика, очень часто причина для самоубийства бывает надумана или совсем пустяковая. Она служит лишь последней каплей для отчаявшегося подростка. А истинная причина кроется далеко внутри, и родители могут ее даже не замечать. Подростки, которых удалось спасти, рассказывают, что мысль о самоубийстве посещала их довольно часто. Сначала это была лишь фантазия, но когда слишком часто об этом размышляешь, то идея уже не кажется такой абсурдной и постепенно фантазия приобретала все более реальные че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ая выноска 6"/>
          <p:cNvSpPr/>
          <p:nvPr/>
        </p:nvSpPr>
        <p:spPr>
          <a:xfrm rot="20686200">
            <a:off x="746280" y="2376000"/>
            <a:ext cx="1465200" cy="122400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моги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56288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e8f85"/>
                </a:solidFill>
                <a:latin typeface="Georgia"/>
              </a:rPr>
              <a:t>Причины самоубийств у подростков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9528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бщей причиной суицида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оциально-психологическая дезадаптация,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возникающая под влиянием острых психотравмирующих ситуаций, нарушения взаимодействия личности с ее ближайшим окружением. Однако для подростков это чаще всего не тотальные нарушения, а нарушения общения с близкими, с семьей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5596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e8f85"/>
                </a:solidFill>
                <a:latin typeface="Georgia"/>
              </a:rPr>
              <a:t>Словесные признаки</a:t>
            </a:r>
            <a:r>
              <a:rPr b="0" lang="en-GB" sz="48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68000" y="1484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. Часто говорят о своем душевном состоянии: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- «Я решил покончить с собой»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- «В следующий понедельник меня уже не будет в живых…»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- «Лучше умереть»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- «Пожил и хватит»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- «Ненавижу свою жизнь!»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- «Единственный выход - умереть!»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- «Я не могу так дальше жить»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- «Больше ты меня не увидишь!»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- «Тебе больше не придется обо мне волноваться»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- «Я больше не буду ни для кого проблемой»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. Много шутят на тему самоубийства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3. Проявляют нездоровую заинтересованность вопросами смерти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e8f85"/>
                </a:solidFill>
                <a:latin typeface="Georgia"/>
              </a:rPr>
              <a:t>Поведенческие </a:t>
            </a:r>
            <a:r>
              <a:rPr b="1" lang="ru-RU" sz="4400" spc="-1" strike="noStrike">
                <a:solidFill>
                  <a:srgbClr val="9e8f85"/>
                </a:solidFill>
                <a:latin typeface="Georgia"/>
              </a:rPr>
              <a:t> </a:t>
            </a:r>
            <a:r>
              <a:rPr b="1" lang="en-GB" sz="4400" spc="-1" strike="noStrike">
                <a:solidFill>
                  <a:srgbClr val="9e8f85"/>
                </a:solidFill>
                <a:latin typeface="Georgia"/>
              </a:rPr>
              <a:t>признаки:</a:t>
            </a:r>
            <a:endParaRPr b="0" lang="en-US" sz="4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755640" y="1557000"/>
            <a:ext cx="757224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. Раздавать другим вещи, имеющие большую личную значимость, окончательно приводить в порядок дела, мириться с давними врагами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2. Демонстрировать радикальные перемены в поведении, такие, как: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в еде — есть слишком мало или слишком много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во сне — спать слишком мало или слишком много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во внешнем виде — стать неряшливым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замкнуться от семьи и друзей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быть чрезмерно деятельным или, наоборот, безразличным к окружающему миру; ощущать попеременно то внезапную эйфорию, то приступы отчаяния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Georgia"/>
              </a:rPr>
              <a:t>3. Проявлять признаки беспомощности, безнадежности и отчаяния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7:55:38Z</dcterms:created>
  <dc:creator>Админ</dc:creator>
  <dc:description/>
  <dc:language>en-US</dc:language>
  <cp:lastModifiedBy>USER-002</cp:lastModifiedBy>
  <dcterms:modified xsi:type="dcterms:W3CDTF">2019-10-03T05:38:52Z</dcterms:modified>
  <cp:revision>106</cp:revision>
  <dc:subject/>
  <dc:title>Слайд 1</dc:title>
</cp:coreProperties>
</file>