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7DE3-84D0-455C-9879-14012E843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E7CE-7132-48AD-829D-D1AA49048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1143000" y="676440"/>
            <a:ext cx="457056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0DA2-ECA2-43A9-B33C-2CA5A1452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1143000" y="676440"/>
            <a:ext cx="457056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E53-05CD-4230-AA2E-20A05A92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4BC-C58F-465D-BF4C-BBFA4108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0F347-3028-463E-BC37-E6CA1B12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6889A-6986-4D2F-BC85-B8613D2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F8755-CB48-42A9-B806-C2D49CEF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4D92D-2380-4759-8755-B330E73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5AF83-1CD3-4971-B164-49AFABE0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08E50-A1F0-405E-9C52-1CA9FC3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A36B1-DAF4-49E6-99CB-62B60051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11EA0-57EC-48D4-A882-79D24AB6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8D578-A671-4F30-8D58-211BD01C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3C736-5720-4B86-ADC8-C0626AD9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006-AB0B-4893-A903-F40858B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49251-236F-4689-8364-ABC7589B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3D9F8-8ABD-4A3A-BAAD-30CF003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D2AD7-8DBC-49C7-A4FC-EE53CB59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ABA5A-0A79-4136-AC83-250A7E33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648CF-D4D8-4A12-95DE-FE582004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1704F-4D30-4488-A53F-74A7E60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79D37-2FCA-48F2-90C8-F8131E2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DB3B7-9499-4CAA-8C90-03792B7D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26BF8-02ED-474F-A261-8F1511CF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0DA77-3AAF-44F5-ADAE-08D558BD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F7D-E090-411A-9BC1-00ABB45E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229B4-69DF-4125-963E-ADCF8F23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CAD77-C876-468A-95D6-7C66C19D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F68EC-ABE7-40E5-9D64-D98ECF2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615AE-0F65-40E2-A89A-2483A924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8B7B-5F72-4502-B871-846827FD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2422B-6A21-4E6F-A9B7-1736C946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6C54-CAD7-4044-8F29-11029EF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C40F1-8719-4EA4-8B27-A5285BA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F9656-B9A3-4F65-A8F8-9C7B1A90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E6ED3-4BFC-4268-AF1F-2C04D80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942D-C156-4464-9FC9-A551D71C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E421D-AE3B-44C6-A487-3274729F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8CAC0-7578-4E8E-995B-B7ECEDD0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DEAE-B84D-467D-BCA0-A6C2A1EB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CC978-372D-4D65-A270-7FD3BC26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0C8C9-FC6B-4C98-97BB-ED097BB0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D1E3E-8F86-4B0E-853B-2E9BFAD7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2A13D-6506-4219-A806-0FB7F4F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2523A-2451-4133-A7F6-52175874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90998-94D5-4125-9D76-380B36C9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8D4CF-8817-48B5-8F90-33EEFFB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C0D6-0EAE-4B33-8BC4-097C7B3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F0C97-23B3-41B6-A64F-B61E5F7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0B1EF-C152-4802-A625-AA8B9D5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7926B-CF5F-47B0-B6BA-EED8F5D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FAB0C-E9FA-485D-A4A8-0A66731C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346C1-9F10-45D9-9216-2D0D3BD0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732F-8C4C-4035-B7E3-7C2F06B3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753D-5471-4323-8783-F37BA62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17F0-1F96-454D-B8C5-6856C67E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7D08-EEB1-48AD-9F98-EF2310A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BB91-351C-4F18-A093-4187269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C5D-E5E6-4E97-8CF6-EA59D453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515C-7407-4401-8CD9-C0D0BA0C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4100-EC30-428A-BCDA-5C4DBF8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2E7-DE16-4A1A-BC47-7DAE47ED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501-7EAF-48EF-932E-C6CE7932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ED15-EEC6-4CF9-A55A-C50B575F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EC40-25EE-4041-9D91-8D9DDBAD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366C-DA3E-4ACE-A5AB-1AE2EB27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8C65-41AB-4250-9606-3640F7E5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5173-5D98-4E77-974D-F34D911D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975E-AFD8-4589-A114-BE15881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7E3-B025-4DFD-85BD-CFC0F0F0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7B90-9D92-45C3-B6C9-1538AF25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A8A1-6433-49E9-AD33-6B3DC56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AA83-EDC3-40E5-AB4B-8757FEA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7FA9-F185-4A88-B2BD-6AAE1B9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C53A-B288-4B03-AE12-1E8D60AB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0E72-9999-41C8-BA79-5848C790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77B5-9BB8-4164-BF99-19BCFF17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D728-3659-427C-A7AB-194FEA94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5D6AB-5320-4E00-8629-1A75664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A10C-19D3-4947-BC42-668377AD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1DA-6080-4850-98CC-8E2340D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25F7-17DF-4DD7-AD1F-65CCD3F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0F99-0DA8-4871-BD6D-9C07BEF8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1A74B-852B-4861-97EF-DB157CBE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34412-920E-42B4-BB85-88135B7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41D1-371A-4F3F-895F-EBC6F75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CBA7-2C14-4EB9-85D7-E7D6ACA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E186D-BD1D-46BE-94E7-0C865F18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7D94-140B-4A80-A11E-2D92CDE0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8B1F-4D58-495A-9A7F-F5054D7B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B6F7-DE72-49DB-B445-2EAF6F67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3A0-101B-42A3-9DDA-0C7871C5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3D1E2-096B-45E3-87BC-C6ADC357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6DC39-3597-4CDD-83D1-A5714AB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C765-2712-4EAE-AB72-1B3C5AF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7417-5665-4262-A899-BF0C4A51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1BEC-31CE-4970-A596-B72DBAC4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5AED-77DD-4DB6-B28D-57AE1AE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83C9-5B4D-425C-9A2C-021EB3C6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473DA-CE10-4CA1-A11E-165A607D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0F7B6-7AAF-41A7-9497-E754E2C5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4B35-B9B8-4897-AC8F-ECD8B20C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2BB-194D-4295-8030-06991B9D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EDAC-5FFA-4500-B394-E3AD7933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8344-A899-4B16-9B7D-00E14ED9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8B34-9F93-492A-8AF7-39D9B707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1DB6E-EE89-4AB0-9D46-FDFE74D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E909-EA69-4FD0-9767-09BF22CE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A180-0472-4181-B9F2-EFB0BA9B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D1A6-8632-4D8A-996A-2F1D1D4B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CDE2A-0703-4774-AB5D-9E8291E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A6CE8-DAFB-4109-92F2-5C26006D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C7755-80BA-47FF-9BAB-6CA6553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85A-ABDA-4024-B6B5-64CDDFE6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A54D-EDFD-4DAD-BF20-064266EE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797B-5276-4FF5-B06E-F42EA0C1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DC10-2127-4742-AB03-6A029110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B2D6-0A33-432A-9D29-5F3CD4AE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35C4E-9157-445D-B0E7-D6D56F02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5D325-FF2B-43FB-B02C-0A689A6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23E80-9E62-4FBD-9ECD-25657515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F13B-451D-4FBB-9CA1-1276D989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E8146-C76B-4827-87C2-C5C1F312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429EF-F52D-4582-9B0C-FED9CED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018-5694-401E-BE17-CB6512A7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B2586-A085-4BC2-AF33-9BBEF42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F2A2A-A3D6-4E72-9C20-13C1187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E01D-C2A2-41BA-A450-FC1D87AE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F73E-C938-4527-A0B3-9D1CC147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E531-B21A-4B08-9D1E-A7CBA09A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ACAB6-E584-4F49-8C49-11BFABF6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DC3F-7116-4510-A01C-4ED6C92E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6C95-C110-4A33-9FD9-5B4527A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EC0CD-E7C1-45B9-97ED-B6E6384D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1660F-531D-490C-BFFD-0FCBDE5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B17-A252-4BE2-953E-77ACBDFF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D52BD-5291-4CDA-8E3A-FAB058F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4D13-4B29-441B-BA92-7A3AC33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48421-E59A-482B-81DA-51F3730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1913-33B2-4ED8-B83F-061A346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9F76-DC99-4824-825E-F8FD594A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6AEA3-86FB-4CE3-911D-D61D23B0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37081-9DBE-4805-AB1C-BD7E4C08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79A32-35AA-46FC-94B7-D9E7432B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9010F-A6F0-4CE9-9E7D-ADEA7A40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6B99E-43D3-4957-B773-F86F3C59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49B7-E2D7-4402-AEF3-6956649A6B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9F5B-FA98-4A47-88FA-7D8120951A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6CA-E2C0-4D25-9792-FCD82B5378A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20B-74C9-466A-A93F-FF4124ED80C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204D-134F-489B-BF43-99428513BC2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77E5-9DC1-41BC-A0A4-124B2B447A2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0D9C-B357-4982-9EA8-E5ECBB3122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97FE-AD3E-419B-AA06-0891857C9CD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71EA-591A-4FA8-8EDA-949E9ECC40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FDC-25C7-4F8C-ACB6-A2B89A9E0CD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A865-8889-43FA-89DC-64375923F0D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7D3-15F5-422E-A41C-56FF0C79180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39116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ОСОБЕННОСТИ СУИЦИДАЛЬНОГО ПОВЕДЕНИЯ ДЕТЕЙ И ПОДРОСТКОВ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http://go2.imgsmail.ru/imgpreview?u=http%3A//www.lossofsoul.com/DEATH/suicide/70.jpg&amp;mb=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43280" y="3213000"/>
            <a:ext cx="3211560" cy="3179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8f85"/>
                </a:solidFill>
                <a:latin typeface="Georgia"/>
              </a:rPr>
              <a:t>Ситуационные </a:t>
            </a: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9e8f85"/>
                </a:solidFill>
                <a:latin typeface="Georgia"/>
              </a:rPr>
              <a:t> </a:t>
            </a: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признаки: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Человек может решиться на самоубийство, если он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1. Социально изолирован (не имеет друзей или имеет только одного друга), чувствует себя отверженным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. Живет в нестабильном состоянии (серьезный кризис в семье, в отношениях к родителям или родителей друг с другом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3. Ощущает себя жертвой насилия – физического, сексуального или эмоционального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4. Предпринимал попытку суицида ране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5. Имеет склонность к самоубийству вследствие того, что оно совершалось кем-то из друзей, знакомых или членов семь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. 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нес тяжелую потерю (смерть кого-то из близких, развод родителей)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404280"/>
            <a:ext cx="85345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Внешний вид и поведение подростка, склонного к суици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0920" y="1557000"/>
            <a:ext cx="6121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игательное возбужден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мление к самоповреждению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ряшливость в одежд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пущенный вид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кспрессивно- патетическ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ы поведения (заламывание рук, стоны, рыдания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грессивное повед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H:\Documents and Settings\Ольга\Мои документы\Мои рисунки\Суицид\suicid-kak-predotvratit-samoubiistvo[1].jpg"/>
          <p:cNvPicPr/>
          <p:nvPr/>
        </p:nvPicPr>
        <p:blipFill>
          <a:blip r:embed="rId1"/>
          <a:stretch/>
        </p:blipFill>
        <p:spPr>
          <a:xfrm>
            <a:off x="6500880" y="2428920"/>
            <a:ext cx="2266920" cy="32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Нарушение психических процесс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ышление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торможенность мышле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рачные мысл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вязчивые мысли о смер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нимание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способность сосредоточить вним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b9899"/>
                </a:solidFill>
                <a:latin typeface="Georgia"/>
              </a:rPr>
              <a:t>Эмоциональные нарушени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кука, грусть, унын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грюм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лобность, раздражительн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рчлив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раждебное отношений к окружающи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зразличное отношение к себе, окружающи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евога (немотивированная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1265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130d"/>
                </a:solidFill>
                <a:latin typeface="Georgia"/>
              </a:rPr>
              <a:t>Динамика развития суицидального поведе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1699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ервая стадия – </a:t>
            </a:r>
            <a:r>
              <a:rPr b="0" lang="ru-RU" sz="3200" spc="-1" strike="noStrike">
                <a:solidFill>
                  <a:srgbClr val="00a3d6"/>
                </a:solidFill>
                <a:latin typeface="Georgia"/>
              </a:rPr>
              <a:t>стадия  вопросов о смерти и смысле жизн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торая стадия – </a:t>
            </a:r>
            <a:r>
              <a:rPr b="0" lang="ru-RU" sz="3200" spc="-1" strike="noStrike">
                <a:solidFill>
                  <a:srgbClr val="00a3d6"/>
                </a:solidFill>
                <a:latin typeface="Georgia"/>
              </a:rPr>
              <a:t>суицидальные замысл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ретья стадия – </a:t>
            </a:r>
            <a:r>
              <a:rPr b="0" lang="ru-RU" sz="3200" spc="-1" strike="noStrike">
                <a:solidFill>
                  <a:srgbClr val="00a3d6"/>
                </a:solidFill>
                <a:latin typeface="Georgia"/>
              </a:rPr>
              <a:t>суицидальные намерения  и собственно суицидальная попытк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Факторы, ведущие к самоубийству среди подростк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39640" y="1699920"/>
            <a:ext cx="7777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блемы семь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понимание со стороны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фликты с родителям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лкоголизм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мерть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од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моциональная депревац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стокое обращение, насил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уважения, теплых семейных отнош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Факторы, ведущие к самоубийству среди подростк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68360" y="1699920"/>
            <a:ext cx="609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нфликты в школе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учителям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одноклассникам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оляция (бойкот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чностные особенност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езответная любовь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отношени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ыв отношени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центуация характе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b9899"/>
                </a:solidFill>
                <a:latin typeface="Georgia"/>
              </a:rPr>
              <a:t>Антисуицидальные факторы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94920" y="1844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желание вызывать отрицательные переживание у близких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увство долга перед родителям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лигиозность (грех самоубийства)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ичие нереализованных планов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юбовь к жизн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68360" y="40464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уицид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 намеренное лишение себя жизни ил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опытка нанести себе травмы, несовместимые с жизнью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Суициды делятся на три основные группы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just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Истинный суицид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(направляется желанием умереть, не бывает спонтанным. Ему предшествует угнетенное настроение и депрессивное состояние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just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Демонстративный суицид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(не связан с желанием умереть, а является способом обратить внимание на свои проблемы, позвать на помощь, вести диалог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just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Скрытый суицид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(косвенное самоубийство. Это действие сопровождающееся высокой вероятностью летального исхода. Это суицидально-обусловленное поведение: занятия экстремальными видами спорта, употребление психоактивных веществ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МИРОВОЙ СТАТИСТИКЕ БОЛЬШЕ ВСЕГО САМОУБИЙСТВ РЕГИСТРИРУЕТСЯ ОСЕНЬЮ И ВЕСНОЙ, ОСОБЕННО ВЕСНОЙ, КОГДА ЧЕЛОВЕЧЕСКИЕ НЕСЧАСТЬЯ КОНТРАСТИРУЮТ С ЦВЕТЕНИЕМ ОКРУЖАЮЩЕЙ ПРИРОДЫ. РЕЗКОЕ НЕСООТВЕТСТВИЕ ВЕСЕННЕГО РАДУЮЩЕГОСЯ МИРА И ОТЧАЯННОГО СОСТОЯНИЯ ДУШИ МОЖЕТ ПРОВОЦИРОВАТЬ САМОУБИЙСТВА.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УРОВЕНЬ СУИЦИДОВ В АПРЕЛЕ ВЫШЕ ПРИМЕРНО НА 120%, ЧЕМ СРЕДНЕГОДОВОЙ. СУИЦИДЫ УЧАЩАЮТСЯ ВО ВРЕМЯ РОЖДЕСТВЕНСКИХ ПРАЗДНИКОВ («СЧАСТЛИВЫЙ СЕЗОН» НЕ ПРИНОСИТ ОЖИДАЕМОЙ РАДОСТИ)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b9899"/>
                </a:solidFill>
                <a:latin typeface="Georgia"/>
              </a:rPr>
              <a:t>Статистика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4"/>
          <p:cNvSpPr/>
          <p:nvPr/>
        </p:nvSpPr>
        <p:spPr>
          <a:xfrm>
            <a:off x="1692360" y="260280"/>
            <a:ext cx="564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46b86"/>
                </a:solidFill>
                <a:latin typeface="Times New Roman"/>
              </a:rPr>
              <a:t>Стати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611280" y="1844640"/>
            <a:ext cx="7921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% после неудачной попытки суицида в течении двух лет повторяют ее и достигают желаем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% покончивших с собой, пытались сделать это в прошлом по крайней мере одна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11280" y="4581360"/>
            <a:ext cx="77770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6% покончивших с собой, один из родителей был самоубий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b9899"/>
                </a:solidFill>
                <a:latin typeface="Georgia"/>
              </a:rPr>
              <a:t>Подростковый суицид</a:t>
            </a:r>
            <a:endParaRPr b="0" lang="en-US" sz="4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179280" y="1268280"/>
            <a:ext cx="856944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 последнее время самоубийства среди подростков выросло в 3 раза. Основные причины суицид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а) неразделенная любовь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) конфликты с родителями, сверстниками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) страх перед будущим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) одиночество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годно каждый двенадцатый подросток в возрасте 15-19 лет пытается совершить попытку самоуби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75% зарегистрированных суицидов это дети из вполне обеспеченных и благополучных семей. Все больше случаев суицида фиксируется в таких экономически благополучных странах, как Швеция, Норвегия, Яп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4"/>
          <p:cNvSpPr/>
          <p:nvPr/>
        </p:nvSpPr>
        <p:spPr>
          <a:xfrm>
            <a:off x="1785960" y="285840"/>
            <a:ext cx="67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46b86"/>
                </a:solidFill>
                <a:latin typeface="Times New Roman"/>
              </a:rPr>
              <a:t>Подростковый суици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Causes-For-Teenage-Suicide"/>
          <p:cNvPicPr/>
          <p:nvPr/>
        </p:nvPicPr>
        <p:blipFill>
          <a:blip r:embed="rId1"/>
          <a:stretch/>
        </p:blipFill>
        <p:spPr>
          <a:xfrm>
            <a:off x="250920" y="1844640"/>
            <a:ext cx="2928960" cy="43880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8"/>
          <p:cNvSpPr/>
          <p:nvPr/>
        </p:nvSpPr>
        <p:spPr>
          <a:xfrm>
            <a:off x="3419640" y="1844640"/>
            <a:ext cx="51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казывает практика, очень часто причина для самоубийства бывает надумана или совсем пустяковая. Она служит лишь последней каплей для отчаявшегося подростка. А истинная причина кроется далеко внутри, и родители могут ее даже не замечать. Подростки, которых удалось спасти, рассказывают, что мысль о самоубийстве посещала их довольно часто. Сначала это была лишь фантазия, но когда слишком часто об этом размышляешь, то идея уже не кажется такой абсурдной и постепенно фантазия приобретала все более реальн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ая выноска 6"/>
          <p:cNvSpPr/>
          <p:nvPr/>
        </p:nvSpPr>
        <p:spPr>
          <a:xfrm rot="20686200">
            <a:off x="746280" y="2376000"/>
            <a:ext cx="1465200" cy="1224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г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5628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8f85"/>
                </a:solidFill>
                <a:latin typeface="Georgia"/>
              </a:rPr>
              <a:t>Причины самоубийств у подростков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528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щей причиной суицида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циально-психологическая дезадаптация,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возникающая под влиянием острых психотравмирующих ситуаций, нарушения взаимодействия личности с ее ближайшим окружением. Однако для подростков это чаще всего не тотальные нарушения, а нарушения общения с близкими, с семье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59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e8f85"/>
                </a:solidFill>
                <a:latin typeface="Georgia"/>
              </a:rPr>
              <a:t>Словесные признаки</a:t>
            </a:r>
            <a:r>
              <a:rPr b="0" lang="en-GB" sz="48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00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Часто говорят о своем душевном состоянии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Я решил покончить с собой»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В следующий понедельник меня уже не будет в живых…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Лучше умереть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Пожил и хватит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Ненавижу свою жизнь!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Единственный выход - умереть!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Я не могу так дальше жить»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Больше ты меня не увидишь!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Тебе больше не придется обо мне волноваться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Я больше не буду ни для кого проблемой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 Много шутят на тему самоубийств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 Проявляют нездоровую заинтересованность вопросами смерт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Поведенческие </a:t>
            </a:r>
            <a:r>
              <a:rPr b="1" lang="ru-RU" sz="4400" spc="-1" strike="noStrike">
                <a:solidFill>
                  <a:srgbClr val="9e8f85"/>
                </a:solidFill>
                <a:latin typeface="Georgia"/>
              </a:rPr>
              <a:t> </a:t>
            </a: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признаки: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755640" y="1557000"/>
            <a:ext cx="75722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. Раздавать другим вещи, имеющие большую личную значимость, окончательно приводить в порядок дела, мириться с давними врагами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2. Демонстрировать радикальные перемены в поведении, такие, как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в еде — есть слишком мало или слишком много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во сне — спать слишком мало или слишком много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во внешнем виде — стать неряшливым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замкнуться от семьи и друзей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быть чрезмерно деятельным или, наоборот, безразличным к окружающему миру; ощущать попеременно то внезапную эйфорию, то приступы отчаяния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3. Проявлять признаки беспомощности, безнадежности и отчаяния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7:55:38Z</dcterms:created>
  <dc:creator>Админ</dc:creator>
  <dc:description/>
  <dc:language>en-US</dc:language>
  <cp:lastModifiedBy>USER-002</cp:lastModifiedBy>
  <dcterms:modified xsi:type="dcterms:W3CDTF">2019-10-03T05:38:52Z</dcterms:modified>
  <cp:revision>106</cp:revision>
  <dc:subject/>
  <dc:title>Слайд 1</dc:title>
</cp:coreProperties>
</file>