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9AC5-B89A-4A27-839E-85771E652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C37-2F5F-48D6-AA85-6BF59F0AA1B4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007-875B-43E5-B30D-17E79DD7CD2F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E80-13C5-45F9-90B2-DA9395A9D217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8BE-4552-4CBB-A1B5-6664DEE3ABCA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5DA0-F57B-467D-AB94-854ACDCF4A6E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077F-39D4-4BA6-9632-EA7C6C7D1E9C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2F6-CDA8-4EAC-BF66-F57BFCA72854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8314-E88E-4FAB-A301-34692C7F7DF0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BC5-B138-4432-9B3C-2399AF5A0377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42A-5772-4D18-84AC-44F45A36049A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B84-A97F-4F75-832F-3123281E70C4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46D4-F604-4EB2-9ED2-010532A01685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7E7A-59B3-48EB-8EE9-EC7E698888E9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845-6915-42B8-8226-5C181D7840B1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D04D-DEC3-4325-A40C-566367FB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70F3-CCB3-4557-96FC-33196916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9888-2776-4943-8C28-10B94083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C488-0639-4A1F-8BFF-612A5E8F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4260-C191-44DC-8564-7BD825FE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60D6-DDEE-4DF7-9083-501A814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E338-0E88-49E9-9A27-5B16DECB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D6EF-A23D-4017-9825-885261ED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3C42-9071-4093-A143-1C62ED8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1FF8-24C0-467A-A0C2-DBFE71B3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ADF2-B207-4787-9A2A-52694C6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B04D-3C2C-4EED-9EE5-1362D705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0DB-6A74-4818-9B0C-D81756190938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692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такое классный час?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о-первых,  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внеурочная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оспитательная деятельность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о-вторых,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фронтальная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(массовая)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работа с деть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-третьих, 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гибкая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по составу и структуре форма воспитательного взаимодейств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-четвёртых, 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общение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классного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руководителя с детьми, где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приоритетную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роль играет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педагог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4" descr="C:\Users\Serg\Desktop\20211218_115213.jpg"/>
          <p:cNvPicPr/>
          <p:nvPr/>
        </p:nvPicPr>
        <p:blipFill>
          <a:blip r:embed="rId1"/>
          <a:stretch/>
        </p:blipFill>
        <p:spPr>
          <a:xfrm>
            <a:off x="5796000" y="28440"/>
            <a:ext cx="2687760" cy="2017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C:\Users\Serg\Desktop\20220305_111128.jpg"/>
          <p:cNvPicPr/>
          <p:nvPr/>
        </p:nvPicPr>
        <p:blipFill>
          <a:blip r:embed="rId2"/>
          <a:stretch/>
        </p:blipFill>
        <p:spPr>
          <a:xfrm>
            <a:off x="5219640" y="2276640"/>
            <a:ext cx="25639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C:\Users\Serg\Desktop\IMG-812d24189d213306fa2e0cdbb6272e50-V.jpg"/>
          <p:cNvPicPr/>
          <p:nvPr/>
        </p:nvPicPr>
        <p:blipFill>
          <a:blip r:embed="rId1"/>
          <a:stretch/>
        </p:blipFill>
        <p:spPr>
          <a:xfrm>
            <a:off x="4067280" y="4503600"/>
            <a:ext cx="3485880" cy="2376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C:\Users\Serg\Desktop\IMG-f266d88078773ec5fff1f17a0278ded6-V.jpg"/>
          <p:cNvPicPr/>
          <p:nvPr/>
        </p:nvPicPr>
        <p:blipFill>
          <a:blip r:embed="rId2"/>
          <a:stretch/>
        </p:blipFill>
        <p:spPr>
          <a:xfrm>
            <a:off x="539640" y="33336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C:\Users\Serg\Desktop\классный час\IMG-790ee4f88980a73d0f1415f57f5dcf90-V.jpg"/>
          <p:cNvPicPr/>
          <p:nvPr/>
        </p:nvPicPr>
        <p:blipFill>
          <a:blip r:embed="rId3"/>
          <a:stretch/>
        </p:blipFill>
        <p:spPr>
          <a:xfrm>
            <a:off x="250920" y="3284640"/>
            <a:ext cx="3628800" cy="2408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C:\Users\Serg\Desktop\классный час\IMG-65af635e47266b5da4604eb065c56576-V.jpg"/>
          <p:cNvPicPr/>
          <p:nvPr/>
        </p:nvPicPr>
        <p:blipFill>
          <a:blip r:embed="rId4"/>
          <a:stretch/>
        </p:blipFill>
        <p:spPr>
          <a:xfrm>
            <a:off x="4427640" y="476280"/>
            <a:ext cx="3600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C:\Users\Serg\Desktop\20220323_125257.jpg"/>
          <p:cNvPicPr/>
          <p:nvPr/>
        </p:nvPicPr>
        <p:blipFill>
          <a:blip r:embed="rId1"/>
          <a:stretch/>
        </p:blipFill>
        <p:spPr>
          <a:xfrm rot="5223600">
            <a:off x="158400" y="993600"/>
            <a:ext cx="3095280" cy="2320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C:\Users\Serg\Desktop\20220323_143031.jpg"/>
          <p:cNvPicPr/>
          <p:nvPr/>
        </p:nvPicPr>
        <p:blipFill>
          <a:blip r:embed="rId2"/>
          <a:stretch/>
        </p:blipFill>
        <p:spPr>
          <a:xfrm rot="6088200">
            <a:off x="2680920" y="4939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C:\Users\Serg\Desktop\20220323_125632.jpg"/>
          <p:cNvPicPr/>
          <p:nvPr/>
        </p:nvPicPr>
        <p:blipFill>
          <a:blip r:embed="rId3"/>
          <a:stretch/>
        </p:blipFill>
        <p:spPr>
          <a:xfrm rot="10518600">
            <a:off x="411120" y="4412880"/>
            <a:ext cx="3021120" cy="192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C:\Users\Serg\Desktop\тоня\SAM_0290.JPG"/>
          <p:cNvPicPr/>
          <p:nvPr/>
        </p:nvPicPr>
        <p:blipFill>
          <a:blip r:embed="rId4"/>
          <a:stretch/>
        </p:blipFill>
        <p:spPr>
          <a:xfrm>
            <a:off x="6227640" y="2087640"/>
            <a:ext cx="2130480" cy="2392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C:\Users\Serg\Desktop\тоня\SAM_0612.JPG"/>
          <p:cNvPicPr/>
          <p:nvPr/>
        </p:nvPicPr>
        <p:blipFill>
          <a:blip r:embed="rId5"/>
          <a:srcRect l="0" t="18586" r="17795" b="0"/>
          <a:stretch/>
        </p:blipFill>
        <p:spPr>
          <a:xfrm>
            <a:off x="5356080" y="0"/>
            <a:ext cx="2754360" cy="2046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C:\Users\Serg\Desktop\фото14\DSC02826.JPG"/>
          <p:cNvPicPr/>
          <p:nvPr/>
        </p:nvPicPr>
        <p:blipFill>
          <a:blip r:embed="rId6"/>
          <a:stretch/>
        </p:blipFill>
        <p:spPr>
          <a:xfrm>
            <a:off x="2990880" y="2378160"/>
            <a:ext cx="3162240" cy="2101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C:\Users\Serg\Desktop\фото14\DSC02828.JPG"/>
          <p:cNvPicPr/>
          <p:nvPr/>
        </p:nvPicPr>
        <p:blipFill>
          <a:blip r:embed="rId7"/>
          <a:stretch/>
        </p:blipFill>
        <p:spPr>
          <a:xfrm>
            <a:off x="4051440" y="4511520"/>
            <a:ext cx="40590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7905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25814"/>
                </a:solidFill>
                <a:latin typeface="Calibri"/>
              </a:rPr>
              <a:t>СПАСИБО 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25814"/>
                </a:solidFill>
                <a:latin typeface="Calibri"/>
              </a:rPr>
              <a:t>ЗА ВНИМАНИЕ!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836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едагогические задачи классного часа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752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Обогащение сознания учащихся знаниями о природе, обществе, технике, человек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Усвоение детьми умений и навыков познавательной и практической деятельности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Формирование эмоционально-чувственной сферы и ценностных отношений личности ребёнк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Содействие становлению и проявлению субъектности и индивидуальности учащихся, его творческих способносте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Формирование классного коллектива как благоприятной среды развития и жизнедеятельности школьников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Рисунок 3" descr="C:\Users\Serg\Desktop\классный час\фото14\DSC02825.JPG"/>
          <p:cNvPicPr/>
          <p:nvPr/>
        </p:nvPicPr>
        <p:blipFill>
          <a:blip r:embed="rId1"/>
          <a:srcRect l="0" t="29400" r="37985" b="0"/>
          <a:stretch/>
        </p:blipFill>
        <p:spPr>
          <a:xfrm>
            <a:off x="5940360" y="4568760"/>
            <a:ext cx="23400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8520" cy="750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Функции классного часа: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588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просветительск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дает возможность расширить круг тех знаний учеников, которые не нашли отражения в учебных программах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ориентирующ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способствует формированию отношения к окружающему миру, выработке иерархии материальных и духовных ценностей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направляющ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призвана переводить обсуждение того или иного явления в рамки реального опыта учащихся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формирующ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формирует у учеников навыки обдумывания и оценки своих поступков и самих себя, навыки ведения диалога и построения высказывания, отстаивания своего мнени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92720" cy="79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ипы классных часов.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ff"/>
                </a:solidFill>
                <a:latin typeface="Calibri"/>
              </a:rPr>
              <a:t>Нравственный классный час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Цели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Просвещение учащихс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с целью выработки собственных нравственных взглядов, суждений, оцено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Изучение, осмысление и анализ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нравственного опыта поколен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Критическое осмысление и анализ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собственных нравственных поступков, поступков сверстников и одноклассников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Развитие нравственных личностных качеств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(доброта, желание помогать людям, умение признавать свои ошибки, отстаивать т. з и уважать чужую т. з., и др.) (нельзя проводить часто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Интеллектуально-познавательный классный час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вать познавательный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интерес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учащихс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вать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умение 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сознавать свои индивидуальные возможности, стремление к самосовершенствованию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Рисунок 3" descr="C:\Users\Serg\Desktop\IMG-0d0ee559a28e7e36358f8933b3a6bfa3-V.jpg"/>
          <p:cNvPicPr/>
          <p:nvPr/>
        </p:nvPicPr>
        <p:blipFill>
          <a:blip r:embed="rId1"/>
          <a:stretch/>
        </p:blipFill>
        <p:spPr>
          <a:xfrm>
            <a:off x="3048120" y="3933720"/>
            <a:ext cx="41162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1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Тематический классный час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Цел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вать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кругозор 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учащихс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Способствовать духовному развитию учащихся,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формированию их интересов и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 духовных потребностей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Рисунок 3" descr="C:\Users\Serg\Desktop\20220305_114024.jpg"/>
          <p:cNvPicPr/>
          <p:nvPr/>
        </p:nvPicPr>
        <p:blipFill>
          <a:blip r:embed="rId1"/>
          <a:stretch/>
        </p:blipFill>
        <p:spPr>
          <a:xfrm>
            <a:off x="755640" y="3789360"/>
            <a:ext cx="43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Информационный </a:t>
            </a:r>
            <a:br>
              <a:rPr sz="3200"/>
            </a:b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классный час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Цел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Формирование у учащихся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сопричастност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к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событиям и явлениям общественно-политической жизни своей страны, своего города, район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Применение знаний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, полученных на уроках истории и обществознани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Формирование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своего отношени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к происходящему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тие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исследовательских умений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Рисунок 3" descr="C:\Users\Serg\Desktop\классный час\20220323_142904.jpg"/>
          <p:cNvPicPr/>
          <p:nvPr/>
        </p:nvPicPr>
        <p:blipFill>
          <a:blip r:embed="rId1"/>
          <a:srcRect l="0" t="16367" r="-791" b="0"/>
          <a:stretch/>
        </p:blipFill>
        <p:spPr>
          <a:xfrm>
            <a:off x="6372360" y="549360"/>
            <a:ext cx="206676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C:\Users\Serg\Desktop\классный час\20220323_143239.jpg"/>
          <p:cNvPicPr/>
          <p:nvPr/>
        </p:nvPicPr>
        <p:blipFill>
          <a:blip r:embed="rId2"/>
          <a:srcRect l="0" t="14735" r="-435" b="0"/>
          <a:stretch/>
        </p:blipFill>
        <p:spPr>
          <a:xfrm>
            <a:off x="3965400" y="23760"/>
            <a:ext cx="240696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62560" cy="679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Формы классного часа: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Беседа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Диспут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Встречи с интересными людьм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Викторины по различным областям знани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Дискуссии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КВНы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Интерактивные игры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Игры-путешествия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Тренинги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Читательские конференци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Досугово – развлекательный классный час </a:t>
            </a:r>
            <a:r>
              <a:rPr b="0" i="1" lang="ru-RU" sz="2400" spc="-1" strike="noStrike">
                <a:solidFill>
                  <a:srgbClr val="2f2b20"/>
                </a:solidFill>
                <a:latin typeface="Calibri"/>
              </a:rPr>
              <a:t>(культпоход в театр, музей, концертные залы, выставки, концерты, огоньки, инсценировки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3" name="Рисунок 3" descr="C:\Users\Serg\Desktop\20211124_160451.jpg"/>
          <p:cNvPicPr/>
          <p:nvPr/>
        </p:nvPicPr>
        <p:blipFill>
          <a:blip r:embed="rId1"/>
          <a:stretch/>
        </p:blipFill>
        <p:spPr>
          <a:xfrm>
            <a:off x="4859280" y="-4680"/>
            <a:ext cx="2968560" cy="2281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C:\Users\Serg\Desktop\IMG-5cd48ba03b55309941ad5953a70b006f-V.jpg"/>
          <p:cNvPicPr/>
          <p:nvPr/>
        </p:nvPicPr>
        <p:blipFill>
          <a:blip r:embed="rId2"/>
          <a:srcRect l="0" t="0" r="0" b="24904"/>
          <a:stretch/>
        </p:blipFill>
        <p:spPr>
          <a:xfrm>
            <a:off x="5292720" y="3067200"/>
            <a:ext cx="26575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3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Действия при подготовке классного часа: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Определить тему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, сформулировать цель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Составить план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(сценарий)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Подобрать соответствующий материал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, наглядные пособия, музыкальное оформление и т. п. по теме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Дать задание ученикам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для предварительной подготовки (если это предусмотрено планом)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Определить степень целесообразности участия в классном часе других педагогов или родителей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8:37:30Z</dcterms:created>
  <dc:creator>Антонова</dc:creator>
  <dc:description/>
  <dc:language>en-US</dc:language>
  <cp:lastModifiedBy>Serg</cp:lastModifiedBy>
  <cp:lastPrinted>2012-03-27T06:38:21Z</cp:lastPrinted>
  <dcterms:modified xsi:type="dcterms:W3CDTF">2023-12-13T11:00:01Z</dcterms:modified>
  <cp:revision>29</cp:revision>
  <dc:subject/>
  <dc:title>Тема  педсовета:  «Классный час как эффективная форма воспитания классного коллектива в системе воспитательной работы в школе».</dc:title>
</cp:coreProperties>
</file>