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B33C-13FB-4893-96E5-E310874DAC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BD1A-EB10-40CF-8FE9-C84689CAA0F6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5627-A84A-434E-B9C1-96E8CF71B984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F20E-854D-4F01-9824-025D6CF643B5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9CB0-7CCF-4D17-850E-9E2743BEE92E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DF51-635B-4A6F-B90B-6FF0B377126A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6D3F-059A-42D6-8B39-D31327F2605C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CCA5-95A8-409B-81BC-C10EE62A3916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A394-E4A4-424E-A99C-6F7470DD3902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6A4A-8223-4963-B177-C19513F71235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B55F-E54C-4A02-AB17-B0571840EEFF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22CA-F0B1-48C6-A821-075FB4AE9961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FB1C-FBFF-414D-8E41-786A13F1B2F0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EE8D-4E66-4CE1-B2CE-C053E447DCB0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DC06-9FB4-45A0-904B-9BCD6874FF9D}" type="slidenum">
              <a:rPr b="0" lang="ru-RU" sz="1200" spc="-1" strike="noStrike">
                <a:solidFill>
                  <a:srgbClr val="2f2b2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977A-EFFF-421E-B035-0BB15609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5A902-C44B-4863-A1C2-7652D651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FF6B-327C-48E3-8BDC-4A5F6D62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EE1F-72E9-45C6-84C3-A23AF902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BA25-6B8C-4BF1-80B4-5B3F38C3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4857-90C6-4B7A-8DB5-DE404582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E172-AE7E-497E-81E1-B999928B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0AFA-4542-4E33-BDCF-C4B1703C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037A-D382-40D3-8658-7EFFCE54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B424-F76C-4255-B3EA-43D7A56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F249-DB0F-437E-9101-ED475C71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5588-0506-4FCD-8B53-C6BFD738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829-A28D-47ED-9D99-AA379DC0215B}" type="slidenum">
              <a:rPr b="0" lang="ru-RU" sz="1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003640" cy="692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Что такое классный час?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0920" y="83628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о-первых,  это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внеурочная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оспитательная деятельность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о-вторых,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это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фронтальная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(массовая)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работа с деть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-третьих, это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гибкая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по составу и структуре форма воспитательного взаимодейств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В-четвёртых, это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общение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классного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руководителя с детьми, где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приоритетную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 роль играет </a:t>
            </a:r>
            <a:r>
              <a:rPr b="1" i="1" lang="ru-RU" sz="2800" spc="-1" strike="noStrike" u="sng">
                <a:solidFill>
                  <a:srgbClr val="2f2b20"/>
                </a:solidFill>
                <a:uFillTx/>
                <a:latin typeface="Calibri"/>
              </a:rPr>
              <a:t>педагог</a:t>
            </a:r>
            <a:r>
              <a:rPr b="1" i="1" lang="ru-RU" sz="2800" spc="-1" strike="noStrike">
                <a:solidFill>
                  <a:srgbClr val="2f2b2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29040" indent="-21924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2" name="Picture 4" descr="C:\Users\Serg\Desktop\20211218_115213.jpg"/>
          <p:cNvPicPr/>
          <p:nvPr/>
        </p:nvPicPr>
        <p:blipFill>
          <a:blip r:embed="rId1"/>
          <a:stretch/>
        </p:blipFill>
        <p:spPr>
          <a:xfrm>
            <a:off x="5796000" y="28440"/>
            <a:ext cx="2687760" cy="2017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C:\Users\Serg\Desktop\20220305_111128.jpg"/>
          <p:cNvPicPr/>
          <p:nvPr/>
        </p:nvPicPr>
        <p:blipFill>
          <a:blip r:embed="rId2"/>
          <a:stretch/>
        </p:blipFill>
        <p:spPr>
          <a:xfrm>
            <a:off x="5219640" y="2276640"/>
            <a:ext cx="256392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C:\Users\Serg\Desktop\IMG-812d24189d213306fa2e0cdbb6272e50-V.jpg"/>
          <p:cNvPicPr/>
          <p:nvPr/>
        </p:nvPicPr>
        <p:blipFill>
          <a:blip r:embed="rId1"/>
          <a:stretch/>
        </p:blipFill>
        <p:spPr>
          <a:xfrm>
            <a:off x="4067280" y="4503600"/>
            <a:ext cx="3485880" cy="23767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C:\Users\Serg\Desktop\IMG-f266d88078773ec5fff1f17a0278ded6-V.jpg"/>
          <p:cNvPicPr/>
          <p:nvPr/>
        </p:nvPicPr>
        <p:blipFill>
          <a:blip r:embed="rId2"/>
          <a:stretch/>
        </p:blipFill>
        <p:spPr>
          <a:xfrm>
            <a:off x="539640" y="333360"/>
            <a:ext cx="3340080" cy="2505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C:\Users\Serg\Desktop\классный час\IMG-790ee4f88980a73d0f1415f57f5dcf90-V.jpg"/>
          <p:cNvPicPr/>
          <p:nvPr/>
        </p:nvPicPr>
        <p:blipFill>
          <a:blip r:embed="rId3"/>
          <a:stretch/>
        </p:blipFill>
        <p:spPr>
          <a:xfrm>
            <a:off x="250920" y="3284640"/>
            <a:ext cx="3628800" cy="240804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C:\Users\Serg\Desktop\классный час\IMG-65af635e47266b5da4604eb065c56576-V.jpg"/>
          <p:cNvPicPr/>
          <p:nvPr/>
        </p:nvPicPr>
        <p:blipFill>
          <a:blip r:embed="rId4"/>
          <a:stretch/>
        </p:blipFill>
        <p:spPr>
          <a:xfrm>
            <a:off x="4427640" y="476280"/>
            <a:ext cx="3600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C:\Users\Serg\Desktop\20220323_125257.jpg"/>
          <p:cNvPicPr/>
          <p:nvPr/>
        </p:nvPicPr>
        <p:blipFill>
          <a:blip r:embed="rId1"/>
          <a:stretch/>
        </p:blipFill>
        <p:spPr>
          <a:xfrm rot="5223600">
            <a:off x="158400" y="993600"/>
            <a:ext cx="3095280" cy="2320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C:\Users\Serg\Desktop\20220323_143031.jpg"/>
          <p:cNvPicPr/>
          <p:nvPr/>
        </p:nvPicPr>
        <p:blipFill>
          <a:blip r:embed="rId2"/>
          <a:stretch/>
        </p:blipFill>
        <p:spPr>
          <a:xfrm rot="6088200">
            <a:off x="2680920" y="493920"/>
            <a:ext cx="2741760" cy="20556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C:\Users\Serg\Desktop\20220323_125632.jpg"/>
          <p:cNvPicPr/>
          <p:nvPr/>
        </p:nvPicPr>
        <p:blipFill>
          <a:blip r:embed="rId3"/>
          <a:stretch/>
        </p:blipFill>
        <p:spPr>
          <a:xfrm rot="10518600">
            <a:off x="411120" y="4412880"/>
            <a:ext cx="3021120" cy="19270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C:\Users\Serg\Desktop\тоня\SAM_0290.JPG"/>
          <p:cNvPicPr/>
          <p:nvPr/>
        </p:nvPicPr>
        <p:blipFill>
          <a:blip r:embed="rId4"/>
          <a:stretch/>
        </p:blipFill>
        <p:spPr>
          <a:xfrm>
            <a:off x="6227640" y="2087640"/>
            <a:ext cx="2130480" cy="23922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C:\Users\Serg\Desktop\тоня\SAM_0612.JPG"/>
          <p:cNvPicPr/>
          <p:nvPr/>
        </p:nvPicPr>
        <p:blipFill>
          <a:blip r:embed="rId5"/>
          <a:srcRect l="0" t="18586" r="17795" b="0"/>
          <a:stretch/>
        </p:blipFill>
        <p:spPr>
          <a:xfrm>
            <a:off x="5356080" y="0"/>
            <a:ext cx="2754360" cy="20462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C:\Users\Serg\Desktop\фото14\DSC02826.JPG"/>
          <p:cNvPicPr/>
          <p:nvPr/>
        </p:nvPicPr>
        <p:blipFill>
          <a:blip r:embed="rId6"/>
          <a:stretch/>
        </p:blipFill>
        <p:spPr>
          <a:xfrm>
            <a:off x="2990880" y="2378160"/>
            <a:ext cx="3162240" cy="21016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C:\Users\Serg\Desktop\фото14\DSC02828.JPG"/>
          <p:cNvPicPr/>
          <p:nvPr/>
        </p:nvPicPr>
        <p:blipFill>
          <a:blip r:embed="rId7"/>
          <a:stretch/>
        </p:blipFill>
        <p:spPr>
          <a:xfrm>
            <a:off x="4051440" y="4511520"/>
            <a:ext cx="405900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060280"/>
            <a:ext cx="7905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25814"/>
                </a:solidFill>
                <a:latin typeface="Calibri"/>
              </a:rPr>
              <a:t>СПАСИБО 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25814"/>
                </a:solidFill>
                <a:latin typeface="Calibri"/>
              </a:rPr>
              <a:t>ЗА ВНИМАНИЕ!</a:t>
            </a:r>
            <a:endParaRPr b="0" lang="en-US" sz="6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836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Педагогические задачи классного часа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752472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Обогащение сознания учащихся знаниями о природе, обществе, технике, человеке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Усвоение детьми умений и навыков познавательной и практической деятельности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Формирование эмоционально-чувственной сферы и ценностных отношений личности ребёнк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Содействие становлению и проявлению субъектности и индивидуальности учащихся, его творческих способностей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2f2b20"/>
                </a:solidFill>
                <a:latin typeface="Calibri"/>
              </a:rPr>
              <a:t>Формирование классного коллектива как благоприятной среды развития и жизнедеятельности школьников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Рисунок 3" descr="C:\Users\Serg\Desktop\классный час\фото14\DSC02825.JPG"/>
          <p:cNvPicPr/>
          <p:nvPr/>
        </p:nvPicPr>
        <p:blipFill>
          <a:blip r:embed="rId1"/>
          <a:srcRect l="0" t="29400" r="37985" b="0"/>
          <a:stretch/>
        </p:blipFill>
        <p:spPr>
          <a:xfrm>
            <a:off x="5940360" y="4568760"/>
            <a:ext cx="23400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8520" cy="750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Функции классного часа: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588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5e47"/>
                </a:solidFill>
                <a:latin typeface="Calibri"/>
              </a:rPr>
              <a:t>просветительская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- дает возможность расширить круг тех знаний учеников, которые не нашли отражения в учебных программах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5e47"/>
                </a:solidFill>
                <a:latin typeface="Calibri"/>
              </a:rPr>
              <a:t>ориентирующая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- способствует формированию отношения к окружающему миру, выработке иерархии материальных и духовных ценностей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5e47"/>
                </a:solidFill>
                <a:latin typeface="Calibri"/>
              </a:rPr>
              <a:t>направляющая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- призвана переводить обсуждение того или иного явления в рамки реального опыта учащихся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75e47"/>
                </a:solidFill>
                <a:latin typeface="Calibri"/>
              </a:rPr>
              <a:t>формирующая</a:t>
            </a:r>
            <a:r>
              <a:rPr b="1" lang="ru-RU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- формирует у учеников навыки обдумывания и оценки своих поступков и самих себя, навыки ведения диалога и построения высказывания, отстаивания своего мнени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392720" cy="792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Типы классных часов.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ccff"/>
                </a:solidFill>
                <a:latin typeface="Calibri"/>
              </a:rPr>
              <a:t>Нравственный классный час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Цели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Просвещение учащихся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с целью выработки собственных нравственных взглядов, суждений, оценок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Изучение, осмысление и анализ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нравственного опыта поколений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Критическое осмысление и анализ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собственных нравственных поступков, поступков сверстников и одноклассников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75e47"/>
                </a:solidFill>
                <a:latin typeface="Calibri"/>
              </a:rPr>
              <a:t>Развитие нравственных личностных качеств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(доброта, желание помогать людям, умение признавать свои ошибки, отстаивать т. з и уважать чужую т. з., и др.) (нельзя проводить часто)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Cambria"/>
              </a:rPr>
              <a:t>Интеллектуально-познавательный классный час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Развивать познавательный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интерес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учащихс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Развивать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умение 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осознавать свои индивидуальные возможности, стремление к самосовершенствованию.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Рисунок 3" descr="C:\Users\Serg\Desktop\IMG-0d0ee559a28e7e36358f8933b3a6bfa3-V.jpg"/>
          <p:cNvPicPr/>
          <p:nvPr/>
        </p:nvPicPr>
        <p:blipFill>
          <a:blip r:embed="rId1"/>
          <a:stretch/>
        </p:blipFill>
        <p:spPr>
          <a:xfrm>
            <a:off x="3048120" y="3933720"/>
            <a:ext cx="411624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4911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Cambria"/>
              </a:rPr>
              <a:t>Тематический классный час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Цели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Развивать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кругозор 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учащихс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Способствовать духовному развитию учащихся, </a:t>
            </a: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формированию их интересов и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 духовных потребностей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Рисунок 3" descr="C:\Users\Serg\Desktop\20220305_114024.jpg"/>
          <p:cNvPicPr/>
          <p:nvPr/>
        </p:nvPicPr>
        <p:blipFill>
          <a:blip r:embed="rId1"/>
          <a:stretch/>
        </p:blipFill>
        <p:spPr>
          <a:xfrm>
            <a:off x="755640" y="3789360"/>
            <a:ext cx="43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ccff"/>
                </a:solidFill>
                <a:latin typeface="Cambria"/>
              </a:rPr>
              <a:t>Информационный </a:t>
            </a:r>
            <a:br>
              <a:rPr sz="3200"/>
            </a:br>
            <a:r>
              <a:rPr b="1" i="1" lang="ru-RU" sz="3200" spc="-1" strike="noStrike">
                <a:solidFill>
                  <a:srgbClr val="99ccff"/>
                </a:solidFill>
                <a:latin typeface="Cambria"/>
              </a:rPr>
              <a:t>классный час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f2b20"/>
                </a:solidFill>
                <a:latin typeface="Calibri"/>
              </a:rPr>
              <a:t>Цели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Формирование у учащихся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сопричастности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к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событиям и явлениям общественно-политической жизни своей страны, своего города, района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Применение знаний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, полученных на уроках истории и обществознания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Формирование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своего отношения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к происходящему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Развитие </a:t>
            </a:r>
            <a:r>
              <a:rPr b="1" lang="ru-RU" sz="2200" spc="-1" strike="noStrike">
                <a:solidFill>
                  <a:srgbClr val="675e47"/>
                </a:solidFill>
                <a:latin typeface="Calibri"/>
              </a:rPr>
              <a:t>исследовательских умений</a:t>
            </a: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9" name="Рисунок 3" descr="C:\Users\Serg\Desktop\классный час\20220323_142904.jpg"/>
          <p:cNvPicPr/>
          <p:nvPr/>
        </p:nvPicPr>
        <p:blipFill>
          <a:blip r:embed="rId1"/>
          <a:srcRect l="0" t="16367" r="-791" b="0"/>
          <a:stretch/>
        </p:blipFill>
        <p:spPr>
          <a:xfrm>
            <a:off x="6372360" y="549360"/>
            <a:ext cx="2066760" cy="23619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C:\Users\Serg\Desktop\классный час\20220323_143239.jpg"/>
          <p:cNvPicPr/>
          <p:nvPr/>
        </p:nvPicPr>
        <p:blipFill>
          <a:blip r:embed="rId2"/>
          <a:srcRect l="0" t="14735" r="-435" b="0"/>
          <a:stretch/>
        </p:blipFill>
        <p:spPr>
          <a:xfrm>
            <a:off x="3965400" y="23760"/>
            <a:ext cx="2406960" cy="25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62560" cy="6793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Формы классного часа: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Беседа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Диспут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Встречи с интересными людьм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Викторины по различным областям знаний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Дискуссии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КВНы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Интерактивные игры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Игры-путешествия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Тренинги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Читательские конференции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Досугово – развлекательный классный час </a:t>
            </a:r>
            <a:r>
              <a:rPr b="0" i="1" lang="ru-RU" sz="2400" spc="-1" strike="noStrike">
                <a:solidFill>
                  <a:srgbClr val="2f2b20"/>
                </a:solidFill>
                <a:latin typeface="Calibri"/>
              </a:rPr>
              <a:t>(культпоход в театр, музей, концертные залы, выставки, концерты, огоньки, инсценировки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       </a:t>
            </a:r>
            <a:r>
              <a:rPr b="1" i="1" lang="ru-RU" sz="24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3" name="Рисунок 3" descr="C:\Users\Serg\Desktop\20211124_160451.jpg"/>
          <p:cNvPicPr/>
          <p:nvPr/>
        </p:nvPicPr>
        <p:blipFill>
          <a:blip r:embed="rId1"/>
          <a:stretch/>
        </p:blipFill>
        <p:spPr>
          <a:xfrm>
            <a:off x="4859280" y="-4680"/>
            <a:ext cx="2968560" cy="22813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C:\Users\Serg\Desktop\IMG-5cd48ba03b55309941ad5953a70b006f-V.jpg"/>
          <p:cNvPicPr/>
          <p:nvPr/>
        </p:nvPicPr>
        <p:blipFill>
          <a:blip r:embed="rId2"/>
          <a:srcRect l="0" t="0" r="0" b="24904"/>
          <a:stretch/>
        </p:blipFill>
        <p:spPr>
          <a:xfrm>
            <a:off x="5292720" y="3067200"/>
            <a:ext cx="2657520" cy="21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38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Действия при подготовке классного часа: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5e47"/>
                </a:solidFill>
                <a:latin typeface="Calibri"/>
              </a:rPr>
              <a:t>Определить тему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, сформулировать цель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5e47"/>
                </a:solidFill>
                <a:latin typeface="Calibri"/>
              </a:rPr>
              <a:t>Составить план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(сценарий)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5e47"/>
                </a:solidFill>
                <a:latin typeface="Calibri"/>
              </a:rPr>
              <a:t>Подобрать соответствующий материал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, наглядные пособия, музыкальное оформление и т. п. по теме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5e47"/>
                </a:solidFill>
                <a:latin typeface="Calibri"/>
              </a:rPr>
              <a:t>Дать задание ученикам</a:t>
            </a: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 для предварительной подготовки (если это предусмотрено планом);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Calibri"/>
              </a:rPr>
              <a:t>Определить степень целесообразности участия в классном часе других педагогов или родителей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08:37:30Z</dcterms:created>
  <dc:creator>Антонова</dc:creator>
  <dc:description/>
  <dc:language>en-US</dc:language>
  <cp:lastModifiedBy>Serg</cp:lastModifiedBy>
  <cp:lastPrinted>2012-03-27T06:38:21Z</cp:lastPrinted>
  <dcterms:modified xsi:type="dcterms:W3CDTF">2023-12-13T11:00:01Z</dcterms:modified>
  <cp:revision>29</cp:revision>
  <dc:subject/>
  <dc:title>Тема  педсовета:  «Классный час как эффективная форма воспитания классного коллектива в системе воспитательной работы в школе».</dc:title>
</cp:coreProperties>
</file>