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D07F-E681-46CB-BBCB-2363FF0F79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C275-179C-4C42-BE16-FBE11137AA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58F-ABF2-4DE4-8823-D0CB9DFF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FF1-9271-40F6-9064-C0B095EB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680-B7D8-491D-85ED-EEDF92D5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B8C-91C4-4C6E-9D3F-9049B592A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1C8-7FCE-4767-A916-605903B6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1E6-5FE4-43E3-A142-13425ECF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4FB1-91BA-4655-8225-17053862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32F-B4D7-47DD-B192-641F6E31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11A-478B-45F8-B4A0-2556E369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C1B-9D1F-46AD-B60F-B006A6D7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9EC-6E7B-4572-AC08-AE7B8AB7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00F-0117-455C-800A-223BD400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1D62-35BC-40AF-92C2-F5E0281577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"/>
          <p:cNvPicPr/>
          <p:nvPr/>
        </p:nvPicPr>
        <p:blipFill>
          <a:blip r:embed="rId1"/>
          <a:stretch/>
        </p:blipFill>
        <p:spPr>
          <a:xfrm>
            <a:off x="1432080" y="331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151244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142920" y="77760"/>
            <a:ext cx="1109484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330200" y="98280"/>
            <a:ext cx="1033488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385920" y="154080"/>
            <a:ext cx="1045512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254160" y="0"/>
            <a:ext cx="1109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0" y="365040"/>
            <a:ext cx="114570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430200" y="0"/>
            <a:ext cx="1034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63600" y="0"/>
            <a:ext cx="107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550800" y="176040"/>
            <a:ext cx="11193480" cy="651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419040" y="176040"/>
            <a:ext cx="105537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606600" y="380880"/>
            <a:ext cx="1074096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297000" y="452520"/>
            <a:ext cx="104886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452520" y="365040"/>
            <a:ext cx="11364840" cy="63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401760"/>
            <a:ext cx="10515600" cy="577512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ЗА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 Black"/>
              </a:rPr>
              <a:t>ВНИМАНИЕ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142920" y="0"/>
            <a:ext cx="112917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17680" y="209520"/>
            <a:ext cx="108360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0" y="131760"/>
            <a:ext cx="115012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358920" y="193680"/>
            <a:ext cx="1168848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2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46080" y="0"/>
            <a:ext cx="10152000" cy="70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838080" y="96840"/>
            <a:ext cx="10952280" cy="790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74760" y="230040"/>
            <a:ext cx="10542600" cy="642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13T11:11:26Z</dcterms:created>
  <dc:creator>USER</dc:creator>
  <dc:description/>
  <dc:language>en-US</dc:language>
  <cp:lastModifiedBy>Галина Азарова</cp:lastModifiedBy>
  <dcterms:modified xsi:type="dcterms:W3CDTF">2023-12-13T11:15:09Z</dcterms:modified>
  <cp:revision>10</cp:revision>
  <dc:subject/>
  <dc:title>Презентация PowerPoint</dc:title>
</cp:coreProperties>
</file>