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FA3-9A64-421E-B52E-D4DB97B4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763-FBA9-4D4E-8B28-6D09D816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64A-93EB-4C58-A7A4-47E5EBD0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77A-97F3-4043-8484-F7FC0FE0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035-DEC6-4EEE-94F9-5EF12EDD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D28-0624-41C9-8AD8-7BD065A7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E29-E775-4D9C-8B11-D7B6F807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781-5D09-44BB-BDEB-6D9FCC25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DC6-FAC3-4BD4-82E2-7AA4C82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BA9-C1F5-429A-8F88-D83F3A79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0DA-B6C0-42D4-8636-0C54C1C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C76-0FA8-4F78-AFB5-7BC1067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6F7-6868-43AF-9A43-E9C03157B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9.xm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2.xml"/><Relationship Id="rId7" Type="http://schemas.openxmlformats.org/officeDocument/2006/relationships/slide" Target="slide19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505320"/>
            <a:ext cx="7010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Экология и фитодизайн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школьного кабинета  биологии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3808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ЕМА ПРОЕКТ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зучение видового состава комнатных растений наш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1904760" cy="1739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1828800" cy="164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укович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5867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Х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886200"/>
            <a:ext cx="4952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пеаструм 9 шт    эухарис амазо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лия 5ш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амен 2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Эухарис (амазонская лилия)"/>
          <p:cNvPicPr/>
          <p:nvPr/>
        </p:nvPicPr>
        <p:blipFill>
          <a:blip r:embed="rId5"/>
          <a:stretch/>
        </p:blipFill>
        <p:spPr>
          <a:xfrm>
            <a:off x="3581280" y="1828800"/>
            <a:ext cx="1857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екоративно – лиственн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199044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164304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1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и 15 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43434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962520"/>
            <a:ext cx="228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фенбахия 4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анта 5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ролепис14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77120" y="1676520"/>
            <a:ext cx="1666800" cy="190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" descr="Маранта трехцветная - Maranta tricolor"/>
          <p:cNvPicPr/>
          <p:nvPr/>
        </p:nvPicPr>
        <p:blipFill>
          <a:blip r:embed="rId5"/>
          <a:stretch/>
        </p:blipFill>
        <p:spPr>
          <a:xfrm>
            <a:off x="1219320" y="44956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Ампе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1428480" cy="220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1428840" cy="18097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4343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брина12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4114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индапсус 3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86200" y="1371600"/>
            <a:ext cx="142884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038480" y="4419720"/>
            <a:ext cx="1428840" cy="1571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гониум2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6248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фитум26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ьющиеся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1733400" cy="34196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стера 4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77120" y="1981080"/>
            <a:ext cx="1857240" cy="301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7600" y="5257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ющ 5шт                            Хойя 4ш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Плющ"/>
          <p:cNvPicPr/>
          <p:nvPr/>
        </p:nvPicPr>
        <p:blipFill>
          <a:blip r:embed="rId4"/>
          <a:stretch/>
        </p:blipFill>
        <p:spPr>
          <a:xfrm>
            <a:off x="3581280" y="1905120"/>
            <a:ext cx="2212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кккул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оэ  6шт           каланхоэ бриофиллум 5шт  сансенивьерия 8ш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Алоэ (столетник)"/>
          <p:cNvPicPr/>
          <p:nvPr/>
        </p:nvPicPr>
        <p:blipFill>
          <a:blip r:embed="rId1"/>
          <a:stretch/>
        </p:blipFill>
        <p:spPr>
          <a:xfrm>
            <a:off x="609480" y="2209680"/>
            <a:ext cx="2362320" cy="312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ланхоэ (бриофиллум)"/>
          <p:cNvPicPr/>
          <p:nvPr/>
        </p:nvPicPr>
        <p:blipFill>
          <a:blip r:embed="rId2"/>
          <a:stretch/>
        </p:blipFill>
        <p:spPr>
          <a:xfrm>
            <a:off x="3352680" y="220968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Сансевиерия"/>
          <p:cNvPicPr/>
          <p:nvPr/>
        </p:nvPicPr>
        <p:blipFill>
          <a:blip r:embed="rId3"/>
          <a:stretch/>
        </p:blipFill>
        <p:spPr>
          <a:xfrm>
            <a:off x="6400800" y="2209680"/>
            <a:ext cx="1857240" cy="3267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11040" y="3246480"/>
            <a:ext cx="13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ккул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пелия                толстянка 6ш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Стапелия"/>
          <p:cNvPicPr/>
          <p:nvPr/>
        </p:nvPicPr>
        <p:blipFill>
          <a:blip r:embed="rId1"/>
          <a:stretch/>
        </p:blipFill>
        <p:spPr>
          <a:xfrm>
            <a:off x="533520" y="2362320"/>
            <a:ext cx="2819160" cy="3886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Толстянка"/>
          <p:cNvPicPr/>
          <p:nvPr/>
        </p:nvPicPr>
        <p:blipFill>
          <a:blip r:embed="rId2"/>
          <a:stretch/>
        </p:blipFill>
        <p:spPr>
          <a:xfrm>
            <a:off x="4419720" y="2362320"/>
            <a:ext cx="373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2205000"/>
            <a:ext cx="83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3336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ы выяснили, что хлорофиту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ое популярное растение в школе.  Оно неприхотливое, переносит пересыхание почвы или залив. Нетребовательно к освещению.  Удивительны корни растения, они видоизменены в толстые, сочные корневища. Листья растения хорошо очищают воздух от пыли и  углекислого г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332000" y="3500280"/>
            <a:ext cx="6264360" cy="31114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57200"/>
            <a:ext cx="8496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лорофитум – идеальное растение для выращивания в классах, т.к. оно хорошо очищает воздух в класс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йтинг самых популярных комнатных растений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У «Ункурдинская СОШ»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438280"/>
            <a:ext cx="7345440" cy="3749760"/>
          </a:xfrm>
          <a:custGeom>
            <a:avLst/>
            <a:gdLst/>
            <a:ahLst/>
            <a:rect l="l" t="t" r="r" b="b"/>
            <a:pathLst>
              <a:path w="4627" h="2362">
                <a:moveTo>
                  <a:pt x="0" y="0"/>
                </a:moveTo>
                <a:lnTo>
                  <a:pt x="1104" y="0"/>
                </a:lnTo>
                <a:lnTo>
                  <a:pt x="1104" y="576"/>
                </a:lnTo>
                <a:lnTo>
                  <a:pt x="2064" y="576"/>
                </a:lnTo>
                <a:lnTo>
                  <a:pt x="2064" y="1056"/>
                </a:lnTo>
                <a:lnTo>
                  <a:pt x="2928" y="1056"/>
                </a:lnTo>
                <a:lnTo>
                  <a:pt x="2928" y="1536"/>
                </a:lnTo>
                <a:lnTo>
                  <a:pt x="3792" y="1536"/>
                </a:lnTo>
                <a:lnTo>
                  <a:pt x="3792" y="1968"/>
                </a:lnTo>
                <a:lnTo>
                  <a:pt x="4627" y="1958"/>
                </a:lnTo>
                <a:lnTo>
                  <a:pt x="4627" y="23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5909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лорофитум хохла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3429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го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5105520"/>
            <a:ext cx="12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фролепис возвыш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343400"/>
            <a:ext cx="13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деск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ерастр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62720" y="3505320"/>
            <a:ext cx="1199880" cy="137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1155600" cy="137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590920" y="1905120"/>
            <a:ext cx="1143000" cy="137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6576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038480" y="2286000"/>
            <a:ext cx="1428840" cy="1809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Гиппеаструм"/>
          <p:cNvPicPr/>
          <p:nvPr/>
        </p:nvPicPr>
        <p:blipFill>
          <a:blip r:embed="rId5"/>
          <a:stretch/>
        </p:blipFill>
        <p:spPr>
          <a:xfrm>
            <a:off x="6781680" y="38862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0440" y="1600200"/>
          <a:ext cx="82231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итата по теме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«Нет ничего прекраснее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ишедших в палисады и жил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ни пришли из глубины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Чтоб сделать жизнь возвышенней и чищ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266688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221004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ы стат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озеленении помещений используют растения, относящиеся к пяти группам: декоративно-лиственным, красивоцветущим, ампельным, вьющимся, лукови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иболее популярными растениями в МОУ «Ункурдинская СОШ» являются: хлорофитум, нефролепис, бегонии, сингониум, гибискус, монстера, аспидистра, сансевь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школах лучше всего выращивать простые нетребовательные растения, легко и обильно цветущие, легко размножающиеся, уход за которыми доступен детя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6400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овые группы 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Эко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становить ориентацию окон помещения по сторонам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 помощью различных приборов изучить комплекс абиотических экологических факторов,  определяющих условия существования растений в помещении. Определить: температуру, влажность воздуха, интенсивность освещения. Результаты исследований представить в виде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делать вывод об условиях существования растений в поме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словия содержания комнат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етолюби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ав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виды пальм,гибискус,пеларгония,все кактусы, кордилины, пуансетия,олеандр,все цитрусовые, ало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невыносли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дендрон, фикусы, лавр благородный, некоторые виды бегоний, мирты, папоротники,монстера,сциндапс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нелюби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дистра, плющ, иг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прихотли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итум хохлатый, аспидистра высокоя, аспарагус, фуксия, пеларгонии, зебрина висячая, традесканция, гастерия, седум, толстянковы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тения для прохладных комнат с температурой 10-12 граду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тилон, аспидистра, аукуба, кливия, кринум, лавр, фикусы,рододендроны, пеларгонии, плющ, примулы, традесканция, хлорофитум, юкк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тения для помещений с комнатной температурой 13-20 градусов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укария, аспарагус, бальзамин, бромеливые, гинура, драцена, колеус, каланхое, монстера, маранта, орхидеи, пальмы, пеперомия, пилея, папоротники, сансевиерия, сциндапсус, спатифиллум, фикус, хойя, филодендро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тения для комнат, зимних садов с температурой 21-25 градусов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лаонема, антуриум, дизиготека, диффенбахия, финиковая пальма, все кактусы, орхидеи, бромелиевые, папоротник адиантум, сенполия, сингониум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стения, которые предпочитают сухой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тусы, суккуленты, олеандр, фик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стения, требующие высокой вла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хидеи, бромелиевые, эпифиты, монстера, филодендро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Экологическое состояние кабинета би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2209680"/>
          <a:ext cx="6096240" cy="38800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ая влаж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ещ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ация ок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о-восто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ы эко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словия существования для растений в кабинете биологии МОУ «Ункурдинская СОШ» благоприятные, так как комплекс абиотических экологических факторов (освещенность, влажность, температура) соответствует н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комендуем больше использовать в озеленении лекарственные растения (алоэ, каланхоэ,базилик) и «живой кондиционер» - хлорофитум хохл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спользовать в озеленении теневыносливые растения: бегонии, монстеру, нефролеп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5562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овые группы 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Геогра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азместить визитные карточки популярных комнатных растений на карте природных зон мат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зучить теоретические материалы по характеристике биомов суши. Установить, как растения приспособлены к существованию в тех или иных природ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делать вывод о происхождении основных групп популярных комнатных растений. Перечислить условия существования этих групп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Центры происхождения популярных комнатн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опические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Лианы, эпифиты, орхидеи, лесные кактусы, бромелиевые, экзотические орхидеи, эхмея, платицериум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уждаются в обилии света, но не любят прямых солнечных лучей, им требуется высокая влажность, но не желательны резкие перепады температур воздуха, они не имеют периода покоя и их рост продолжается непреры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тропические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спидистра, юкка, сенполия, олеандр, инжир, лавр, аспарагус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уждаются в регулярном поливе, привычны к перепадам дневной и ночной температур воздуха, имеют период пок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ения пусты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актусы, суккул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требляют очень мало воды, предпочитают яркое солнце и жару, легко переносят перепады дневной и ночной температур воздуха, имеют период поко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ы географ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ольшинство комнатных растений являются выходцами из тропических, субтропических районов и пусты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и выращивании комнатных растений необходимо учитывать биологические особенности, сформированные под воздействием природно-климатических условий мест их происхож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овые группы 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тодизай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зучить, на какие группы делят комнатные растения для оформления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добрать иллюстрации различных композиций из комнат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знакомиться с основными требованиями, предъявляемыми в фитодизайне к размещению растений. Результаты своего исследования представить в форме демонстрации наглядных пособ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особы фитодиз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57680" cy="2524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2857680" cy="2333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1905120" cy="2514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3505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лорари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нс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Цветочная ком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4495680"/>
            <a:ext cx="1828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лка с решет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сширенный подоко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ля того, чтобы правильно озеленить помещение необходимо знать правила фитодизайна и условия содержания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 фитодизайн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вратить помещение, в котором вы трудитесь или отдыхаете в оазис, где господствует красота и уют, где царствует гармония природы и человека можно, если правильно разместить отдельные растения или целые ком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новные правила фитодизайна: цветовая гармония, правильный подбор посуды, надежность креплений цветочниц и кашпо, в больших комнатах используют отдельно стоящие растения или композиции из высоких растений, для малых комнат предпочтительны вертикальные композиции из небольши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55627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ы по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размещении комнатных растений необходимо соблюдать требования растений к условиям освещенности, температуры и влажности, а  также учитывать биологические особенности, сформированные под воздействием природно-климатических усло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мплекс абиотических экологических факторов в школе благоприятный для существования многих комнатных растений. Наиболее популярны в озеленении хлорофитум хохлатый, папоротники, бегонии, сингониум, суккуленты, традеск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здавая интерьер помещения следует придерживаться правил фитодизайна: размещать растения композиционно, правильно подбирать посуду и цветоч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60958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.В. Воронцов. Комнатные растения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овое руководство по уходу. Москва, ЗАО «Фитон+»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. М. Клеманская. Цветы в интерьере. Москва, «Агропромиздат», 1990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урна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«Биология в школе», №4, 1989 г, с. 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моделировать проект фитодизайна кабинета биологии, с учетом требований растений к условиям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зучить условия существования растений в помещен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сследовать экологические факторы кабинета би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пределить наиболее популярные растения в школьном озелен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ыявить центры происхождения популярных комнатных раст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зучить правила и способы размещения растений в помещ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бор информации по комнатным растениям из различных источников: научной и научно-популяр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актические методы(определение температуры, влажности, интенсивности освещения в кабинете биолог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тистическая обработка информации по озеленению школы (составление рейтинга популярности комнатных растен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делирование размещения комнатных растений с учетом правил фитодиза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азовые группы экспер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ат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к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итодизай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т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учить видовой состав комнатных растений кабинетов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пределить, какие растения чаще используются для озеленения  школьных помещ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езультаты исследований представить в графической ф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Х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990720"/>
            <a:ext cx="3733560" cy="457200"/>
          </a:xfrm>
          <a:prstGeom prst="rect">
            <a:avLst/>
          </a:prstGeom>
          <a:solidFill>
            <a:srgbClr val="f4faa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омнатн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457200" y="1981080"/>
            <a:ext cx="2819520" cy="685800"/>
          </a:xfrm>
          <a:prstGeom prst="rect">
            <a:avLst/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екоративно-ли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5638680" y="1981080"/>
            <a:ext cx="2590920" cy="685800"/>
          </a:xfrm>
          <a:prstGeom prst="rect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расивоцвету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5" action="ppaction://hlinksldjump"/>
          </p:cNvPr>
          <p:cNvSpPr/>
          <p:nvPr/>
        </p:nvSpPr>
        <p:spPr>
          <a:xfrm>
            <a:off x="1371600" y="3886200"/>
            <a:ext cx="2209680" cy="60948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мп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7" action="ppaction://hlinksldjump"/>
          </p:cNvPr>
          <p:cNvSpPr/>
          <p:nvPr/>
        </p:nvSpPr>
        <p:spPr>
          <a:xfrm>
            <a:off x="5257800" y="3886200"/>
            <a:ext cx="2209680" cy="609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ь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9" action="ppaction://hlinksldjump"/>
          </p:cNvPr>
          <p:cNvSpPr/>
          <p:nvPr/>
        </p:nvSpPr>
        <p:spPr>
          <a:xfrm>
            <a:off x="3276720" y="5562720"/>
            <a:ext cx="2209680" cy="60948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укови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и клубн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33720" y="1523880"/>
            <a:ext cx="13716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1523880"/>
            <a:ext cx="1371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1523880"/>
            <a:ext cx="1523880" cy="236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19520" y="1523880"/>
            <a:ext cx="1218960" cy="236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523880"/>
            <a:ext cx="0" cy="4114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 Сергеевич</cp:lastModifiedBy>
  <dcterms:modified xsi:type="dcterms:W3CDTF">2011-05-10T15:30:28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