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53A0-294C-482E-BAD2-78661E3E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47F-09E8-441A-9A85-A606F8B6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BA45-C8D5-4391-B1BD-59DC4D77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9EE-0243-4888-95CB-0759999A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2B88-9627-4544-A374-8FE0DE6F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AA97-D5D1-4417-8454-8A109E1E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271-2F1C-42AC-A31C-22611473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02B-E07A-4633-85BD-112748B2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DD7-9E08-4F9F-8328-572811E4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26AC-6381-442D-BF01-7F1E1502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BEA-DE4F-4FB3-AD2F-4838076F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51B-4EF2-4583-A390-15E9D35A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B616-F93B-4643-857D-4FB425C601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" Target="slide9.xml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9.xml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9.xm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1.xml"/><Relationship Id="rId3" Type="http://schemas.openxmlformats.org/officeDocument/2006/relationships/slide" Target="slide18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12.xml"/><Relationship Id="rId7" Type="http://schemas.openxmlformats.org/officeDocument/2006/relationships/slide" Target="slide19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505320"/>
            <a:ext cx="70106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Экология и фитодизайн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latin typeface="Impact"/>
              </a:rPr>
              <a:t>школьного кабинета  биологии</a:t>
            </a:r>
            <a:endParaRPr b="0" lang="en-US" sz="1800" spc="1" strike="noStrike">
              <a:ln w="19080">
                <a:solidFill>
                  <a:srgbClr val="99cc00"/>
                </a:solidFill>
                <a:miter/>
              </a:ln>
              <a:solidFill>
                <a:srgbClr val="008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3808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ЕМА ПРОЕКТ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зучение видового состава комнатных растений нашей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905120"/>
            <a:ext cx="1904760" cy="1739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1828800" cy="164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3352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Лукович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0" y="5867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Х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886200"/>
            <a:ext cx="4952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пеаструм 9 шт    эухарис амазон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лия 5ш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3886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амен 2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Эухарис (амазонская лилия)"/>
          <p:cNvPicPr/>
          <p:nvPr/>
        </p:nvPicPr>
        <p:blipFill>
          <a:blip r:embed="rId5"/>
          <a:stretch/>
        </p:blipFill>
        <p:spPr>
          <a:xfrm>
            <a:off x="3581280" y="1828800"/>
            <a:ext cx="1857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Декоративно – лиственные рас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1990440" cy="205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038480" y="1752480"/>
            <a:ext cx="164304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rId3" action="ppaction://hlinksldjump"/>
          </p:cNvPr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41148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и 15 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43434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3962520"/>
            <a:ext cx="2286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фенбахия 4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анта 5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8098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фролепис14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477120" y="1676520"/>
            <a:ext cx="1666800" cy="1904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9" name="" descr="Маранта трехцветная - Maranta tricolor"/>
          <p:cNvPicPr/>
          <p:nvPr/>
        </p:nvPicPr>
        <p:blipFill>
          <a:blip r:embed="rId5"/>
          <a:stretch/>
        </p:blipFill>
        <p:spPr>
          <a:xfrm>
            <a:off x="1219320" y="4495680"/>
            <a:ext cx="25146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Ампельные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05720" y="1828800"/>
            <a:ext cx="1428480" cy="2209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1428840" cy="180972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3" action="ppaction://hlinksldjump"/>
          </p:cNvPr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43434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ебрина12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4114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циндапсус 3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86200" y="1371600"/>
            <a:ext cx="142884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4038480" y="4419720"/>
            <a:ext cx="1428840" cy="1571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8098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нгониум2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62485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лорофитум26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ьющиеся раст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1733400" cy="34196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553080" y="62485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д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533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нстера 4ш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477120" y="1981080"/>
            <a:ext cx="1857240" cy="30196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657600" y="52578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ющ 5шт                            Хойя 4ш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Плющ"/>
          <p:cNvPicPr/>
          <p:nvPr/>
        </p:nvPicPr>
        <p:blipFill>
          <a:blip r:embed="rId4"/>
          <a:stretch/>
        </p:blipFill>
        <p:spPr>
          <a:xfrm>
            <a:off x="3581280" y="1905120"/>
            <a:ext cx="22129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укккул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оэ  6шт           каланхоэ бриофиллум 5шт  сансенивьерия 8ш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Алоэ (столетник)"/>
          <p:cNvPicPr/>
          <p:nvPr/>
        </p:nvPicPr>
        <p:blipFill>
          <a:blip r:embed="rId1"/>
          <a:stretch/>
        </p:blipFill>
        <p:spPr>
          <a:xfrm>
            <a:off x="609480" y="2209680"/>
            <a:ext cx="2362320" cy="312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Каланхоэ (бриофиллум)"/>
          <p:cNvPicPr/>
          <p:nvPr/>
        </p:nvPicPr>
        <p:blipFill>
          <a:blip r:embed="rId2"/>
          <a:stretch/>
        </p:blipFill>
        <p:spPr>
          <a:xfrm>
            <a:off x="3352680" y="2209680"/>
            <a:ext cx="2590920" cy="320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Сансевиерия"/>
          <p:cNvPicPr/>
          <p:nvPr/>
        </p:nvPicPr>
        <p:blipFill>
          <a:blip r:embed="rId3"/>
          <a:stretch/>
        </p:blipFill>
        <p:spPr>
          <a:xfrm>
            <a:off x="6400800" y="2209680"/>
            <a:ext cx="1857240" cy="3267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11040" y="3246480"/>
            <a:ext cx="13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ст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уккул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пелия                толстянка 6ш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Стапелия"/>
          <p:cNvPicPr/>
          <p:nvPr/>
        </p:nvPicPr>
        <p:blipFill>
          <a:blip r:embed="rId1"/>
          <a:stretch/>
        </p:blipFill>
        <p:spPr>
          <a:xfrm>
            <a:off x="533520" y="2362320"/>
            <a:ext cx="2819160" cy="3886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Толстянка"/>
          <p:cNvPicPr/>
          <p:nvPr/>
        </p:nvPicPr>
        <p:blipFill>
          <a:blip r:embed="rId2"/>
          <a:stretch/>
        </p:blipFill>
        <p:spPr>
          <a:xfrm>
            <a:off x="4419720" y="2362320"/>
            <a:ext cx="3733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2205000"/>
            <a:ext cx="83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33336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ы выяснили, что хлорофиту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ое популярное растение в школе.  Оно неприхотливое, переносит пересыхание почвы или залив. Нетребовательно к освещению.  Удивительны корни растения, они видоизменены в толстые, сочные корневища. Листья растения хорошо очищают воздух от пыли и  углекислого га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332000" y="3500280"/>
            <a:ext cx="6264360" cy="31114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457200"/>
            <a:ext cx="8496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Хлорофитум – идеальное растение для выращивания в классах, т.к. оно хорошо очищает воздух в класс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750"/>
                            </p:stCondLst>
                            <p:childTnLst>
                              <p:par>
                                <p:cTn id="2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йтинг самых популярных комнатных растений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ОУ «Ункурдинская СОШ»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438280"/>
            <a:ext cx="7345440" cy="3749760"/>
          </a:xfrm>
          <a:custGeom>
            <a:avLst/>
            <a:gdLst/>
            <a:ahLst/>
            <a:rect l="l" t="t" r="r" b="b"/>
            <a:pathLst>
              <a:path w="4627" h="2362">
                <a:moveTo>
                  <a:pt x="0" y="0"/>
                </a:moveTo>
                <a:lnTo>
                  <a:pt x="1104" y="0"/>
                </a:lnTo>
                <a:lnTo>
                  <a:pt x="1104" y="576"/>
                </a:lnTo>
                <a:lnTo>
                  <a:pt x="2064" y="576"/>
                </a:lnTo>
                <a:lnTo>
                  <a:pt x="2064" y="1056"/>
                </a:lnTo>
                <a:lnTo>
                  <a:pt x="2928" y="1056"/>
                </a:lnTo>
                <a:lnTo>
                  <a:pt x="2928" y="1536"/>
                </a:lnTo>
                <a:lnTo>
                  <a:pt x="3792" y="1536"/>
                </a:lnTo>
                <a:lnTo>
                  <a:pt x="3792" y="1968"/>
                </a:lnTo>
                <a:lnTo>
                  <a:pt x="4627" y="1958"/>
                </a:lnTo>
                <a:lnTo>
                  <a:pt x="4627" y="236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590920"/>
            <a:ext cx="167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лорофитум хохла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342900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егон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5105520"/>
            <a:ext cx="12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фролепис возвыш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343400"/>
            <a:ext cx="13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радеска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81680" y="5638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перастр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562720" y="3505320"/>
            <a:ext cx="1199880" cy="1371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43000" y="990720"/>
            <a:ext cx="1155600" cy="1371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590920" y="1905120"/>
            <a:ext cx="1143000" cy="1371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657600" y="6172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038480" y="2286000"/>
            <a:ext cx="1428840" cy="1809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Гиппеаструм"/>
          <p:cNvPicPr/>
          <p:nvPr/>
        </p:nvPicPr>
        <p:blipFill>
          <a:blip r:embed="rId5"/>
          <a:stretch/>
        </p:blipFill>
        <p:spPr>
          <a:xfrm>
            <a:off x="6781680" y="3886200"/>
            <a:ext cx="144792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0440" y="1600200"/>
          <a:ext cx="82231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1600200"/>
                    <a:ext cx="82231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итата по теме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«Нет ничего прекраснее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ишедших в палисады и жил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ни пришли из глубины ве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Чтоб сделать жизнь возвышенней и чищ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19320" y="3962520"/>
            <a:ext cx="2666880" cy="1866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095880" y="3962520"/>
            <a:ext cx="221004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ыводы статис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озеленении помещений используют растения, относящиеся к пяти группам: декоративно-лиственным, красивоцветущим, ампельным, вьющимся, лукович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иболее популярными растениями в МОУ «Ункурдинская СОШ» являются: хлорофитум, нефролепис, бегонии, сингониум, гибискус, монстера, аспидистра, сансевь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школах лучше всего выращивать простые нетребовательные растения, легко и обильно цветущие, легко размножающиеся, уход за которыми доступен детя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6400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овые группы 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Эколо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становить ориентацию окон помещения по сторонам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 помощью различных приборов изучить комплекс абиотических экологических факторов,  определяющих условия существования растений в помещении. Определить: температуру, влажность воздуха, интенсивность освещения. Результаты исследований представить в виде таб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делать вывод об условиях существования растений в поме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словия содержания комнат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ветолюби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ав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которые виды пальм,гибискус,пеларгония,все кактусы, кордилины, пуансетия,олеандр,все цитрусовые, ало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невыносли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одендрон, фикусы, лавр благородный, некоторые виды бегоний, мирты, папоротники,монстера,сциндапсу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нелюби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пидистра, плющ, иг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прихотливые рас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офитум хохлатый, аспидистра высокоя, аспарагус, фуксия, пеларгонии, зебрина висячая, традесканция, гастерия, седум, толстянковы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тения для прохладных комнат с температурой 10-12 граду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утилон, аспидистра, аукуба, кливия, кринум, лавр, фикусы,рододендроны, пеларгонии, плющ, примулы, традесканция, хлорофитум, юкк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тения для помещений с комнатной температурой 13-20 градусов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аукария, аспарагус, бальзамин, бромеливые, гинура, драцена, колеус, каланхое, монстера, маранта, орхидеи, пальмы, пеперомия, пилея, папоротники, сансевиерия, сциндапсус, спатифиллум, фикус, хойя, филодендрон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астения для комнат, зимних садов с температурой 21-25 градусов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лаонема, антуриум, дизиготека, диффенбахия, финиковая пальма, все кактусы, орхидеи, бромелиевые, папоротник адиантум, сенполия, сингониум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стения, которые предпочитают сухой воз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тусы, суккуленты, олеандр, фику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Растения, требующие высокой вла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хидеи, бромелиевые, эпифиты, монстера, филодендро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Экологическое состояние кабинета би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2209680"/>
          <a:ext cx="6096240" cy="38800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6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акто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носительная влаж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ещ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ация ок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веро-восточ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ыводы экол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словия существования для растений в кабинете биологии МОУ «Ункурдинская СОШ» благоприятные, так как комплекс абиотических экологических факторов (освещенность, влажность, температура) соответствует норм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Рекомендуем больше использовать в озеленении лекарственные растения (алоэ, каланхоэ,базилик) и «живой кондиционер» - хлорофитум хохлат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спользовать в озеленении теневыносливые растения: бегонии, монстеру, нефролепи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5562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овые группы 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Геогра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Разместить визитные карточки популярных комнатных растений на карте природных зон матер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зучить теоретические материалы по характеристике биомов суши. Установить, как растения приспособлены к существованию в тех или иных природны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делать вывод о происхождении основных групп популярных комнатных растений. Перечислить условия существования этих групп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Центры происхождения популярных комнатных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ропические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Лианы, эпифиты, орхидеи, лесные кактусы, бромелиевые, экзотические орхидеи, эхмея, платицериум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уждаются в обилии света, но не любят прямых солнечных лучей, им требуется высокая влажность, но не желательны резкие перепады температур воздуха, они не имеют периода покоя и их рост продолжается непрерыв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тропические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спидистра, юкка, сенполия, олеандр, инжир, лавр, аспарагус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уждаются в регулярном поливе, привычны к перепадам дневной и ночной температур воздуха, имеют период пок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ения пусты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актусы, суккул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требляют очень мало воды, предпочитают яркое солнце и жару, легко переносят перепады дневной и ночной температур воздуха, имеют период поко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ыводы географ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Большинство комнатных растений являются выходцами из тропических, субтропических районов и пусты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и выращивании комнатных растений необходимо учитывать биологические особенности, сформированные под воздействием природно-климатических условий мест их происхожд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4100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зовые группы эксп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итодизайн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Изучить, на какие группы делят комнатные растения для оформления помещ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одобрать иллюстрации различных композиций из комнатных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знакомиться с основными требованиями, предъявляемыми в фитодизайне к размещению растений. Результаты своего исследования представить в форме демонстрации наглядных пособ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пособы фитодизай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857680" cy="2133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15000" y="4038480"/>
            <a:ext cx="2857680" cy="25243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638680" y="1295280"/>
            <a:ext cx="2857680" cy="2333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838080" y="4038480"/>
            <a:ext cx="1905120" cy="2514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2120" y="3505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лорари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19520" y="5105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нс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Цветочная композ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4495680"/>
            <a:ext cx="1828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Полка с решет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Расширенный подокон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ля того, чтобы правильно озеленить помещение необходимо знать правила фитодизайна и условия содержания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воды фитодизайн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евратить помещение, в котором вы трудитесь или отдыхаете в оазис, где господствует красота и уют, где царствует гармония природы и человека можно, если правильно разместить отдельные растения или целые композ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новные правила фитодизайна: цветовая гармония, правильный подбор посуды, надежность креплений цветочниц и кашпо, в больших комнатах используют отдельно стоящие растения или композиции из высоких растений, для малых комнат предпочтительны вертикальные композиции из небольши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5562720"/>
            <a:ext cx="19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ыводы по проект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размещении комнатных растений необходимо соблюдать требования растений к условиям освещенности, температуры и влажности, а  также учитывать биологические особенности, сформированные под воздействием природно-климатических услов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мплекс абиотических экологических факторов в школе благоприятный для существования многих комнатных растений. Наиболее популярны в озеленении хлорофитум хохлатый, папоротники, бегонии, сингониум, суккуленты, традеск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здавая интерьер помещения следует придерживаться правил фитодизайна: размещать растения композиционно, правильно подбирать посуду и цветоч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60958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.В. Воронцов. Комнатные растения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овое руководство по уходу. Москва, ЗАО «Фитон+»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. М. Клеманская. Цветы в интерьере. Москва, «Агропромиздат», 1990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урнал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«Биология в школе», №4, 1989 г, с. 6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моделировать проект фитодизайна кабинета биологии, с учетом требований растений к условиям об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зучить условия существования растений в помещен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сследовать экологические факторы кабинета би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пределить наиболее популярные растения в школьном озелен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Выявить центры происхождения популярных комнатных раст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Изучить правила и способы размещения растений в помещ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бор информации по комнатным растениям из различных источников: научной и научно-популярн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Практические методы(определение температуры, влажности, интенсивности освещения в кабинете биологи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тистическая обработка информации по озеленению школы (составление рейтинга популярности комнатных растен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оделирование размещения комнатных растений с учетом правил фитодиза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азовые группы экспер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ат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ко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еогра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итодизайн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тат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Изучить видовой состав комнатных растений кабинетов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пределить, какие растения чаще используются для озеленения  школьных помещ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Результаты исследований представить в графической фор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Ход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990720"/>
            <a:ext cx="3733560" cy="457200"/>
          </a:xfrm>
          <a:prstGeom prst="rect">
            <a:avLst/>
          </a:prstGeom>
          <a:solidFill>
            <a:srgbClr val="f4faa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Комнатные раст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" action="ppaction://hlinksldjump"/>
          </p:cNvPr>
          <p:cNvSpPr/>
          <p:nvPr/>
        </p:nvSpPr>
        <p:spPr>
          <a:xfrm>
            <a:off x="457200" y="1981080"/>
            <a:ext cx="2819520" cy="685800"/>
          </a:xfrm>
          <a:prstGeom prst="rect">
            <a:avLst/>
          </a:prstGeom>
          <a:solidFill>
            <a:srgbClr val="f0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екоративно-листв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5638680" y="1981080"/>
            <a:ext cx="2590920" cy="685800"/>
          </a:xfrm>
          <a:prstGeom prst="rect">
            <a:avLst/>
          </a:prstGeom>
          <a:solidFill>
            <a:srgbClr val="f3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расивоцвету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5" action="ppaction://hlinksldjump"/>
          </p:cNvPr>
          <p:cNvSpPr/>
          <p:nvPr/>
        </p:nvSpPr>
        <p:spPr>
          <a:xfrm>
            <a:off x="1371600" y="3886200"/>
            <a:ext cx="2209680" cy="60948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Амп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7" action="ppaction://hlinksldjump"/>
          </p:cNvPr>
          <p:cNvSpPr/>
          <p:nvPr/>
        </p:nvSpPr>
        <p:spPr>
          <a:xfrm>
            <a:off x="5257800" y="3886200"/>
            <a:ext cx="2209680" cy="609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Вьющи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9" action="ppaction://hlinksldjump"/>
          </p:cNvPr>
          <p:cNvSpPr/>
          <p:nvPr/>
        </p:nvSpPr>
        <p:spPr>
          <a:xfrm>
            <a:off x="3276720" y="5562720"/>
            <a:ext cx="2209680" cy="60948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укови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 и клубне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133720" y="1523880"/>
            <a:ext cx="137160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1523880"/>
            <a:ext cx="1371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1523880"/>
            <a:ext cx="1523880" cy="236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819520" y="1523880"/>
            <a:ext cx="1218960" cy="2362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1523880"/>
            <a:ext cx="0" cy="4114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60958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ван Сергеевич</cp:lastModifiedBy>
  <dcterms:modified xsi:type="dcterms:W3CDTF">2011-05-10T15:30:28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