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952-2326-40D2-B8AC-C3137EB3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13F-2BD2-438C-822F-76512BE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758-BAB8-4C37-A6D2-492923FF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610-F3E8-4824-8C8E-AE306EA3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D67-584E-4737-B634-36DDBF1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A78-C849-4A83-9209-6AF58C19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3F1-BC92-430F-9219-F47C3F8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A44-CA0E-43B0-A834-C77BAA5A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946-B819-46A5-B009-9A02EF7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F2B-072E-4472-8EE5-D265E7E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AF0-01F6-4F71-B2EF-BE9531FD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FCF-7C10-4566-9AC9-AD7B1A2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068-9DCF-47C7-8F21-CD19A70D92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fed282281618.gif"/>
          <p:cNvPicPr/>
          <p:nvPr/>
        </p:nvPicPr>
        <p:blipFill>
          <a:blip r:embed="rId4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fed282281618.gif"/>
          <p:cNvPicPr/>
          <p:nvPr/>
        </p:nvPicPr>
        <p:blipFill>
          <a:blip r:embed="rId3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Заголовок 1"/>
          <p:cNvSpPr/>
          <p:nvPr/>
        </p:nvSpPr>
        <p:spPr>
          <a:xfrm>
            <a:off x="32400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4" descr=""/>
          <p:cNvPicPr/>
          <p:nvPr/>
        </p:nvPicPr>
        <p:blipFill>
          <a:blip r:embed="rId2"/>
          <a:srcRect l="5189" t="46541" r="53591" b="38646"/>
          <a:stretch/>
        </p:blipFill>
        <p:spPr>
          <a:xfrm>
            <a:off x="539640" y="2133720"/>
            <a:ext cx="8185320" cy="220500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1" descr=""/>
          <p:cNvPicPr/>
          <p:nvPr/>
        </p:nvPicPr>
        <p:blipFill>
          <a:blip r:embed="rId3"/>
          <a:stretch/>
        </p:blipFill>
        <p:spPr>
          <a:xfrm>
            <a:off x="2266920" y="5162400"/>
            <a:ext cx="3889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755640" y="1197000"/>
            <a:ext cx="80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6)Площадь боковой и полной поверхности цилинд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1216080" y="1717560"/>
            <a:ext cx="65959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4"/>
          <p:cNvSpPr/>
          <p:nvPr/>
        </p:nvSpPr>
        <p:spPr>
          <a:xfrm>
            <a:off x="1857240" y="28584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Rectangle 2" descr=""/>
          <p:cNvPicPr/>
          <p:nvPr/>
        </p:nvPicPr>
        <p:blipFill>
          <a:blip r:embed="rId2"/>
          <a:stretch/>
        </p:blipFill>
        <p:spPr>
          <a:xfrm>
            <a:off x="-19080" y="450720"/>
            <a:ext cx="883908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1857240" y="28584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2"/>
          <a:stretch/>
        </p:blipFill>
        <p:spPr>
          <a:xfrm>
            <a:off x="-30240" y="-36360"/>
            <a:ext cx="8850240" cy="87040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9"/>
          <p:cNvSpPr/>
          <p:nvPr/>
        </p:nvSpPr>
        <p:spPr>
          <a:xfrm>
            <a:off x="6000840" y="4724280"/>
            <a:ext cx="1476360" cy="1584360"/>
          </a:xfrm>
          <a:prstGeom prst="can">
            <a:avLst>
              <a:gd name="adj" fmla="val 29550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оугольник 1"/>
          <p:cNvSpPr/>
          <p:nvPr/>
        </p:nvSpPr>
        <p:spPr>
          <a:xfrm>
            <a:off x="4776840" y="4029120"/>
            <a:ext cx="2303280" cy="530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3"/>
          <a:srcRect l="0" t="0" r="45127" b="50472"/>
          <a:stretch/>
        </p:blipFill>
        <p:spPr>
          <a:xfrm>
            <a:off x="7056360" y="2655720"/>
            <a:ext cx="13827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35"/>
          <p:cNvGrpSpPr/>
          <p:nvPr/>
        </p:nvGrpSpPr>
        <p:grpSpPr>
          <a:xfrm>
            <a:off x="1357200" y="3003480"/>
            <a:ext cx="1657080" cy="1518480"/>
            <a:chOff x="1357200" y="3003480"/>
            <a:chExt cx="1657080" cy="1518480"/>
          </a:xfrm>
        </p:grpSpPr>
        <p:sp>
          <p:nvSpPr>
            <p:cNvPr id="520" name="AutoShape 36"/>
            <p:cNvSpPr/>
            <p:nvPr/>
          </p:nvSpPr>
          <p:spPr>
            <a:xfrm>
              <a:off x="1357920" y="3003480"/>
              <a:ext cx="1656360" cy="1379520"/>
            </a:xfrm>
            <a:prstGeom prst="can">
              <a:avLst>
                <a:gd name="adj" fmla="val 25000"/>
              </a:avLst>
            </a:prstGeom>
            <a:solidFill>
              <a:srgbClr val="4f81bd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V="1">
              <a:off x="1357200" y="3952440"/>
              <a:ext cx="1629720" cy="419760"/>
            </a:xfrm>
            <a:prstGeom prst="ellipse">
              <a:avLst/>
            </a:prstGeom>
            <a:solidFill>
              <a:srgbClr val="4f81bd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38"/>
            <p:cNvSpPr/>
            <p:nvPr/>
          </p:nvSpPr>
          <p:spPr>
            <a:xfrm>
              <a:off x="2145240" y="4223520"/>
              <a:ext cx="60480" cy="3960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Oval 39"/>
            <p:cNvSpPr/>
            <p:nvPr/>
          </p:nvSpPr>
          <p:spPr>
            <a:xfrm>
              <a:off x="2145240" y="3162600"/>
              <a:ext cx="60480" cy="3960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 Box 40"/>
            <p:cNvSpPr/>
            <p:nvPr/>
          </p:nvSpPr>
          <p:spPr>
            <a:xfrm>
              <a:off x="2165760" y="4092840"/>
              <a:ext cx="32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 Box 41"/>
            <p:cNvSpPr/>
            <p:nvPr/>
          </p:nvSpPr>
          <p:spPr>
            <a:xfrm>
              <a:off x="2125800" y="3029760"/>
              <a:ext cx="32328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Line 42"/>
            <p:cNvSpPr/>
            <p:nvPr/>
          </p:nvSpPr>
          <p:spPr>
            <a:xfrm flipV="1">
              <a:off x="2175480" y="3175920"/>
              <a:ext cx="0" cy="1033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7" name="Picture 4" descr=""/>
          <p:cNvPicPr/>
          <p:nvPr/>
        </p:nvPicPr>
        <p:blipFill>
          <a:blip r:embed="rId4"/>
          <a:srcRect l="0" t="29355" r="57709" b="35325"/>
          <a:stretch/>
        </p:blipFill>
        <p:spPr>
          <a:xfrm>
            <a:off x="468360" y="4383000"/>
            <a:ext cx="1255680" cy="13813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"/>
          <p:cNvSpPr/>
          <p:nvPr/>
        </p:nvSpPr>
        <p:spPr>
          <a:xfrm>
            <a:off x="7159680" y="405288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8"/>
          <p:cNvSpPr/>
          <p:nvPr/>
        </p:nvSpPr>
        <p:spPr>
          <a:xfrm>
            <a:off x="5643720" y="41720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0" name="Group 49"/>
          <p:cNvGrpSpPr/>
          <p:nvPr/>
        </p:nvGrpSpPr>
        <p:grpSpPr>
          <a:xfrm>
            <a:off x="5986440" y="3827520"/>
            <a:ext cx="1595520" cy="1899720"/>
            <a:chOff x="5986440" y="3827520"/>
            <a:chExt cx="1595520" cy="1899720"/>
          </a:xfrm>
        </p:grpSpPr>
        <p:sp>
          <p:nvSpPr>
            <p:cNvPr id="531" name="Oval 26"/>
            <p:cNvSpPr/>
            <p:nvPr/>
          </p:nvSpPr>
          <p:spPr>
            <a:xfrm>
              <a:off x="5986440" y="5259240"/>
              <a:ext cx="1457280" cy="468000"/>
            </a:xfrm>
            <a:prstGeom prst="ellipse">
              <a:avLst/>
            </a:prstGeom>
            <a:solidFill>
              <a:srgbClr val="333399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Oval 31"/>
            <p:cNvSpPr/>
            <p:nvPr/>
          </p:nvSpPr>
          <p:spPr>
            <a:xfrm>
              <a:off x="6969240" y="4219920"/>
              <a:ext cx="108000" cy="107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 Box 32"/>
            <p:cNvSpPr/>
            <p:nvPr/>
          </p:nvSpPr>
          <p:spPr>
            <a:xfrm>
              <a:off x="7005600" y="3827520"/>
              <a:ext cx="5763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Freeform 14"/>
          <p:cNvSpPr/>
          <p:nvPr/>
        </p:nvSpPr>
        <p:spPr>
          <a:xfrm>
            <a:off x="2368440" y="3030480"/>
            <a:ext cx="331920" cy="1343160"/>
          </a:xfrm>
          <a:custGeom>
            <a:avLst/>
            <a:gdLst>
              <a:gd name="textAreaLeft" fmla="*/ 0 w 331920"/>
              <a:gd name="textAreaRight" fmla="*/ 332280 w 3319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499" h="2268">
                <a:moveTo>
                  <a:pt x="0" y="499"/>
                </a:moveTo>
                <a:lnTo>
                  <a:pt x="0" y="2268"/>
                </a:lnTo>
                <a:lnTo>
                  <a:pt x="499" y="1769"/>
                </a:lnTo>
                <a:lnTo>
                  <a:pt x="499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Рисунок 27" descr=""/>
          <p:cNvPicPr/>
          <p:nvPr/>
        </p:nvPicPr>
        <p:blipFill>
          <a:blip r:embed="rId5"/>
          <a:stretch/>
        </p:blipFill>
        <p:spPr>
          <a:xfrm>
            <a:off x="1979640" y="285840"/>
            <a:ext cx="2160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1619280" y="476280"/>
            <a:ext cx="68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й оце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5»-7 правильных отве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4» - 6 правильных отве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3» - 4-5 правильных отв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4"/>
          <p:cNvSpPr/>
          <p:nvPr/>
        </p:nvSpPr>
        <p:spPr>
          <a:xfrm>
            <a:off x="755640" y="-387360"/>
            <a:ext cx="7272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е задач ЕГЭ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5" descr=""/>
          <p:cNvPicPr/>
          <p:nvPr/>
        </p:nvPicPr>
        <p:blipFill>
          <a:blip r:embed="rId1"/>
          <a:stretch/>
        </p:blipFill>
        <p:spPr>
          <a:xfrm>
            <a:off x="1440" y="-24300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м итог работы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изучали сегодня на уро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а ли для нас данная тем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мы можем ее примени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оценить полученные нами знания? Усвоили ли мы и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люди каких профессий могут использовать знания, полученные при изучении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5" descr=""/>
          <p:cNvPicPr/>
          <p:nvPr/>
        </p:nvPicPr>
        <p:blipFill>
          <a:blip r:embed="rId1"/>
          <a:stretch/>
        </p:blipFill>
        <p:spPr>
          <a:xfrm>
            <a:off x="1440" y="-24300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яя контрольная работа по теме: «Цилинд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– квадрат, диагональ которого равна 20 см. Найдите высоту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— квадрат, пло­щадь основания цилиндра равна 16  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тка боковой поверхности цилиндра является квадратом, диагональ которого равна 10 см. Найдите площадь боков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ь, параллельная оси цилиндра, отсекает от окружности основания дугу в 12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цилиндра равна 5 см, радиус цилиндра равен 2   см. Найдите площадь с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, параллельное его оси, отсекает от окружности основания дугу 60˚. Расстояние от секущей плоскости до оси цилиндра равно 4 см, а угол между диагональю сечения и осью цилиндра равен 45˚. Найдите площадь полн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– квадрат, диагональ которого равна 20 см. Найдите площадь основания цилиндра. Осевое сечение цилиндра — квадрат, диа­гональ которого 4 см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— квадрат, диа­гональ которого 4 см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тка боковой поверхности цилиндра является прямоугольником, диагональ которого равна 8 см, а угол между диагоналями –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боков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 плоскостью, параллельной его оси есть квадрат. Эта плоскость отсекает от окружности основания дугу в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диус цилиндра равен 4 см. Найдите площадь с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, параллельное его оси, отсекает от окружности основания дугу 120˚. Радиус основания цилиндра равен 8 см, а угол между диагональю сечения и осью цилиндра равен 30º. Найдите площадь полн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5" descr=""/>
          <p:cNvPicPr/>
          <p:nvPr/>
        </p:nvPicPr>
        <p:blipFill>
          <a:blip r:embed="rId1"/>
          <a:stretch/>
        </p:blipFill>
        <p:spPr>
          <a:xfrm>
            <a:off x="936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1547640" y="3429000"/>
            <a:ext cx="692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4" descr=""/>
          <p:cNvPicPr/>
          <p:nvPr/>
        </p:nvPicPr>
        <p:blipFill>
          <a:blip r:embed="rId1"/>
          <a:stretch/>
        </p:blipFill>
        <p:spPr>
          <a:xfrm>
            <a:off x="936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3"/>
          <p:cNvSpPr/>
          <p:nvPr/>
        </p:nvSpPr>
        <p:spPr>
          <a:xfrm>
            <a:off x="1979640" y="184644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индр. Площадь поверхности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5" descr=""/>
          <p:cNvPicPr/>
          <p:nvPr/>
        </p:nvPicPr>
        <p:blipFill>
          <a:blip r:embed="rId1"/>
          <a:stretch/>
        </p:blipFill>
        <p:spPr>
          <a:xfrm>
            <a:off x="-1440" y="-100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868320" y="981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предстои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бщить и углубить знания о цилиндре и площади его поверх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решать задачи ЕГЭ по 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5" descr=""/>
          <p:cNvPicPr/>
          <p:nvPr/>
        </p:nvPicPr>
        <p:blipFill>
          <a:blip r:embed="rId1"/>
          <a:stretch/>
        </p:blipFill>
        <p:spPr>
          <a:xfrm>
            <a:off x="64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755640" y="1093680"/>
            <a:ext cx="779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  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арточка №5,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542880" y="1859040"/>
            <a:ext cx="805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5" descr=""/>
          <p:cNvPicPr/>
          <p:nvPr/>
        </p:nvPicPr>
        <p:blipFill>
          <a:blip r:embed="rId1"/>
          <a:stretch/>
        </p:blipFill>
        <p:spPr>
          <a:xfrm>
            <a:off x="33480" y="-171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4"/>
          <p:cNvSpPr/>
          <p:nvPr/>
        </p:nvSpPr>
        <p:spPr>
          <a:xfrm>
            <a:off x="868320" y="981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– первая фигура вращения, которую мы изучили. В дальнейшем мы изучим еще две фигуры, полученные аналогичным пут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ие предметы в окружающем мире представляют собой цилиндр. Его изучение поможет решать практические задачи, возникающие в нашей жизни. Данная тема также включена в задания  ЕГЭ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10" descr="7"/>
          <p:cNvPicPr/>
          <p:nvPr/>
        </p:nvPicPr>
        <p:blipFill>
          <a:blip r:embed="rId2"/>
          <a:stretch/>
        </p:blipFill>
        <p:spPr>
          <a:xfrm>
            <a:off x="741240" y="4600440"/>
            <a:ext cx="1324080" cy="1484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"/>
          <p:cNvPicPr/>
          <p:nvPr/>
        </p:nvPicPr>
        <p:blipFill>
          <a:blip r:embed="rId3"/>
          <a:stretch/>
        </p:blipFill>
        <p:spPr>
          <a:xfrm>
            <a:off x="7775640" y="1773360"/>
            <a:ext cx="1019160" cy="1611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4"/>
          <a:stretch/>
        </p:blipFill>
        <p:spPr>
          <a:xfrm>
            <a:off x="5713560" y="4005360"/>
            <a:ext cx="1709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"/>
          <p:cNvSpPr/>
          <p:nvPr/>
        </p:nvSpPr>
        <p:spPr>
          <a:xfrm>
            <a:off x="428760" y="48132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ая разминка (фронтальный опро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214200" y="150300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– это геометрическое тело, состоящее из двух равных кругов, расположенных в параллельных плоскостях и множества отрезков, соединяющих соответственные точки этих круг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-60120" y="10717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Какая фигура называется цилиндр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571680" y="23572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Почему цилиндр называют телом вращени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угольник 6"/>
          <p:cNvSpPr/>
          <p:nvPr/>
        </p:nvSpPr>
        <p:spPr>
          <a:xfrm>
            <a:off x="714240" y="28576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можно получить вращением прямоугольника вокруг одной из его сто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785880" y="3286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Назовите виды цилиндр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857160" y="3714840"/>
            <a:ext cx="742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лонные цилиндры, прямые цилинд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3" descr="C:\Users\1\Desktop\mietodichieskaia-razrabotka-kombinirovannogho-zaniatiia-dlia-priepodavatielia-po-tiemie-4-7-tsilindr_8.png"/>
          <p:cNvPicPr/>
          <p:nvPr/>
        </p:nvPicPr>
        <p:blipFill>
          <a:blip r:embed="rId2"/>
          <a:stretch/>
        </p:blipFill>
        <p:spPr>
          <a:xfrm>
            <a:off x="2000160" y="4071960"/>
            <a:ext cx="3929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2437200" y="35712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Назовите элементы цилинд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08000" y="19782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ания цилиндра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равные круги, расположенные в параллельных плоскост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84960" y="7786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ота цилиндра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расстояние между плоскостями его оснований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539640" y="84996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ус цилиндра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радиус его осн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5429160" y="19648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ь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прямая, проходящая через центры основания цилиндра (ось цилиндра является осью вращения цилиндр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143000" y="472968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ующая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отрезок соединяющий точку окружности верхнего основания с соответственной точкой окружности нижнего основания. Все образующие параллельны оси вращения и имеют одинаковую длину, равную высоте цилинд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2762280" y="728640"/>
            <a:ext cx="2742840" cy="4238280"/>
            <a:chOff x="2762280" y="728640"/>
            <a:chExt cx="2742840" cy="4238280"/>
          </a:xfrm>
        </p:grpSpPr>
        <p:sp>
          <p:nvSpPr>
            <p:cNvPr id="471" name="AutoShape 5"/>
            <p:cNvSpPr/>
            <p:nvPr/>
          </p:nvSpPr>
          <p:spPr>
            <a:xfrm>
              <a:off x="3302280" y="901440"/>
              <a:ext cx="1578960" cy="382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3295440" y="3745440"/>
              <a:ext cx="1571760" cy="595080"/>
              <a:chOff x="3295440" y="3745440"/>
              <a:chExt cx="1571760" cy="595080"/>
            </a:xfrm>
          </p:grpSpPr>
          <p:sp>
            <p:nvSpPr>
              <p:cNvPr id="473" name="Arc 7"/>
              <p:cNvSpPr/>
              <p:nvPr/>
            </p:nvSpPr>
            <p:spPr>
              <a:xfrm>
                <a:off x="3994560" y="3745440"/>
                <a:ext cx="872640" cy="5950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lnTo>
                      <a:pt x="233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Arc 8"/>
              <p:cNvSpPr/>
              <p:nvPr/>
            </p:nvSpPr>
            <p:spPr>
              <a:xfrm flipH="1">
                <a:off x="3295440" y="3745440"/>
                <a:ext cx="872640" cy="595080"/>
              </a:xfrm>
              <a:custGeom>
                <a:avLst/>
                <a:gdLst>
                  <a:gd name="textAreaLeft" fmla="*/ 360 w 872640"/>
                  <a:gd name="textAreaRight" fmla="*/ 873360 w 87264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lnTo>
                      <a:pt x="233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5" name="Line 9"/>
            <p:cNvSpPr/>
            <p:nvPr/>
          </p:nvSpPr>
          <p:spPr>
            <a:xfrm>
              <a:off x="3302280" y="136872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092120" y="1399320"/>
              <a:ext cx="0" cy="2896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 Box 11"/>
            <p:cNvSpPr/>
            <p:nvPr/>
          </p:nvSpPr>
          <p:spPr>
            <a:xfrm>
              <a:off x="2762280" y="91152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А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Text Box 12"/>
            <p:cNvSpPr/>
            <p:nvPr/>
          </p:nvSpPr>
          <p:spPr>
            <a:xfrm>
              <a:off x="4715640" y="94176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В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Text Box 13"/>
            <p:cNvSpPr/>
            <p:nvPr/>
          </p:nvSpPr>
          <p:spPr>
            <a:xfrm>
              <a:off x="3718080" y="72864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7c80"/>
                  </a:solidFill>
                  <a:latin typeface="Times New Roman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7c80"/>
                  </a:solidFill>
                  <a:latin typeface="Times New Roman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О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3302280" y="426564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 Box 15"/>
            <p:cNvSpPr/>
            <p:nvPr/>
          </p:nvSpPr>
          <p:spPr>
            <a:xfrm>
              <a:off x="3759480" y="408276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 Box 16"/>
            <p:cNvSpPr/>
            <p:nvPr/>
          </p:nvSpPr>
          <p:spPr>
            <a:xfrm>
              <a:off x="2783160" y="3716640"/>
              <a:ext cx="7686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 Box 17"/>
            <p:cNvSpPr/>
            <p:nvPr/>
          </p:nvSpPr>
          <p:spPr>
            <a:xfrm>
              <a:off x="4736160" y="374724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5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"/>
          <p:cNvSpPr/>
          <p:nvPr/>
        </p:nvSpPr>
        <p:spPr>
          <a:xfrm>
            <a:off x="1071720" y="35784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) Что представляет собой развертка цилинд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3" descr="C:\Users\1\Desktop\img6.jpg"/>
          <p:cNvPicPr/>
          <p:nvPr/>
        </p:nvPicPr>
        <p:blipFill>
          <a:blip r:embed="rId2"/>
          <a:stretch/>
        </p:blipFill>
        <p:spPr>
          <a:xfrm>
            <a:off x="6929280" y="500040"/>
            <a:ext cx="1928880" cy="17146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"/>
          <p:cNvSpPr/>
          <p:nvPr/>
        </p:nvSpPr>
        <p:spPr>
          <a:xfrm>
            <a:off x="785880" y="716760"/>
            <a:ext cx="61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ерткой боковой поверхности цилиндра является прямоугольник со сторонами H и C, где H – высота цилиндра, а C – длина окружности осн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6"/>
          <p:cNvSpPr/>
          <p:nvPr/>
        </p:nvSpPr>
        <p:spPr>
          <a:xfrm>
            <a:off x="285840" y="1428840"/>
            <a:ext cx="678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 Назовите основные виды сечений цилиндра. Какая фигура получается в каждом случа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3786120" y="229248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евое сечение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ечение цилиндра плоскостью, проходящей через ось цилиндра (осевое сечение цилиндра является плоскостью симметрии цилиндра). Все осевые сечения цилиндра – равные прямоуголь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857160" y="457848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чение плоскостью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араллельной оси цилиндра. В сечении – прямоуголь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чение плоскостью перпендикулярной оси цилиндра. В сечении круги, равные основа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35"/>
          <p:cNvGrpSpPr/>
          <p:nvPr/>
        </p:nvGrpSpPr>
        <p:grpSpPr>
          <a:xfrm>
            <a:off x="1714680" y="2143080"/>
            <a:ext cx="1571040" cy="1838880"/>
            <a:chOff x="1714680" y="2143080"/>
            <a:chExt cx="1571040" cy="1838880"/>
          </a:xfrm>
        </p:grpSpPr>
        <p:sp>
          <p:nvSpPr>
            <p:cNvPr id="492" name="AutoShape 36"/>
            <p:cNvSpPr/>
            <p:nvPr/>
          </p:nvSpPr>
          <p:spPr>
            <a:xfrm>
              <a:off x="1716120" y="2143080"/>
              <a:ext cx="1569600" cy="1785960"/>
            </a:xfrm>
            <a:prstGeom prst="can">
              <a:avLst>
                <a:gd name="adj" fmla="val 24986"/>
              </a:avLst>
            </a:prstGeom>
            <a:solidFill>
              <a:srgbClr val="4f917e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37"/>
            <p:cNvSpPr/>
            <p:nvPr/>
          </p:nvSpPr>
          <p:spPr>
            <a:xfrm>
              <a:off x="1714680" y="3483000"/>
              <a:ext cx="1569600" cy="446040"/>
            </a:xfrm>
            <a:prstGeom prst="ellipse">
              <a:avLst/>
            </a:prstGeom>
            <a:solidFill>
              <a:srgbClr val="4f917e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38"/>
            <p:cNvSpPr/>
            <p:nvPr/>
          </p:nvSpPr>
          <p:spPr>
            <a:xfrm>
              <a:off x="2462040" y="3722400"/>
              <a:ext cx="57240" cy="50400"/>
            </a:xfrm>
            <a:prstGeom prst="ellipse">
              <a:avLst/>
            </a:prstGeom>
            <a:solidFill>
              <a:srgbClr val="4f917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val 39"/>
            <p:cNvSpPr/>
            <p:nvPr/>
          </p:nvSpPr>
          <p:spPr>
            <a:xfrm>
              <a:off x="2462040" y="2349720"/>
              <a:ext cx="57240" cy="50400"/>
            </a:xfrm>
            <a:prstGeom prst="ellipse">
              <a:avLst/>
            </a:prstGeom>
            <a:solidFill>
              <a:srgbClr val="4f917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Text Box 40"/>
            <p:cNvSpPr/>
            <p:nvPr/>
          </p:nvSpPr>
          <p:spPr>
            <a:xfrm>
              <a:off x="2481120" y="3552840"/>
              <a:ext cx="3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1"/>
            <p:cNvSpPr/>
            <p:nvPr/>
          </p:nvSpPr>
          <p:spPr>
            <a:xfrm>
              <a:off x="2443320" y="2176200"/>
              <a:ext cx="306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42"/>
            <p:cNvSpPr/>
            <p:nvPr/>
          </p:nvSpPr>
          <p:spPr>
            <a:xfrm flipV="1">
              <a:off x="2490480" y="2367000"/>
              <a:ext cx="0" cy="1338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4"/>
          <p:cNvGrpSpPr/>
          <p:nvPr/>
        </p:nvGrpSpPr>
        <p:grpSpPr>
          <a:xfrm>
            <a:off x="1785960" y="1785960"/>
            <a:ext cx="1663200" cy="2571840"/>
            <a:chOff x="1785960" y="1785960"/>
            <a:chExt cx="1663200" cy="2571840"/>
          </a:xfrm>
        </p:grpSpPr>
        <p:sp>
          <p:nvSpPr>
            <p:cNvPr id="500" name="Freeform 16"/>
            <p:cNvSpPr/>
            <p:nvPr/>
          </p:nvSpPr>
          <p:spPr>
            <a:xfrm>
              <a:off x="2894760" y="1785960"/>
              <a:ext cx="554400" cy="1785960"/>
            </a:xfrm>
            <a:custGeom>
              <a:avLst/>
              <a:gdLst>
                <a:gd name="textAreaLeft" fmla="*/ 0 w 554400"/>
                <a:gd name="textAreaRight" fmla="*/ 554760 w 55440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4"/>
            <p:cNvSpPr/>
            <p:nvPr/>
          </p:nvSpPr>
          <p:spPr>
            <a:xfrm>
              <a:off x="2340360" y="2178720"/>
              <a:ext cx="554040" cy="17859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5"/>
            <p:cNvSpPr/>
            <p:nvPr/>
          </p:nvSpPr>
          <p:spPr>
            <a:xfrm>
              <a:off x="1785960" y="2571840"/>
              <a:ext cx="554400" cy="1785960"/>
            </a:xfrm>
            <a:custGeom>
              <a:avLst/>
              <a:gdLst>
                <a:gd name="textAreaLeft" fmla="*/ 0 w 554400"/>
                <a:gd name="textAreaRight" fmla="*/ 554760 w 55440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AutoShape 19"/>
          <p:cNvSpPr/>
          <p:nvPr/>
        </p:nvSpPr>
        <p:spPr>
          <a:xfrm>
            <a:off x="5786280" y="3786120"/>
            <a:ext cx="2071800" cy="2092320"/>
          </a:xfrm>
          <a:prstGeom prst="can">
            <a:avLst>
              <a:gd name="adj" fmla="val 31393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Group 49"/>
          <p:cNvGrpSpPr/>
          <p:nvPr/>
        </p:nvGrpSpPr>
        <p:grpSpPr>
          <a:xfrm>
            <a:off x="5786280" y="4786200"/>
            <a:ext cx="2071800" cy="813960"/>
            <a:chOff x="5786280" y="4786200"/>
            <a:chExt cx="2071800" cy="813960"/>
          </a:xfrm>
        </p:grpSpPr>
        <p:sp>
          <p:nvSpPr>
            <p:cNvPr id="505" name="Oval 26"/>
            <p:cNvSpPr/>
            <p:nvPr/>
          </p:nvSpPr>
          <p:spPr>
            <a:xfrm>
              <a:off x="5786280" y="4786200"/>
              <a:ext cx="2071800" cy="7858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31"/>
            <p:cNvSpPr/>
            <p:nvPr/>
          </p:nvSpPr>
          <p:spPr>
            <a:xfrm>
              <a:off x="6771240" y="5119200"/>
              <a:ext cx="75600" cy="900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32"/>
            <p:cNvSpPr/>
            <p:nvPr/>
          </p:nvSpPr>
          <p:spPr>
            <a:xfrm>
              <a:off x="6796800" y="4789800"/>
              <a:ext cx="40464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8:39:53Z</dcterms:created>
  <dc:creator>1</dc:creator>
  <dc:description/>
  <dc:language>en-US</dc:language>
  <cp:lastModifiedBy>COS_8</cp:lastModifiedBy>
  <dcterms:modified xsi:type="dcterms:W3CDTF">2023-11-13T08:38:00Z</dcterms:modified>
  <cp:revision>55</cp:revision>
  <dc:subject/>
  <dc:title>Слайд 1</dc:title>
</cp:coreProperties>
</file>