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54B0-813F-4FF7-BC88-556E5306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ACA-AEDA-4B04-A9C5-A0CA6616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CF325-1D95-4F7A-8D03-2EC89B42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12E36-F97B-492F-8713-174CA09D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34CC9-2ADD-4528-967B-901BF0B3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9822D-600D-479F-AB4E-41D24AFB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3E60E-D9D0-4B24-9373-DA98A33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49ED9-EABB-4D48-81ED-61D2FEEB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E93F3-B467-4C96-97D5-5E9D49D6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9B370-24F1-4358-8634-D35C8441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10FF9-4E67-4E89-A807-E8E8BA1A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E00EC-8CDA-4E12-899B-F3DD1979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4A0-91E6-465C-8731-8C988D4D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58233-7C0B-42BD-8AFE-82752DA1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B89A9-B3C3-47AB-B8DE-5054C193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73C19-8FDB-4976-B89C-2837D066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34D7D-B139-4EF3-A6F1-0E959C8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2284F-E69C-4787-8CDB-40508FD7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50520-2D18-4EA1-9901-39A571DD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CF51B-1963-4D2F-9E68-30A1F66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A9841-8645-4FA5-AED2-36F93472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9A6E5-8283-4704-8F73-FE47F4EB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E0F1E-F549-44B8-8CD1-92119D0B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896-5CF2-4A90-BCA3-83A79C04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578FD-D970-47FF-B320-CF1F36E3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300D8-D6C2-4153-B55B-7AC8036B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5B6E0-4E81-4DC8-B1DD-F920ED64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3DDE8-2685-477E-9953-3D7695E1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2279B-3053-40FC-ACFA-1FAB6B2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B5123-8DE7-47ED-A85E-A2081A75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CBE55-FAC7-4B92-B359-0201DC4C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A478E-F6E3-4632-9CD2-23977713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71A12-DC97-4892-95FF-BABEC2CD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CC8D0-8FFE-4A9E-8033-770E3AE5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D32C-318B-41FF-980F-BE1A9B80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BEB09-0A6E-4D41-8DB6-69BAF868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C33DC-C919-42D9-871D-77ADB603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F8B9A-54A5-43CB-AA1A-F01F6674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09D3C-42C5-4EA6-B7F8-637EC96F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A6DE2-7B75-44A2-8D78-57A1D41A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CA157-922C-4F81-9188-248EEA01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2C9A8-F72A-49FE-A011-1C945D74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68C84-B74B-410F-8B5F-20D4DAD8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86A9B-76C1-46ED-A6C3-71C9BFD4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DC11E-E589-4ECB-84F4-FF5003D5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DA14-A906-4189-B8A0-B8E57CB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F4C66-EB36-4973-B8E1-CDC19E2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B2C41-9A18-44BB-AE9D-C001F32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388A4-B6C7-409D-BEBE-7EE82A5E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91522-4CDA-464B-BB9D-356798EC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17704-0696-450B-BCF5-F9F437C6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9D43-3D5D-45A6-B3B3-8F7C56B3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6EBA-0D15-4FCF-AE5A-8DB70216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06A0-0631-4E91-9DBB-9D81132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1B97-2087-45A8-84BD-8D197A67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CE63-0DB3-4202-82AF-DD996A0F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C41-30B9-4233-BA3A-CEBEA51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6EF3-70E2-4B82-8185-3254FF7D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398E-EB18-4600-A825-ED40777F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3448-F96C-480B-A25F-5743832C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B9BB-C969-4C87-B604-C42DC92B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2EF3-76FD-4016-8F4B-8091555E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1751C-A513-4FA3-8516-7DC02749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3883-E03E-4508-849B-95066E60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4BD7E-CC62-4CC8-A96A-0F4D08C8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DD619-39D5-4A3C-B7CE-866792BA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2706F-4D00-45B4-A542-DB3122F8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5D2-BDCC-40B1-AA4A-D5338487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B99E6-C1BE-4380-954D-6B1E17F2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4055-4B35-4D95-873D-F11D7782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D817A-8484-4C80-85F2-DE268B0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5E94-5781-4738-B50B-4D87818A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CC09-BF16-4D77-9BC5-86790E28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72C65-63FE-445B-B411-DC9BB0BF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CCE6D-07E0-4725-85AB-AD09CFF0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15AAE-57F4-4A83-A1D9-E6F514BD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44A6F-48C9-42CB-A379-2ABC7732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84BDA-31CB-4AD1-B7DC-9BA890BF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47E-468D-484C-A2C5-3F8165B6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A0927E-B540-4A0C-A741-848772E2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3DB45-743F-469E-AB14-AB2CEC7A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958D2F-BE31-48CD-A4E9-3C7776B6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BD2817-72BA-4AC8-86CA-8CFC6FAD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522AB-BE4C-4851-BE30-10D9C3B6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36946-B481-4C46-83DE-994EBB14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46C9E-029F-4207-983E-7399CAC2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4EC8E-2115-4A94-902E-1BFAB81C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1AF5F8-462A-4493-91B2-B59CA5B9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A4A6-A25C-47CD-909B-FDB86651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67A-897E-4963-856F-CBAF5EC0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1840-03E0-4435-91BD-75602B5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09F07-30A9-4A74-BDAD-F44C0531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556CD-4851-48A6-9D02-A19D4F81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BF1A2-991F-4A83-A4D1-7B238505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B4554-E081-47AA-91D6-97959419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46575-0FDD-4E8D-91B2-65F15546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6A89D-C350-435F-86F6-2972E5AC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A011-A220-4A97-9D07-6A945AD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AE7A-DCD2-452A-8436-C8A7C125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88D1-E03D-4757-AB30-FE8982CB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307-E903-49F8-B501-FB6044F9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D042-A2CC-41DE-BB8F-34967585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FA96-FE72-4EFC-8B2F-7182064A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2222A-0F53-456A-9BD7-2DCA1BE5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DDE6-0E02-4104-B854-464DE2AA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C52F5-4E1B-4325-93A6-7C98CD9D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42447-6DC1-45E4-8C2A-DCD390FE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97E17-29B6-477A-824C-C3F58F54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F621E-25D1-4C4B-907F-A1B65B9F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59C25-DED2-4FA6-ADC7-EEFB23D7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5581C-FA78-4592-81CB-D1C75B43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AB1-DFBE-47FB-A766-DAB36794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F612A-BE3F-49AF-94FE-95CAF520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43484-D3EB-4AA4-8B29-6142F0F1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04041-149F-49BA-B90F-8A85F75C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62FAB-D5A4-4D9C-95E6-048F1173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26507-DC7D-42E7-BB1E-4951715E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CF39E-EB1B-45DB-B4A0-35C2AC7D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726E71-6885-4395-BCFA-6FC21C5E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CDDAD3-F443-44AD-AD06-E74946DD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EAFD2-ACA3-4210-A319-AAB19389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C40F6A-D6D2-413A-BDE7-4250F741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EA73-7EFA-433B-A4D8-7F49910E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33F24-52FB-426C-B2A5-A94B45F3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4B9EF-1B14-4EBB-A5BA-4A8848B3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13B5C-F7DC-4EA2-8362-60BB7B53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C253E-016C-4DB8-90F4-5B8967A3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EFD1F-060A-4393-B039-8913A9E1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76CFA-40B7-49A2-8518-A146AD88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67824-AC12-4D2E-B26B-95F66450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A406C-7399-4EC6-8F61-10E90A92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05963-CCAB-4553-9B53-D497983E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13EA1-A903-4106-B2FF-8D3F307F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5CC-F556-4FC0-B5DF-EFC03FA2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545EF-A5FE-4144-9169-A569CDF3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B1465-B689-4601-A149-158342D3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FE9FC-BE13-4E86-B6A3-6BD34E86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734AA-55F9-4EAE-A913-E1204306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855AE-4784-4BE3-A4AF-F7BF0354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30D96-AF8D-4322-A95D-D405835D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E918C-6251-4816-93DA-9525089DF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92503-60D9-41E3-BFC0-DFECE07F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65ED0-6805-46B1-9D13-C9A19296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75167-C429-46B9-B9AD-F59456B6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1978-E7DE-4F6E-A9B9-54A65F3A02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36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4B9E-C067-4C94-951F-7E260FB4EE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9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9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CD51-BFEF-4F82-9327-53705CBF8DF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0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6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9A88-1968-4DBD-B4D0-493A84E0055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06CA-9E97-4A88-982A-263898D240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5025-8F51-4530-8E32-62BF8E63FC9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3C8D-3D74-49F3-B936-C9D5FFC59CE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0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B8F3-D62C-4E7D-A70E-6021EA2DB6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A0EA-F61D-4BD8-BDD0-48CDA30DFCB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0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2287-9DFA-4A4F-A08B-D5ED640784C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6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0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1495-2294-4A0A-A1A5-FB40AA745CD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77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78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8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8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7E2E-57A8-4DE4-B49F-AA687EE8A9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ffff"/>
                </a:solidFill>
                <a:latin typeface="Tahoma"/>
              </a:rPr>
              <a:t>Познавательные способности детей с ЗПР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d6ff"/>
                </a:solidFill>
                <a:latin typeface="Tahoma"/>
              </a:rPr>
              <a:t>Составила учитель-дефектолог Чайка Д.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9144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Дети с задержкой психического развития приходят к школе с особенностями, которые выражаются в отсутствии школьной готовности: знания и представления об окружающей действи­тельности у них неполноценны, обрывочны, основные мыслительные операции сформированы недостаточно, а имеющиеся неустойчивы, познавательные интересы выражены крайне слабо, учебная мотивация отсутствует, проявляемое ими желание идти в школу связано лишь с внешней атрибутикой (приобретение ранца, карандашей, тетрадей и т.п.), речь не сформирована до необходимого уровня, в частности отсутствуют даже элементы моно­логической речи, произвольная регуляция поведения отсутству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Вследствие этих особенностей детям с задержкой психическо­го развития чрезвычайно трудно соблюдать школьный режим, подчиняться четким правилам поведения, т.е. обнаруживаются трудно­сти школьной адаптации. Во время уроков они не могут усидеть на месте, вертятся, встают, перебирают предметы на столе и в сумке, лезут под стол. На переменках бесцельно бегают, кричат, часто за­тевают бессмысленную возню. Существенную роль в таком поведе­нии играет и свойственная большинству из них гиперактив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</a:rPr>
              <a:t>Учебная деятельность их характеризуется низкой продуктивностью: они часто не усваивают задания, даваемые учителем, не могут на относительно длительное время сосредоточиться на их выполнении, отвлекаются на любые посторонние стимул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Восприят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При отсутствии первичных недостатков зрения, слуха и других видов чувствительности у них отмечаются замедленность и фрагментарность восприятия, труд­ности выделения фигуры на фоне и деталей в сложных изображе­ниях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месте с тем не наблюдается каких-либо трудностей в узнавании детьми знакомых им объектов на реалистических изображе­ниях, что дополнительно свидетельствует об отсутствии первич­ной недостаточности сенсорных функци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Неточность и замедленность восприятия в наибольшей мере проявляются в младшем школьном возрасте, когда обнаружива­ются связанные с недостатками восприятия ошибки при списы­вании текста, воспроизведении фигур по зрительно представлен­ным образцам и т. п. В наибольшей мере эти недостатки проявля­ются при усложнении и ухудшении условий восприятия, когда, например, изображения демонстрируются повернутыми или ког­да уменьшается их яркость и четкость. Конечно, изменение условий восприятия влияет и на нормально развитых детей, но количественные различия этих изменений чрез­вычайно велик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С возрастом восприятие детей с задержкой психического раз­вития совершенствуется, особенно значительно улучшаются по­казатели времени реакции, отражающие скорость восприяти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9" name="Picture 5" descr="j0217698"/>
          <p:cNvPicPr/>
          <p:nvPr/>
        </p:nvPicPr>
        <p:blipFill>
          <a:blip r:embed="rId1"/>
          <a:stretch/>
        </p:blipFill>
        <p:spPr>
          <a:xfrm>
            <a:off x="5562720" y="5164200"/>
            <a:ext cx="3174840" cy="1693800"/>
          </a:xfrm>
          <a:prstGeom prst="rect">
            <a:avLst/>
          </a:prstGeom>
          <a:ln w="0">
            <a:noFill/>
          </a:ln>
        </p:spPr>
      </p:pic>
      <p:pic>
        <p:nvPicPr>
          <p:cNvPr id="730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1" name="Прямоугольник 2"/>
          <p:cNvSpPr/>
          <p:nvPr/>
        </p:nvSpPr>
        <p:spPr>
          <a:xfrm>
            <a:off x="457200" y="401760"/>
            <a:ext cx="8686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обенности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специальных психолого-педагогических исследованиях отмечаются такие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собенности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у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етей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ЗПР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ак неустойчивость (колебания)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оторая ведет к снижению продуктивности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обуславливает трудности выполнения заданий, требующих постоянного контроля, свидетельствует о незрелости нервной системы; снижение объема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 сниженная избирательность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 сниженное распределение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 «прилипание </a:t>
            </a:r>
            <a:r>
              <a:rPr b="1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нимания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Особенности памя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720" y="990360"/>
            <a:ext cx="9372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К  особенностям относятс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- недоразвитие самоконтроля, которое проявляется наиболее ярко в привнесениях при воспроизведении и в изменениях слов, предлагавшихся для запомин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- слабая избирательность памяти, что показано в экспериментах на опосредствованное запоминание, когда вместо слова, для запоминания которого была выбрана определенная картинка, вос­производилось название предмета, на ней изображенног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- неумение преднамеренно применять рациональные способы запоминания (например, использовать план при запоминании связ­ного текста или определенным образом соотнести, осмыслить за­поминаемый материал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2121"/>
                </a:solidFill>
                <a:latin typeface="Tahoma"/>
              </a:rPr>
              <a:t>Мышление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Особенностью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мышления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детей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ЗПР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является отсутствие внутреннего плана при решении задач. Часто такие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дети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игнорируют инструкции, от чего страдает результативность деятельности. Задачи решают поспешно, наугад, без учета условий, ориентируясь в первую очередь на собственную интуицию, ему будет сложно объяснить ход своих мыслей. Их </a:t>
            </a:r>
            <a:r>
              <a:rPr b="1" lang="ru-RU" sz="3200" spc="-1" strike="noStrike">
                <a:solidFill>
                  <a:srgbClr val="363636"/>
                </a:solidFill>
                <a:latin typeface="Tahoma"/>
              </a:rPr>
              <a:t>мышление</a:t>
            </a:r>
            <a:r>
              <a:rPr b="0" lang="ru-RU" sz="3200" spc="-1" strike="noStrike">
                <a:solidFill>
                  <a:srgbClr val="363636"/>
                </a:solidFill>
                <a:latin typeface="Tahoma"/>
              </a:rPr>
              <a:t> шаблон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енности речевого разви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из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П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является отставание в овладении ими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ю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позднее возникновение периода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ско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ловотворчества, запаздывание периода образования новых слов (неологизмов), слабая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ев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активность, бедность, недифференцированность словаря, недостаточная сформированность грамматического строя, низкий уровень ориентировки в звуковой действительности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лабое осознание звукового строения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обенности эмоционально-волевой сферы 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ет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держк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сихическог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вит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отмечаются следующие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в развитии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моциональн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олев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фер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инфантилизм; выраженная эмоциональная истощаемость;  замедленное формирование положительных эмоциональных реакций; частая смена настроения;  пониженный фон настроения;  эмоциональная неустойчивость; низкая эмоциональная компетентность; агрессия, аутоагресс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чебно-коррекционная работа с детьми с проблемами в обучении</a:t>
            </a:r>
            <a:br>
              <a:rPr sz="2600"/>
            </a:br>
            <a:r>
              <a:rPr b="1" lang="ru-RU" sz="2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иболее общие принципы и правила работы:</a:t>
            </a:r>
            <a:endParaRPr b="0" lang="en-US" sz="2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 Необходимо осуществлять индивидуальный подход к каждому ребенку как на уроках общеобразовательного цикла, так и во время специальных занят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 Необходимо предотвращать наступление утомления, используя для этого разнообразные средства(чередование умственной и практической деятельности, преподнесение материала небольшими дозами, использование интересного и красочного дидактического материала и средства наглядности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3.  В процессе обучения следует использовать те методы, с помощью которых можно максимально активизировать познавательную деятельность детей, развивать их речь и формировать необходимые навыки учебной де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11-08T12:21:3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f0000000000010243100207f6000400038000</vt:lpwstr>
  </property>
  <property fmtid="{D5CDD505-2E9C-101B-9397-08002B2CF9AE}" pid="3" name="Version">
    <vt:r8>1</vt:r8>
  </property>
</Properties>
</file>