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63D-34DD-4599-A88A-AD093FA5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8B3-075F-4234-ADF4-553C979F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32F2F-F1B2-484C-A60F-6FB72B61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1DCDC-EDFE-412B-8624-40190A08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92F7E-1B9B-4929-AAA7-BB462478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5512A-DAE7-4183-AF5C-61AEE74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FC1A5-9A82-4D12-AC73-D16E0513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89834-B7FD-4B72-A118-533E4157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329AA-B3E7-4965-AE12-B5CE1034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1B548-240D-4B2A-938F-94A31AE4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58A1B-A095-4A9C-8BE7-960A5435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2F281-8A99-444C-A084-06639CBE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C56-D1B0-46C8-828B-2B5FDC00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FDF76-C536-4963-A267-B2628C35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D5613-E848-42B9-BBA9-CB5CF77E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829BA-C1A6-4A28-9C27-16D58705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0FB5D-FA9D-486B-ACB2-9C831597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773B4-F205-406A-AAEB-9873AE2C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16257-E286-4F05-BB8A-7108F24E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5821D-051B-40E8-BA17-E479655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7E538-BDAC-4743-9AB7-34384630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98650-0014-4767-B48F-7C132AF5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92682-D9A9-4892-B5C1-6903AA13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CE8-40FA-4427-864A-19A098D3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9D0D6-5C3F-4BC5-A90C-B75A346F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C8D62-C8D0-4AC9-AC64-8988BC96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D827D-6097-4F55-8574-CE5F5B4C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D80E5-3560-4758-96A1-F3431102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7B828-B318-4DD0-BF2E-ADF569C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76CC1-1D84-4E74-9642-B908E530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3F10A-4D4B-4AE3-9DD9-841547F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79CB0-CC57-4BDB-B32A-2C0459BD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F5D5D-4506-4003-928A-A139DF3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36026-D3D7-445E-ADE9-8F840B88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9AA9-8994-4236-80BD-7F266D4A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6D8B7-D06D-46F1-B360-4A5E51E7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7A9EB-87DA-4D51-B985-0EA8A602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94024-2D06-42AC-A122-6252D9EC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86722-911E-4DE4-A3B9-B89C6660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8F262-42E9-43B4-9628-5444F088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373CB-4E95-482C-85EF-2E09EBED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48652-FFA1-4D4C-ADA1-258C5BC8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EAA8F-7E39-4015-9676-290A0B25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062D6-BACE-48DD-BC6D-A5338026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C2D88-B57F-431F-8633-6A3ACE1E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0FBA-A810-4DA3-BD01-C90ED573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32192-F000-48B6-B1BB-16D6625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F42B8-9E0D-4FE9-AD3A-4DD8CB1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B84B1-692C-403E-AE99-160EEC09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120DE-1111-4159-99AE-D9DDE7CD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0708F-FF51-44A0-9AD7-D63E2614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D834-AE85-4C33-B60A-D470BB56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460-9CF0-41AB-A897-6393E647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60EB-4393-434C-9C8B-50B61F0D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FE3F-928E-48C5-B6F9-CA793BD1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09E3-8D93-4AB6-A92B-1AC16E98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8DA-26CC-4905-9887-91C5C19F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174A-F982-4F51-B8E0-DB034B77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42AE-47FD-40FB-8DF2-297E6AAF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BCBC-3429-49CF-854E-FE7883EF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DDC0-90D3-4917-AC29-8ABB5DCA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7F87-109B-4EA3-98D4-D922ACD2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03B4-C499-4A08-B372-11DDE2E7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2CC1-B9AE-4B77-837F-1BD9717B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AC70-BDB4-4AD2-8854-08AA5760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5788-B4B8-448F-A731-970F0074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A31F-C1F1-4EC0-8477-D4F20F49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FA0-0D4F-48AD-AD26-B8F56A80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6604F-37A2-4863-A568-43F519C2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6E9B-9F4C-449B-BC77-BC58DC30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6EFD-7E30-47AD-8C91-51D068D9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8B18-BC29-47B9-A16D-34B6DCEE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A8F4-55F2-41C5-AB17-8A731FE3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2C34-AF58-40AA-82FE-C40272AC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794F-E42E-4827-A48E-017027C2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E11D2-CCB8-40AE-9415-B740E818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A3646-0C04-428F-98AE-48BE7F41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97D24-7D88-4C61-B659-22F8E9E5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0EB-CFD0-4B45-86FB-DD688C06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9942D-126D-4075-9BAF-E7358008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A5D52C-58C0-44C3-AC6B-40F1E73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CC909-212C-48B8-8EA2-0C456DE5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D3310-03C9-48CA-8146-B79570BA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909A2-3668-40AE-8FE3-DF69A08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CB324-5240-408F-B6E5-6BA859E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98AA8-B012-42B5-8094-008D5CC9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F10F5-6541-4F9E-A5A0-E24E6618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00B29-D5A3-4BC3-BC60-0F7A28D7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656A-6D5B-4A32-85E9-F609ABF1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8F0-B878-4EA8-8AAB-D0786F4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18A3-B2A0-4018-ABCD-043B478E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7FCD-62B0-43F8-ACEF-3EE0203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71BE-71C1-41A1-87E0-A63A0346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CBEAD-2D16-4C3F-AD1F-43D7C935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16BB-B7A9-48A1-B86C-6DE0C754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023B-EB60-40C4-8BA1-5269CF1C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BF3E4-800E-45F8-BAF4-740A76A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AB0CB-04D7-44BD-ACFB-092043F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BF2E-6C28-4AE7-B6EA-1950E95E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8ABC2-0A9E-4A99-B3C8-74FDAE7F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7BD-447F-4673-BC77-25B283BD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44D1C-0E40-4AB5-AEE6-B1213E49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D878B-9D91-4953-937B-34BBAD7A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380E8-01F3-416B-B5F7-A5FD15B1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3C20B-C46D-4CC8-B3DB-61DDA882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07AE-9D69-42C1-B0FF-5AE29B5D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86FD-37D0-470F-9FA1-A3F69780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883A-A966-4A19-9423-F1A327E2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5FA63-24C5-45FF-BA96-C9D66183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F64F-E53B-41E4-9E12-8F1206D7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5A87F-2797-4F37-8711-594F9641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B08-339B-472B-850E-C79335BD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13C6C-D2AA-40A1-B3FD-85F47413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46241-5B18-4042-BD80-362C5192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554C-FA2A-4EFB-9E7A-06B0929E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2F467-2E85-4A9B-8620-58911D8A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6227E6-BAB0-4030-80B7-C74CA733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BEEC0-2573-4105-B5EC-2C53A74A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81092-EC27-47CF-A37F-A60EA090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7DFB4-70BE-4B1E-A2E5-21437038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8A453-093E-4EC8-91FA-AE88A872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5966B-FF08-4298-951E-DEE98CE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6F1-92A6-4948-B9DF-0C5B5311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40EB8-A7E6-4C47-B094-542D7FDA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092C8-4DD8-4A14-9115-9EFF641B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3C3A0-9B6F-4387-BE5B-710583C0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4B65D-EEF6-479F-8073-38CE8798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4F3BB-ADA2-4702-9FC1-22540151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B5B79-3E39-4BC2-B6AF-34BC23A4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ECDEA-0007-4B59-AD26-A74A22B9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56F28-C3CB-4712-9439-C68AF23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138B5-12CA-4F47-A7B3-5E21752B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B9D79-A7EC-47CD-A0A9-48EB9DAC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88A-5340-492A-B656-27682C45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D918-CC9B-489C-BDDF-7671C41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148D0-0F53-48F1-AFD1-0A261A6E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EF34-CB56-47D6-8A4B-2B11868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C949A-22FD-4326-8463-309D717B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A5667-1DC9-4E0D-B5F5-640DE985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8DEE8-C407-4CA3-8224-D847DE62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1E01-AC64-481E-BF3B-48FF5F55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072FC-3809-455D-B949-0D96531C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BB224-AE86-4737-A4F6-F82BC51B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5A2AD-6435-4AC4-ADE1-9D4E5092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1DB8-75B8-4040-B036-9A804BA2E6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3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50BE-9D68-4B98-955E-4116322CCA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9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9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A926-5CB9-4B01-BE42-A5BF0707C0D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A8C0-80D6-4295-B6D8-7F0F492B8BC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BAE1-0419-40B0-8209-382AFBDC94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5D82-E9F2-47C2-9A1C-D866803B60C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6BDF-5670-4061-8B8B-0B69A02123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626E-C55F-4EFD-96B8-AC37D8BB9B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07F5-EDC2-4CF6-B5A7-B1C3D3D51EF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0057-7824-4648-AF0E-19CFDADCA95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6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0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91F0-83CA-4B0C-985A-36A97601E5A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7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7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8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C334-DAB2-4387-BAC4-A3F02172E9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знавательные способности детей с ЗПР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d6ff"/>
                </a:solidFill>
                <a:latin typeface="Tahoma"/>
              </a:rPr>
              <a:t>Составила учитель-дефектолог Чайка Д.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Дети с задержкой психического развития приходят к школе с особенностями, которые выражаются в отсутствии школьной готовности: знания и представления об окружающей действи­тельности у них неполноценны, обрывочны, основные мыслительные операции сформированы недостаточно, а имеющиеся неустойчивы, познавательные интересы выражены крайне слабо, учебная мотивация отсутствует, проявляемое ими желание идти в школу связано лишь с внешней атрибутикой (приобретение ранца, карандашей, тетрадей и т.п.), речь не сформирована до необходимого уровня, в частности отсутствуют даже элементы моно­логической речи, произвольная регуляция поведения отсутству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Вследствие этих особенностей детям с задержкой психическо­го развития чрезвычайно трудно соблюдать школьный режим, подчиняться четким правилам поведения, т.е. обнаруживаются трудно­сти школьной адаптации. Во время уроков они не могут усидеть на месте, вертятся, встают, перебирают предметы на столе и в сумке, лезут под стол. На переменках бесцельно бегают, кричат, часто за­тевают бессмысленную возню. Существенную роль в таком поведе­нии играет и свойственная большинству из них гиперактив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Учебная деятельность их характеризуется низкой продуктивностью: они часто не усваивают задания, даваемые учителем, не могут на относительно длительное время сосредоточиться на их выполнении, отвлекаются на любые посторонние стимул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Восприят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и отсутствии первичных недостатков зрения, слуха и других видов чувствительности у них отмечаются замедленность и фрагментарность восприятия, труд­ности выделения фигуры на фоне и деталей в сложных изображе­ния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месте с тем не наблюдается каких-либо трудностей в узнавании детьми знакомых им объектов на реалистических изображе­ниях, что дополнительно свидетельствует об отсутствии первич­ной недостаточности сенсорных функц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точность и замедленность восприятия в наибольшей мере проявляются в младшем школьном возрасте, когда обнаружива­ются связанные с недостатками восприятия ошибки при списы­вании текста, воспроизведении фигур по зрительно представлен­ным образцам и т. п. В наибольшей мере эти недостатки проявля­ются при усложнении и ухудшении условий восприятия, когда, например, изображения демонстрируются повернутыми или ког­да уменьшается их яркость и четкость. Конечно, изменение условий восприятия влияет и на нормально развитых детей, но количественные различия этих изменений чрез­вычайно вели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 возрастом восприятие детей с задержкой психического раз­вития совершенствуется, особенно значительно улучшаются по­казатели времени реакции, отражающие скорость восприя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9" name="Picture 5" descr="j0217698"/>
          <p:cNvPicPr/>
          <p:nvPr/>
        </p:nvPicPr>
        <p:blipFill>
          <a:blip r:embed="rId1"/>
          <a:stretch/>
        </p:blipFill>
        <p:spPr>
          <a:xfrm>
            <a:off x="5562720" y="5164200"/>
            <a:ext cx="3174840" cy="1693800"/>
          </a:xfrm>
          <a:prstGeom prst="rect">
            <a:avLst/>
          </a:prstGeom>
          <a:ln w="0">
            <a:noFill/>
          </a:ln>
        </p:spPr>
      </p:pic>
      <p:pic>
        <p:nvPicPr>
          <p:cNvPr id="730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Прямоугольник 2"/>
          <p:cNvSpPr/>
          <p:nvPr/>
        </p:nvSpPr>
        <p:spPr>
          <a:xfrm>
            <a:off x="457200" y="40176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обенности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специальных психолого-педагогических исследованиях отмечаются такие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обенност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у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етей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ПР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ак неустойчивость (колебания)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оторая ведет к снижению продуктивности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обуславливает трудности выполнения заданий, требующих постоянного контроля, свидетельствует о незрелости нервной системы; снижение объема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 сниженная избирательность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 сниженное распределение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 «прилипание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Особенности памя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720" y="990360"/>
            <a:ext cx="9372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К  особенностям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- недоразвитие самоконтроля, которое проявляется наиболее ярко в привнесениях при воспроизведении и в изменениях слов, предлагавшихся для запомин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- слабая избирательность памяти, что показано в экспериментах на опосредствованное запоминание, когда вместо слова, для запоминания которого была выбрана определенная картинка, вос­производилось название предмета, на ней изображенног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- неумение преднамеренно применять рациональные способы запоминания (например, использовать план при запоминании связ­ного текста или определенным образом соотнести, осмыслить за­поминаемый материа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2121"/>
                </a:solidFill>
                <a:latin typeface="Tahoma"/>
              </a:rPr>
              <a:t>Мышление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Особенностью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мышления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детей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ЗПР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является отсутствие внутреннего плана при решении задач. Часто такие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дети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игнорируют инструкции, от чего страдает результативность деятельности. Задачи решают поспешно, наугад, без учета условий, ориентируясь в первую очередь на собственную интуицию, ему будет сложно объяснить ход своих мыслей. Их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мышление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шабло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енности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из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П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является отставание в овладении ими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позднее возникновение периода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ск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ловотворчества, запаздывание периода образования новых слов (неологизмов), слабая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ев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активность, бедность, недифференцированность словаря, недостаточная сформированность грамматического строя, низкий уровень ориентировки в звуковой действительности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лабое осознание звукового строени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енности эмоционально-волевой сферы 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т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ержк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сихическо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отмечаются следующие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в развитии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моциональн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лев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фер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инфантилизм; выраженная эмоциональная истощаемость;  замедленное формирование положительных эмоциональных реакций; частая смена настроения;  пониженный фон настроения;  эмоциональная неустойчивость; низкая эмоциональная компетентность; агрессия, аутоагресс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ебно-коррекционная работа с детьми с проблемами в обучении</a:t>
            </a:r>
            <a:br>
              <a:rPr sz="2600"/>
            </a:b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иболее общие принципы и правила работы: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 Необходимо осуществлять индивидуальный подход к каждому ребенку как на уроках общеобразовательного цикла, так и во время специальных занят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 Необходимо предотвращать наступление утомления, используя для этого разнообразные средства(чередование умственной и практической деятельности, преподнесение материала небольшими дозами, использование интересного и красочного дидактического материала и средства наглядност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.  В процессе обучения следует использовать те методы, с помощью которых можно максимально активизировать познавательную деятельность детей, развивать их речь и формировать необходимые навыки учебной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11-08T12:21:3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f0000000000010243100207f6000400038000</vt:lpwstr>
  </property>
  <property fmtid="{D5CDD505-2E9C-101B-9397-08002B2CF9AE}" pid="3" name="Version">
    <vt:r8>1</vt:r8>
  </property>
</Properties>
</file>