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4C8C-2F3B-4598-B98E-124F0C16D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1797-E258-41FB-B7BD-6B3618B8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3CA1-05F6-4133-9452-DF91D4C75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6612-2217-4868-B09B-BD4349A86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DEC2-ECC3-4B98-86F8-2D044E4F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726F-30A2-455A-94C2-E77D21C9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7ED7-2698-46EE-911A-7A133881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2A44-CDA2-46DE-9716-F703DE38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278F-1E94-49B6-A316-EA2AD4B6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78B6-EEB3-421C-BA54-9419D95F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FD62-CEDD-4DA3-8990-0D4044FE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0755-02C7-4F17-849D-CB0F99A3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1972-D124-4EEC-A722-A2BE5EF5FF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vitaminy-kartinki-dlya-detey-620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Times New Roman"/>
              </a:rPr>
              <a:t>Тема: Полезные продукты и витами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95280" y="2941920"/>
            <a:ext cx="216000" cy="47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3"/>
          <p:cNvPicPr/>
          <p:nvPr/>
        </p:nvPicPr>
        <p:blipFill>
          <a:blip r:embed="rId1"/>
          <a:stretch/>
        </p:blipFill>
        <p:spPr>
          <a:xfrm>
            <a:off x="468360" y="1628640"/>
            <a:ext cx="4032360" cy="4591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ff"/>
                </a:solidFill>
                <a:latin typeface="Arial"/>
              </a:rPr>
              <a:t>Польза витамина «В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403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8000"/>
                </a:solidFill>
                <a:uFillTx/>
                <a:latin typeface="Arial"/>
              </a:rPr>
              <a:t>Витамин «В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Улучшает иммунит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Улучшает с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лияет на настро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Ускоряет заживление 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ff"/>
                </a:solidFill>
                <a:latin typeface="Arial"/>
              </a:rPr>
              <a:t>В каких овощах и фруктах содержится витамин «В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итамин «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одержится 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я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8080"/>
                </a:solidFill>
                <a:latin typeface="Arial"/>
              </a:rPr>
              <a:t>Моло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Орех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5050"/>
                </a:solidFill>
                <a:latin typeface="Arial"/>
              </a:rPr>
              <a:t>Кури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Горох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ff"/>
                </a:solidFill>
                <a:latin typeface="Arial"/>
              </a:rPr>
              <a:t>Хле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Картофе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010"/>
          <p:cNvPicPr/>
          <p:nvPr/>
        </p:nvPicPr>
        <p:blipFill>
          <a:blip r:embed="rId1"/>
          <a:stretch/>
        </p:blipFill>
        <p:spPr>
          <a:xfrm>
            <a:off x="468360" y="1628640"/>
            <a:ext cx="4032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vitamin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0560" y="0"/>
            <a:ext cx="709308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Стихотворение про Витамин «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img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6021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СПАСИБО ЗА ВНИМАНИЕ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2T11:03:10Z</dcterms:created>
  <dc:creator>User</dc:creator>
  <dc:description/>
  <dc:language>en-US</dc:language>
  <cp:lastModifiedBy>User</cp:lastModifiedBy>
  <dcterms:modified xsi:type="dcterms:W3CDTF">2023-11-14T09:20:57Z</dcterms:modified>
  <cp:revision>4</cp:revision>
  <dc:subject/>
  <dc:title>Тема: Полезные продукты и витамины.</dc:title>
</cp:coreProperties>
</file>