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391A-5563-415B-BC71-042AD17A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EDB-DCF6-411E-945D-513583D0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B1C-D80D-4027-8F82-47960852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F3B-93A5-4854-8FCE-87D7493E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C25-0992-445F-ACCC-1B49952F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09C1-B9BE-49A7-9031-2CDF52E7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A0C-686C-4265-812C-3D69B0C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853-8E82-48D4-B231-82DCC331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088-1CD2-4C33-A1F9-2287D8A8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9A6-C027-4E9E-B176-81D4E28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DD54-E2CB-4AF9-AA83-7FD821FE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225-BFF2-420D-B787-E5FAA4A5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827F-45A3-495B-B1FD-B8F4B3110F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taminy-kartinki-dlya-detey-620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Тема: Полезные продукты и витами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2941920"/>
            <a:ext cx="216000" cy="47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3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591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Польза витамина «В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40388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Arial"/>
              </a:rPr>
              <a:t>Витамин «В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лучшает имму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лучшает с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лияет на настр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скоряет заживление 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В каких овощах и фруктах содержится витамин «В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тамин «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держится 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8080"/>
                </a:solidFill>
                <a:latin typeface="Arial"/>
              </a:rPr>
              <a:t>Мол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Орех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Arial"/>
              </a:rPr>
              <a:t>Кур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оро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Arial"/>
              </a:rPr>
              <a:t>Хл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Arial"/>
              </a:rPr>
              <a:t>Картоф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010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vitamin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7093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тихотворение про Витамин «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img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03:10Z</dcterms:created>
  <dc:creator>User</dc:creator>
  <dc:description/>
  <dc:language>en-US</dc:language>
  <cp:lastModifiedBy>User</cp:lastModifiedBy>
  <dcterms:modified xsi:type="dcterms:W3CDTF">2023-11-14T09:20:57Z</dcterms:modified>
  <cp:revision>4</cp:revision>
  <dc:subject/>
  <dc:title>Тема: Полезные продукты и витамины.</dc:title>
</cp:coreProperties>
</file>