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7E0-1F07-41E2-AD91-2FB4E808C5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B2A-2C2B-4F52-BF21-7EA97D6CA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5DC-D385-477E-8319-1A8BB0B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C0-33D7-4EA5-88E3-66B641B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45D-8BC8-4F22-8BA5-62013FC5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8D1-CFFF-4538-8DE5-8FCBB6D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79E-A1C4-4302-97BF-812092A4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401-6853-4F0E-B0B7-6BAD5323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24B-6B2D-4F9A-A1C5-B132CD2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062-19E7-420C-A648-1686B91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E6A-E02C-441D-B73D-FD2F4BDB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1EA-F97F-486D-B3E5-C1E1C4E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82C-8AC7-451A-B57D-7DD3E28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F43-F3EF-4709-AB48-CAC1F310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575-8012-42D2-9BB4-75F612030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Пушкин по-настоящему крепко любил. своей няне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 flipH="1">
            <a:off x="5286240" y="71424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04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704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04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704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Учитель</cp:lastModifiedBy>
  <dcterms:modified xsi:type="dcterms:W3CDTF">2020-09-22T11:09:46Z</dcterms:modified>
  <cp:revision>78</cp:revision>
  <dc:subject/>
  <dc:title>Слайд 1</dc:title>
</cp:coreProperties>
</file>