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8F1C-A0E4-451E-833A-521FC53979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9458-D17C-40FE-B90F-06670608C6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B75-D206-44ED-9AF7-FD45C4CD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07C-5BB9-4968-AD9A-F1EB39FE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F2C-6AF0-4A32-9390-8D67D2F9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A69-8745-4EED-81E5-7EC60E67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AA13-0DC5-4C5B-A86C-87FCA0B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79C-1EB6-48E6-960A-59E6B948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B5F-9B5E-4D73-9985-426A5B0E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05D-2F73-4BEA-9A9C-004AA51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6CD-D86C-46C0-BA63-795FBE5A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178-1525-472A-847C-2354BD6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B51-0A47-406A-8BC4-B04B14BF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FDA-910B-4F13-A1D7-DF5EBC3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EE3C-39B8-4C31-A275-E6CCC81EC1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olstopuzzzz.narod.ru/photo/osen/img_4275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1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14200" y="20718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ojar1i"/>
          <p:cNvPicPr/>
          <p:nvPr/>
        </p:nvPicPr>
        <p:blipFill>
          <a:blip r:embed="rId1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arevn1i"/>
          <p:cNvPicPr/>
          <p:nvPr/>
        </p:nvPicPr>
        <p:blipFill>
          <a:blip r:embed="rId2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arevni"/>
          <p:cNvPicPr/>
          <p:nvPr/>
        </p:nvPicPr>
        <p:blipFill>
          <a:blip r:embed="rId3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Riba1i"/>
          <p:cNvPicPr/>
          <p:nvPr/>
        </p:nvPicPr>
        <p:blipFill>
          <a:blip r:embed="rId4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salt3i"/>
          <p:cNvPicPr/>
          <p:nvPr/>
        </p:nvPicPr>
        <p:blipFill>
          <a:blip r:embed="rId5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6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2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32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Пушкин по-настоящему крепко любил. своей няне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4"/>
          <p:cNvSpPr/>
          <p:nvPr/>
        </p:nvSpPr>
        <p:spPr>
          <a:xfrm flipH="1">
            <a:off x="5286240" y="714240"/>
            <a:ext cx="3500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" descr="C:\Documents and Settings\Admin\Рабочий стол\Пушкин\pushkina_n_n.jpg"/>
          <p:cNvPicPr/>
          <p:nvPr/>
        </p:nvPicPr>
        <p:blipFill>
          <a:blip r:embed="rId1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E:\новое\новое\pushkin_a_a.jpg"/>
          <p:cNvPicPr/>
          <p:nvPr/>
        </p:nvPicPr>
        <p:blipFill>
          <a:blip r:embed="rId1"/>
          <a:stretch/>
        </p:blipFill>
        <p:spPr>
          <a:xfrm>
            <a:off x="2571840" y="3857760"/>
            <a:ext cx="1942920" cy="2714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E:\новое\новое\pushkin_g_a.jpg"/>
          <p:cNvPicPr/>
          <p:nvPr/>
        </p:nvPicPr>
        <p:blipFill>
          <a:blip r:embed="rId2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E:\новое\новое\pushkina_m_a.jpg"/>
          <p:cNvPicPr/>
          <p:nvPr/>
        </p:nvPicPr>
        <p:blipFill>
          <a:blip r:embed="rId3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:\новое\новое\pushkina_n_a.jpg"/>
          <p:cNvPicPr/>
          <p:nvPr/>
        </p:nvPicPr>
        <p:blipFill>
          <a:blip r:embed="rId4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192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692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Admin\Рабочий стол\Пушкин\dantes_h167.jpg"/>
          <p:cNvPicPr/>
          <p:nvPr/>
        </p:nvPicPr>
        <p:blipFill>
          <a:blip r:embed="rId1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76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332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285840" y="928800"/>
            <a:ext cx="2205000" cy="3236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dmin\Рабочий стол\Пушкин\244px-Pushkin_Goncharova_Arbat_2005.jpg"/>
          <p:cNvPicPr/>
          <p:nvPr/>
        </p:nvPicPr>
        <p:blipFill>
          <a:blip r:embed="rId2"/>
          <a:stretch/>
        </p:blipFill>
        <p:spPr>
          <a:xfrm>
            <a:off x="6572160" y="1071720"/>
            <a:ext cx="2160720" cy="3286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dmin\Рабочий стол\Пушкин\256px-Pushkin_monument_Uralsk.JPG"/>
          <p:cNvPicPr/>
          <p:nvPr/>
        </p:nvPicPr>
        <p:blipFill>
          <a:blip r:embed="rId3"/>
          <a:stretch/>
        </p:blipFill>
        <p:spPr>
          <a:xfrm>
            <a:off x="2928960" y="464328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Documents and Settings\Admin\Рабочий стол\Пушкин\270px-Bust_pushkinu.jpg"/>
          <p:cNvPicPr/>
          <p:nvPr/>
        </p:nvPicPr>
        <p:blipFill>
          <a:blip r:embed="rId4"/>
          <a:stretch/>
        </p:blipFill>
        <p:spPr>
          <a:xfrm>
            <a:off x="2928960" y="1500120"/>
            <a:ext cx="3238560" cy="2435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Documents and Settings\Admin\Рабочий стол\Пушкин\120px-Pushkin.jpg"/>
          <p:cNvPicPr/>
          <p:nvPr/>
        </p:nvPicPr>
        <p:blipFill>
          <a:blip r:embed="rId5"/>
          <a:stretch/>
        </p:blipFill>
        <p:spPr>
          <a:xfrm>
            <a:off x="571680" y="4357800"/>
            <a:ext cx="1698480" cy="2289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Documents and Settings\Admin\Рабочий стол\Пушкин\131px-PushkinCoin.jpg"/>
          <p:cNvPicPr/>
          <p:nvPr/>
        </p:nvPicPr>
        <p:blipFill>
          <a:blip r:embed="rId6"/>
          <a:stretch/>
        </p:blipFill>
        <p:spPr>
          <a:xfrm>
            <a:off x="6572160" y="4714920"/>
            <a:ext cx="1824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204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704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204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7040"/>
                            </p:stCondLst>
                            <p:childTnLst>
                              <p:par>
                                <p:cTn id="4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E:\новое\новое\pushkin_04.jpg"/>
          <p:cNvPicPr/>
          <p:nvPr/>
        </p:nvPicPr>
        <p:blipFill>
          <a:blip r:embed="rId1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E:\новое\новое\pushkin_11.jpg"/>
          <p:cNvPicPr/>
          <p:nvPr/>
        </p:nvPicPr>
        <p:blipFill>
          <a:blip r:embed="rId2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E:\новое\новое\pushkin_2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E:\новое\новое\pushkin_24.jpg"/>
          <p:cNvPicPr/>
          <p:nvPr/>
        </p:nvPicPr>
        <p:blipFill>
          <a:blip r:embed="rId4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Admin\Рабочий стол\Пушкин\pushkin_06.jpg"/>
          <p:cNvPicPr/>
          <p:nvPr/>
        </p:nvPicPr>
        <p:blipFill>
          <a:blip r:embed="rId5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Documents and Settings\Admin\Рабочий стол\Пушкин\683.jpg"/>
          <p:cNvPicPr/>
          <p:nvPr/>
        </p:nvPicPr>
        <p:blipFill>
          <a:blip r:embed="rId6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Admin\Рабочий стол\пушкин1\image001.jpg"/>
          <p:cNvPicPr/>
          <p:nvPr/>
        </p:nvPicPr>
        <p:blipFill>
          <a:blip r:embed="rId7"/>
          <a:stretch/>
        </p:blipFill>
        <p:spPr>
          <a:xfrm>
            <a:off x="4500720" y="285840"/>
            <a:ext cx="443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4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1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1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1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2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1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1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2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1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214200" y="4643280"/>
            <a:ext cx="8715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r>
              <a:rPr b="0" i="1" lang="ru-RU" sz="2600" spc="-1" strike="noStrike">
                <a:solidFill>
                  <a:srgbClr val="000000"/>
                </a:solidFill>
                <a:latin typeface="Bookman Old Style"/>
              </a:rPr>
              <a:t>Лицей был закрытым заведением. В течение всего периода обучения воспитанники не имели права покидать пределов Царского С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Картинка 1 из 5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14200"/>
            <a:ext cx="6572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Учитель</cp:lastModifiedBy>
  <dcterms:modified xsi:type="dcterms:W3CDTF">2020-09-22T11:09:46Z</dcterms:modified>
  <cp:revision>78</cp:revision>
  <dc:subject/>
  <dc:title>Слайд 1</dc:title>
</cp:coreProperties>
</file>