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29.png" ContentType="image/png"/>
  <Override PartName="/ppt/media/image17.png" ContentType="image/pn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3884760" y="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480" y="746280"/>
            <a:ext cx="49611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752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3884760" y="9448560"/>
            <a:ext cx="29606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ACE11-004E-4581-9DA5-7FB3ACCFDE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6C57F-BF6C-437A-A18E-AC27107EC8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97BC-9C61-4AD5-A3B1-FD50F49310A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9448920"/>
            <a:ext cx="2968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7424B-E4CF-4462-AC4B-9F20B98DA6D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50E39-C6D6-4B00-A1D5-C16C93A363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3A436-D70A-4695-BB96-054F932DFB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F101A-33DC-4005-AD9C-8E1A442E5C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3"/>
          <p:cNvSpPr/>
          <p:nvPr/>
        </p:nvSpPr>
        <p:spPr>
          <a:xfrm>
            <a:off x="3884760" y="9448920"/>
            <a:ext cx="2960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EBD6E-B0F5-48C2-B4C2-F70000E6117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440" y="4723920"/>
            <a:ext cx="54831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4FC5-29A7-4891-8872-13DC15ED9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3C1B-B1E9-4F93-887C-4F456B853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F514-8027-48DE-A348-0DDE49D6E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80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39324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32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680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39324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13B8-F556-4343-9B62-AABEEE2DF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C9AFF-E001-4EEA-9412-DDF7D41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C470D-94FD-457A-9922-2E2A6B77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58720-D2EF-4030-93EF-B8DE4E2E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1C154-E3ED-46DB-80F3-A2A272E1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ED40-F41A-4283-9DFD-4DB71272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44720" y="623520"/>
            <a:ext cx="657864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7F865-6924-4BDD-8934-23C9E87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50203-EB01-449A-8C12-D60C535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F9C1-ED5E-4CB7-9B62-8DCCB75E6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C893B-AABC-4D01-B3D6-3CB1B0E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A1DAC-0F5C-43F8-9C4C-E720072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82571-1FBE-4560-9293-157ED03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B0248-DA50-4B10-95A3-1CF82146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808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93240" y="213372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9432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16808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93240" y="4158000"/>
            <a:ext cx="211860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3D5F-F2EE-4D6E-B46A-1609078A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76B7-526F-4A45-BCF5-16A0B547C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259-24B5-49F6-858B-81EB01263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88E9-9E22-4C40-A48B-1D7ED317CA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4720" y="623520"/>
            <a:ext cx="657864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69C2-A983-4FBC-B290-C70614E93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02A3-9F32-41FA-8E27-C9559EBE4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15040" y="415800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3E77-252F-43BC-8E93-737DD3CBE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328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5040" y="2133720"/>
            <a:ext cx="321084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3280" y="4158000"/>
            <a:ext cx="6580080" cy="18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11B7-98B2-4279-9B5B-06B219D49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228600"/>
            <a:ext cx="1969920" cy="6627960"/>
            <a:chOff x="0" y="228600"/>
            <a:chExt cx="1969920" cy="6627960"/>
          </a:xfrm>
        </p:grpSpPr>
        <p:sp>
          <p:nvSpPr>
            <p:cNvPr id="1" name="AutoShape 2"/>
            <p:cNvSpPr/>
            <p:nvPr/>
          </p:nvSpPr>
          <p:spPr>
            <a:xfrm>
              <a:off x="0" y="2575080"/>
              <a:ext cx="58680" cy="614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88920" y="3156120"/>
              <a:ext cx="438120" cy="231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11200"/>
                <a:gd name="textAreaBottom" fmla="*/ 2311560 h 23112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560520" y="5446800"/>
              <a:ext cx="412560" cy="14097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409760"/>
                <a:gd name="textAreaBottom" fmla="*/ 1410120 h 14097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666720" y="6504120"/>
              <a:ext cx="108000" cy="35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69840" y="3200400"/>
              <a:ext cx="560520" cy="331776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15840" y="228600"/>
              <a:ext cx="61920" cy="2916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916360"/>
                <a:gd name="textAreaBottom" fmla="*/ 2916720 h 29163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54000" y="2944800"/>
              <a:ext cx="42840" cy="48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534960" y="5478480"/>
              <a:ext cx="120600" cy="10144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4480"/>
                <a:gd name="textAreaBottom" fmla="*/ 1014840 h 10144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0"/>
            <p:cNvSpPr/>
            <p:nvPr/>
          </p:nvSpPr>
          <p:spPr>
            <a:xfrm>
              <a:off x="538200" y="1398600"/>
              <a:ext cx="1431720" cy="40370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1"/>
            <p:cNvSpPr/>
            <p:nvPr/>
          </p:nvSpPr>
          <p:spPr>
            <a:xfrm>
              <a:off x="641520" y="6529320"/>
              <a:ext cx="101520" cy="325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2"/>
            <p:cNvSpPr/>
            <p:nvPr/>
          </p:nvSpPr>
          <p:spPr>
            <a:xfrm>
              <a:off x="534960" y="5359320"/>
              <a:ext cx="14400" cy="211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3"/>
            <p:cNvSpPr/>
            <p:nvPr/>
          </p:nvSpPr>
          <p:spPr>
            <a:xfrm>
              <a:off x="590400" y="6245280"/>
              <a:ext cx="154080" cy="6112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4"/>
          <p:cNvGrpSpPr/>
          <p:nvPr/>
        </p:nvGrpSpPr>
        <p:grpSpPr>
          <a:xfrm>
            <a:off x="20520" y="0"/>
            <a:ext cx="1941480" cy="6842160"/>
            <a:chOff x="20520" y="0"/>
            <a:chExt cx="1941480" cy="6842160"/>
          </a:xfrm>
        </p:grpSpPr>
        <p:sp>
          <p:nvSpPr>
            <p:cNvPr id="14" name="AutoShape 15"/>
            <p:cNvSpPr/>
            <p:nvPr/>
          </p:nvSpPr>
          <p:spPr>
            <a:xfrm>
              <a:off x="20520" y="0"/>
              <a:ext cx="398520" cy="43909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90920"/>
                <a:gd name="textAreaBottom" fmla="*/ 4391280 h 439092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AutoShape 16"/>
            <p:cNvSpPr/>
            <p:nvPr/>
          </p:nvSpPr>
          <p:spPr>
            <a:xfrm>
              <a:off x="453960" y="4316400"/>
              <a:ext cx="339840" cy="15699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7"/>
            <p:cNvSpPr/>
            <p:nvPr/>
          </p:nvSpPr>
          <p:spPr>
            <a:xfrm>
              <a:off x="831960" y="5862600"/>
              <a:ext cx="345960" cy="979560"/>
            </a:xfrm>
            <a:custGeom>
              <a:avLst/>
              <a:gdLst>
                <a:gd name="textAreaLeft" fmla="*/ 0 w 345960"/>
                <a:gd name="textAreaRight" fmla="*/ 345960 w 3459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8"/>
            <p:cNvSpPr/>
            <p:nvPr/>
          </p:nvSpPr>
          <p:spPr>
            <a:xfrm>
              <a:off x="430200" y="4363920"/>
              <a:ext cx="446040" cy="2224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19"/>
            <p:cNvSpPr/>
            <p:nvPr/>
          </p:nvSpPr>
          <p:spPr>
            <a:xfrm>
              <a:off x="385920" y="1289160"/>
              <a:ext cx="133200" cy="30160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016080"/>
                <a:gd name="textAreaBottom" fmla="*/ 3016440 h 30160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0"/>
            <p:cNvSpPr/>
            <p:nvPr/>
          </p:nvSpPr>
          <p:spPr>
            <a:xfrm>
              <a:off x="919080" y="6572160"/>
              <a:ext cx="100080" cy="27000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1"/>
            <p:cNvSpPr/>
            <p:nvPr/>
          </p:nvSpPr>
          <p:spPr>
            <a:xfrm>
              <a:off x="414360" y="4106880"/>
              <a:ext cx="57240" cy="500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2"/>
            <p:cNvSpPr/>
            <p:nvPr/>
          </p:nvSpPr>
          <p:spPr>
            <a:xfrm>
              <a:off x="804960" y="3146400"/>
              <a:ext cx="1157040" cy="27050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3"/>
            <p:cNvSpPr/>
            <p:nvPr/>
          </p:nvSpPr>
          <p:spPr>
            <a:xfrm>
              <a:off x="887400" y="6600960"/>
              <a:ext cx="88920" cy="241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4"/>
            <p:cNvSpPr/>
            <p:nvPr/>
          </p:nvSpPr>
          <p:spPr>
            <a:xfrm>
              <a:off x="804960" y="5897520"/>
              <a:ext cx="102960" cy="663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5"/>
            <p:cNvSpPr/>
            <p:nvPr/>
          </p:nvSpPr>
          <p:spPr>
            <a:xfrm>
              <a:off x="804960" y="5772240"/>
              <a:ext cx="20520" cy="217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6"/>
            <p:cNvSpPr/>
            <p:nvPr/>
          </p:nvSpPr>
          <p:spPr>
            <a:xfrm>
              <a:off x="831960" y="6323040"/>
              <a:ext cx="163440" cy="519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AutoShape 28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" name="Text Box 31"/>
          <p:cNvSpPr/>
          <p:nvPr/>
        </p:nvSpPr>
        <p:spPr>
          <a:xfrm>
            <a:off x="7772400" y="6135840"/>
            <a:ext cx="76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Text Box 32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sldNum" idx="1"/>
          </p:nvPr>
        </p:nvSpPr>
        <p:spPr>
          <a:xfrm>
            <a:off x="511200" y="759960"/>
            <a:ext cx="5745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EA8C50-9048-4F79-94BA-D81FB234B1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кругленный прямоугольник 34"/>
          <p:cNvSpPr/>
          <p:nvPr/>
        </p:nvSpPr>
        <p:spPr>
          <a:xfrm>
            <a:off x="1619280" y="0"/>
            <a:ext cx="7012080" cy="685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664d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Прямая соединительная линия 35"/>
          <p:cNvSpPr/>
          <p:nvPr/>
        </p:nvSpPr>
        <p:spPr>
          <a:xfrm>
            <a:off x="1733400" y="0"/>
            <a:ext cx="0" cy="6858000"/>
          </a:xfrm>
          <a:prstGeom prst="line">
            <a:avLst/>
          </a:prstGeom>
          <a:ln w="19080">
            <a:solidFill>
              <a:srgbClr val="7f7f7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Прямая соединительная линия 36"/>
          <p:cNvSpPr/>
          <p:nvPr/>
        </p:nvSpPr>
        <p:spPr>
          <a:xfrm>
            <a:off x="8516880" y="0"/>
            <a:ext cx="0" cy="6858000"/>
          </a:xfrm>
          <a:prstGeom prst="line">
            <a:avLst/>
          </a:prstGeom>
          <a:ln w="19080">
            <a:solidFill>
              <a:srgbClr val="7f7f7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Прямоугольник 37"/>
          <p:cNvSpPr/>
          <p:nvPr/>
        </p:nvSpPr>
        <p:spPr>
          <a:xfrm rot="21379200">
            <a:off x="240840" y="210600"/>
            <a:ext cx="1157400" cy="205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44720" y="62352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943280" y="2133720"/>
            <a:ext cx="658008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308520" indent="-30852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2"/>
          </p:nvPr>
        </p:nvSpPr>
        <p:spPr>
          <a:xfrm>
            <a:off x="6343560" y="6400440"/>
            <a:ext cx="876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3"/>
          </p:nvPr>
        </p:nvSpPr>
        <p:spPr>
          <a:xfrm>
            <a:off x="1131840" y="6400440"/>
            <a:ext cx="50976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4"/>
          </p:nvPr>
        </p:nvSpPr>
        <p:spPr>
          <a:xfrm>
            <a:off x="511200" y="759960"/>
            <a:ext cx="57456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6B133A7-F0EF-4C3D-A75F-BFFB72CEFF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258920" y="317520"/>
            <a:ext cx="288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379520" y="420840"/>
            <a:ext cx="7416720" cy="1117080"/>
          </a:xfrm>
          <a:prstGeom prst="roundRect">
            <a:avLst>
              <a:gd name="adj" fmla="val 16667"/>
            </a:avLst>
          </a:prstGeom>
          <a:solidFill>
            <a:srgbClr val="e8ad9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Шорина Татьяна Александровна </a:t>
            </a: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- преподаватель  по специальности 18.02.05 Производство тугоплавких неметаллических и силикатных материалов и издел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87200" y="1365120"/>
            <a:ext cx="7048800" cy="415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е: 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г.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Москва, Международный независимый эколого-политологический университет, квалификация -  бакалавр экономики, 200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Контролер стекольного производства 4 разряда, 20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дагогический стаж: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ой категория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(имеющаяся) – не име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ая категория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 (заявленная) – перв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еподаваемые профессиональные модули: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, учебная и производственная прак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C:\Users\Татьяна\Desktop\фото 1 сентября\IMG_5082.JPG"/>
          <p:cNvPicPr/>
          <p:nvPr/>
        </p:nvPicPr>
        <p:blipFill>
          <a:blip r:embed="rId1"/>
          <a:stretch/>
        </p:blipFill>
        <p:spPr>
          <a:xfrm>
            <a:off x="7078680" y="1612800"/>
            <a:ext cx="2035080" cy="28972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536400" y="5245200"/>
            <a:ext cx="8610840" cy="179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ые достижения: удостоена памятным знаком 25 лет непрерывной работы на Борском стекольном заводе, Благодарственным письмом Администрации Государственного бюджетного профессионального учреждения «Борский Губернский колледж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рямоугольник 1"/>
          <p:cNvSpPr/>
          <p:nvPr/>
        </p:nvSpPr>
        <p:spPr>
          <a:xfrm>
            <a:off x="2206800" y="-1584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ПОУ «Борский Губернский колледж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07640" y="944640"/>
            <a:ext cx="658044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Экскурсии являются весьма эффективной формой организации учебной работы. В этом отношении они выполняют следующие функции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1) с помощью экскурсии реализуется принцип наглядности обучения, ибо в процессе их учащиеся, непосредственно знакомятся с изучаемыми предметами и явлениями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2) экскурсии позволяют повышать научность обучения и укреплять его связь с жизнью и практикой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 algn="just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3) экскурсии способствуют техническому обучению, так как дают возможность знакомить студентов с производством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07640" y="318600"/>
            <a:ext cx="65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Экскурсии на предприятия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8200" y="280800"/>
            <a:ext cx="1084320" cy="1965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16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3492360" y="4525920"/>
            <a:ext cx="3583080" cy="2013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0" descr=""/>
          <p:cNvPicPr/>
          <p:nvPr/>
        </p:nvPicPr>
        <p:blipFill>
          <a:blip r:embed="rId3"/>
          <a:stretch/>
        </p:blipFill>
        <p:spPr>
          <a:xfrm>
            <a:off x="101520" y="461880"/>
            <a:ext cx="1419480" cy="133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87640" y="1341360"/>
            <a:ext cx="4105080" cy="4356000"/>
          </a:xfrm>
          <a:prstGeom prst="rect">
            <a:avLst/>
          </a:prstGeom>
          <a:noFill/>
          <a:ln w="9360">
            <a:solidFill>
              <a:srgbClr val="00cc99"/>
            </a:solidFill>
            <a:round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 Gothic"/>
              </a:rPr>
              <a:t>Встречи с мастерами производств выработки шихты, полированного стекла, автостекла на Борском стекольном завод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1403280" y="1125360"/>
            <a:ext cx="2160720" cy="22752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403280" y="285840"/>
            <a:ext cx="7526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Мастер-классы на базовом предприят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574560" y="3519360"/>
            <a:ext cx="3600720" cy="300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1471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Участие студентов в олимпиадах профессионального мастерства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3241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47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Century Gothic"/>
              </a:rPr>
              <a:t>Участие в Менделеевском конкурс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1640" y="980640"/>
            <a:ext cx="4321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2000" spc="-1" strike="noStrike">
                <a:solidFill>
                  <a:srgbClr val="22228b"/>
                </a:solidFill>
                <a:latin typeface="Century Gothic"/>
              </a:rPr>
              <a:t>3 место в областной олимпиаде профессионального мастерства по химическим технология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75" name="Picture 9" descr="C:\Users\Татьяна\Desktop\Новая папка (2)\IMG_0004 (1).JPG"/>
          <p:cNvPicPr/>
          <p:nvPr/>
        </p:nvPicPr>
        <p:blipFill>
          <a:blip r:embed="rId1"/>
          <a:stretch/>
        </p:blipFill>
        <p:spPr>
          <a:xfrm>
            <a:off x="826920" y="2708280"/>
            <a:ext cx="2897280" cy="38894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https://pp.userapi.com/c824602/v824602050/11b3a0/AQVCk_CmRbs.jpg"/>
          <p:cNvPicPr/>
          <p:nvPr/>
        </p:nvPicPr>
        <p:blipFill>
          <a:blip r:embed="rId2"/>
          <a:stretch/>
        </p:blipFill>
        <p:spPr>
          <a:xfrm>
            <a:off x="4500720" y="299736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17600" y="201240"/>
            <a:ext cx="657864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Количественные показатели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результатов обучения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78" name="Рисунок 6"/>
          <p:cNvGraphicFramePr/>
          <p:nvPr/>
        </p:nvGraphicFramePr>
        <p:xfrm>
          <a:off x="-684360" y="1128600"/>
          <a:ext cx="6313680" cy="30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Рисунок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84360" y="1128600"/>
                    <a:ext cx="631368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" name="Рисунок 5" descr=""/>
          <p:cNvPicPr/>
          <p:nvPr/>
        </p:nvPicPr>
        <p:blipFill>
          <a:blip r:embed="rId3"/>
          <a:stretch/>
        </p:blipFill>
        <p:spPr>
          <a:xfrm>
            <a:off x="4954680" y="1122480"/>
            <a:ext cx="4275000" cy="282240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142920" y="-1440000"/>
            <a:ext cx="1758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900000" y="4027320"/>
          <a:ext cx="7896240" cy="2830680"/>
        </p:xfrm>
        <a:graphic>
          <a:graphicData uri="http://schemas.openxmlformats.org/drawingml/2006/table">
            <a:tbl>
              <a:tblPr/>
              <a:tblGrid>
                <a:gridCol w="4000680"/>
                <a:gridCol w="38955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зультаты ГИА 2016-2018 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рудоустройство выпуск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3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отлично» - 8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устроенные -8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хорошо» – 18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тупившие в ВУЗЫ – 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« удовлетворительно – 6 студент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жба в ВС РФ- 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 уходу за ребенком- 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Достижения в профессиональной деятель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08560" y="2133720"/>
            <a:ext cx="3214800" cy="387504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5" descr="C:\Users\Татьяна\Desktop\Новая папка (2)\IMG_0008 (1).JPG"/>
          <p:cNvPicPr/>
          <p:nvPr/>
        </p:nvPicPr>
        <p:blipFill>
          <a:blip r:embed="rId2"/>
          <a:stretch/>
        </p:blipFill>
        <p:spPr>
          <a:xfrm>
            <a:off x="971640" y="1989000"/>
            <a:ext cx="3168720" cy="4535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C:\Users\Татьяна\Desktop\Новая папка (2)\IMG_0010.JPG"/>
          <p:cNvPicPr/>
          <p:nvPr/>
        </p:nvPicPr>
        <p:blipFill>
          <a:blip r:embed="rId3"/>
          <a:stretch/>
        </p:blipFill>
        <p:spPr>
          <a:xfrm>
            <a:off x="5076720" y="1989000"/>
            <a:ext cx="3456000" cy="4535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126720"/>
            <a:ext cx="7056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2d2db9"/>
                </a:solidFill>
                <a:latin typeface="Century Gothic"/>
              </a:rPr>
              <a:t>Результаты воспитательной работы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Объект 3"/>
          <p:cNvGraphicFramePr/>
          <p:nvPr/>
        </p:nvGraphicFramePr>
        <p:xfrm>
          <a:off x="595440" y="679320"/>
          <a:ext cx="4263840" cy="36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679320"/>
                    <a:ext cx="4263840" cy="36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Прямоугольник 1"/>
          <p:cNvSpPr/>
          <p:nvPr/>
        </p:nvSpPr>
        <p:spPr>
          <a:xfrm>
            <a:off x="4859280" y="884160"/>
            <a:ext cx="416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202020"/>
                </a:solidFill>
                <a:latin typeface="Times New Roman"/>
              </a:rPr>
              <a:t>Мероприятия со студент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Классные ча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Мероприятия при кабине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Мероприятия в рамках Недели специа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Конкурсы и концер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202020"/>
                </a:solidFill>
                <a:latin typeface="Times New Roman"/>
              </a:rPr>
              <a:t>Проекты социальной направл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1160640" y="6270480"/>
            <a:ext cx="795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Акция «Чистый воздух»                             Интеллектуальная игра «Ворошиловский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ru-RU" sz="1600" spc="-1" strike="noStrike">
                <a:solidFill>
                  <a:srgbClr val="202020"/>
                </a:solidFill>
                <a:latin typeface="Times New Roman"/>
              </a:rPr>
              <a:t>стрелок»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202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4" descr="E:\1\2018.10.06 Экологическая акция\DSC_0350.JPG"/>
          <p:cNvPicPr/>
          <p:nvPr/>
        </p:nvPicPr>
        <p:blipFill>
          <a:blip r:embed="rId3"/>
          <a:stretch/>
        </p:blipFill>
        <p:spPr>
          <a:xfrm>
            <a:off x="1068480" y="4335480"/>
            <a:ext cx="28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E:\1\2018.11.08 Ворошиловский стрелок\zjUhVWOKbxo.jpg"/>
          <p:cNvPicPr/>
          <p:nvPr/>
        </p:nvPicPr>
        <p:blipFill>
          <a:blip r:embed="rId4"/>
          <a:stretch/>
        </p:blipFill>
        <p:spPr>
          <a:xfrm>
            <a:off x="5295960" y="4297320"/>
            <a:ext cx="3008160" cy="1973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Результаты внеурочной деятель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Объект 2"/>
          <p:cNvSpPr/>
          <p:nvPr/>
        </p:nvSpPr>
        <p:spPr>
          <a:xfrm>
            <a:off x="755640" y="1700280"/>
            <a:ext cx="39607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Кружок «Карьерное проектирование» -основа для успешной конкуренто-способности и мобильности выпускников на рынке труд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Рисунок 4" descr="IMG_1854.JPG"/>
          <p:cNvPicPr/>
          <p:nvPr/>
        </p:nvPicPr>
        <p:blipFill>
          <a:blip r:embed="rId1"/>
          <a:stretch/>
        </p:blipFill>
        <p:spPr>
          <a:xfrm>
            <a:off x="4932360" y="1628640"/>
            <a:ext cx="3747960" cy="2498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Татьяна\Downloads\IMG_0014.JPG"/>
          <p:cNvPicPr/>
          <p:nvPr/>
        </p:nvPicPr>
        <p:blipFill>
          <a:blip r:embed="rId2"/>
          <a:stretch/>
        </p:blipFill>
        <p:spPr>
          <a:xfrm>
            <a:off x="4932360" y="4292640"/>
            <a:ext cx="374796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75960"/>
            <a:ext cx="8361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Результаты профориентационной работ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03" name="Объект 2" descr="Изображение выглядит как внутренний, человек, потолок, стена&#13;&#10;&#13;&#10;Описание создано автоматически"/>
          <p:cNvPicPr/>
          <p:nvPr/>
        </p:nvPicPr>
        <p:blipFill>
          <a:blip r:embed="rId1"/>
          <a:stretch/>
        </p:blipFill>
        <p:spPr>
          <a:xfrm>
            <a:off x="438120" y="1746360"/>
            <a:ext cx="3799080" cy="235080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3480" y="1335240"/>
            <a:ext cx="47401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Встречи с представителями ВУЗ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06" name="Рисунок 4" descr="Изображение выглядит как внутренний, стена, стол, человек&#13;&#10;&#13;&#10;Описание создано автоматически"/>
          <p:cNvPicPr/>
          <p:nvPr/>
        </p:nvPicPr>
        <p:blipFill>
          <a:blip r:embed="rId2"/>
          <a:stretch/>
        </p:blipFill>
        <p:spPr>
          <a:xfrm>
            <a:off x="4724280" y="1407960"/>
            <a:ext cx="3799080" cy="2532240"/>
          </a:xfrm>
          <a:prstGeom prst="rect">
            <a:avLst/>
          </a:prstGeom>
          <a:ln w="0">
            <a:noFill/>
          </a:ln>
        </p:spPr>
      </p:pic>
      <p:sp>
        <p:nvSpPr>
          <p:cNvPr id="207" name="Объект 2"/>
          <p:cNvSpPr/>
          <p:nvPr/>
        </p:nvSpPr>
        <p:spPr>
          <a:xfrm>
            <a:off x="4863960" y="4013280"/>
            <a:ext cx="4740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Встречи с работодателя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Рисунок 6" descr=""/>
          <p:cNvPicPr/>
          <p:nvPr/>
        </p:nvPicPr>
        <p:blipFill>
          <a:blip r:embed="rId3"/>
          <a:stretch/>
        </p:blipFill>
        <p:spPr>
          <a:xfrm>
            <a:off x="1155600" y="4183200"/>
            <a:ext cx="3530880" cy="2354040"/>
          </a:xfrm>
          <a:prstGeom prst="rect">
            <a:avLst/>
          </a:prstGeom>
          <a:ln w="0">
            <a:noFill/>
          </a:ln>
        </p:spPr>
      </p:pic>
      <p:sp>
        <p:nvSpPr>
          <p:cNvPr id="210" name="Объект 2"/>
          <p:cNvSpPr/>
          <p:nvPr/>
        </p:nvSpPr>
        <p:spPr>
          <a:xfrm>
            <a:off x="5005440" y="4965840"/>
            <a:ext cx="32367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Участие в Дне открытых двер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160200"/>
            <a:ext cx="705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d2db9"/>
                </a:solidFill>
                <a:latin typeface="Century Gothic"/>
              </a:rPr>
              <a:t>Трансляция педагогического опы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142920" y="-144360"/>
            <a:ext cx="28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25400" y="1704960"/>
            <a:ext cx="3213000" cy="38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криншоты сайтов, сертификаты о публикациях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63640" y="1490760"/>
            <a:ext cx="335916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заседании методической комиссии на тему «Технология практико-ориентированного  обучения  в процессе профессиональной подготовки обучающихся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51280" indent="-251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работе профессиональных педагогических сетевых сообществ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rcRect l="19689" t="9802" r="19281" b="8700"/>
          <a:stretch/>
        </p:blipFill>
        <p:spPr>
          <a:xfrm>
            <a:off x="318960" y="1490760"/>
            <a:ext cx="500400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3537000" y="357120"/>
            <a:ext cx="20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428760" y="100008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З об образовании в РФ № 273 от 21.12.2012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деральный Государственный  образовательный стандарт по специальности среднего профессионального образования 18.02.05 Производство тугоплавких неметаллических и силикатных материалов и изделий пр.435 от 07.05.201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хина С.А. Соловьева А.А. Нетрадиционные педагогические технологии в обучении. Ростов – на –Дону « Феникс» , 2012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мняя И. А. Ключевые компетентности как результативно-целевая основа компетентностного подхода в образовании. Авторская версия. М.: Исследовательский центр проблем качества подготовки специалистов, 2004.- С.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йндорф-Сысоева, М.Е. Педагогика: Учебное пособие для СПО и прикладного бакалавриата / М.Е. Вайндорф-Сысоева, Л.П. Крившенко. - Люберцы: Юрайт, 2016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лугина Инна Юрьевна. Образовательные возможности практико-ориентированного обучения учащихся : Дис. ... канд. пед. наук : 13.00.01 : Екатеринбург, 2014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440000" y="790560"/>
            <a:ext cx="73450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е педагогическое кред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76360" y="1055520"/>
            <a:ext cx="820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хой учитель преподносит   истину,               хороший учит ее находи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                                                                 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А. Дистервег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ТЕМА ПЕДАГОГИЧЕСКОГО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Практико-ориентированные технологии обучения как средство повышения качества подготовки студентов по специальности 18.02.05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о тугоплавких неметаллических и силикатных изделий и материалов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547640" y="755640"/>
            <a:ext cx="1944720" cy="22780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258920" y="317520"/>
            <a:ext cx="288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379520" y="420840"/>
            <a:ext cx="7416720" cy="1117080"/>
          </a:xfrm>
          <a:prstGeom prst="roundRect">
            <a:avLst>
              <a:gd name="adj" fmla="val 16667"/>
            </a:avLst>
          </a:prstGeom>
          <a:solidFill>
            <a:srgbClr val="e8ad96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Шорина Татьяна Александровна </a:t>
            </a:r>
            <a:r>
              <a:rPr b="1" i="1" lang="ru-RU" sz="1800" spc="-1" strike="noStrike">
                <a:solidFill>
                  <a:srgbClr val="191966"/>
                </a:solidFill>
                <a:latin typeface="Times New Roman"/>
              </a:rPr>
              <a:t>- преподаватель  по специальности 18.02.05 Производство тугоплавких неметаллических и силикатных материалов и издели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87200" y="1365120"/>
            <a:ext cx="7048800" cy="4158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Образование: </a:t>
            </a:r>
            <a:r>
              <a:rPr b="1" i="1" lang="ru-RU" sz="2000" spc="-1" strike="noStrike">
                <a:solidFill>
                  <a:srgbClr val="2d2db9"/>
                </a:solidFill>
                <a:latin typeface="Times New Roman"/>
              </a:rPr>
              <a:t>г.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Москва, Международный независимый эколого-политологический университет, квалификация -  бакалавр экономики, 2004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Контролер стекольного производства 4 разряда, 2016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едагогический стаж: </a:t>
            </a:r>
            <a:r>
              <a:rPr b="1" i="1" lang="ru-RU" sz="2000" spc="-1" strike="noStrike">
                <a:solidFill>
                  <a:srgbClr val="22228b"/>
                </a:solidFill>
                <a:latin typeface="Times New Roman"/>
              </a:rPr>
              <a:t>3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ой категория 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(имеющаяся) – не име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Квалификационная категория</a:t>
            </a:r>
            <a:r>
              <a:rPr b="1" lang="ru-RU" sz="2000" spc="-1" strike="noStrike">
                <a:solidFill>
                  <a:srgbClr val="191966"/>
                </a:solidFill>
                <a:latin typeface="Times New Roman"/>
              </a:rPr>
              <a:t> (заявленная) – перв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Преподаваемые профессиональные модули: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, учебная и производственная практи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C:\Users\Татьяна\Desktop\фото 1 сентября\IMG_5082.JPG"/>
          <p:cNvPicPr/>
          <p:nvPr/>
        </p:nvPicPr>
        <p:blipFill>
          <a:blip r:embed="rId1"/>
          <a:stretch/>
        </p:blipFill>
        <p:spPr>
          <a:xfrm>
            <a:off x="7078680" y="1612800"/>
            <a:ext cx="2035080" cy="28972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536400" y="5245200"/>
            <a:ext cx="8610840" cy="179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Личные достижения: удостоена памятным знаком 25 лет непрерывной работы на Борском стекольном заводе, Благодарственным письмом Администрации Государственного бюджетного профессионального учреждения «Борский Губернский колледж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Прямоугольник 1"/>
          <p:cNvSpPr/>
          <p:nvPr/>
        </p:nvSpPr>
        <p:spPr>
          <a:xfrm>
            <a:off x="2206800" y="-1584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ПОУ «Борский Губернский колледж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395280" y="189000"/>
            <a:ext cx="8643960" cy="13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словия формирования опы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                 </a:t>
            </a: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Научно-исследовательские условия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Изучение работ психологов и педагогов (Л.С. Выготский, И.А. Зимняя, А.А.Вербицкий, М. М.Новик, А.В. Хуторской, С.Я. Батышев,  А.М. Новиков- личностно – ориентированное обучение, теория и методика профессионального образовани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Самостоятельное  обучение: чтение  методической и   специальной литературы по преподаваемой специальнос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3333cc"/>
                </a:solidFill>
                <a:uFillTx/>
                <a:latin typeface="Times New Roman"/>
              </a:rPr>
              <a:t>Методические и организационно-педагогические условия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Работа в должности преподавателя, руководителя учебной практики и производственного (практического)  обучения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 Разработка УМК п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М.03 Ведение технологического процесс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М.05 Выполнение работ по одной или нескольким профессиям рабочих, должностям служащих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 Организация работы  ПЦ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) Работа над методической темой «Технология практико-ориентированного  обучения  в процессе профессиональной подготовки обучающихся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) Обмен опытом работы с коллегами -  педагог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) Повышение квалификации на курсах  в ГБОУ  ДПО НИРО «Содержание и технологии организации образовательной деятельности в условиях внедрения ФГОС», 2017 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6" descr=""/>
          <p:cNvPicPr/>
          <p:nvPr/>
        </p:nvPicPr>
        <p:blipFill>
          <a:blip r:embed="rId1"/>
          <a:stretch/>
        </p:blipFill>
        <p:spPr>
          <a:xfrm>
            <a:off x="-23760" y="1706400"/>
            <a:ext cx="10258200" cy="56088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5"/>
          <p:cNvSpPr/>
          <p:nvPr/>
        </p:nvSpPr>
        <p:spPr>
          <a:xfrm>
            <a:off x="185760" y="692280"/>
            <a:ext cx="8958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Прямоугольник 8" descr=""/>
          <p:cNvPicPr/>
          <p:nvPr/>
        </p:nvPicPr>
        <p:blipFill>
          <a:blip r:embed="rId2"/>
          <a:stretch/>
        </p:blipFill>
        <p:spPr>
          <a:xfrm>
            <a:off x="4138560" y="2706840"/>
            <a:ext cx="199404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https://c-a.d-cd.net/d9b385u-960.jpg"/>
          <p:cNvPicPr/>
          <p:nvPr/>
        </p:nvPicPr>
        <p:blipFill>
          <a:blip r:embed="rId3"/>
          <a:srcRect l="20443" t="2868" r="19940" b="8661"/>
          <a:stretch/>
        </p:blipFill>
        <p:spPr>
          <a:xfrm>
            <a:off x="250920" y="351000"/>
            <a:ext cx="1063440" cy="17096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14000" y="79200"/>
            <a:ext cx="7583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личного вклада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а в развитие профессионального образования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560520" y="69228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51040" y="566640"/>
            <a:ext cx="68198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ыт практической работы в должности преподавателя учебных дисциплин профессионального цикла позволил выявить следующие проблемы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014560" y="476280"/>
            <a:ext cx="5977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дущая педагогическая ид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заключается в  том, что при внедрении в образовательный процесс практико-ориентированных технологий, профессиональная деятельность приближается к условиям реального производства, повышается качество обучения и обеспечивается развитие общих и профессиональных компетенций специалиста, востребованного на рынке тру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http://pdohod.ru/wp-content/uploads/2013/11/idea-dlya-biznesa.jpg"/>
          <p:cNvPicPr/>
          <p:nvPr/>
        </p:nvPicPr>
        <p:blipFill>
          <a:blip r:embed="rId1"/>
          <a:srcRect l="22280" t="0" r="22280" b="0"/>
          <a:stretch/>
        </p:blipFill>
        <p:spPr>
          <a:xfrm rot="180000">
            <a:off x="268200" y="281160"/>
            <a:ext cx="1084320" cy="1965240"/>
          </a:xfrm>
          <a:prstGeom prst="rect">
            <a:avLst/>
          </a:prstGeom>
          <a:ln w="7632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1403280" y="285840"/>
            <a:ext cx="7526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ль и задачи педагогической дея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928800" y="1071720"/>
            <a:ext cx="79293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ть научно-методические и организационно-педагогические условия практико-ориентированной  подготовки специалистов  для  предприятий стекольного производства в специально оборудованной лаборатории колледжа и на производств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Разработка учебно-методических материалов по преподаваемым профессиональным моду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Осуществлять взаимодействие с  потенциальными работодателями  - ОАО «ЭЙ ДЖИ СИ Борский стекольный завод», ООО «Борское зеркало» с целью качественной подготовки выпуск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ть  комплект   методических   пособий   для      реализации практико-ориентированного обуч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пособствовать развитию профессиональных   интересов  личности  обучающегося,   что позволит в будущем обеспечить     его     социальную       и     профессиональную     мобильность, открытость к изменениям и творческому поиску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Сформировать навыки самостоятельной работы студен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57120" y="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Практико-ориентированная подготовка студентов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существляется системно, на всех этапах обучения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Схема 3" descr=""/>
          <p:cNvPicPr/>
          <p:nvPr/>
        </p:nvPicPr>
        <p:blipFill>
          <a:blip r:embed="rId2"/>
          <a:stretch/>
        </p:blipFill>
        <p:spPr>
          <a:xfrm>
            <a:off x="1463760" y="907920"/>
            <a:ext cx="72468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"/>
          <p:cNvSpPr/>
          <p:nvPr/>
        </p:nvSpPr>
        <p:spPr>
          <a:xfrm>
            <a:off x="500040" y="142920"/>
            <a:ext cx="842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еятельностный аспект личного вклада педагога в развитие образ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689040" y="1341360"/>
            <a:ext cx="82407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ка УМК по профессиональному модулям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М.03 Ведение технологического проце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М.05 Выполнение работ по одной или нескольким профессиям рабочих, должностям служащих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труктурирование содержания учебной и производственной практик на основе требований ФГ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Отбор оптимальных методов и форм образовательной деятельности в рамках практико-ориентированного обучения с использованием информационных технологий и методов развивающего обуч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 Проектирование и проведение учебных занятий в условиях практико-ориентированного обучения, разработка  и внедрение оценочных средств, организация самостоятельной работы студентов во взаимодействии с работодател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 Организация практико-ориентированной учебной деятельности в виде выполнения практических заданий исследовательского и творческого характ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04480" y="1839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Century Gothic"/>
              </a:rPr>
              <a:t>Учебные занятия на учебной практике проводятся в специально оборудованной лаборатории 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1360" y="13060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entury Gothic"/>
              </a:rPr>
              <a:t>Учебная практика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17680" y="25178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92360" y="1542960"/>
            <a:ext cx="338292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Лаборатория общей технологии силикатов, химического анализа силикатных и тугоплавких неметаллических материалов и издели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8" descr="https://pp.userapi.com/c824602/v824602050/11b3d2/OIHLCeJFX5M.jpg"/>
          <p:cNvPicPr/>
          <p:nvPr/>
        </p:nvPicPr>
        <p:blipFill>
          <a:blip r:embed="rId1"/>
          <a:stretch/>
        </p:blipFill>
        <p:spPr>
          <a:xfrm>
            <a:off x="517680" y="2276640"/>
            <a:ext cx="417672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 Н. Лесняк</dc:creator>
  <dc:description/>
  <dc:language>en-US</dc:language>
  <cp:lastModifiedBy>Admin</cp:lastModifiedBy>
  <cp:lastPrinted>2014-06-10T08:24:51Z</cp:lastPrinted>
  <dcterms:modified xsi:type="dcterms:W3CDTF">2023-11-14T07:23:42Z</dcterms:modified>
  <cp:revision>333</cp:revision>
  <dc:subject/>
  <dc:title>PowerPoint Presentation</dc:title>
</cp:coreProperties>
</file>