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9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18.png" ContentType="image/png"/>
  <Override PartName="/ppt/media/image8.png" ContentType="image/png"/>
  <Override PartName="/ppt/media/image6.jpeg" ContentType="image/jpeg"/>
  <Override PartName="/ppt/media/image10.png" ContentType="image/png"/>
  <Override PartName="/ppt/media/image27.jpeg" ContentType="image/jpeg"/>
  <Override PartName="/ppt/media/image5.png" ContentType="image/png"/>
  <Override PartName="/ppt/media/image28.png" ContentType="image/png"/>
  <Override PartName="/ppt/media/image13.jpeg" ContentType="image/jpeg"/>
  <Override PartName="/ppt/media/image4.png" ContentType="image/png"/>
  <Override PartName="/ppt/media/image29.png" ContentType="image/png"/>
  <Override PartName="/ppt/media/image17.png" ContentType="image/png"/>
  <Override PartName="/ppt/media/image26.jpeg" ContentType="image/jpeg"/>
  <Override PartName="/ppt/media/image1.png" ContentType="image/png"/>
  <Override PartName="/ppt/media/image25.jpeg" ContentType="image/jpeg"/>
  <Override PartName="/ppt/media/image22.jpeg" ContentType="image/jpeg"/>
  <Override PartName="/ppt/media/image14.png" ContentType="image/png"/>
  <Override PartName="/ppt/media/image21.png" ContentType="image/png"/>
  <Override PartName="/ppt/media/image16.jpeg" ContentType="image/jpeg"/>
  <Override PartName="/ppt/media/image3.jpeg" ContentType="image/jpeg"/>
  <Override PartName="/ppt/media/image24.jpeg" ContentType="image/jpeg"/>
  <Override PartName="/ppt/media/image15.png" ContentType="image/png"/>
  <Override PartName="/ppt/media/image2.jpeg" ContentType="image/jpeg"/>
  <Override PartName="/ppt/media/image2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6858000" cy="994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AutoShape 1"/>
          <p:cNvSpPr/>
          <p:nvPr/>
        </p:nvSpPr>
        <p:spPr>
          <a:xfrm>
            <a:off x="0" y="0"/>
            <a:ext cx="6858000" cy="994716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947160"/>
              <a:gd name="textAreaBottom" fmla="*/ 9946800 h 9947160"/>
            </a:gdLst>
            <a:ahLst/>
            <a:rect l="textAreaLeft" t="textAreaTop" r="textAreaRight" b="textAreaBottom"/>
            <a:pathLst>
              <a:path w="21600" h="31329">
                <a:moveTo>
                  <a:pt x="5" y="0"/>
                </a:moveTo>
                <a:arcTo wR="5" hR="5" stAng="16200000" swAng="-5400000"/>
                <a:lnTo>
                  <a:pt x="0" y="31324"/>
                </a:lnTo>
                <a:arcTo wR="5" hR="5" stAng="10800000" swAng="-5400000"/>
                <a:lnTo>
                  <a:pt x="21595" y="3132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AutoShape 2"/>
          <p:cNvSpPr/>
          <p:nvPr/>
        </p:nvSpPr>
        <p:spPr>
          <a:xfrm>
            <a:off x="0" y="0"/>
            <a:ext cx="6858000" cy="994716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947160"/>
              <a:gd name="textAreaBottom" fmla="*/ 9946800 h 9947160"/>
            </a:gdLst>
            <a:ahLst/>
            <a:rect l="textAreaLeft" t="textAreaTop" r="textAreaRight" b="textAreaBottom"/>
            <a:pathLst>
              <a:path w="21600" h="31329">
                <a:moveTo>
                  <a:pt x="5" y="0"/>
                </a:moveTo>
                <a:arcTo wR="5" hR="5" stAng="16200000" swAng="-5400000"/>
                <a:lnTo>
                  <a:pt x="0" y="31324"/>
                </a:lnTo>
                <a:arcTo wR="5" hR="5" stAng="10800000" swAng="-5400000"/>
                <a:lnTo>
                  <a:pt x="21595" y="3132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AutoShape 3"/>
          <p:cNvSpPr/>
          <p:nvPr/>
        </p:nvSpPr>
        <p:spPr>
          <a:xfrm>
            <a:off x="0" y="0"/>
            <a:ext cx="6858000" cy="994716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947160"/>
              <a:gd name="textAreaBottom" fmla="*/ 9946800 h 9947160"/>
            </a:gdLst>
            <a:ahLst/>
            <a:rect l="textAreaLeft" t="textAreaTop" r="textAreaRight" b="textAreaBottom"/>
            <a:pathLst>
              <a:path w="21600" h="31329">
                <a:moveTo>
                  <a:pt x="5" y="0"/>
                </a:moveTo>
                <a:arcTo wR="5" hR="5" stAng="16200000" swAng="-5400000"/>
                <a:lnTo>
                  <a:pt x="0" y="31324"/>
                </a:lnTo>
                <a:arcTo wR="5" hR="5" stAng="10800000" swAng="-5400000"/>
                <a:lnTo>
                  <a:pt x="21595" y="3132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AutoShape 4"/>
          <p:cNvSpPr/>
          <p:nvPr/>
        </p:nvSpPr>
        <p:spPr>
          <a:xfrm>
            <a:off x="0" y="0"/>
            <a:ext cx="6858000" cy="994716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947160"/>
              <a:gd name="textAreaBottom" fmla="*/ 9946800 h 9947160"/>
            </a:gdLst>
            <a:ahLst/>
            <a:rect l="textAreaLeft" t="textAreaTop" r="textAreaRight" b="textAreaBottom"/>
            <a:pathLst>
              <a:path w="21600" h="31329">
                <a:moveTo>
                  <a:pt x="5" y="0"/>
                </a:moveTo>
                <a:arcTo wR="5" hR="5" stAng="16200000" swAng="-5400000"/>
                <a:lnTo>
                  <a:pt x="0" y="31324"/>
                </a:lnTo>
                <a:arcTo wR="5" hR="5" stAng="10800000" swAng="-5400000"/>
                <a:lnTo>
                  <a:pt x="21595" y="3132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AutoShape 5"/>
          <p:cNvSpPr/>
          <p:nvPr/>
        </p:nvSpPr>
        <p:spPr>
          <a:xfrm>
            <a:off x="0" y="0"/>
            <a:ext cx="6858000" cy="994716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947160"/>
              <a:gd name="textAreaBottom" fmla="*/ 9946800 h 9947160"/>
            </a:gdLst>
            <a:ahLst/>
            <a:rect l="textAreaLeft" t="textAreaTop" r="textAreaRight" b="textAreaBottom"/>
            <a:pathLst>
              <a:path w="21600" h="31329">
                <a:moveTo>
                  <a:pt x="5" y="0"/>
                </a:moveTo>
                <a:arcTo wR="5" hR="5" stAng="16200000" swAng="-5400000"/>
                <a:lnTo>
                  <a:pt x="0" y="31324"/>
                </a:lnTo>
                <a:arcTo wR="5" hR="5" stAng="10800000" swAng="-5400000"/>
                <a:lnTo>
                  <a:pt x="21595" y="3132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AutoShape 6"/>
          <p:cNvSpPr/>
          <p:nvPr/>
        </p:nvSpPr>
        <p:spPr>
          <a:xfrm>
            <a:off x="0" y="0"/>
            <a:ext cx="6858000" cy="994716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947160"/>
              <a:gd name="textAreaBottom" fmla="*/ 9946800 h 9947160"/>
            </a:gdLst>
            <a:ahLst/>
            <a:rect l="textAreaLeft" t="textAreaTop" r="textAreaRight" b="textAreaBottom"/>
            <a:pathLst>
              <a:path w="21600" h="31329">
                <a:moveTo>
                  <a:pt x="5" y="0"/>
                </a:moveTo>
                <a:arcTo wR="5" hR="5" stAng="16200000" swAng="-5400000"/>
                <a:lnTo>
                  <a:pt x="0" y="31324"/>
                </a:lnTo>
                <a:arcTo wR="5" hR="5" stAng="10800000" swAng="-5400000"/>
                <a:lnTo>
                  <a:pt x="21595" y="3132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AutoShape 7"/>
          <p:cNvSpPr/>
          <p:nvPr/>
        </p:nvSpPr>
        <p:spPr>
          <a:xfrm>
            <a:off x="0" y="0"/>
            <a:ext cx="6858000" cy="994716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947160"/>
              <a:gd name="textAreaBottom" fmla="*/ 9946800 h 9947160"/>
            </a:gdLst>
            <a:ahLst/>
            <a:rect l="textAreaLeft" t="textAreaTop" r="textAreaRight" b="textAreaBottom"/>
            <a:pathLst>
              <a:path w="21600" h="31329">
                <a:moveTo>
                  <a:pt x="5" y="0"/>
                </a:moveTo>
                <a:arcTo wR="5" hR="5" stAng="16200000" swAng="-5400000"/>
                <a:lnTo>
                  <a:pt x="0" y="31324"/>
                </a:lnTo>
                <a:arcTo wR="5" hR="5" stAng="10800000" swAng="-5400000"/>
                <a:lnTo>
                  <a:pt x="21595" y="3132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Text Box 8"/>
          <p:cNvSpPr/>
          <p:nvPr/>
        </p:nvSpPr>
        <p:spPr>
          <a:xfrm>
            <a:off x="0" y="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Text Box 9"/>
          <p:cNvSpPr/>
          <p:nvPr/>
        </p:nvSpPr>
        <p:spPr>
          <a:xfrm>
            <a:off x="3884760" y="0"/>
            <a:ext cx="29685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942480" y="746280"/>
            <a:ext cx="4961160" cy="371952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move the slide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440" y="4723920"/>
            <a:ext cx="5475240" cy="44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12"/>
          <p:cNvSpPr/>
          <p:nvPr/>
        </p:nvSpPr>
        <p:spPr>
          <a:xfrm>
            <a:off x="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5"/>
          </p:nvPr>
        </p:nvSpPr>
        <p:spPr>
          <a:xfrm>
            <a:off x="3884760" y="9448560"/>
            <a:ext cx="296064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90A07E-DAF5-4980-A07E-51BF229EA4A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13"/>
          <p:cNvSpPr/>
          <p:nvPr/>
        </p:nvSpPr>
        <p:spPr>
          <a:xfrm>
            <a:off x="3884760" y="9448920"/>
            <a:ext cx="296064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868A0C-5302-4F72-A363-96F048272729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440" y="4723920"/>
            <a:ext cx="548316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13"/>
          <p:cNvSpPr/>
          <p:nvPr/>
        </p:nvSpPr>
        <p:spPr>
          <a:xfrm>
            <a:off x="3884760" y="9448920"/>
            <a:ext cx="296064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F7A168-3684-4E14-85A5-42CBAE19DDDE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Text Box 1"/>
          <p:cNvSpPr/>
          <p:nvPr/>
        </p:nvSpPr>
        <p:spPr>
          <a:xfrm>
            <a:off x="3884760" y="9448920"/>
            <a:ext cx="29685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0425AE-58EF-4246-B1E1-6099D827CF3E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13"/>
          <p:cNvSpPr/>
          <p:nvPr/>
        </p:nvSpPr>
        <p:spPr>
          <a:xfrm>
            <a:off x="3884760" y="9448920"/>
            <a:ext cx="296064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85E2AC-54AA-42BE-B0B4-EE1214E00FAB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440" y="4723920"/>
            <a:ext cx="548316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13"/>
          <p:cNvSpPr/>
          <p:nvPr/>
        </p:nvSpPr>
        <p:spPr>
          <a:xfrm>
            <a:off x="3884760" y="9448920"/>
            <a:ext cx="296064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2C8DE8-ADD3-442E-912B-902C6C6F51D3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440" y="4723920"/>
            <a:ext cx="548316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13"/>
          <p:cNvSpPr/>
          <p:nvPr/>
        </p:nvSpPr>
        <p:spPr>
          <a:xfrm>
            <a:off x="3884760" y="9448920"/>
            <a:ext cx="296064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DBD584-D6D8-402D-81DF-81931F010214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440" y="4723920"/>
            <a:ext cx="548316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13"/>
          <p:cNvSpPr/>
          <p:nvPr/>
        </p:nvSpPr>
        <p:spPr>
          <a:xfrm>
            <a:off x="3884760" y="9448920"/>
            <a:ext cx="296064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B58AC6-C3B7-4452-8F24-6D7C8FAB0D3D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440" y="4723920"/>
            <a:ext cx="548316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E00764-F40F-49DE-8F3D-24FB70327E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44720" y="623520"/>
            <a:ext cx="657864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943280" y="2133720"/>
            <a:ext cx="6580080" cy="184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1943280" y="4158000"/>
            <a:ext cx="6580080" cy="184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6FF7D7-C0D4-4C20-A311-C146B931A1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4720" y="623520"/>
            <a:ext cx="657864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943280" y="2133720"/>
            <a:ext cx="3210840" cy="184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315040" y="2133720"/>
            <a:ext cx="3210840" cy="184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943280" y="4158000"/>
            <a:ext cx="3210840" cy="184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5315040" y="4158000"/>
            <a:ext cx="3210840" cy="184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CE3096-1B57-4682-8E45-AEE171ABCD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4720" y="623520"/>
            <a:ext cx="657864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943280" y="2133720"/>
            <a:ext cx="2118600" cy="184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8080" y="2133720"/>
            <a:ext cx="2118600" cy="184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393240" y="2133720"/>
            <a:ext cx="2118600" cy="184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1943280" y="4158000"/>
            <a:ext cx="2118600" cy="184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4168080" y="4158000"/>
            <a:ext cx="2118600" cy="184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6393240" y="4158000"/>
            <a:ext cx="2118600" cy="184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831187-B58B-490F-BBBF-AA6BFC0506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B764BB-58C4-4C66-9485-A23CAF64F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944720" y="623520"/>
            <a:ext cx="657864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943280" y="2133720"/>
            <a:ext cx="6580080" cy="38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C3F711-93A9-4555-8259-C10085281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944720" y="623520"/>
            <a:ext cx="657864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943280" y="2133720"/>
            <a:ext cx="6580080" cy="387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C36E57-A38D-4967-88E5-3F1A8C6BC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944720" y="623520"/>
            <a:ext cx="657864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943280" y="2133720"/>
            <a:ext cx="3210840" cy="387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315040" y="2133720"/>
            <a:ext cx="3210840" cy="387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002C53-A268-47D1-AAC0-071505706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944720" y="623520"/>
            <a:ext cx="657864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DED17B-1BD5-4E7B-88E3-CDB94188D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944720" y="623520"/>
            <a:ext cx="6578640" cy="80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177205-AFF8-4C7E-88AF-20D199D65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44720" y="623520"/>
            <a:ext cx="657864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943280" y="2133720"/>
            <a:ext cx="3210840" cy="184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315040" y="2133720"/>
            <a:ext cx="3210840" cy="387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943280" y="4158000"/>
            <a:ext cx="3210840" cy="184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1E5A6B-68CF-4322-BC97-3C7230DAD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4720" y="623520"/>
            <a:ext cx="657864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1943280" y="2133720"/>
            <a:ext cx="6580080" cy="38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17DA47-B229-44FF-9EF7-0464571EEE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944720" y="623520"/>
            <a:ext cx="657864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943280" y="2133720"/>
            <a:ext cx="3210840" cy="387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315040" y="2133720"/>
            <a:ext cx="3210840" cy="184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315040" y="4158000"/>
            <a:ext cx="3210840" cy="184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2EAC0D-DD18-4B0A-8A25-5F6B51AF4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44720" y="623520"/>
            <a:ext cx="657864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943280" y="2133720"/>
            <a:ext cx="3210840" cy="184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315040" y="2133720"/>
            <a:ext cx="3210840" cy="184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943280" y="4158000"/>
            <a:ext cx="6580080" cy="184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B714DF-AFA7-4519-BF3B-719F9464B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944720" y="623520"/>
            <a:ext cx="657864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943280" y="2133720"/>
            <a:ext cx="6580080" cy="184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943280" y="4158000"/>
            <a:ext cx="6580080" cy="184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0423E1-D360-45C3-9B3B-130306F7D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44720" y="623520"/>
            <a:ext cx="657864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943280" y="2133720"/>
            <a:ext cx="3210840" cy="184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315040" y="2133720"/>
            <a:ext cx="3210840" cy="184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943280" y="4158000"/>
            <a:ext cx="3210840" cy="184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5315040" y="4158000"/>
            <a:ext cx="3210840" cy="184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686E6F-B03C-4AF8-A437-182E2CE0F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944720" y="623520"/>
            <a:ext cx="657864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943280" y="2133720"/>
            <a:ext cx="2118600" cy="184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168080" y="2133720"/>
            <a:ext cx="2118600" cy="184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393240" y="2133720"/>
            <a:ext cx="2118600" cy="184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943280" y="4158000"/>
            <a:ext cx="2118600" cy="184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168080" y="4158000"/>
            <a:ext cx="2118600" cy="184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393240" y="4158000"/>
            <a:ext cx="2118600" cy="184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700F6B-3192-475A-959C-35D5F69EC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944720" y="623520"/>
            <a:ext cx="657864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943280" y="2133720"/>
            <a:ext cx="6580080" cy="387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3D7D18-B19E-4BF7-BBE5-76AB7FE8E7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944720" y="623520"/>
            <a:ext cx="657864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943280" y="2133720"/>
            <a:ext cx="3210840" cy="387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315040" y="2133720"/>
            <a:ext cx="3210840" cy="387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850DC7-CB87-4872-9F37-4C79936B41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944720" y="623520"/>
            <a:ext cx="657864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1437DF-4104-48D4-8021-0502EE53C0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944720" y="623520"/>
            <a:ext cx="6578640" cy="80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5AB354-D464-4065-8ED3-6B2FFA772A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944720" y="623520"/>
            <a:ext cx="657864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943280" y="2133720"/>
            <a:ext cx="3210840" cy="184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5315040" y="2133720"/>
            <a:ext cx="3210840" cy="387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943280" y="4158000"/>
            <a:ext cx="3210840" cy="184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307CBE-0E5D-478D-B8FB-C1C3C2D040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944720" y="623520"/>
            <a:ext cx="657864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943280" y="2133720"/>
            <a:ext cx="3210840" cy="387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315040" y="2133720"/>
            <a:ext cx="3210840" cy="184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5315040" y="4158000"/>
            <a:ext cx="3210840" cy="184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C080D5-45F8-4091-A335-EB203B464F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4720" y="623520"/>
            <a:ext cx="657864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943280" y="2133720"/>
            <a:ext cx="3210840" cy="184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315040" y="2133720"/>
            <a:ext cx="3210840" cy="184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1943280" y="4158000"/>
            <a:ext cx="6580080" cy="184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643051-B477-44F8-B48F-3FAD35BCB1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"/>
          <p:cNvGrpSpPr/>
          <p:nvPr/>
        </p:nvGrpSpPr>
        <p:grpSpPr>
          <a:xfrm>
            <a:off x="0" y="228600"/>
            <a:ext cx="1969920" cy="6627960"/>
            <a:chOff x="0" y="228600"/>
            <a:chExt cx="1969920" cy="6627960"/>
          </a:xfrm>
        </p:grpSpPr>
        <p:sp>
          <p:nvSpPr>
            <p:cNvPr id="1" name="AutoShape 2"/>
            <p:cNvSpPr/>
            <p:nvPr/>
          </p:nvSpPr>
          <p:spPr>
            <a:xfrm>
              <a:off x="0" y="2575080"/>
              <a:ext cx="58680" cy="614160"/>
            </a:xfrm>
            <a:custGeom>
              <a:avLst/>
              <a:gdLst>
                <a:gd name="textAreaLeft" fmla="*/ 0 w 58680"/>
                <a:gd name="textAreaRight" fmla="*/ 59040 w 58680"/>
                <a:gd name="textAreaTop" fmla="*/ 0 h 614160"/>
                <a:gd name="textAreaBottom" fmla="*/ 614520 h 61416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AutoShape 3"/>
            <p:cNvSpPr/>
            <p:nvPr/>
          </p:nvSpPr>
          <p:spPr>
            <a:xfrm>
              <a:off x="88920" y="3156120"/>
              <a:ext cx="438120" cy="2311200"/>
            </a:xfrm>
            <a:custGeom>
              <a:avLst/>
              <a:gdLst>
                <a:gd name="textAreaLeft" fmla="*/ 0 w 438120"/>
                <a:gd name="textAreaRight" fmla="*/ 438480 w 438120"/>
                <a:gd name="textAreaTop" fmla="*/ 0 h 2311200"/>
                <a:gd name="textAreaBottom" fmla="*/ 2311560 h 231120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AutoShape 4"/>
            <p:cNvSpPr/>
            <p:nvPr/>
          </p:nvSpPr>
          <p:spPr>
            <a:xfrm>
              <a:off x="560520" y="5446800"/>
              <a:ext cx="412560" cy="1409760"/>
            </a:xfrm>
            <a:custGeom>
              <a:avLst/>
              <a:gdLst>
                <a:gd name="textAreaLeft" fmla="*/ 0 w 412560"/>
                <a:gd name="textAreaRight" fmla="*/ 412920 w 412560"/>
                <a:gd name="textAreaTop" fmla="*/ 0 h 1409760"/>
                <a:gd name="textAreaBottom" fmla="*/ 1410120 h 140976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AutoShape 5"/>
            <p:cNvSpPr/>
            <p:nvPr/>
          </p:nvSpPr>
          <p:spPr>
            <a:xfrm>
              <a:off x="666720" y="6504120"/>
              <a:ext cx="108000" cy="35244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352440"/>
                <a:gd name="textAreaBottom" fmla="*/ 352800 h 3524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AutoShape 6"/>
            <p:cNvSpPr/>
            <p:nvPr/>
          </p:nvSpPr>
          <p:spPr>
            <a:xfrm>
              <a:off x="69840" y="3200400"/>
              <a:ext cx="560520" cy="3317760"/>
            </a:xfrm>
            <a:custGeom>
              <a:avLst/>
              <a:gdLst>
                <a:gd name="textAreaLeft" fmla="*/ 0 w 560520"/>
                <a:gd name="textAreaRight" fmla="*/ 560880 w 560520"/>
                <a:gd name="textAreaTop" fmla="*/ 0 h 3317760"/>
                <a:gd name="textAreaBottom" fmla="*/ 3318120 h 331776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AutoShape 7"/>
            <p:cNvSpPr/>
            <p:nvPr/>
          </p:nvSpPr>
          <p:spPr>
            <a:xfrm>
              <a:off x="15840" y="228600"/>
              <a:ext cx="61920" cy="2916360"/>
            </a:xfrm>
            <a:custGeom>
              <a:avLst/>
              <a:gdLst>
                <a:gd name="textAreaLeft" fmla="*/ 0 w 61920"/>
                <a:gd name="textAreaRight" fmla="*/ 62280 w 61920"/>
                <a:gd name="textAreaTop" fmla="*/ 0 h 2916360"/>
                <a:gd name="textAreaBottom" fmla="*/ 2916720 h 291636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54000" y="2944800"/>
              <a:ext cx="42840" cy="48276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AutoShape 9"/>
            <p:cNvSpPr/>
            <p:nvPr/>
          </p:nvSpPr>
          <p:spPr>
            <a:xfrm>
              <a:off x="534960" y="5478480"/>
              <a:ext cx="120600" cy="101448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014480"/>
                <a:gd name="textAreaBottom" fmla="*/ 1014840 h 101448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AutoShape 10"/>
            <p:cNvSpPr/>
            <p:nvPr/>
          </p:nvSpPr>
          <p:spPr>
            <a:xfrm>
              <a:off x="538200" y="1398600"/>
              <a:ext cx="1431720" cy="4037040"/>
            </a:xfrm>
            <a:custGeom>
              <a:avLst/>
              <a:gdLst>
                <a:gd name="textAreaLeft" fmla="*/ 0 w 1431720"/>
                <a:gd name="textAreaRight" fmla="*/ 1432080 w 1431720"/>
                <a:gd name="textAreaTop" fmla="*/ 0 h 4037040"/>
                <a:gd name="textAreaBottom" fmla="*/ 4037400 h 403704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AutoShape 11"/>
            <p:cNvSpPr/>
            <p:nvPr/>
          </p:nvSpPr>
          <p:spPr>
            <a:xfrm>
              <a:off x="641520" y="6529320"/>
              <a:ext cx="101520" cy="32544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325440"/>
                <a:gd name="textAreaBottom" fmla="*/ 325800 h 32544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AutoShape 12"/>
            <p:cNvSpPr/>
            <p:nvPr/>
          </p:nvSpPr>
          <p:spPr>
            <a:xfrm>
              <a:off x="534960" y="5359320"/>
              <a:ext cx="14400" cy="21132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211320"/>
                <a:gd name="textAreaBottom" fmla="*/ 211680 h 21132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AutoShape 13"/>
            <p:cNvSpPr/>
            <p:nvPr/>
          </p:nvSpPr>
          <p:spPr>
            <a:xfrm>
              <a:off x="590400" y="6245280"/>
              <a:ext cx="154080" cy="611280"/>
            </a:xfrm>
            <a:custGeom>
              <a:avLst/>
              <a:gdLst>
                <a:gd name="textAreaLeft" fmla="*/ 0 w 154080"/>
                <a:gd name="textAreaRight" fmla="*/ 154440 w 154080"/>
                <a:gd name="textAreaTop" fmla="*/ 0 h 611280"/>
                <a:gd name="textAreaBottom" fmla="*/ 611640 h 6112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" name="Group 14"/>
          <p:cNvGrpSpPr/>
          <p:nvPr/>
        </p:nvGrpSpPr>
        <p:grpSpPr>
          <a:xfrm>
            <a:off x="20520" y="0"/>
            <a:ext cx="1941480" cy="6842160"/>
            <a:chOff x="20520" y="0"/>
            <a:chExt cx="1941480" cy="6842160"/>
          </a:xfrm>
        </p:grpSpPr>
        <p:sp>
          <p:nvSpPr>
            <p:cNvPr id="14" name="AutoShape 15"/>
            <p:cNvSpPr/>
            <p:nvPr/>
          </p:nvSpPr>
          <p:spPr>
            <a:xfrm>
              <a:off x="20520" y="0"/>
              <a:ext cx="398520" cy="4390920"/>
            </a:xfrm>
            <a:custGeom>
              <a:avLst/>
              <a:gdLst>
                <a:gd name="textAreaLeft" fmla="*/ 0 w 398520"/>
                <a:gd name="textAreaRight" fmla="*/ 398880 w 398520"/>
                <a:gd name="textAreaTop" fmla="*/ 0 h 4390920"/>
                <a:gd name="textAreaBottom" fmla="*/ 4391280 h 439092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AutoShape 16"/>
            <p:cNvSpPr/>
            <p:nvPr/>
          </p:nvSpPr>
          <p:spPr>
            <a:xfrm>
              <a:off x="453960" y="4316400"/>
              <a:ext cx="339840" cy="1569960"/>
            </a:xfrm>
            <a:custGeom>
              <a:avLst/>
              <a:gdLst>
                <a:gd name="textAreaLeft" fmla="*/ 0 w 339840"/>
                <a:gd name="textAreaRight" fmla="*/ 340200 w 339840"/>
                <a:gd name="textAreaTop" fmla="*/ 0 h 1569960"/>
                <a:gd name="textAreaBottom" fmla="*/ 1570320 h 156996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AutoShape 17"/>
            <p:cNvSpPr/>
            <p:nvPr/>
          </p:nvSpPr>
          <p:spPr>
            <a:xfrm>
              <a:off x="831960" y="5862600"/>
              <a:ext cx="345960" cy="979560"/>
            </a:xfrm>
            <a:custGeom>
              <a:avLst/>
              <a:gdLst>
                <a:gd name="textAreaLeft" fmla="*/ 0 w 345960"/>
                <a:gd name="textAreaRight" fmla="*/ 345960 w 345960"/>
                <a:gd name="textAreaTop" fmla="*/ 0 h 979560"/>
                <a:gd name="textAreaBottom" fmla="*/ 979920 h 9795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AutoShape 18"/>
            <p:cNvSpPr/>
            <p:nvPr/>
          </p:nvSpPr>
          <p:spPr>
            <a:xfrm>
              <a:off x="430200" y="4363920"/>
              <a:ext cx="446040" cy="222408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2224080"/>
                <a:gd name="textAreaBottom" fmla="*/ 2224440 h 222408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AutoShape 19"/>
            <p:cNvSpPr/>
            <p:nvPr/>
          </p:nvSpPr>
          <p:spPr>
            <a:xfrm>
              <a:off x="385920" y="1289160"/>
              <a:ext cx="133200" cy="30160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3016080"/>
                <a:gd name="textAreaBottom" fmla="*/ 3016440 h 301608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AutoShape 20"/>
            <p:cNvSpPr/>
            <p:nvPr/>
          </p:nvSpPr>
          <p:spPr>
            <a:xfrm>
              <a:off x="919080" y="6572160"/>
              <a:ext cx="100080" cy="270000"/>
            </a:xfrm>
            <a:custGeom>
              <a:avLst/>
              <a:gdLst>
                <a:gd name="textAreaLeft" fmla="*/ 0 w 100080"/>
                <a:gd name="textAreaRight" fmla="*/ 100440 w 100080"/>
                <a:gd name="textAreaTop" fmla="*/ 0 h 270000"/>
                <a:gd name="textAreaBottom" fmla="*/ 270360 h 27000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AutoShape 21"/>
            <p:cNvSpPr/>
            <p:nvPr/>
          </p:nvSpPr>
          <p:spPr>
            <a:xfrm>
              <a:off x="414360" y="4106880"/>
              <a:ext cx="57240" cy="500040"/>
            </a:xfrm>
            <a:custGeom>
              <a:avLst/>
              <a:gdLst>
                <a:gd name="textAreaLeft" fmla="*/ 0 w 57240"/>
                <a:gd name="textAreaRight" fmla="*/ 57600 w 57240"/>
                <a:gd name="textAreaTop" fmla="*/ 0 h 500040"/>
                <a:gd name="textAreaBottom" fmla="*/ 500400 h 50004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AutoShape 22"/>
            <p:cNvSpPr/>
            <p:nvPr/>
          </p:nvSpPr>
          <p:spPr>
            <a:xfrm>
              <a:off x="804960" y="3146400"/>
              <a:ext cx="1157040" cy="2705040"/>
            </a:xfrm>
            <a:custGeom>
              <a:avLst/>
              <a:gdLst>
                <a:gd name="textAreaLeft" fmla="*/ 0 w 1157040"/>
                <a:gd name="textAreaRight" fmla="*/ 1157400 w 1157040"/>
                <a:gd name="textAreaTop" fmla="*/ 0 h 2705040"/>
                <a:gd name="textAreaBottom" fmla="*/ 2705400 h 270504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AutoShape 23"/>
            <p:cNvSpPr/>
            <p:nvPr/>
          </p:nvSpPr>
          <p:spPr>
            <a:xfrm>
              <a:off x="887400" y="6600960"/>
              <a:ext cx="88920" cy="24120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241200"/>
                <a:gd name="textAreaBottom" fmla="*/ 241560 h 24120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AutoShape 24"/>
            <p:cNvSpPr/>
            <p:nvPr/>
          </p:nvSpPr>
          <p:spPr>
            <a:xfrm>
              <a:off x="804960" y="5897520"/>
              <a:ext cx="102960" cy="663480"/>
            </a:xfrm>
            <a:custGeom>
              <a:avLst/>
              <a:gdLst>
                <a:gd name="textAreaLeft" fmla="*/ 0 w 102960"/>
                <a:gd name="textAreaRight" fmla="*/ 103320 w 102960"/>
                <a:gd name="textAreaTop" fmla="*/ 0 h 663480"/>
                <a:gd name="textAreaBottom" fmla="*/ 663840 h 66348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AutoShape 25"/>
            <p:cNvSpPr/>
            <p:nvPr/>
          </p:nvSpPr>
          <p:spPr>
            <a:xfrm>
              <a:off x="804960" y="5772240"/>
              <a:ext cx="20520" cy="21744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217440"/>
                <a:gd name="textAreaBottom" fmla="*/ 217800 h 21744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AutoShape 26"/>
            <p:cNvSpPr/>
            <p:nvPr/>
          </p:nvSpPr>
          <p:spPr>
            <a:xfrm>
              <a:off x="831960" y="6323040"/>
              <a:ext cx="163440" cy="51912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19120"/>
                <a:gd name="textAreaBottom" fmla="*/ 519480 h 51912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" name="Rectangle 27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AutoShape 28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>
              <a:gd name="textAreaLeft" fmla="*/ 0 w 1359000"/>
              <a:gd name="textAreaRight" fmla="*/ 1359360 w 1359000"/>
              <a:gd name="textAreaTop" fmla="*/ -360 h 507960"/>
              <a:gd name="textAreaBottom" fmla="*/ 507960 h 507960"/>
            </a:gdLst>
            <a:ahLst/>
            <a:rect l="textAreaLeft" t="textAreaTop" r="textAreaRight" b="textAreaBottom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44720" y="623520"/>
            <a:ext cx="657864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1943280" y="2133720"/>
            <a:ext cx="6580080" cy="387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1" marL="308520" indent="-308520"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2" marL="308520" indent="-30852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3" marL="308520" indent="-308520"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4" marL="308520" indent="-30852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5" marL="308520" indent="-30852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6" marL="308520" indent="-30852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0" name="Text Box 31"/>
          <p:cNvSpPr/>
          <p:nvPr/>
        </p:nvSpPr>
        <p:spPr>
          <a:xfrm>
            <a:off x="7772400" y="6135840"/>
            <a:ext cx="7668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Text Box 32"/>
          <p:cNvSpPr/>
          <p:nvPr/>
        </p:nvSpPr>
        <p:spPr>
          <a:xfrm>
            <a:off x="194328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sldNum" idx="1"/>
          </p:nvPr>
        </p:nvSpPr>
        <p:spPr>
          <a:xfrm>
            <a:off x="511200" y="759960"/>
            <a:ext cx="57456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34F371A-5386-44E0-922A-8D581FAA9AC2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Скругленный прямоугольник 34"/>
          <p:cNvSpPr/>
          <p:nvPr/>
        </p:nvSpPr>
        <p:spPr>
          <a:xfrm>
            <a:off x="1619280" y="0"/>
            <a:ext cx="7012080" cy="6858000"/>
          </a:xfrm>
          <a:prstGeom prst="roundRect">
            <a:avLst>
              <a:gd name="adj" fmla="val 0"/>
            </a:avLst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00664d">
                <a:alpha val="1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Прямая соединительная линия 35"/>
          <p:cNvSpPr/>
          <p:nvPr/>
        </p:nvSpPr>
        <p:spPr>
          <a:xfrm>
            <a:off x="1733400" y="0"/>
            <a:ext cx="0" cy="6858000"/>
          </a:xfrm>
          <a:prstGeom prst="line">
            <a:avLst/>
          </a:prstGeom>
          <a:ln w="19080">
            <a:solidFill>
              <a:srgbClr val="7f7f7f">
                <a:alpha val="1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Прямая соединительная линия 36"/>
          <p:cNvSpPr/>
          <p:nvPr/>
        </p:nvSpPr>
        <p:spPr>
          <a:xfrm>
            <a:off x="8516880" y="0"/>
            <a:ext cx="0" cy="6858000"/>
          </a:xfrm>
          <a:prstGeom prst="line">
            <a:avLst/>
          </a:prstGeom>
          <a:ln w="19080">
            <a:solidFill>
              <a:srgbClr val="7f7f7f">
                <a:alpha val="1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Прямоугольник 37"/>
          <p:cNvSpPr/>
          <p:nvPr/>
        </p:nvSpPr>
        <p:spPr>
          <a:xfrm rot="21379200">
            <a:off x="240840" y="210600"/>
            <a:ext cx="1157400" cy="2051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944720" y="623520"/>
            <a:ext cx="657864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1943280" y="2133720"/>
            <a:ext cx="6580080" cy="387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1" marL="308520" indent="-308520"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2" marL="308520" indent="-30852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3" marL="308520" indent="-308520"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4" marL="308520" indent="-30852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5" marL="308520" indent="-30852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6" marL="308520" indent="-30852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2"/>
          </p:nvPr>
        </p:nvSpPr>
        <p:spPr>
          <a:xfrm>
            <a:off x="6343560" y="6400440"/>
            <a:ext cx="87624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3"/>
          </p:nvPr>
        </p:nvSpPr>
        <p:spPr>
          <a:xfrm>
            <a:off x="1131840" y="6400440"/>
            <a:ext cx="509760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4"/>
          </p:nvPr>
        </p:nvSpPr>
        <p:spPr>
          <a:xfrm>
            <a:off x="511200" y="759960"/>
            <a:ext cx="57456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F9DAA47-AA9E-48D1-9605-1F4247E30ED1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Box 1"/>
          <p:cNvSpPr/>
          <p:nvPr/>
        </p:nvSpPr>
        <p:spPr>
          <a:xfrm>
            <a:off x="1258920" y="317520"/>
            <a:ext cx="28814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TextBox 2"/>
          <p:cNvSpPr/>
          <p:nvPr/>
        </p:nvSpPr>
        <p:spPr>
          <a:xfrm>
            <a:off x="1379520" y="420840"/>
            <a:ext cx="7416720" cy="1117080"/>
          </a:xfrm>
          <a:prstGeom prst="roundRect">
            <a:avLst>
              <a:gd name="adj" fmla="val 16667"/>
            </a:avLst>
          </a:prstGeom>
          <a:solidFill>
            <a:srgbClr val="e8ad96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Times New Roman"/>
              </a:rPr>
              <a:t>Шорина Татьяна Александровна </a:t>
            </a:r>
            <a:r>
              <a:rPr b="1" i="1" lang="ru-RU" sz="1800" spc="-1" strike="noStrike">
                <a:solidFill>
                  <a:srgbClr val="191966"/>
                </a:solidFill>
                <a:latin typeface="Times New Roman"/>
              </a:rPr>
              <a:t>- преподаватель  по специальности 18.02.05 Производство тугоплавких неметаллических и силикатных материалов и изделий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TextBox 5"/>
          <p:cNvSpPr/>
          <p:nvPr/>
        </p:nvSpPr>
        <p:spPr>
          <a:xfrm>
            <a:off x="187200" y="1365120"/>
            <a:ext cx="7048800" cy="4158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</a:rPr>
              <a:t>Образование: </a:t>
            </a:r>
            <a:r>
              <a:rPr b="1" i="1" lang="ru-RU" sz="2000" spc="-1" strike="noStrike">
                <a:solidFill>
                  <a:srgbClr val="2d2db9"/>
                </a:solidFill>
                <a:latin typeface="Times New Roman"/>
              </a:rPr>
              <a:t>г. </a:t>
            </a:r>
            <a:r>
              <a:rPr b="1" i="1" lang="ru-RU" sz="2000" spc="-1" strike="noStrike">
                <a:solidFill>
                  <a:srgbClr val="22228b"/>
                </a:solidFill>
                <a:latin typeface="Times New Roman"/>
              </a:rPr>
              <a:t>Москва, Международный независимый эколого-политологический университет, квалификация -  бакалавр экономики, 2004 г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000" spc="-1" strike="noStrike">
                <a:solidFill>
                  <a:srgbClr val="22228b"/>
                </a:solidFill>
                <a:latin typeface="Times New Roman"/>
              </a:rPr>
              <a:t>Контролер стекольного производства 4 разряда, 2016 г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</a:rPr>
              <a:t>Педагогический стаж: </a:t>
            </a:r>
            <a:r>
              <a:rPr b="1" i="1" lang="ru-RU" sz="2000" spc="-1" strike="noStrike">
                <a:solidFill>
                  <a:srgbClr val="22228b"/>
                </a:solidFill>
                <a:latin typeface="Times New Roman"/>
              </a:rPr>
              <a:t>3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191966"/>
                </a:solidFill>
                <a:latin typeface="Times New Roman"/>
              </a:rPr>
              <a:t>год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</a:rPr>
              <a:t>Квалификационной категория </a:t>
            </a:r>
            <a:r>
              <a:rPr b="1" lang="ru-RU" sz="2000" spc="-1" strike="noStrike">
                <a:solidFill>
                  <a:srgbClr val="191966"/>
                </a:solidFill>
                <a:latin typeface="Times New Roman"/>
              </a:rPr>
              <a:t>(имеющаяся) – не имею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</a:rPr>
              <a:t>Квалификационная категория</a:t>
            </a:r>
            <a:r>
              <a:rPr b="1" lang="ru-RU" sz="2000" spc="-1" strike="noStrike">
                <a:solidFill>
                  <a:srgbClr val="191966"/>
                </a:solidFill>
                <a:latin typeface="Times New Roman"/>
              </a:rPr>
              <a:t> (заявленная) – перва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</a:rPr>
              <a:t>Преподаваемые профессиональные модули: 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</a:rPr>
              <a:t>ПМ.03 Ведение технологического процесса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</a:rPr>
              <a:t>, ПМ.05 Выполнение работ по одной или нескольким профессиям рабочих, должностям служащих», учебная и производственная практика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1" name="Picture 5" descr="C:\Users\Татьяна\Desktop\фото 1 сентября\IMG_5082.JPG"/>
          <p:cNvPicPr/>
          <p:nvPr/>
        </p:nvPicPr>
        <p:blipFill>
          <a:blip r:embed="rId1"/>
          <a:stretch/>
        </p:blipFill>
        <p:spPr>
          <a:xfrm>
            <a:off x="7078680" y="1612800"/>
            <a:ext cx="2035080" cy="2897280"/>
          </a:xfrm>
          <a:prstGeom prst="rect">
            <a:avLst/>
          </a:prstGeom>
          <a:ln w="0">
            <a:noFill/>
          </a:ln>
        </p:spPr>
      </p:pic>
      <p:sp>
        <p:nvSpPr>
          <p:cNvPr id="132" name="TextBox 7"/>
          <p:cNvSpPr/>
          <p:nvPr/>
        </p:nvSpPr>
        <p:spPr>
          <a:xfrm>
            <a:off x="536400" y="5245200"/>
            <a:ext cx="8610840" cy="17935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</a:rPr>
              <a:t>Личные достижения: удостоена памятным знаком 25 лет непрерывной работы на Борском стекольном заводе, Благодарственным письмом Администрации Государственного бюджетного профессионального учреждения «Борский Губернский колледж»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Прямоугольник 1"/>
          <p:cNvSpPr/>
          <p:nvPr/>
        </p:nvSpPr>
        <p:spPr>
          <a:xfrm>
            <a:off x="2206800" y="-15840"/>
            <a:ext cx="675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ГБПОУ «Борский Губернский колледж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1907640" y="944640"/>
            <a:ext cx="658044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just"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entury Gothic"/>
              </a:rPr>
              <a:t>Экскурсии являются весьма эффективной формой организации учебной работы. В этом отношении они выполняют следующие функции: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marL="332640" indent="-332640" algn="just"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entury Gothic"/>
              </a:rPr>
              <a:t>1) с помощью экскурсии реализуется принцип наглядности обучения, ибо в процессе их учащиеся, непосредственно знакомятся с изучаемыми предметами и явлениями.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marL="332640" indent="-332640" algn="just"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entury Gothic"/>
              </a:rPr>
              <a:t>2) экскурсии позволяют повышать научность обучения и укреплять его связь с жизнью и практикой.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marL="332640" indent="-332640" algn="just"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entury Gothic"/>
              </a:rPr>
              <a:t>3) экскурсии способствуют техническому обучению, так как дают возможность знакомить студентов с производством.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907640" y="318600"/>
            <a:ext cx="655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entury Gothic"/>
              </a:rPr>
              <a:t>Экскурсии на предприятия</a:t>
            </a:r>
            <a:endParaRPr b="0" lang="en-US" sz="3200" spc="-1" strike="noStrike">
              <a:solidFill>
                <a:srgbClr val="262626"/>
              </a:solidFill>
              <a:latin typeface="Century Gothic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268200" y="280800"/>
            <a:ext cx="1084320" cy="1965240"/>
          </a:xfrm>
          <a:prstGeom prst="rect">
            <a:avLst/>
          </a:prstGeom>
          <a:ln w="76320">
            <a:solidFill>
              <a:srgbClr val="ffffff"/>
            </a:solidFill>
            <a:miter/>
          </a:ln>
          <a:effectLst>
            <a:outerShdw dist="0" dir="0" blurRad="0" rotWithShape="0">
              <a:srgbClr val="000000">
                <a:alpha val="20000"/>
              </a:srgbClr>
            </a:outerShdw>
          </a:effectLst>
        </p:spPr>
      </p:pic>
      <p:sp>
        <p:nvSpPr>
          <p:cNvPr id="163" name="AutoShape 10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AutoShape 12"/>
          <p:cNvSpPr/>
          <p:nvPr/>
        </p:nvSpPr>
        <p:spPr>
          <a:xfrm>
            <a:off x="320760" y="-3024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5" name="Рисунок 6" descr=""/>
          <p:cNvPicPr/>
          <p:nvPr/>
        </p:nvPicPr>
        <p:blipFill>
          <a:blip r:embed="rId2"/>
          <a:stretch/>
        </p:blipFill>
        <p:spPr>
          <a:xfrm>
            <a:off x="3492360" y="4525920"/>
            <a:ext cx="3583080" cy="2013120"/>
          </a:xfrm>
          <a:prstGeom prst="rect">
            <a:avLst/>
          </a:prstGeom>
          <a:ln w="0">
            <a:noFill/>
          </a:ln>
        </p:spPr>
      </p:pic>
      <p:pic>
        <p:nvPicPr>
          <p:cNvPr id="166" name="Рисунок 10" descr=""/>
          <p:cNvPicPr/>
          <p:nvPr/>
        </p:nvPicPr>
        <p:blipFill>
          <a:blip r:embed="rId3"/>
          <a:stretch/>
        </p:blipFill>
        <p:spPr>
          <a:xfrm>
            <a:off x="101520" y="461880"/>
            <a:ext cx="1419480" cy="1330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-360" y="155700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787640" y="1341360"/>
            <a:ext cx="4105080" cy="4356000"/>
          </a:xfrm>
          <a:prstGeom prst="rect">
            <a:avLst/>
          </a:prstGeom>
          <a:noFill/>
          <a:ln w="9360">
            <a:solidFill>
              <a:srgbClr val="00cc99"/>
            </a:solidFill>
            <a:round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Century Gothic"/>
              </a:rPr>
              <a:t>Встречи с мастерами производств выработки шихты, полированного стекла, автостекла на Борском стекольном заводе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69" name="Picture 7" descr=""/>
          <p:cNvPicPr/>
          <p:nvPr/>
        </p:nvPicPr>
        <p:blipFill>
          <a:blip r:embed="rId1"/>
          <a:stretch/>
        </p:blipFill>
        <p:spPr>
          <a:xfrm>
            <a:off x="1403280" y="1125360"/>
            <a:ext cx="2160720" cy="2275200"/>
          </a:xfrm>
          <a:prstGeom prst="rect">
            <a:avLst/>
          </a:prstGeom>
          <a:ln w="0">
            <a:noFill/>
          </a:ln>
        </p:spPr>
      </p:pic>
      <p:sp>
        <p:nvSpPr>
          <p:cNvPr id="170" name="Rectangle 1"/>
          <p:cNvSpPr/>
          <p:nvPr/>
        </p:nvSpPr>
        <p:spPr>
          <a:xfrm>
            <a:off x="1403280" y="285840"/>
            <a:ext cx="75265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Мастер-классы на базовом предприяти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1" name="Рисунок 2" descr=""/>
          <p:cNvPicPr/>
          <p:nvPr/>
        </p:nvPicPr>
        <p:blipFill>
          <a:blip r:embed="rId2"/>
          <a:stretch/>
        </p:blipFill>
        <p:spPr>
          <a:xfrm>
            <a:off x="574560" y="3519360"/>
            <a:ext cx="3600720" cy="300672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39280" y="-360"/>
            <a:ext cx="814716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entury Gothic"/>
              </a:rPr>
              <a:t> </a:t>
            </a:r>
            <a:r>
              <a:rPr b="1" lang="ru-RU" sz="2800" spc="-1" strike="noStrike">
                <a:solidFill>
                  <a:srgbClr val="c00000"/>
                </a:solidFill>
                <a:latin typeface="Century Gothic"/>
              </a:rPr>
              <a:t>Участие студентов в олимпиадах профессионального мастерства</a:t>
            </a:r>
            <a:endParaRPr b="0" lang="en-US" sz="2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26560" y="1052280"/>
            <a:ext cx="32418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 fontScale="47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22228b"/>
                </a:solidFill>
                <a:latin typeface="Century Gothic"/>
              </a:rPr>
              <a:t>Участие в Менделеевском конкурсе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571640" y="980640"/>
            <a:ext cx="432108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Century Gothic"/>
              </a:rPr>
              <a:t> </a:t>
            </a:r>
            <a:r>
              <a:rPr b="1" lang="ru-RU" sz="2000" spc="-1" strike="noStrike">
                <a:solidFill>
                  <a:srgbClr val="22228b"/>
                </a:solidFill>
                <a:latin typeface="Century Gothic"/>
              </a:rPr>
              <a:t>3 место в областной олимпиаде профессионального мастерства по химическим технологиям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75" name="Picture 9" descr="C:\Users\Татьяна\Desktop\Новая папка (2)\IMG_0004 (1).JPG"/>
          <p:cNvPicPr/>
          <p:nvPr/>
        </p:nvPicPr>
        <p:blipFill>
          <a:blip r:embed="rId1"/>
          <a:stretch/>
        </p:blipFill>
        <p:spPr>
          <a:xfrm>
            <a:off x="826920" y="2708280"/>
            <a:ext cx="2897280" cy="3889440"/>
          </a:xfrm>
          <a:prstGeom prst="rect">
            <a:avLst/>
          </a:prstGeom>
          <a:ln w="0">
            <a:noFill/>
          </a:ln>
        </p:spPr>
      </p:pic>
      <p:pic>
        <p:nvPicPr>
          <p:cNvPr id="176" name="Рисунок 10" descr="https://pp.userapi.com/c824602/v824602050/11b3a0/AQVCk_CmRbs.jpg"/>
          <p:cNvPicPr/>
          <p:nvPr/>
        </p:nvPicPr>
        <p:blipFill>
          <a:blip r:embed="rId2"/>
          <a:stretch/>
        </p:blipFill>
        <p:spPr>
          <a:xfrm>
            <a:off x="4500720" y="2997360"/>
            <a:ext cx="4319280" cy="324000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17600" y="201240"/>
            <a:ext cx="657864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entury Gothic"/>
              </a:rPr>
              <a:t>Количественные показатели</a:t>
            </a:r>
            <a:br>
              <a:rPr sz="2400"/>
            </a:br>
            <a:r>
              <a:rPr b="1" lang="ru-RU" sz="2400" spc="-1" strike="noStrike">
                <a:solidFill>
                  <a:srgbClr val="c00000"/>
                </a:solidFill>
                <a:latin typeface="Century Gothic"/>
              </a:rPr>
              <a:t>результатов обучения</a:t>
            </a:r>
            <a:endParaRPr b="0" lang="en-US" sz="2400" spc="-1" strike="noStrike">
              <a:solidFill>
                <a:srgbClr val="262626"/>
              </a:solidFill>
              <a:latin typeface="Century Gothic"/>
            </a:endParaRPr>
          </a:p>
        </p:txBody>
      </p:sp>
      <p:graphicFrame>
        <p:nvGraphicFramePr>
          <p:cNvPr id="178" name="Рисунок 6"/>
          <p:cNvGraphicFramePr/>
          <p:nvPr/>
        </p:nvGraphicFramePr>
        <p:xfrm>
          <a:off x="-684360" y="1128600"/>
          <a:ext cx="6313680" cy="3090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9" name="Рисунок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684360" y="1128600"/>
                    <a:ext cx="6313680" cy="309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0" name="Рисунок 5" descr=""/>
          <p:cNvPicPr/>
          <p:nvPr/>
        </p:nvPicPr>
        <p:blipFill>
          <a:blip r:embed="rId3"/>
          <a:stretch/>
        </p:blipFill>
        <p:spPr>
          <a:xfrm>
            <a:off x="4954680" y="1122480"/>
            <a:ext cx="4275000" cy="2822400"/>
          </a:xfrm>
          <a:prstGeom prst="rect">
            <a:avLst/>
          </a:prstGeom>
          <a:ln w="0">
            <a:noFill/>
          </a:ln>
        </p:spPr>
      </p:pic>
      <p:sp>
        <p:nvSpPr>
          <p:cNvPr id="181" name="AutoShape 2"/>
          <p:cNvSpPr/>
          <p:nvPr/>
        </p:nvSpPr>
        <p:spPr>
          <a:xfrm>
            <a:off x="142920" y="-144360"/>
            <a:ext cx="282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AutoShape 4"/>
          <p:cNvSpPr/>
          <p:nvPr/>
        </p:nvSpPr>
        <p:spPr>
          <a:xfrm>
            <a:off x="142920" y="-1440000"/>
            <a:ext cx="1758960" cy="30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900000" y="4027320"/>
          <a:ext cx="7896240" cy="2830680"/>
        </p:xfrm>
        <a:graphic>
          <a:graphicData uri="http://schemas.openxmlformats.org/drawingml/2006/table">
            <a:tbl>
              <a:tblPr/>
              <a:tblGrid>
                <a:gridCol w="4000680"/>
                <a:gridCol w="3895560"/>
              </a:tblGrid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Результаты ГИА 2016-2018 г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Трудоустройство выпускнико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434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«отлично» - 8 студенто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Трудоустроенные -83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523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«хорошо» – 18 студенто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Поступившие в ВУЗЫ – 4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« удовлетворительно – 6 студенто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Служба в ВС РФ- 1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522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По уходу за ребенком- 3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476000" y="160200"/>
            <a:ext cx="705636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2d2db9"/>
                </a:solidFill>
                <a:latin typeface="Century Gothic"/>
              </a:rPr>
              <a:t>Достижения в профессиональной деятельности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5308560" y="2133720"/>
            <a:ext cx="3214800" cy="3875040"/>
          </a:xfrm>
          <a:prstGeom prst="rect">
            <a:avLst/>
          </a:prstGeom>
          <a:ln w="0">
            <a:noFill/>
          </a:ln>
        </p:spPr>
      </p:pic>
      <p:sp>
        <p:nvSpPr>
          <p:cNvPr id="186" name="AutoShape 2"/>
          <p:cNvSpPr/>
          <p:nvPr/>
        </p:nvSpPr>
        <p:spPr>
          <a:xfrm>
            <a:off x="142920" y="-144360"/>
            <a:ext cx="282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7" name="Picture 5" descr="C:\Users\Татьяна\Desktop\Новая папка (2)\IMG_0008 (1).JPG"/>
          <p:cNvPicPr/>
          <p:nvPr/>
        </p:nvPicPr>
        <p:blipFill>
          <a:blip r:embed="rId2"/>
          <a:stretch/>
        </p:blipFill>
        <p:spPr>
          <a:xfrm>
            <a:off x="971640" y="1989000"/>
            <a:ext cx="3168720" cy="453564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7" descr="C:\Users\Татьяна\Desktop\Новая папка (2)\IMG_0010.JPG"/>
          <p:cNvPicPr/>
          <p:nvPr/>
        </p:nvPicPr>
        <p:blipFill>
          <a:blip r:embed="rId3"/>
          <a:stretch/>
        </p:blipFill>
        <p:spPr>
          <a:xfrm>
            <a:off x="5076720" y="1989000"/>
            <a:ext cx="3456000" cy="453564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331640" y="126720"/>
            <a:ext cx="705636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2d2db9"/>
                </a:solidFill>
                <a:latin typeface="Century Gothic"/>
              </a:rPr>
              <a:t>Результаты воспитательной работы</a:t>
            </a:r>
            <a:endParaRPr b="0" lang="en-US" sz="2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0" name="AutoShape 2"/>
          <p:cNvSpPr/>
          <p:nvPr/>
        </p:nvSpPr>
        <p:spPr>
          <a:xfrm>
            <a:off x="142920" y="-144360"/>
            <a:ext cx="282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91" name="Объект 3"/>
          <p:cNvGraphicFramePr/>
          <p:nvPr/>
        </p:nvGraphicFramePr>
        <p:xfrm>
          <a:off x="595440" y="679320"/>
          <a:ext cx="4263840" cy="361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2" name="Объект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5440" y="679320"/>
                    <a:ext cx="4263840" cy="361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3" name="Прямоугольник 1"/>
          <p:cNvSpPr/>
          <p:nvPr/>
        </p:nvSpPr>
        <p:spPr>
          <a:xfrm>
            <a:off x="4859280" y="884160"/>
            <a:ext cx="41641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202020"/>
                </a:solidFill>
                <a:latin typeface="Times New Roman"/>
              </a:rPr>
              <a:t>Мероприятия со студентами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202020"/>
              </a:buClr>
              <a:buFont typeface="Times New Roman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202020"/>
                </a:solidFill>
                <a:latin typeface="Times New Roman"/>
              </a:rPr>
              <a:t>Классные час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202020"/>
              </a:buClr>
              <a:buFont typeface="Times New Roman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202020"/>
                </a:solidFill>
                <a:latin typeface="Times New Roman"/>
              </a:rPr>
              <a:t>Мероприятия при кабинет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202020"/>
              </a:buClr>
              <a:buFont typeface="Times New Roman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202020"/>
                </a:solidFill>
                <a:latin typeface="Times New Roman"/>
              </a:rPr>
              <a:t>Мероприятия в рамках Недели специальност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202020"/>
              </a:buClr>
              <a:buFont typeface="Times New Roman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202020"/>
                </a:solidFill>
                <a:latin typeface="Times New Roman"/>
              </a:rPr>
              <a:t>Конкурсы и концерт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202020"/>
              </a:buClr>
              <a:buFont typeface="Times New Roman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202020"/>
                </a:solidFill>
                <a:latin typeface="Times New Roman"/>
              </a:rPr>
              <a:t>Проекты социальной направленност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TextBox 7"/>
          <p:cNvSpPr/>
          <p:nvPr/>
        </p:nvSpPr>
        <p:spPr>
          <a:xfrm>
            <a:off x="1160640" y="6270480"/>
            <a:ext cx="7954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600" spc="-1" strike="noStrike">
                <a:solidFill>
                  <a:srgbClr val="202020"/>
                </a:solidFill>
                <a:latin typeface="Times New Roman"/>
              </a:rPr>
              <a:t>Акция «Чистый воздух»                             Интеллектуальная игра «Ворошиловский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600" spc="-1" strike="noStrike">
                <a:solidFill>
                  <a:srgbClr val="202020"/>
                </a:solidFill>
                <a:latin typeface="Times New Roman"/>
              </a:rPr>
              <a:t>                                                                                  </a:t>
            </a:r>
            <a:r>
              <a:rPr b="1" lang="ru-RU" sz="1600" spc="-1" strike="noStrike">
                <a:solidFill>
                  <a:srgbClr val="202020"/>
                </a:solidFill>
                <a:latin typeface="Times New Roman"/>
              </a:rPr>
              <a:t>стрелок»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20202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5" name="Picture 4" descr="E:\1\2018.10.06 Экологическая акция\DSC_0350.JPG"/>
          <p:cNvPicPr/>
          <p:nvPr/>
        </p:nvPicPr>
        <p:blipFill>
          <a:blip r:embed="rId3"/>
          <a:stretch/>
        </p:blipFill>
        <p:spPr>
          <a:xfrm>
            <a:off x="1068480" y="4335480"/>
            <a:ext cx="2805120" cy="186372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4" descr="E:\1\2018.11.08 Ворошиловский стрелок\zjUhVWOKbxo.jpg"/>
          <p:cNvPicPr/>
          <p:nvPr/>
        </p:nvPicPr>
        <p:blipFill>
          <a:blip r:embed="rId4"/>
          <a:stretch/>
        </p:blipFill>
        <p:spPr>
          <a:xfrm>
            <a:off x="5295960" y="4297320"/>
            <a:ext cx="3008160" cy="197316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76000" y="160200"/>
            <a:ext cx="705636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2d2db9"/>
                </a:solidFill>
                <a:latin typeface="Century Gothic"/>
              </a:rPr>
              <a:t>Результаты внеурочной деятельности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8" name="AutoShape 2"/>
          <p:cNvSpPr/>
          <p:nvPr/>
        </p:nvSpPr>
        <p:spPr>
          <a:xfrm>
            <a:off x="142920" y="-144360"/>
            <a:ext cx="282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Объект 2"/>
          <p:cNvSpPr/>
          <p:nvPr/>
        </p:nvSpPr>
        <p:spPr>
          <a:xfrm>
            <a:off x="755640" y="1700280"/>
            <a:ext cx="3960720" cy="41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entury Gothic"/>
              </a:rPr>
              <a:t>Кружок «Карьерное проектирование» -основа для успешной конкуренто-способности и мобильности выпускников на рынке труд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0" name="Рисунок 4" descr="IMG_1854.JPG"/>
          <p:cNvPicPr/>
          <p:nvPr/>
        </p:nvPicPr>
        <p:blipFill>
          <a:blip r:embed="rId1"/>
          <a:stretch/>
        </p:blipFill>
        <p:spPr>
          <a:xfrm>
            <a:off x="4932360" y="1628640"/>
            <a:ext cx="3747960" cy="249876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2" descr="C:\Users\Татьяна\Downloads\IMG_0014.JPG"/>
          <p:cNvPicPr/>
          <p:nvPr/>
        </p:nvPicPr>
        <p:blipFill>
          <a:blip r:embed="rId2"/>
          <a:stretch/>
        </p:blipFill>
        <p:spPr>
          <a:xfrm>
            <a:off x="4932360" y="4292640"/>
            <a:ext cx="3747960" cy="232236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39640" y="75960"/>
            <a:ext cx="836136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2d2db9"/>
                </a:solidFill>
                <a:latin typeface="Century Gothic"/>
              </a:rPr>
              <a:t>Результаты профориентационной работы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pic>
        <p:nvPicPr>
          <p:cNvPr id="203" name="Объект 2" descr="Изображение выглядит как внутренний, человек, потолок, стена&#13;&#10;&#13;&#10;Описание создано автоматически"/>
          <p:cNvPicPr/>
          <p:nvPr/>
        </p:nvPicPr>
        <p:blipFill>
          <a:blip r:embed="rId1"/>
          <a:stretch/>
        </p:blipFill>
        <p:spPr>
          <a:xfrm>
            <a:off x="438120" y="1746360"/>
            <a:ext cx="3799080" cy="2350800"/>
          </a:xfrm>
          <a:prstGeom prst="rect">
            <a:avLst/>
          </a:prstGeom>
          <a:ln w="0">
            <a:noFill/>
          </a:ln>
        </p:spPr>
      </p:pic>
      <p:sp>
        <p:nvSpPr>
          <p:cNvPr id="204" name="AutoShape 2"/>
          <p:cNvSpPr/>
          <p:nvPr/>
        </p:nvSpPr>
        <p:spPr>
          <a:xfrm>
            <a:off x="142920" y="-144360"/>
            <a:ext cx="282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23480" y="1335240"/>
            <a:ext cx="47401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Century Gothic"/>
              </a:rPr>
              <a:t>Встречи с представителями ВУЗов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206" name="Рисунок 4" descr="Изображение выглядит как внутренний, стена, стол, человек&#13;&#10;&#13;&#10;Описание создано автоматически"/>
          <p:cNvPicPr/>
          <p:nvPr/>
        </p:nvPicPr>
        <p:blipFill>
          <a:blip r:embed="rId2"/>
          <a:stretch/>
        </p:blipFill>
        <p:spPr>
          <a:xfrm>
            <a:off x="4724280" y="1407960"/>
            <a:ext cx="3799080" cy="2532240"/>
          </a:xfrm>
          <a:prstGeom prst="rect">
            <a:avLst/>
          </a:prstGeom>
          <a:ln w="0">
            <a:noFill/>
          </a:ln>
        </p:spPr>
      </p:pic>
      <p:sp>
        <p:nvSpPr>
          <p:cNvPr id="207" name="Объект 2"/>
          <p:cNvSpPr/>
          <p:nvPr/>
        </p:nvSpPr>
        <p:spPr>
          <a:xfrm>
            <a:off x="4863960" y="4013280"/>
            <a:ext cx="4740480" cy="7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Century Gothic"/>
              </a:rPr>
              <a:t>Встречи с работодателями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AutoShape 7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9" name="Рисунок 6" descr=""/>
          <p:cNvPicPr/>
          <p:nvPr/>
        </p:nvPicPr>
        <p:blipFill>
          <a:blip r:embed="rId3"/>
          <a:stretch/>
        </p:blipFill>
        <p:spPr>
          <a:xfrm>
            <a:off x="1155600" y="4183200"/>
            <a:ext cx="3530880" cy="2354040"/>
          </a:xfrm>
          <a:prstGeom prst="rect">
            <a:avLst/>
          </a:prstGeom>
          <a:ln w="0">
            <a:noFill/>
          </a:ln>
        </p:spPr>
      </p:pic>
      <p:sp>
        <p:nvSpPr>
          <p:cNvPr id="210" name="Объект 2"/>
          <p:cNvSpPr/>
          <p:nvPr/>
        </p:nvSpPr>
        <p:spPr>
          <a:xfrm>
            <a:off x="5005440" y="4965840"/>
            <a:ext cx="3236760" cy="7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Century Gothic"/>
              </a:rPr>
              <a:t>Участие в Дне открытых дверей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76000" y="160200"/>
            <a:ext cx="705636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2d2db9"/>
                </a:solidFill>
                <a:latin typeface="Century Gothic"/>
              </a:rPr>
              <a:t>Трансляция педагогического опыта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12" name="AutoShape 2"/>
          <p:cNvSpPr/>
          <p:nvPr/>
        </p:nvSpPr>
        <p:spPr>
          <a:xfrm>
            <a:off x="142920" y="-144360"/>
            <a:ext cx="282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1625400" y="1704960"/>
            <a:ext cx="3213000" cy="387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Century Gothic"/>
              </a:rPr>
              <a:t>Скриншоты сайтов, сертификаты о публикациях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5363640" y="1490760"/>
            <a:ext cx="3359160" cy="38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251280" indent="-2512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тупление на заседании методической комиссии на тему «Технология практико-ориентированного  обучения  в процессе профессиональной подготовки обучающихся»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251280" indent="-2512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тупление на педагогическом совете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251280" indent="-2512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стие в работе профессиональных педагогических сетевых сообществ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215" name="Рисунок 1" descr=""/>
          <p:cNvPicPr/>
          <p:nvPr/>
        </p:nvPicPr>
        <p:blipFill>
          <a:blip r:embed="rId1"/>
          <a:srcRect l="19689" t="9802" r="19281" b="8700"/>
          <a:stretch/>
        </p:blipFill>
        <p:spPr>
          <a:xfrm>
            <a:off x="318960" y="1490760"/>
            <a:ext cx="5004000" cy="460836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1"/>
          <p:cNvSpPr/>
          <p:nvPr/>
        </p:nvSpPr>
        <p:spPr>
          <a:xfrm>
            <a:off x="3537000" y="357120"/>
            <a:ext cx="207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Литература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Rectangle 2"/>
          <p:cNvSpPr/>
          <p:nvPr/>
        </p:nvSpPr>
        <p:spPr>
          <a:xfrm>
            <a:off x="428760" y="1000080"/>
            <a:ext cx="85010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4800" indent="-3348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ФЗ об образовании в РФ № 273 от 21.12.2012 г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Федеральный Государственный  образовательный стандарт по специальности среднего профессионального образования 18.02.05 Производство тугоплавких неметаллических и силикатных материалов и изделий пр.435 от 07.05.2014г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ухина С.А. Соловьева А.А. Нетрадиционные педагогические технологии в обучении. Ростов – на –Дону « Феникс» , 2012г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Зимняя И. А. Ключевые компетентности как результативно-целевая основа компетентностного подхода в образовании. Авторская версия. М.: Исследовательский центр проблем качества подготовки специалистов, 2004.- С.3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айндорф-Сысоева, М.Е. Педагогика: Учебное пособие для СПО и прикладного бакалавриата / М.Е. Вайндорф-Сысоева, Л.П. Крившенко. - Люберцы: Юрайт, 2016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. 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алугина Инна Юрьевна. Образовательные возможности практико-ориентированного обучения учащихся : Дис. ... канд. пед. наук : 13.00.01 : Екатеринбург, 2014 г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tabLst>
                <a:tab algn="l" pos="0"/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tabLst>
                <a:tab algn="l" pos="0"/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1"/>
          <p:cNvSpPr/>
          <p:nvPr/>
        </p:nvSpPr>
        <p:spPr>
          <a:xfrm>
            <a:off x="1440000" y="790560"/>
            <a:ext cx="7345080" cy="56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ое педагогическое кредо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Rectangle 2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Rectangle 3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Rectangle 4"/>
          <p:cNvSpPr/>
          <p:nvPr/>
        </p:nvSpPr>
        <p:spPr>
          <a:xfrm>
            <a:off x="576360" y="1055520"/>
            <a:ext cx="82087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лохой учитель преподносит   истину,               хороший учит ее находить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                                                                   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 А. Дистервег 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ТЕМА ПЕДАГОГИЧЕСКОГО ОПЫТ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«Практико-ориентированные технологии обучения как средство повышения качества подготовки студентов по специальности 18.02.05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изводство тугоплавких неметаллических и силикатных изделий и материалов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8" name="Picture 5" descr=""/>
          <p:cNvPicPr/>
          <p:nvPr/>
        </p:nvPicPr>
        <p:blipFill>
          <a:blip r:embed="rId2"/>
          <a:stretch/>
        </p:blipFill>
        <p:spPr>
          <a:xfrm>
            <a:off x="1547640" y="755640"/>
            <a:ext cx="1944720" cy="227808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Box 1"/>
          <p:cNvSpPr/>
          <p:nvPr/>
        </p:nvSpPr>
        <p:spPr>
          <a:xfrm>
            <a:off x="1258920" y="317520"/>
            <a:ext cx="28814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TextBox 2"/>
          <p:cNvSpPr/>
          <p:nvPr/>
        </p:nvSpPr>
        <p:spPr>
          <a:xfrm>
            <a:off x="1379520" y="420840"/>
            <a:ext cx="7416720" cy="1117080"/>
          </a:xfrm>
          <a:prstGeom prst="roundRect">
            <a:avLst>
              <a:gd name="adj" fmla="val 16667"/>
            </a:avLst>
          </a:prstGeom>
          <a:solidFill>
            <a:srgbClr val="e8ad96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Times New Roman"/>
              </a:rPr>
              <a:t>Шорина Татьяна Александровна </a:t>
            </a:r>
            <a:r>
              <a:rPr b="1" i="1" lang="ru-RU" sz="1800" spc="-1" strike="noStrike">
                <a:solidFill>
                  <a:srgbClr val="191966"/>
                </a:solidFill>
                <a:latin typeface="Times New Roman"/>
              </a:rPr>
              <a:t>- преподаватель  по специальности 18.02.05 Производство тугоплавких неметаллических и силикатных материалов и изделий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TextBox 5"/>
          <p:cNvSpPr/>
          <p:nvPr/>
        </p:nvSpPr>
        <p:spPr>
          <a:xfrm>
            <a:off x="187200" y="1365120"/>
            <a:ext cx="7048800" cy="4158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</a:rPr>
              <a:t>Образование: </a:t>
            </a:r>
            <a:r>
              <a:rPr b="1" i="1" lang="ru-RU" sz="2000" spc="-1" strike="noStrike">
                <a:solidFill>
                  <a:srgbClr val="2d2db9"/>
                </a:solidFill>
                <a:latin typeface="Times New Roman"/>
              </a:rPr>
              <a:t>г. </a:t>
            </a:r>
            <a:r>
              <a:rPr b="1" i="1" lang="ru-RU" sz="2000" spc="-1" strike="noStrike">
                <a:solidFill>
                  <a:srgbClr val="22228b"/>
                </a:solidFill>
                <a:latin typeface="Times New Roman"/>
              </a:rPr>
              <a:t>Москва, Международный независимый эколого-политологический университет, квалификация -  бакалавр экономики, 2004 г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000" spc="-1" strike="noStrike">
                <a:solidFill>
                  <a:srgbClr val="22228b"/>
                </a:solidFill>
                <a:latin typeface="Times New Roman"/>
              </a:rPr>
              <a:t>Контролер стекольного производства 4 разряда, 2016 г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</a:rPr>
              <a:t>Педагогический стаж: </a:t>
            </a:r>
            <a:r>
              <a:rPr b="1" i="1" lang="ru-RU" sz="2000" spc="-1" strike="noStrike">
                <a:solidFill>
                  <a:srgbClr val="22228b"/>
                </a:solidFill>
                <a:latin typeface="Times New Roman"/>
              </a:rPr>
              <a:t>3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191966"/>
                </a:solidFill>
                <a:latin typeface="Times New Roman"/>
              </a:rPr>
              <a:t>год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</a:rPr>
              <a:t>Квалификационной категория </a:t>
            </a:r>
            <a:r>
              <a:rPr b="1" lang="ru-RU" sz="2000" spc="-1" strike="noStrike">
                <a:solidFill>
                  <a:srgbClr val="191966"/>
                </a:solidFill>
                <a:latin typeface="Times New Roman"/>
              </a:rPr>
              <a:t>(имеющаяся) – не имею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</a:rPr>
              <a:t>Квалификационная категория</a:t>
            </a:r>
            <a:r>
              <a:rPr b="1" lang="ru-RU" sz="2000" spc="-1" strike="noStrike">
                <a:solidFill>
                  <a:srgbClr val="191966"/>
                </a:solidFill>
                <a:latin typeface="Times New Roman"/>
              </a:rPr>
              <a:t> (заявленная) – перва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</a:rPr>
              <a:t>Преподаваемые профессиональные модули: 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</a:rPr>
              <a:t>ПМ.03 Ведение технологического процесса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</a:rPr>
              <a:t>, ПМ.05 Выполнение работ по одной или нескольким профессиям рабочих, должностям служащих», учебная и производственная практика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1" name="Picture 5" descr="C:\Users\Татьяна\Desktop\фото 1 сентября\IMG_5082.JPG"/>
          <p:cNvPicPr/>
          <p:nvPr/>
        </p:nvPicPr>
        <p:blipFill>
          <a:blip r:embed="rId1"/>
          <a:stretch/>
        </p:blipFill>
        <p:spPr>
          <a:xfrm>
            <a:off x="7078680" y="1612800"/>
            <a:ext cx="2035080" cy="2897280"/>
          </a:xfrm>
          <a:prstGeom prst="rect">
            <a:avLst/>
          </a:prstGeom>
          <a:ln w="0">
            <a:noFill/>
          </a:ln>
        </p:spPr>
      </p:pic>
      <p:sp>
        <p:nvSpPr>
          <p:cNvPr id="222" name="TextBox 7"/>
          <p:cNvSpPr/>
          <p:nvPr/>
        </p:nvSpPr>
        <p:spPr>
          <a:xfrm>
            <a:off x="536400" y="5245200"/>
            <a:ext cx="8610840" cy="17935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</a:rPr>
              <a:t>Личные достижения: удостоена памятным знаком 25 лет непрерывной работы на Борском стекольном заводе, Благодарственным письмом Администрации Государственного бюджетного профессионального учреждения «Борский Губернский колледж»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Прямоугольник 1"/>
          <p:cNvSpPr/>
          <p:nvPr/>
        </p:nvSpPr>
        <p:spPr>
          <a:xfrm>
            <a:off x="2206800" y="-15840"/>
            <a:ext cx="675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ГБПОУ «Борский Губернский колледж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1"/>
          <p:cNvSpPr/>
          <p:nvPr/>
        </p:nvSpPr>
        <p:spPr>
          <a:xfrm>
            <a:off x="395280" y="189000"/>
            <a:ext cx="8643960" cy="1323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</a:rPr>
              <a:t>         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Условия формирования опыт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 u="sng">
                <a:solidFill>
                  <a:srgbClr val="3333cc"/>
                </a:solidFill>
                <a:uFillTx/>
                <a:latin typeface="Times New Roman"/>
              </a:rPr>
              <a:t>                 </a:t>
            </a:r>
            <a:r>
              <a:rPr b="1" lang="ru-RU" sz="1800" spc="-1" strike="noStrike" u="sng">
                <a:solidFill>
                  <a:srgbClr val="3333cc"/>
                </a:solidFill>
                <a:uFillTx/>
                <a:latin typeface="Times New Roman"/>
              </a:rPr>
              <a:t>Научно-исследовательские условия: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) Изучение работ психологов и педагогов (Л.С. Выготский, И.А. Зимняя, А.А.Вербицкий, М. М.Новик, А.В. Хуторской, С.Я. Батышев,  А.М. Новиков- личностно – ориентированное обучение, теория и методика профессионального образования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2) Самостоятельное  обучение: чтение  методической и   специальной литературы по преподаваемой специальност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 u="sng">
                <a:solidFill>
                  <a:srgbClr val="3333cc"/>
                </a:solidFill>
                <a:uFillTx/>
                <a:latin typeface="Times New Roman"/>
              </a:rPr>
              <a:t>Методические и организационно-педагогические условия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) Работа в должности преподавателя, руководителя учебной практики и производственного (практического)  обучения 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2) Разработка УМК по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М.03 Ведение технологического процесса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, ПМ.05 Выполнение работ по одной или нескольким профессиям рабочих, должностям служащих»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3) Организация работы  ПЦК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4) Работа над методической темой «Технология практико-ориентированного  обучения  в процессе профессиональной подготовки обучающихся»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5) Обмен опытом работы с коллегами -  педагогами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6) Повышение квалификации на курсах  в ГБОУ  ДПО НИРО «Содержание и технологии организации образовательной деятельности в условиях внедрения ФГОС», 2017 г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Рисунок 6" descr=""/>
          <p:cNvPicPr/>
          <p:nvPr/>
        </p:nvPicPr>
        <p:blipFill>
          <a:blip r:embed="rId1"/>
          <a:stretch/>
        </p:blipFill>
        <p:spPr>
          <a:xfrm>
            <a:off x="-23760" y="1706400"/>
            <a:ext cx="10258200" cy="5608800"/>
          </a:xfrm>
          <a:prstGeom prst="rect">
            <a:avLst/>
          </a:prstGeom>
          <a:ln w="0">
            <a:noFill/>
          </a:ln>
        </p:spPr>
      </p:pic>
      <p:sp>
        <p:nvSpPr>
          <p:cNvPr id="141" name="Прямоугольник 5"/>
          <p:cNvSpPr/>
          <p:nvPr/>
        </p:nvSpPr>
        <p:spPr>
          <a:xfrm>
            <a:off x="185760" y="692280"/>
            <a:ext cx="89582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2" name="Прямоугольник 8" descr=""/>
          <p:cNvPicPr/>
          <p:nvPr/>
        </p:nvPicPr>
        <p:blipFill>
          <a:blip r:embed="rId2"/>
          <a:stretch/>
        </p:blipFill>
        <p:spPr>
          <a:xfrm>
            <a:off x="4138560" y="2706840"/>
            <a:ext cx="1994040" cy="221904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6" descr="https://c-a.d-cd.net/d9b385u-960.jpg"/>
          <p:cNvPicPr/>
          <p:nvPr/>
        </p:nvPicPr>
        <p:blipFill>
          <a:blip r:embed="rId3"/>
          <a:srcRect l="20443" t="2868" r="19940" b="8661"/>
          <a:stretch/>
        </p:blipFill>
        <p:spPr>
          <a:xfrm>
            <a:off x="250920" y="351000"/>
            <a:ext cx="1063440" cy="1709640"/>
          </a:xfrm>
          <a:prstGeom prst="rect">
            <a:avLst/>
          </a:prstGeom>
          <a:ln w="0">
            <a:noFill/>
          </a:ln>
        </p:spPr>
      </p:pic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14000" y="79200"/>
            <a:ext cx="758340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ктуальность личного вклада </a:t>
            </a:r>
            <a:br>
              <a:rPr sz="2400"/>
            </a:b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едагога в развитие профессионального образования</a:t>
            </a:r>
            <a:endParaRPr b="0" lang="en-US" sz="24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560520" y="692280"/>
            <a:ext cx="820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Rectangle 4"/>
          <p:cNvSpPr/>
          <p:nvPr/>
        </p:nvSpPr>
        <p:spPr>
          <a:xfrm>
            <a:off x="1751040" y="566640"/>
            <a:ext cx="6819840" cy="17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пыт практической работы в должности преподавателя учебных дисциплин профессионального цикла позволил выявить следующие проблемы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2"/>
          <p:cNvSpPr/>
          <p:nvPr/>
        </p:nvSpPr>
        <p:spPr>
          <a:xfrm>
            <a:off x="2014560" y="476280"/>
            <a:ext cx="5977080" cy="56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entury Gothic"/>
              </a:rPr>
              <a:t>Ведущая педагогическая иде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заключается в  том, что при внедрении в образовательный процесс практико-ориентированных технологий, профессиональная деятельность приближается к условиям реального производства, повышается качество обучения и обеспечивается развитие общих и профессиональных компетенций специалиста, востребованного на рынке труд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8" name="Picture 4" descr="http://pdohod.ru/wp-content/uploads/2013/11/idea-dlya-biznesa.jpg"/>
          <p:cNvPicPr/>
          <p:nvPr/>
        </p:nvPicPr>
        <p:blipFill>
          <a:blip r:embed="rId1"/>
          <a:srcRect l="22280" t="0" r="22280" b="0"/>
          <a:stretch/>
        </p:blipFill>
        <p:spPr>
          <a:xfrm rot="180000">
            <a:off x="268200" y="281160"/>
            <a:ext cx="1084320" cy="1965240"/>
          </a:xfrm>
          <a:prstGeom prst="rect">
            <a:avLst/>
          </a:prstGeom>
          <a:ln w="76320">
            <a:solidFill>
              <a:srgbClr val="ffffff"/>
            </a:solidFill>
            <a:miter/>
          </a:ln>
          <a:effectLst>
            <a:outerShdw dist="0" dir="0" blurRad="0" rotWithShape="0">
              <a:srgbClr val="000000">
                <a:alpha val="20000"/>
              </a:srgbClr>
            </a:outerShdw>
          </a:effectLst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1"/>
          <p:cNvSpPr/>
          <p:nvPr/>
        </p:nvSpPr>
        <p:spPr>
          <a:xfrm>
            <a:off x="1403280" y="285840"/>
            <a:ext cx="75265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Цель и задачи педагогической деятельност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Rectangle 2"/>
          <p:cNvSpPr/>
          <p:nvPr/>
        </p:nvSpPr>
        <p:spPr>
          <a:xfrm>
            <a:off x="928800" y="1071720"/>
            <a:ext cx="7929360" cy="57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Цель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оздать научно-методические и организационно-педагогические условия практико-ориентированной  подготовки специалистов  для  предприятий стекольного производства в специально оборудованной лаборатории колледжа и на производстве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адачи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. Разработка учебно-методических материалов по преподаваемым профессиональным модулям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2. Осуществлять взаимодействие с  потенциальными работодателями  - ОАО «ЭЙ ДЖИ СИ Борский стекольный завод», ООО «Борское зеркало» с целью качественной подготовки выпускников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азработать  комплект   методических   пособий   для      реализации практико-ориентированного обучения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4. Способствовать развитию профессиональных   интересов  личности  обучающегося,   что позволит в будущем обеспечить     его     социальную       и     профессиональную     мобильность, открытость к изменениям и творческому поиску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5. Сформировать навыки самостоятельной работы студентов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2"/>
          <p:cNvSpPr/>
          <p:nvPr/>
        </p:nvSpPr>
        <p:spPr>
          <a:xfrm>
            <a:off x="357120" y="0"/>
            <a:ext cx="8786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c00000"/>
                </a:solidFill>
                <a:latin typeface="Times New Roman"/>
              </a:rPr>
              <a:t>Практико-ориентированная подготовка студентов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c00000"/>
                </a:solidFill>
                <a:latin typeface="Times New Roman"/>
              </a:rPr>
              <a:t>осуществляется системно, на всех этапах обучения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2" name="Схема 3" descr=""/>
          <p:cNvPicPr/>
          <p:nvPr/>
        </p:nvPicPr>
        <p:blipFill>
          <a:blip r:embed="rId2"/>
          <a:stretch/>
        </p:blipFill>
        <p:spPr>
          <a:xfrm>
            <a:off x="1463760" y="907920"/>
            <a:ext cx="7246800" cy="5589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1"/>
          <p:cNvSpPr/>
          <p:nvPr/>
        </p:nvSpPr>
        <p:spPr>
          <a:xfrm>
            <a:off x="500040" y="142920"/>
            <a:ext cx="84297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Деятельностный аспект личного вклада педагога в развитие образовани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Rectangle 2"/>
          <p:cNvSpPr/>
          <p:nvPr/>
        </p:nvSpPr>
        <p:spPr>
          <a:xfrm>
            <a:off x="689040" y="1341360"/>
            <a:ext cx="8240760" cy="50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азработка УМК по профессиональному модулям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М.03 Ведение технологического процесса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ПМ.05 Выполнение работ по одной или нескольким профессиям рабочих, должностям служащих»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2. Структурирование содержания учебной и производственной практик на основе требований ФГОС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3.Отбор оптимальных методов и форм образовательной деятельности в рамках практико-ориентированного обучения с использованием информационных технологий и методов развивающего обучения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4.  Проектирование и проведение учебных занятий в условиях практико-ориентированного обучения, разработка  и внедрение оценочных средств, организация самостоятельной работы студентов во взаимодействии с работодателями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5.  Организация практико-ориентированной учебной деятельности в виде выполнения практических заданий исследовательского и творческого характера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04480" y="183960"/>
            <a:ext cx="785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500" spc="-1" strike="noStrike">
                <a:solidFill>
                  <a:srgbClr val="262626"/>
                </a:solidFill>
                <a:latin typeface="Century Gothic"/>
              </a:rPr>
              <a:t>Учебные занятия на учебной практике проводятся в специально оборудованной лаборатории </a:t>
            </a:r>
            <a:endParaRPr b="0" lang="en-US" sz="25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31360" y="13060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200" spc="-1" strike="noStrike">
                <a:solidFill>
                  <a:srgbClr val="c00000"/>
                </a:solidFill>
                <a:latin typeface="Century Gothic"/>
              </a:rPr>
              <a:t>Учебная практика 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17680" y="2517840"/>
            <a:ext cx="4039920" cy="39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292360" y="1542960"/>
            <a:ext cx="338292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entury Gothic"/>
              </a:rPr>
              <a:t>Лаборатория общей технологии силикатов, химического анализа силикатных и тугоплавких неметаллических материалов и изделий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59" name="Рисунок 8" descr="https://pp.userapi.com/c824602/v824602050/11b3d2/OIHLCeJFX5M.jpg"/>
          <p:cNvPicPr/>
          <p:nvPr/>
        </p:nvPicPr>
        <p:blipFill>
          <a:blip r:embed="rId1"/>
          <a:stretch/>
        </p:blipFill>
        <p:spPr>
          <a:xfrm>
            <a:off x="517680" y="2276640"/>
            <a:ext cx="4176720" cy="388764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Елена Н. Лесняк</dc:creator>
  <dc:description/>
  <dc:language>en-US</dc:language>
  <cp:lastModifiedBy>Admin</cp:lastModifiedBy>
  <cp:lastPrinted>2014-06-10T08:24:51Z</cp:lastPrinted>
  <dcterms:modified xsi:type="dcterms:W3CDTF">2023-11-14T07:23:42Z</dcterms:modified>
  <cp:revision>333</cp:revision>
  <dc:subject/>
  <dc:title>PowerPoint Presentation</dc:title>
</cp:coreProperties>
</file>