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747E-0844-42D7-8949-8D148D58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9CE-3EA6-434E-9F30-F5E59702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D477-8B7C-4CE2-B40A-8C6C47EC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D28-FCFF-4717-B574-3F5D8284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6D36E-BA0B-410D-86D7-31658C10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AAB3E-1BC1-4317-AD5E-29C5532B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D7E45-3CC4-41C2-AE55-9D2D6D08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46F76-4362-4DC8-BE75-DF931152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44B22-E021-4CE1-B26A-BCC2D646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F7FFB-878E-4712-8BA2-A4118FA5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93358-1761-4952-944D-8AA3E9C1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7E9E-DB6B-40DC-B35B-E2A129B7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7E69F-FB3F-4529-9883-A34AE5F9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44E78-AFA1-4DE1-82B8-2E6AA693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D28B4-2AE8-4584-9A71-9A519078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37D05-E85D-4294-BEC1-DF64D0FC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02C2A-65AE-4436-A1EE-8FFB7B4D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0A691-CD46-4A7B-A9B7-E92F2C8E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2B177-751D-47A4-8796-64ECEFD0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8BB9F-296B-4B52-9A4E-1CC768F8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A6BFB-1FA0-4542-A9C5-5C0EF6BF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F784C-0A2F-44C3-86EC-33E6606F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CE8F-71D6-4D9D-906B-BA4E4D9E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A27E7-BB41-4CA3-81C3-6023B7F2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9DDEE-F52F-4178-B9C8-EED05E19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FF2A9-868C-4BC8-A623-7935DF8A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55802-DB60-4B5E-A65A-D2A149B5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BB11D-73C6-424C-8142-94D00201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55B24-6790-48B0-95F7-83844D7B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981E8-7EC7-4FCA-A6E7-1692EC67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BFCA26-B844-4BCA-B302-18A78B66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7BE40D-AB6D-4056-83A2-9DB29656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18E437-5688-4BC1-9C02-86995AA4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D26-B1D2-4094-9F09-CB31457C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0DE900-EF3E-4655-92C1-BF318491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0878B0-6F6B-453E-8395-E1893F3E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AC1340-48C2-4208-8882-C7C83211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DAA68E-1B6D-4D8E-9125-1D4F703F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7F17FD-DCAD-4813-8422-F38C9667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16DB5D-D668-4200-8AA1-7BC7D00A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11E0E3-71AD-4FF4-B974-C6CECFE1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925E29-63FF-4D1B-BA43-CC6A8109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951737-F1B8-4017-BA98-9D3573A6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514B-C4C9-4907-B42D-F214EC78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E1A1-34A6-41D5-BF7E-273578A4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439C-4505-483D-9CF1-A7812EBA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EEAF-3A19-46BA-A268-CCF431D9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0CE3-AA1D-483A-8B0D-0CDBE1E5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575f6d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E0F97C-9037-43C5-BE9D-7B17F569DBDD}" type="slidenum">
              <a:rPr b="0" lang="en-GB" sz="1600" spc="-1" strike="noStrike">
                <a:solidFill>
                  <a:srgbClr val="575f6d"/>
                </a:solidFill>
                <a:latin typeface="Arial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d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d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7598d9"/>
          </a:solidFill>
          <a:ln w="38160">
            <a:solidFill>
              <a:srgbClr val="7598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575f6d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C7FF55-EF8A-42AB-BCBE-14BF218D8C72}" type="slidenum">
              <a:rPr b="0" lang="en-GB" sz="1600" spc="-1" strike="noStrike">
                <a:solidFill>
                  <a:srgbClr val="575f6d"/>
                </a:solidFill>
                <a:latin typeface="Arial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575f6d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49F65F-DD86-461D-849C-54C100E34463}" type="slidenum">
              <a:rPr b="0" lang="en-GB" sz="1600" spc="-1" strike="noStrike">
                <a:solidFill>
                  <a:srgbClr val="575f6d"/>
                </a:solidFill>
                <a:latin typeface="Arial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d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d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575f6d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731609-B2DE-4B75-9E1E-0E88920DC150}" type="slidenum">
              <a:rPr b="0" lang="en-GB" sz="1600" spc="-1" strike="noStrike">
                <a:solidFill>
                  <a:srgbClr val="575f6d"/>
                </a:solidFill>
                <a:latin typeface="Arial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Фон с компьютером для презентации - фото и картинки abrakadabra.f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Заголовок 1" descr=""/>
          <p:cNvPicPr/>
          <p:nvPr/>
        </p:nvPicPr>
        <p:blipFill>
          <a:blip r:embed="rId2"/>
          <a:stretch/>
        </p:blipFill>
        <p:spPr>
          <a:xfrm>
            <a:off x="-444600" y="1968480"/>
            <a:ext cx="10149120" cy="3693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8" descr="Фон с компьютером для презентации - фото и картинки abrakadabra.f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1"/>
          <p:cNvSpPr/>
          <p:nvPr/>
        </p:nvSpPr>
        <p:spPr>
          <a:xfrm>
            <a:off x="3212640" y="142920"/>
            <a:ext cx="362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  <a:ea typeface="Arial"/>
              </a:rPr>
              <a:t>Flash</a:t>
            </a:r>
            <a:r>
              <a:rPr b="1" i="1" lang="ru-RU" sz="2800" spc="-1" strike="noStrike">
                <a:solidFill>
                  <a:srgbClr val="ff0000"/>
                </a:solidFill>
                <a:latin typeface="Constantia"/>
                <a:ea typeface="Arial"/>
              </a:rPr>
              <a:t> - анимац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611280" y="692280"/>
            <a:ext cx="7929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В основе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flash-анимации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 лежит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векторная график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. Эта технология позволяет реализовать движение, плавно изменяя расположение, размер и цвет объектов на рисунке, а также показать плавное превращение одного объекта в друго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2"/>
          <a:stretch/>
        </p:blipFill>
        <p:spPr>
          <a:xfrm>
            <a:off x="5508720" y="2060640"/>
            <a:ext cx="3068640" cy="312588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4"/>
          <p:cNvSpPr/>
          <p:nvPr/>
        </p:nvSpPr>
        <p:spPr>
          <a:xfrm>
            <a:off x="684360" y="5157720"/>
            <a:ext cx="7858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В основе Flash - анимации  лежит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 векторный морфинг, то есть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плавное «перетекание» одного ключевого кадра в другой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. Это позволяет делать сложные мультипликационные сцены, задавая лишь несколько ключевых кадров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Прямоугольник 5"/>
          <p:cNvSpPr/>
          <p:nvPr/>
        </p:nvSpPr>
        <p:spPr>
          <a:xfrm>
            <a:off x="755640" y="256536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lash-анимация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получила широкое распространение не только в интернет- рекламе и строительстве сайтов, но и в науке, моделировании, образовании, а также в искусстве мультипликации, анимации и кино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Растровая и векторная графи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Картинка &quot;Спасибо за внимание&quot;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1" descr="Фон с компьютером для презентации - фото и картинки abrakadabra.f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2"/>
          <p:cNvGrpSpPr/>
          <p:nvPr/>
        </p:nvGrpSpPr>
        <p:grpSpPr>
          <a:xfrm>
            <a:off x="1116000" y="981000"/>
            <a:ext cx="7128000" cy="3744720"/>
            <a:chOff x="1116000" y="981000"/>
            <a:chExt cx="7128000" cy="3744720"/>
          </a:xfrm>
        </p:grpSpPr>
        <p:sp>
          <p:nvSpPr>
            <p:cNvPr id="174" name="Rectangle 3"/>
            <p:cNvSpPr/>
            <p:nvPr/>
          </p:nvSpPr>
          <p:spPr>
            <a:xfrm>
              <a:off x="1116000" y="3357360"/>
              <a:ext cx="3384720" cy="1368360"/>
            </a:xfrm>
            <a:prstGeom prst="rect">
              <a:avLst/>
            </a:prstGeom>
            <a:solidFill>
              <a:srgbClr val="ffd7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РАСТРОВЫЕ</a:t>
              </a:r>
              <a:endParaRPr b="0" lang="en-US" sz="36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75" name="Rectangle 4"/>
            <p:cNvSpPr/>
            <p:nvPr/>
          </p:nvSpPr>
          <p:spPr>
            <a:xfrm>
              <a:off x="4859280" y="3357360"/>
              <a:ext cx="3384720" cy="1368360"/>
            </a:xfrm>
            <a:prstGeom prst="rect">
              <a:avLst/>
            </a:prstGeom>
            <a:solidFill>
              <a:srgbClr val="ffd7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ВЕКТОРНЫЕ</a:t>
              </a:r>
              <a:endParaRPr b="0" lang="en-US" sz="40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76" name="Line 5"/>
            <p:cNvSpPr/>
            <p:nvPr/>
          </p:nvSpPr>
          <p:spPr>
            <a:xfrm flipH="1">
              <a:off x="3203640" y="2421000"/>
              <a:ext cx="1440000" cy="863280"/>
            </a:xfrm>
            <a:prstGeom prst="line">
              <a:avLst/>
            </a:prstGeom>
            <a:ln w="7632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77" name="Line 6"/>
            <p:cNvSpPr/>
            <p:nvPr/>
          </p:nvSpPr>
          <p:spPr>
            <a:xfrm>
              <a:off x="4643640" y="2421000"/>
              <a:ext cx="1368360" cy="863280"/>
            </a:xfrm>
            <a:prstGeom prst="line">
              <a:avLst/>
            </a:prstGeom>
            <a:ln w="7632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2340000" y="981000"/>
              <a:ext cx="4753080" cy="1440000"/>
            </a:xfrm>
            <a:prstGeom prst="rect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Компьютерные</a:t>
              </a:r>
              <a:br>
                <a:rPr sz="4000"/>
              </a:b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 изображения</a:t>
              </a:r>
              <a:endParaRPr b="0" lang="en-US" sz="40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79" name="AutoShape 8"/>
          <p:cNvSpPr/>
          <p:nvPr/>
        </p:nvSpPr>
        <p:spPr>
          <a:xfrm>
            <a:off x="2700360" y="2492280"/>
            <a:ext cx="792000" cy="792360"/>
          </a:xfrm>
          <a:prstGeom prst="downArrow">
            <a:avLst>
              <a:gd name="adj1" fmla="val 50000"/>
              <a:gd name="adj2" fmla="val 25011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AutoShape 9"/>
          <p:cNvSpPr/>
          <p:nvPr/>
        </p:nvSpPr>
        <p:spPr>
          <a:xfrm>
            <a:off x="5724360" y="2492280"/>
            <a:ext cx="792360" cy="792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Фон с компьютером для презентации - фото и картинки abrakadabra.fun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0000"/>
                </a:solidFill>
                <a:latin typeface="Constantia"/>
              </a:rPr>
              <a:t>Растровая графика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тровое изображение хранится с помощью точек различного цвета (пикселей), которые образуют строки и столбц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ждый пиксель имеет определенное положение и цвет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Пиксель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- минимальный участок изображения, цвет которого можно задать независимым образ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8" descr="Фон с компьютером для презентации - фото и картинки abrakadabra.f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96472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Растровая графика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1928880" cy="3306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6012000" y="1484280"/>
            <a:ext cx="2090520" cy="3451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4"/>
          <a:stretch/>
        </p:blipFill>
        <p:spPr>
          <a:xfrm>
            <a:off x="3719520" y="2192400"/>
            <a:ext cx="1585800" cy="195732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5"/>
          <p:cNvSpPr/>
          <p:nvPr/>
        </p:nvSpPr>
        <p:spPr>
          <a:xfrm>
            <a:off x="285840" y="5445000"/>
            <a:ext cx="885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Рассмотрим растровое изображение листа дерева. Слева оригинал изображения и пиксели не видны, однако при увеличении мы без труда обнаружим точки различного цвета – это и есть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пиксел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7" descr="Фон с компьютером для презентации - фото и картинки abrakadabra.f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1"/>
          <p:cNvSpPr/>
          <p:nvPr/>
        </p:nvSpPr>
        <p:spPr>
          <a:xfrm>
            <a:off x="428760" y="500040"/>
            <a:ext cx="821520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Каждый пиксель может принимать любой цвет из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палитры рисунка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 содержащей десятки тысяч или даже десятки миллионов цветов, поэтому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растровые изображения обеспечивают высокую точность передачи цветов и полутонов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 rot="20929200">
            <a:off x="409680" y="3941640"/>
            <a:ext cx="2950920" cy="2656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3"/>
          <a:stretch/>
        </p:blipFill>
        <p:spPr>
          <a:xfrm rot="298200">
            <a:off x="2958840" y="3947760"/>
            <a:ext cx="3959280" cy="2241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" descr=""/>
          <p:cNvPicPr/>
          <p:nvPr/>
        </p:nvPicPr>
        <p:blipFill>
          <a:blip r:embed="rId4"/>
          <a:stretch/>
        </p:blipFill>
        <p:spPr>
          <a:xfrm rot="21115800">
            <a:off x="5598720" y="4009680"/>
            <a:ext cx="3205080" cy="2517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Фон с компьютером для презентации - фото и картинки abrakadabra.f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чество растрового изображения зависит от размера изображения (количества пикселей по горизонтали и вертикали) и количества цветов, которые можно задать для каждого пиксел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16x16=256 пиксел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для хранения каждого пикселя необходим 1 би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Объем рисунка = 256 би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256 бит = 32 бай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5" descr="рожа"/>
          <p:cNvPicPr/>
          <p:nvPr/>
        </p:nvPicPr>
        <p:blipFill>
          <a:blip r:embed="rId2"/>
          <a:stretch/>
        </p:blipFill>
        <p:spPr>
          <a:xfrm>
            <a:off x="6516720" y="4222800"/>
            <a:ext cx="2303280" cy="230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0" descr="Фон с компьютером для презентации - фото и картинки abrakadabra.f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Constantia"/>
              </a:rPr>
              <a:t>Ступенчатый эффект</a:t>
            </a:r>
            <a:endParaRPr b="0" lang="en-US" sz="3800" spc="-1" strike="noStrike">
              <a:solidFill>
                <a:srgbClr val="f9f9f9"/>
              </a:solidFill>
              <a:latin typeface="Constantia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2411280" y="2276640"/>
            <a:ext cx="4321080" cy="3960720"/>
            <a:chOff x="2411280" y="2276640"/>
            <a:chExt cx="4321080" cy="3960720"/>
          </a:xfrm>
        </p:grpSpPr>
        <p:pic>
          <p:nvPicPr>
            <p:cNvPr id="201" name="Picture 5" descr="1"/>
            <p:cNvPicPr/>
            <p:nvPr/>
          </p:nvPicPr>
          <p:blipFill>
            <a:blip r:embed="rId2"/>
            <a:stretch/>
          </p:blipFill>
          <p:spPr>
            <a:xfrm>
              <a:off x="3706560" y="2471040"/>
              <a:ext cx="2105280" cy="5569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02" name="Object 6"/>
            <p:cNvGraphicFramePr/>
            <p:nvPr/>
          </p:nvGraphicFramePr>
          <p:xfrm>
            <a:off x="2411280" y="3594600"/>
            <a:ext cx="4321080" cy="2642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3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11280" y="3594600"/>
                      <a:ext cx="4321080" cy="264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Oval 7"/>
            <p:cNvSpPr/>
            <p:nvPr/>
          </p:nvSpPr>
          <p:spPr>
            <a:xfrm>
              <a:off x="3563640" y="2276640"/>
              <a:ext cx="1079640" cy="97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4108320" y="3249720"/>
              <a:ext cx="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2" descr="Фон с компьютером для презентации - фото и картинки abrakadabra.f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0000"/>
                </a:solidFill>
                <a:latin typeface="Constantia"/>
              </a:rPr>
              <a:t>               </a:t>
            </a:r>
            <a:r>
              <a:rPr b="1" i="1" lang="ru-RU" sz="4200" spc="-1" strike="noStrike">
                <a:solidFill>
                  <a:srgbClr val="ff0000"/>
                </a:solidFill>
                <a:latin typeface="Constantia"/>
              </a:rPr>
              <a:t>Векторная графика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532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екторные графические изображения являются оптимальным средством хранения высокоточных графических объектов (чертежи, схемы и пр.), для которых имеет значение сохранение четких и ясных контуров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екторные изображения формируются из графических примитивов, которые описываются математическими формул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5508720" y="1484280"/>
            <a:ext cx="3112920" cy="4778280"/>
            <a:chOff x="5508720" y="1484280"/>
            <a:chExt cx="3112920" cy="4778280"/>
          </a:xfrm>
        </p:grpSpPr>
        <p:graphicFrame>
          <p:nvGraphicFramePr>
            <p:cNvPr id="210" name="Object 5"/>
            <p:cNvGraphicFramePr/>
            <p:nvPr/>
          </p:nvGraphicFramePr>
          <p:xfrm>
            <a:off x="5508720" y="3340080"/>
            <a:ext cx="3112920" cy="2922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1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08720" y="3340080"/>
                      <a:ext cx="3112920" cy="292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2" name="Group 6"/>
            <p:cNvGrpSpPr/>
            <p:nvPr/>
          </p:nvGrpSpPr>
          <p:grpSpPr>
            <a:xfrm>
              <a:off x="6461280" y="1484280"/>
              <a:ext cx="1224000" cy="1812960"/>
              <a:chOff x="6461280" y="1484280"/>
              <a:chExt cx="1224000" cy="1812960"/>
            </a:xfrm>
          </p:grpSpPr>
          <p:graphicFrame>
            <p:nvGraphicFramePr>
              <p:cNvPr id="213" name="Object 7"/>
              <p:cNvGraphicFramePr/>
              <p:nvPr/>
            </p:nvGraphicFramePr>
            <p:xfrm>
              <a:off x="6461280" y="1484280"/>
              <a:ext cx="1224000" cy="12492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214" name="Object 7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6461280" y="1484280"/>
                        <a:ext cx="1224000" cy="124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15" name="Line 8"/>
              <p:cNvSpPr/>
              <p:nvPr/>
            </p:nvSpPr>
            <p:spPr>
              <a:xfrm>
                <a:off x="7124760" y="308124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Фон с компьютером для презентации - фото и картинки abrakadabra.f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1"/>
          <p:cNvSpPr/>
          <p:nvPr/>
        </p:nvSpPr>
        <p:spPr>
          <a:xfrm>
            <a:off x="3135960" y="404640"/>
            <a:ext cx="3025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  <a:ea typeface="Arial"/>
              </a:rPr>
              <a:t>GIF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 - анимация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Прямоугольник 2"/>
          <p:cNvSpPr/>
          <p:nvPr/>
        </p:nvSpPr>
        <p:spPr>
          <a:xfrm>
            <a:off x="539640" y="1484280"/>
            <a:ext cx="8247240" cy="42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Arial"/>
              </a:rPr>
              <a:t>Это еще одна разновидность растровой графики.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Arial"/>
              </a:rPr>
              <a:t>Анимация - последовательность растровых графических изображений, хранящихся в одном графическом файле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Arial"/>
              </a:rPr>
              <a:t> Она представляет собой несколько рисунков-кадров, которые последовательно меняют друг друга, создавая эффект движения. Анимация часто используется в Интернете, в качестве рекламы, заставок и др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3-11-14T07:31:16Z</dcterms:modified>
  <cp:revision>60</cp:revision>
  <dc:subject/>
  <dc:title>Растр</dc:title>
</cp:coreProperties>
</file>