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DCB2-5B27-4C69-B417-69C686F1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8BD-C73D-427F-B3AB-213A7772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6974-1DC4-4568-95C1-F3BB49DB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2FB-0AE0-4B02-A285-CA848BC6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0DE83-D460-4E4D-880A-62733DDE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23FDB-C952-45F9-A575-7966E52A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4C6A9-151A-4CDA-89C0-F14AD292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79133-E2C7-4FEE-8EF2-A9D20D3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7F1B3-84B5-40E1-9EAA-2F9806D0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91FA-5FE3-4517-8B28-E011015F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03AA0-C875-4371-AB00-1ED2E0E4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07A-CC08-4A23-843E-7CF00DDD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E1B1A-81A0-4889-975E-CF15885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6BBD1-043A-4318-B9F9-A91F9A4A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01C20-626E-4085-8DA6-898AC74F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2187-3796-417F-AFBF-AE3BBB04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E44D7-692D-404D-BA6F-3CD9C46F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2C0B-3E50-41B7-B68D-F7CB318F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5A48-E07E-4E4F-B24E-B11AFFB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81DBE-9704-48A0-9580-36D4866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4F67-B7AA-49CB-A0B6-4BEBCFE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725F-0B2D-4BB7-844D-B3545821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7061-3EA4-4EC1-9024-8BF5C555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9866-6DB6-4E02-94E7-3D9A253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0FA2A-81E3-4164-AE3F-81AA05F4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D7571-E6E0-433C-9AE7-DA7474A4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0A587-6703-4F66-B49A-1D2700FB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F98BB-D445-461B-A004-5ED97AE0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0EA5-534A-4E7A-BAC5-B944E939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F375-F5C5-42C7-B261-F1E49A3D7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77E55-014B-436D-93C3-6328370A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DC0C1-1BB2-4DA6-996D-6C261D2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486E9B-A42F-442C-89DB-2D7A8CE9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6D4-6EFC-4067-BF73-925E7C1B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197DC-06C1-490B-A8D2-09D64FD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67194B-BE4C-4558-B0A6-C409B561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5B94F1-7213-4A7F-866D-803B6442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74C49-44C4-400A-ADF9-FAC378B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86E568-666D-46BD-AB90-1685409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0093F-422A-4603-A58A-85F7358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00851D-21CB-42B1-8E01-1819639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C5A42-8215-4573-8750-5505B9BA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A7FF8-FB0B-44D2-8F09-D0499E2E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245-FA63-4F31-B195-41148FE1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A1A-789D-4C7B-8D21-D1A9E9C0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5641-851E-4921-8789-21AB1826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DF8-092D-4230-AE93-A5BE341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D45-54A7-4D4E-9140-7A6D6BB3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344E35-D9D9-44A6-9E17-444829A59F1C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7598d9"/>
          </a:solidFill>
          <a:ln w="38160">
            <a:solidFill>
              <a:srgbClr val="7598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E59AF6-AF94-4E0C-B613-EFD2843C67B3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5E3EBA-4D18-4F88-8A02-DDC80EC54AE7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d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46e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6685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C228D6-CD6D-4049-B34F-7E04963E3CD0}" type="slidenum">
              <a:rPr b="0" lang="en-GB" sz="1600" spc="-1" strike="noStrike">
                <a:solidFill>
                  <a:srgbClr val="575f6d"/>
                </a:solidFill>
                <a:latin typeface="Arial"/>
                <a:ea typeface="Lucida Sans Unicod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-444600" y="1968480"/>
            <a:ext cx="10149120" cy="3693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3212640" y="142920"/>
            <a:ext cx="362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Flash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  <a:ea typeface="Arial"/>
              </a:rPr>
              <a:t> - анимац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611280" y="692280"/>
            <a:ext cx="792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flash-анимации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лежит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екторная графика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а технология позволяет реализовать движение, плавно изменяя расположение, размер и цвет объектов на рисунке, а также показать плавное превращение одного объекта в друго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068640" cy="31258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4"/>
          <p:cNvSpPr/>
          <p:nvPr/>
        </p:nvSpPr>
        <p:spPr>
          <a:xfrm>
            <a:off x="684360" y="5157720"/>
            <a:ext cx="785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В основе Flash - анимации  лежи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 векторный морфинг, то есть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лавное «перетекание» одного ключевого кадра в другой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. Это позволяет делать сложные мультипликационные сцены, задавая лишь несколько ключевых кадров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755640" y="256536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lash-анимация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Arial"/>
              </a:rPr>
              <a:t>получила широкое распространение не только в интернет- рекламе и строительстве сайтов, но и в науке, моделировании, образовании, а также в искусстве мультипликации, анимации и кино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Растровая и векторная графи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Картинка &quot;Спасибо за внимание&quot;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"/>
          <p:cNvGrpSpPr/>
          <p:nvPr/>
        </p:nvGrpSpPr>
        <p:grpSpPr>
          <a:xfrm>
            <a:off x="1116000" y="981000"/>
            <a:ext cx="7128000" cy="3744720"/>
            <a:chOff x="1116000" y="981000"/>
            <a:chExt cx="7128000" cy="3744720"/>
          </a:xfrm>
        </p:grpSpPr>
        <p:sp>
          <p:nvSpPr>
            <p:cNvPr id="174" name="Rectangle 3"/>
            <p:cNvSpPr/>
            <p:nvPr/>
          </p:nvSpPr>
          <p:spPr>
            <a:xfrm>
              <a:off x="111600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РАСТРОВЫЕ</a:t>
              </a:r>
              <a:endParaRPr b="0" lang="en-US" sz="36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4859280" y="3357360"/>
              <a:ext cx="3384720" cy="1368360"/>
            </a:xfrm>
            <a:prstGeom prst="rect">
              <a:avLst/>
            </a:prstGeom>
            <a:solidFill>
              <a:srgbClr val="ffd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ЕКТОРНЫЕ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6" name="Line 5"/>
            <p:cNvSpPr/>
            <p:nvPr/>
          </p:nvSpPr>
          <p:spPr>
            <a:xfrm flipH="1">
              <a:off x="3203640" y="2421000"/>
              <a:ext cx="144000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7" name="Line 6"/>
            <p:cNvSpPr/>
            <p:nvPr/>
          </p:nvSpPr>
          <p:spPr>
            <a:xfrm>
              <a:off x="4643640" y="2421000"/>
              <a:ext cx="1368360" cy="863280"/>
            </a:xfrm>
            <a:prstGeom prst="line">
              <a:avLst/>
            </a:prstGeom>
            <a:ln w="76320">
              <a:solidFill>
                <a:srgbClr val="fff39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2340000" y="981000"/>
              <a:ext cx="4753080" cy="1440000"/>
            </a:xfrm>
            <a:prstGeom prst="rect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Компьютерные</a:t>
              </a:r>
              <a:br>
                <a:rPr sz="4000"/>
              </a:b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 изображения</a:t>
              </a:r>
              <a:endParaRPr b="0" lang="en-US" sz="40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79" name="AutoShape 8"/>
          <p:cNvSpPr/>
          <p:nvPr/>
        </p:nvSpPr>
        <p:spPr>
          <a:xfrm>
            <a:off x="2700360" y="2492280"/>
            <a:ext cx="792000" cy="792360"/>
          </a:xfrm>
          <a:prstGeom prst="downArrow">
            <a:avLst>
              <a:gd name="adj1" fmla="val 50000"/>
              <a:gd name="adj2" fmla="val 25011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AutoShape 9"/>
          <p:cNvSpPr/>
          <p:nvPr/>
        </p:nvSpPr>
        <p:spPr>
          <a:xfrm>
            <a:off x="5724360" y="2492280"/>
            <a:ext cx="7923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овое изображение хранится с помощью точек различного цвета (пикселей), которые образуют строки и столбц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ждый пиксель имеет определенное положение и цв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Пиксель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- минимальный участок изображения, цвет которого можно задать независимым образ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8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9647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Растров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1928880" cy="3306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6012000" y="1484280"/>
            <a:ext cx="2090520" cy="3451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4"/>
          <a:stretch/>
        </p:blipFill>
        <p:spPr>
          <a:xfrm>
            <a:off x="3719520" y="2192400"/>
            <a:ext cx="1585800" cy="195732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оугольник 5"/>
          <p:cNvSpPr/>
          <p:nvPr/>
        </p:nvSpPr>
        <p:spPr>
          <a:xfrm>
            <a:off x="285840" y="5445000"/>
            <a:ext cx="88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ассмотрим растровое изображение листа дерева. Слева оригинал изображения и пиксели не видны, однако при увеличении мы без труда обнаружим точки различного цвета – это и е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иксел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"/>
          <p:cNvSpPr/>
          <p:nvPr/>
        </p:nvSpPr>
        <p:spPr>
          <a:xfrm>
            <a:off x="428760" y="500040"/>
            <a:ext cx="82152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Каждый пиксель может принимать любой цвет из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палитры рисунка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 содержащей десятки тысяч или даже десятки миллионов цветов, поэтому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растровые изображения обеспечивают высокую точность передачи цветов и полутонов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 rot="20929200">
            <a:off x="409680" y="3941640"/>
            <a:ext cx="2950920" cy="2656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 rot="298200">
            <a:off x="2958840" y="3947760"/>
            <a:ext cx="3959280" cy="2241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" descr=""/>
          <p:cNvPicPr/>
          <p:nvPr/>
        </p:nvPicPr>
        <p:blipFill>
          <a:blip r:embed="rId4"/>
          <a:stretch/>
        </p:blipFill>
        <p:spPr>
          <a:xfrm rot="21115800">
            <a:off x="5598720" y="4009680"/>
            <a:ext cx="3205080" cy="2517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чество растрового изображения зависит от размера изображения (количества пикселей по горизонтали и вертикали) и количества цветов, которые можно задать для каждого пиксе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16x16=256 пиксе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для хранения каждого пикселя необходим 1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Объем рисунка = 256 би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256 бит = 32 бай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5" descr="рожа"/>
          <p:cNvPicPr/>
          <p:nvPr/>
        </p:nvPicPr>
        <p:blipFill>
          <a:blip r:embed="rId2"/>
          <a:stretch/>
        </p:blipFill>
        <p:spPr>
          <a:xfrm>
            <a:off x="6516720" y="4222800"/>
            <a:ext cx="2303280" cy="230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0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Constantia"/>
              </a:rPr>
              <a:t>Ступенчатый эффект</a:t>
            </a:r>
            <a:endParaRPr b="0" lang="en-US" sz="3800" spc="-1" strike="noStrike">
              <a:solidFill>
                <a:srgbClr val="f9f9f9"/>
              </a:solidFill>
              <a:latin typeface="Constantia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2411280" y="2276640"/>
            <a:ext cx="4321080" cy="3960720"/>
            <a:chOff x="2411280" y="2276640"/>
            <a:chExt cx="4321080" cy="3960720"/>
          </a:xfrm>
        </p:grpSpPr>
        <p:pic>
          <p:nvPicPr>
            <p:cNvPr id="201" name="Picture 5" descr="1"/>
            <p:cNvPicPr/>
            <p:nvPr/>
          </p:nvPicPr>
          <p:blipFill>
            <a:blip r:embed="rId2"/>
            <a:stretch/>
          </p:blipFill>
          <p:spPr>
            <a:xfrm>
              <a:off x="3706560" y="2471040"/>
              <a:ext cx="2105280" cy="556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2" name="Object 6"/>
            <p:cNvGraphicFramePr/>
            <p:nvPr/>
          </p:nvGraphicFramePr>
          <p:xfrm>
            <a:off x="2411280" y="3594600"/>
            <a:ext cx="4321080" cy="2642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11280" y="3594600"/>
                      <a:ext cx="4321080" cy="264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Oval 7"/>
            <p:cNvSpPr/>
            <p:nvPr/>
          </p:nvSpPr>
          <p:spPr>
            <a:xfrm>
              <a:off x="3563640" y="2276640"/>
              <a:ext cx="1079640" cy="9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4108320" y="3249720"/>
              <a:ext cx="0" cy="25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2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               </a:t>
            </a:r>
            <a:r>
              <a:rPr b="1" i="1" lang="ru-RU" sz="4200" spc="-1" strike="noStrike">
                <a:solidFill>
                  <a:srgbClr val="ff0000"/>
                </a:solidFill>
                <a:latin typeface="Constantia"/>
              </a:rPr>
              <a:t>Векторная графика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532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графические изображения являются оптимальным средством хранения высокоточных графических объектов (чертежи, схемы и пр.), для которых имеет значение сохранение четких и ясных контуров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екторные изображения формируются из графических примитивов, которые описываются математическими формул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5508720" y="1484280"/>
            <a:ext cx="3112920" cy="4778280"/>
            <a:chOff x="5508720" y="1484280"/>
            <a:chExt cx="3112920" cy="4778280"/>
          </a:xfrm>
        </p:grpSpPr>
        <p:graphicFrame>
          <p:nvGraphicFramePr>
            <p:cNvPr id="210" name="Object 5"/>
            <p:cNvGraphicFramePr/>
            <p:nvPr/>
          </p:nvGraphicFramePr>
          <p:xfrm>
            <a:off x="5508720" y="3340080"/>
            <a:ext cx="3112920" cy="292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1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08720" y="3340080"/>
                      <a:ext cx="3112920" cy="292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2" name="Group 6"/>
            <p:cNvGrpSpPr/>
            <p:nvPr/>
          </p:nvGrpSpPr>
          <p:grpSpPr>
            <a:xfrm>
              <a:off x="6461280" y="1484280"/>
              <a:ext cx="1224000" cy="1812960"/>
              <a:chOff x="6461280" y="1484280"/>
              <a:chExt cx="1224000" cy="1812960"/>
            </a:xfrm>
          </p:grpSpPr>
          <p:graphicFrame>
            <p:nvGraphicFramePr>
              <p:cNvPr id="213" name="Object 7"/>
              <p:cNvGraphicFramePr/>
              <p:nvPr/>
            </p:nvGraphicFramePr>
            <p:xfrm>
              <a:off x="6461280" y="1484280"/>
              <a:ext cx="1224000" cy="12492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14" name="Object 7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61280" y="1484280"/>
                        <a:ext cx="1224000" cy="124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5" name="Line 8"/>
              <p:cNvSpPr/>
              <p:nvPr/>
            </p:nvSpPr>
            <p:spPr>
              <a:xfrm>
                <a:off x="7124760" y="308124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Фон с компьютером для презентации - фото и картинки abrakadabra.f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"/>
          <p:cNvSpPr/>
          <p:nvPr/>
        </p:nvSpPr>
        <p:spPr>
          <a:xfrm>
            <a:off x="3135960" y="404640"/>
            <a:ext cx="3025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  <a:ea typeface="Arial"/>
              </a:rPr>
              <a:t>GIF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 - анимация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Прямоугольник 2"/>
          <p:cNvSpPr/>
          <p:nvPr/>
        </p:nvSpPr>
        <p:spPr>
          <a:xfrm>
            <a:off x="539640" y="1484280"/>
            <a:ext cx="8247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Это еще одна разновидность растровой графики.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Анимация - последовательность растровых графических изображений, хранящихся в одном графическом файле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Arial"/>
              </a:rPr>
              <a:t> Она представляет собой несколько рисунков-кадров, которые последовательно меняют друг друга, создавая эффект движения. Анимация часто используется в Интернете, в качестве рекламы, заставок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3-11-14T07:31:16Z</dcterms:modified>
  <cp:revision>60</cp:revision>
  <dc:subject/>
  <dc:title>Растр</dc:title>
</cp:coreProperties>
</file>