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3.png" ContentType="image/png"/>
  <Override PartName="/ppt/media/image12.gif" ContentType="image/gif"/>
  <Override PartName="/ppt/media/image15.png" ContentType="image/png"/>
  <Override PartName="/ppt/media/image11.gif" ContentType="image/gif"/>
  <Override PartName="/ppt/media/image14.png" ContentType="image/png"/>
  <Override PartName="/ppt/media/image9.png" ContentType="image/png"/>
  <Override PartName="/ppt/media/image7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F296-6C56-474E-8DD3-CC08EC9835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D416-279A-4CF7-9752-8E3F8DF0E7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2482-B661-4AF1-8E7F-2BF5B11A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0B06-64B0-4D65-A5C0-08FBFD7F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C0011-21F2-403B-A359-C3034F53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583C7-CEF0-4C07-886A-75C8F762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68F87-8966-414C-84E0-1CF4A662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00E51-6BAB-4D94-8CD5-9E9BECE7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556F9-176A-4A8D-A330-45025561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8FB1B-598C-4FED-B943-1B054B26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2568B-A013-4777-B7C5-3EF1302B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8BAEC-E76C-4FCC-B55D-5BF2CA43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EC297-BE77-4E75-AD81-043AD916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65868-B8D4-4D68-B579-9E465B11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8980-DB9E-4926-9B58-E6877E98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B9E25-5678-4FD9-A55B-D38B4552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ABCF9-7BD2-4E31-85F4-170593D5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E2693-0B43-42AE-A22F-1C6AB2EA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AF908-6129-437B-A537-F2B656AD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8C419-84B2-4AFF-A424-6024DCE3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DAA5C-BCE1-4045-93A4-598571C1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D7E44-8E34-4AC7-B5FF-D11F5511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5235C-4AFE-44A8-A8A3-3337909B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4256E-5117-454D-A723-F117382F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A41C1-7B81-4221-889C-4DC0E088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7484-73FF-496C-BEE1-0881362C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59219-BE64-4E45-B8FE-0BAD9E24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17263-39F9-4580-979A-CAE8E7E2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D5597-D0AC-4E82-BEBB-F300B040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7F7C4-0E9F-4991-A54E-E58799E9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551E1-D70B-4D2D-BFA0-2DBF2A09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B4AD0-9969-47AC-A0A1-2F003945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50F40-D6DF-4342-A369-76EFE6DB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CE72A-3549-4DCF-879D-806B7045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CAE19-AEA7-409A-97C5-1911D1B1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56F96-DD48-44A7-AB37-0E997757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DA27-0B3B-4388-B86D-51FA4F01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ECAC4-12F8-49B9-BA4A-5408FE77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425F7-A478-4D74-BBA5-21E29189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44E55-A3D2-4223-8E5F-A47842BF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50938-381A-40DF-B088-11191C32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E68D2-F340-47F6-9C39-09CCAF88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BA08B-CB27-4902-9D2B-3B1D1AD5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77D10-AAC0-43DB-8604-DA3FB277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A36B4-50DE-4D61-BA9D-E73BCFF1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F66AC-9CF0-4DD9-9518-27089B51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F2501-8AB1-4E94-91C1-13B0EC35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F8FF-107E-4047-A0D6-52202A9A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8D28B-4078-4D1C-9FB5-FA1FAFC1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2E376-27E0-4E06-86D8-A6CCF01B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085F4-0DFE-4911-9241-17B0D3E7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F2943-A052-4252-A524-83926744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7EA26-FE68-43DC-B19C-2785908F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B65CC8-94DF-4DFE-8524-DBAEEFAB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FE8F2C-5AAA-4E6A-873B-4CC1E2D7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FBE8F7-E3A8-4D40-A5D1-34FC11DF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8B5E9A-95E8-4497-87E7-8BF59A91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AAD13E-C8BA-48BD-A485-E1826E22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E95D-2BD1-40F6-8AE2-798E39D7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4D98C8-48FE-40F0-9D2C-A40D69E9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C20480-4958-4CAC-A16F-7C577D2E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67CACB-2F9D-45D4-909F-009B0EA9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4C6000-90F7-40FF-BA3D-FE27A150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81C7C6-BE9B-49BC-9EA9-042E096C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F87450-7655-45DF-9341-B6931575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3D7777-70E0-4E2A-AC59-7B1D2AAC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D232B0-B648-4967-9AA3-607B4057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93F520-C749-49DE-99D8-4716BE79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22FA24-DD5B-4A93-9406-5584B63C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E4B6-E071-41B1-B761-B268C45C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79AE31-7D9C-4056-9562-23947602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9E319C-C4F5-4FFD-88F4-81D0F6D4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09D111-7E25-484F-8C9F-8D73D24C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73E68D-4699-4B1E-8C68-5FEE51FC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A63FA7-3137-432B-9140-E14C6F21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429F9C-F7C0-46D4-AC11-B666FE25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BCB6CF-F048-4CA0-90BF-B64D4867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05232B-6567-4725-AFEA-D6627D5C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6C314D-125C-40E7-AB50-13720CA8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D95CDD-47D5-4EA6-8C62-AF089011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5281-92F1-462C-8EA4-1694EF7D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6D3963-F69D-4E71-B0F4-C8B1FD37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207D8F-A30C-4832-A4E2-12C6D952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55B165-BE4E-4D29-A8FA-5E9E9A8F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0E3554-4753-4CCB-8B23-7DE53F34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F6A3C1-E436-4F07-BB39-2B42344D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18F2D3-8264-496A-B9EC-1712D453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B08E5E-508A-4010-B74F-E251898A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3ACDD1-577B-4AA3-A98E-85C21EEA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4203C5-114B-487E-8BE7-DCFE9B4B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FA5B1B-C29A-434E-B797-F351E4AF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096A-1999-490C-B436-A79E71BA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92C7D3-B29C-4C6A-99AB-B4D8331B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3C297AB-81D3-473A-B82D-7C2B48D3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07ED5A2-0673-4389-AA23-E7282C80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408AFE6-3001-485A-A3DD-8C0193D9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E56AFA9-94B3-4595-8567-28643751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D82B94E-0069-4849-932E-055F1BD2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1F3FC0D-B415-4606-90D5-609B4BE6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79405E8-F2FF-4C30-8680-AB0BBB19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4BB4266-9CC9-4A2D-940A-93A25864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43FD216-715F-4626-8ABF-37AD12A8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5318-7894-422C-9E49-6FEB58E4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83212EE-055A-4F1A-BC8B-50F2CC10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DEBFEE7-F531-4CE9-87E2-1D250387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0A4E11C-FDAF-4AAF-8603-43AAEC82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6282F6-728E-4953-9BB4-FEB786B9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19BA13-BFEA-49F6-87B8-FC3003AC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5D39BC-F094-489A-9E46-162A037E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2168B9-6D3F-4C6A-A4B9-0127BAE6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B24E98-5E5A-4B12-B883-2542DECD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BB9607-21DB-4D14-A48E-4CBCDA64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7E0B47-48B1-436E-B241-056511E3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4355-30F8-4BEC-804B-3A99DAB0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0DAE-9D11-4607-A2A6-AC0A2BB7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36C561-D6F1-4A2E-BD2D-1E6A9015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E84D37-9092-4F76-B18D-8A97A703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E771B2-153B-4BD5-9797-F9F52B21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99ACFE-7F28-4930-AC45-B5329B8B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250D4F-EB0E-4F6C-85EB-033E1CF3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3EC953-94DB-425E-8476-5F021C5E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0E39A2-EA1A-4802-BF53-ED6B3521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ABEA7F-773B-4195-83C8-CB9C7B9B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B8CBFC-8CF4-457F-B88E-F5A6BC7B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F28F35-443A-4EAD-8CF1-B5AC86FB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0C84-72AB-44BC-91B3-45CC7B92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289631-B390-4698-A234-F86F358E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59ED75-1EE6-4F6A-B161-4AA8AEF1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267557-1163-4E23-9EE1-CE031A92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83EA78-FA1A-400A-B38B-EC6206EA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7DA9B3-F737-4B45-A826-3759685F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80E1BA-C45E-45CE-BE1D-310346EF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E45545-8016-462B-A36D-4D13C3C0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6462-AB9B-448C-B18F-789E9928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EC0B-6ED4-4C4F-A11B-C37E0E70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4EC5-07A4-4C1F-B787-90F17D93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86B5D-7CF8-4676-8783-6A027FF0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4EB60-0699-487D-8FF9-A34E80C4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C84E1-12A6-467B-9D58-3BA895C5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E92C0-5C54-4405-9A79-046785C0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C983E-0A7E-494E-ADD2-9247808F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F734-D221-4E72-A92E-013A71F9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FD7EE-E669-4E21-9C5D-7720A8F3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F61F6-57B4-44D8-9303-289059D7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6DC09-850B-40F2-80F8-DE21B875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71FFF-85DD-48BC-8808-8E574792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93969-7ADB-4F5D-BB8C-A0011E9C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05191-02F1-451D-8265-B56FB461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8ABA9-FFAB-4A37-B7DC-9F37D45B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5B4A4E-701E-4111-AAE0-B90927B9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852732-C001-40F0-AFAB-A4655749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97DC27-EB96-4125-BD1D-CFA9D3BD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CB65-610D-4669-80B1-7B04F479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791C23-7D62-44AA-A63A-492B3A9E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A1A40F-6006-4716-BA5E-6D829980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72CB10-431F-4FC5-91FE-F146552B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CD7CA5-401C-4121-9588-A74D044D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E55A2E-CEA7-4576-81DD-88C64B61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957C31-61FF-4536-BD02-38AD6158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20F7D1-F16D-4AFC-A206-DE2A530A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AD73A7-F8D5-4978-94BD-1F4BDDC0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F9067D-7825-479E-A448-E2403FCB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D528B6-8B24-4C76-B101-26441887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B1D4-EBE5-4B28-8E3A-35324CC7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60E0A2-9EAA-4B73-B1BF-9DC16292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CD22A9-3F98-4896-AA83-EC854863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9C74CC-BDA7-42C4-9F3C-2512F4E8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74DDC4-9F92-4CDA-BF85-94583F3E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C663DB-C596-47CB-BE1C-272EE1AF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623BE5-ED25-450D-B649-04A19E59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8EF55A-DD5E-4D9F-87CF-83600C95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1538E7-B55E-4382-B161-5E92BF26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2B08C6-8445-4BF9-9F81-1BAE513A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FE50B5-14E6-49F1-86FC-2523984D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A6B5-946A-42CB-AE23-4E66CF64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7777B6-9B4F-4436-8C51-97D5E31A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21F9F-ABA9-436A-BEA7-7F38F447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E9101-485D-481E-B325-063FEC55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C0C40-5B64-4906-A30A-086CC220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21403-4207-45FF-800B-7DBE385D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C8B1D-50E3-4096-9391-2764D23C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0018A-DECF-40E8-9B67-522E09A6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32E55-823E-4721-AF39-547BDFD5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EE4AA-B49D-48EF-BE35-C1F6CE76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9DAAB-CBA4-4268-86CD-6AC75734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BB2E-5B7E-4087-BA94-0F73D26E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50E14-22BE-439F-B665-3E0BF152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84105-AC91-4B6C-AC27-91B1E875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399BE-03C2-4EEC-8FAB-0BD52A6C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409D7-C45A-40D9-85E5-BBC20CC7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9149E-5A21-4554-9C89-153462BB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522AF-2DDE-468A-B026-599DE0B8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369D2-9243-4096-82A0-68C0F256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AFB1C-A85B-423B-B115-EC5067A6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84000-ED3D-4069-9ED4-EC7091AD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8E6B2-D6D0-409C-B37A-A7AA81CD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7E4F-732E-42B0-B9D7-D70B70C0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D68DA-00A6-4C0E-BA5D-F2C33421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859C6-529A-4F5A-A6E3-F73F04EC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3806E-9333-4221-8180-1B37D77F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6EA52-D151-491D-97AC-1FE17E87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223BC-3639-499D-AD8D-607644D0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80578-801D-4535-96AA-F6C007F5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9A56D-AB62-4FD3-8C1F-EE002FD3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835B2-8A5E-4B6F-9ADF-B3D4CA82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81491-8968-4271-8092-D58BF66D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484B5-6CEF-49B0-A481-145C63D7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DF28-24CA-4882-9FFB-1D56E67C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13212-C5C8-4244-9FC0-FD369E8A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ED87A-5905-4A35-A411-34A03DAA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34A52-62E7-4E79-A1E8-7DD39F51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CED31-F138-4581-9591-2A383F7D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DC3E5-8085-41BF-BA53-25DFC31F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D2C18-BBF5-4F8C-AA8D-038C3C3F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F3C8B-7984-4CF9-B989-273A3554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F2C82-5303-4C04-AD72-504E32D2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3AC1D-2DE9-422E-8BB1-7F5622C9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7F323-086B-4891-B2B1-91580F77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DAD2-15EE-463F-A970-1A48A91E1A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71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2E98-ACA0-4BA0-A22A-413CBA5AF8EF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760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773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F0BE-ADF2-40AE-9550-0F7E249E83E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840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3468-4755-4BAD-AB40-43D1428198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8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8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4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dt" idx="3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ftr" idx="3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CBC0-C904-41C2-8336-491A98E5D64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93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18"/>
            <p:cNvSpPr/>
            <p:nvPr/>
          </p:nvSpPr>
          <p:spPr>
            <a:xfrm flipH="1" flipV="1" rot="18391200">
              <a:off x="852552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0F14-8095-4866-B945-E947370F03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19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0B64-BC48-499D-AAB2-2071986804F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ftr" idx="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38E1-2E39-4B9B-88A8-2CA63A5AC5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0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81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2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83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95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3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14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1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32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9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340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81B2-CD96-43C0-9122-77979686E6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5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386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A6E1-C8F1-443F-A248-D50B27D4EDD8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1610-E435-41F4-A730-F90C6788F73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2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07AE-938D-42D6-B47D-A200083728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A493-4CE0-47DA-9C68-65D6F63B650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222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D4AD-211E-4CD2-AA0A-DEB90583AE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7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88EE-A220-4205-BDC6-C836B911275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CCE2-5A8C-45AE-BA96-D87F9530BA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15A4-B660-48CE-BCD3-34704AC4347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06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08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20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39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57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4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65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6068-A0F1-49ED-A3C4-EEF84ECF5E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190604_1.2.1.2.2i6_120935.oms/" TargetMode="External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539280" y="1483920"/>
            <a:ext cx="8363160" cy="25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«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Механическое движение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Заполни таблиц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6" name="Таблица 1" descr=""/>
          <p:cNvPicPr/>
          <p:nvPr/>
        </p:nvPicPr>
        <p:blipFill>
          <a:blip r:embed="rId1"/>
          <a:stretch/>
        </p:blipFill>
        <p:spPr>
          <a:xfrm>
            <a:off x="1182600" y="2822400"/>
            <a:ext cx="610236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Найди и исправь ошибк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км      =      20000м;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 к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=    3000 м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 мин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=  1800с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0,4 км    =      400м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5 к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=      35000м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6 км/ч   =     20 м/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886e0"/>
                </a:solidFill>
                <a:latin typeface="Garamond"/>
              </a:rPr>
              <a:t>«Самый быстрый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50" name=""/>
          <p:cNvGraphicFramePr/>
          <p:nvPr/>
        </p:nvGraphicFramePr>
        <p:xfrm>
          <a:off x="457200" y="1600200"/>
          <a:ext cx="8229600" cy="3935520"/>
        </p:xfrm>
        <a:graphic>
          <a:graphicData uri="http://schemas.openxmlformats.org/drawingml/2006/table">
            <a:tbl>
              <a:tblPr/>
              <a:tblGrid>
                <a:gridCol w="2406600"/>
                <a:gridCol w="2104920"/>
                <a:gridCol w="1978200"/>
                <a:gridCol w="173988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частни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оревнов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корость в м/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23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ку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,3 м/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22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оро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6,8 км/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20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Жира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,6 м/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22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я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4 км/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2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асто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3 км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pSp>
        <p:nvGrpSpPr>
          <p:cNvPr id="1551" name="Group 155"/>
          <p:cNvGrpSpPr/>
          <p:nvPr/>
        </p:nvGrpSpPr>
        <p:grpSpPr>
          <a:xfrm>
            <a:off x="0" y="0"/>
            <a:ext cx="9144000" cy="765000"/>
            <a:chOff x="0" y="0"/>
            <a:chExt cx="9144000" cy="765000"/>
          </a:xfrm>
        </p:grpSpPr>
        <p:sp>
          <p:nvSpPr>
            <p:cNvPr id="1552" name="Rectangle 156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WordArt 157"/>
            <p:cNvSpPr txBox="1"/>
            <p:nvPr/>
          </p:nvSpPr>
          <p:spPr>
            <a:xfrm>
              <a:off x="1582560" y="189000"/>
              <a:ext cx="597708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«Механическое движение»</a:t>
              </a:r>
              <a:endParaRPr b="1" lang="en-US" sz="1800" spc="1" strike="noStrike">
                <a:ln w="19080">
                  <a:solidFill>
                    <a:srgbClr val="99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527c"/>
                </a:solidFill>
                <a:latin typeface="Arial"/>
              </a:rPr>
              <a:t>«Самый быстрый»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1555" name=""/>
          <p:cNvGraphicFramePr/>
          <p:nvPr/>
        </p:nvGraphicFramePr>
        <p:xfrm>
          <a:off x="457200" y="1600200"/>
          <a:ext cx="8229600" cy="3919680"/>
        </p:xfrm>
        <a:graphic>
          <a:graphicData uri="http://schemas.openxmlformats.org/drawingml/2006/table">
            <a:tbl>
              <a:tblPr/>
              <a:tblGrid>
                <a:gridCol w="2398680"/>
                <a:gridCol w="2108160"/>
                <a:gridCol w="1981440"/>
                <a:gridCol w="174132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Участни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оревнов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корость в м/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20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ку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,3 м/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,3 м/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177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оро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км/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3 м/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Жира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,6 м/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,6 м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18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Зая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 км/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м/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19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Ласто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 км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,5 м/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pSp>
        <p:nvGrpSpPr>
          <p:cNvPr id="1556" name="Group 49"/>
          <p:cNvGrpSpPr/>
          <p:nvPr/>
        </p:nvGrpSpPr>
        <p:grpSpPr>
          <a:xfrm>
            <a:off x="0" y="0"/>
            <a:ext cx="9144000" cy="765000"/>
            <a:chOff x="0" y="0"/>
            <a:chExt cx="9144000" cy="765000"/>
          </a:xfrm>
        </p:grpSpPr>
        <p:sp>
          <p:nvSpPr>
            <p:cNvPr id="1557" name="Rectangle 50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WordArt 51"/>
            <p:cNvSpPr txBox="1"/>
            <p:nvPr/>
          </p:nvSpPr>
          <p:spPr>
            <a:xfrm>
              <a:off x="1582560" y="189000"/>
              <a:ext cx="597708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«Механическое движение»</a:t>
              </a:r>
              <a:endParaRPr b="1" lang="en-US" sz="1800" spc="1" strike="noStrike">
                <a:ln w="19080">
                  <a:solidFill>
                    <a:srgbClr val="99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559" name="TextBox 1"/>
          <p:cNvSpPr/>
          <p:nvPr/>
        </p:nvSpPr>
        <p:spPr>
          <a:xfrm>
            <a:off x="7499520" y="4941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Box 2"/>
          <p:cNvSpPr/>
          <p:nvPr/>
        </p:nvSpPr>
        <p:spPr>
          <a:xfrm>
            <a:off x="7499520" y="4292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Box 3"/>
          <p:cNvSpPr/>
          <p:nvPr/>
        </p:nvSpPr>
        <p:spPr>
          <a:xfrm>
            <a:off x="7499520" y="3645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Box 4"/>
          <p:cNvSpPr/>
          <p:nvPr/>
        </p:nvSpPr>
        <p:spPr>
          <a:xfrm>
            <a:off x="7499520" y="3121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Box 5"/>
          <p:cNvSpPr/>
          <p:nvPr/>
        </p:nvSpPr>
        <p:spPr>
          <a:xfrm>
            <a:off x="7499520" y="2421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«Найди пару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5" name="Picture 4" descr="3"/>
          <p:cNvPicPr/>
          <p:nvPr/>
        </p:nvPicPr>
        <p:blipFill>
          <a:blip r:embed="rId1"/>
          <a:stretch/>
        </p:blipFill>
        <p:spPr>
          <a:xfrm>
            <a:off x="1116000" y="2637000"/>
            <a:ext cx="1741680" cy="1625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grpSp>
        <p:nvGrpSpPr>
          <p:cNvPr id="1566" name="Group 5"/>
          <p:cNvGrpSpPr/>
          <p:nvPr/>
        </p:nvGrpSpPr>
        <p:grpSpPr>
          <a:xfrm>
            <a:off x="4140360" y="1989000"/>
            <a:ext cx="4679640" cy="4400640"/>
            <a:chOff x="4140360" y="1989000"/>
            <a:chExt cx="4679640" cy="4400640"/>
          </a:xfrm>
        </p:grpSpPr>
        <p:pic>
          <p:nvPicPr>
            <p:cNvPr id="1567" name="Picture 6" descr="10"/>
            <p:cNvPicPr/>
            <p:nvPr/>
          </p:nvPicPr>
          <p:blipFill>
            <a:blip r:embed="rId2"/>
            <a:stretch/>
          </p:blipFill>
          <p:spPr>
            <a:xfrm>
              <a:off x="6588000" y="4581360"/>
              <a:ext cx="1871640" cy="18082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1568" name="Picture 7" descr="7"/>
            <p:cNvPicPr/>
            <p:nvPr/>
          </p:nvPicPr>
          <p:blipFill>
            <a:blip r:embed="rId3"/>
            <a:stretch/>
          </p:blipFill>
          <p:spPr>
            <a:xfrm>
              <a:off x="4140360" y="2133720"/>
              <a:ext cx="1871640" cy="195264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1569" name="Picture 8" descr="8"/>
            <p:cNvPicPr/>
            <p:nvPr/>
          </p:nvPicPr>
          <p:blipFill>
            <a:blip r:embed="rId4"/>
            <a:stretch/>
          </p:blipFill>
          <p:spPr>
            <a:xfrm>
              <a:off x="6588000" y="2133720"/>
              <a:ext cx="1871640" cy="195264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1570" name="Text Box 9"/>
            <p:cNvSpPr/>
            <p:nvPr/>
          </p:nvSpPr>
          <p:spPr>
            <a:xfrm>
              <a:off x="5651640" y="1989000"/>
              <a:ext cx="647640" cy="5814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58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Text Box 10"/>
            <p:cNvSpPr/>
            <p:nvPr/>
          </p:nvSpPr>
          <p:spPr>
            <a:xfrm>
              <a:off x="8101080" y="1989000"/>
              <a:ext cx="647640" cy="5814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58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Text Box 11"/>
            <p:cNvSpPr/>
            <p:nvPr/>
          </p:nvSpPr>
          <p:spPr>
            <a:xfrm>
              <a:off x="8172360" y="4437000"/>
              <a:ext cx="647640" cy="5814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58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3" name="Picture 12" descr="9"/>
          <p:cNvPicPr/>
          <p:nvPr/>
        </p:nvPicPr>
        <p:blipFill>
          <a:blip r:embed="rId5"/>
          <a:stretch/>
        </p:blipFill>
        <p:spPr>
          <a:xfrm>
            <a:off x="4211640" y="4508640"/>
            <a:ext cx="1873080" cy="1815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74" name="Rectangle 13"/>
          <p:cNvSpPr/>
          <p:nvPr/>
        </p:nvSpPr>
        <p:spPr>
          <a:xfrm>
            <a:off x="558180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8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 Box 14"/>
          <p:cNvSpPr/>
          <p:nvPr/>
        </p:nvSpPr>
        <p:spPr>
          <a:xfrm>
            <a:off x="5651640" y="4437000"/>
            <a:ext cx="647640" cy="5814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8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7" name="Text Box 3"/>
          <p:cNvSpPr/>
          <p:nvPr/>
        </p:nvSpPr>
        <p:spPr>
          <a:xfrm>
            <a:off x="324000" y="1844640"/>
            <a:ext cx="39607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ff"/>
                </a:solidFill>
                <a:latin typeface="Arial"/>
                <a:ea typeface="Arial"/>
              </a:rPr>
              <a:t>Найти путь волка с зайцем, если они двигались вдоль аллеи на юг со скоростью </a:t>
            </a:r>
            <a:r>
              <a:rPr b="1" lang="ru-RU" sz="2000" spc="-1" strike="noStrike">
                <a:solidFill>
                  <a:srgbClr val="9966ff"/>
                </a:solidFill>
                <a:latin typeface="Arial"/>
                <a:ea typeface="Arial"/>
              </a:rPr>
              <a:t>3,6</a:t>
            </a:r>
            <a:r>
              <a:rPr b="0" lang="ru-RU" sz="1800" spc="-1" strike="noStrike">
                <a:solidFill>
                  <a:srgbClr val="9966ff"/>
                </a:solidFill>
                <a:latin typeface="Arial"/>
                <a:ea typeface="Arial"/>
              </a:rPr>
              <a:t> км</a:t>
            </a:r>
            <a:r>
              <a:rPr b="0" lang="en-US" sz="1800" spc="-1" strike="noStrike">
                <a:solidFill>
                  <a:srgbClr val="9966ff"/>
                </a:solidFill>
                <a:latin typeface="Arial"/>
                <a:ea typeface="Arial"/>
              </a:rPr>
              <a:t>/</a:t>
            </a:r>
            <a:r>
              <a:rPr b="0" lang="ru-RU" sz="1800" spc="-1" strike="noStrike">
                <a:solidFill>
                  <a:srgbClr val="9966ff"/>
                </a:solidFill>
                <a:latin typeface="Arial"/>
                <a:ea typeface="Arial"/>
              </a:rPr>
              <a:t>ч в течение </a:t>
            </a:r>
            <a:r>
              <a:rPr b="1" lang="ru-RU" sz="2000" spc="-1" strike="noStrike">
                <a:solidFill>
                  <a:srgbClr val="9966ff"/>
                </a:solidFill>
                <a:latin typeface="Arial"/>
                <a:ea typeface="Arial"/>
              </a:rPr>
              <a:t>40 </a:t>
            </a:r>
            <a:r>
              <a:rPr b="0" lang="ru-RU" sz="1800" spc="-1" strike="noStrike">
                <a:solidFill>
                  <a:srgbClr val="9966ff"/>
                </a:solidFill>
                <a:latin typeface="Arial"/>
                <a:ea typeface="Arial"/>
              </a:rPr>
              <a:t>секунд, а затем на запад вдоль другой аллеи с прежней скоростью еще</a:t>
            </a:r>
            <a:r>
              <a:rPr b="0" lang="ru-RU" sz="1800" spc="-1" strike="noStrike">
                <a:solidFill>
                  <a:srgbClr val="9966f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9966ff"/>
                </a:solidFill>
                <a:latin typeface="Arial"/>
                <a:ea typeface="Arial"/>
              </a:rPr>
              <a:t>30 </a:t>
            </a:r>
            <a:r>
              <a:rPr b="0" lang="ru-RU" sz="1800" spc="-1" strike="noStrike">
                <a:solidFill>
                  <a:srgbClr val="9966ff"/>
                </a:solidFill>
                <a:latin typeface="Arial"/>
                <a:ea typeface="Arial"/>
              </a:rPr>
              <a:t>секу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8" name="23.mpg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1579" name="Rectangle 5"/>
          <p:cNvSpPr/>
          <p:nvPr/>
        </p:nvSpPr>
        <p:spPr>
          <a:xfrm>
            <a:off x="4316400" y="5564160"/>
            <a:ext cx="25322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вет: Путь – 70 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42005" fill="hold"/>
                                        <p:tgtEl>
                                          <p:spTgt spid="15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578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1578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7" dur="1" fill="hold"/>
                                        <p:tgtEl>
                                          <p:spTgt spid="15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2" name="Picture 4" descr=""/>
          <p:cNvPicPr/>
          <p:nvPr/>
        </p:nvPicPr>
        <p:blipFill>
          <a:blip r:embed="rId1"/>
          <a:stretch/>
        </p:blipFill>
        <p:spPr>
          <a:xfrm>
            <a:off x="-608040" y="0"/>
            <a:ext cx="9752040" cy="6858000"/>
          </a:xfrm>
          <a:prstGeom prst="rect">
            <a:avLst/>
          </a:prstGeom>
          <a:ln w="0">
            <a:noFill/>
          </a:ln>
        </p:spPr>
      </p:pic>
      <p:sp>
        <p:nvSpPr>
          <p:cNvPr id="1583" name="WordArt 5"/>
          <p:cNvSpPr txBox="1"/>
          <p:nvPr/>
        </p:nvSpPr>
        <p:spPr>
          <a:xfrm>
            <a:off x="1116000" y="1197000"/>
            <a:ext cx="6264360" cy="28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mph" presetID="1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70" dur="2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/>
          </p:nvPr>
        </p:nvSpPr>
        <p:spPr>
          <a:xfrm>
            <a:off x="837720" y="3860280"/>
            <a:ext cx="800748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«Движенья нет, - сказал мудрец брадат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ругой смолчал и стал пред ним ходить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(А.С. Пушкин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4" name="Picture 4" descr="sea25"/>
          <p:cNvPicPr/>
          <p:nvPr/>
        </p:nvPicPr>
        <p:blipFill>
          <a:blip r:embed="rId1"/>
          <a:stretch/>
        </p:blipFill>
        <p:spPr>
          <a:xfrm>
            <a:off x="1403280" y="1268280"/>
            <a:ext cx="2735280" cy="2160720"/>
          </a:xfrm>
          <a:prstGeom prst="rect">
            <a:avLst/>
          </a:prstGeom>
          <a:ln w="0">
            <a:noFill/>
          </a:ln>
        </p:spPr>
      </p:pic>
      <p:pic>
        <p:nvPicPr>
          <p:cNvPr id="1445" name="Picture 5" descr="9"/>
          <p:cNvPicPr/>
          <p:nvPr/>
        </p:nvPicPr>
        <p:blipFill>
          <a:blip r:embed="rId2"/>
          <a:stretch/>
        </p:blipFill>
        <p:spPr>
          <a:xfrm>
            <a:off x="5651640" y="692280"/>
            <a:ext cx="2692440" cy="2124000"/>
          </a:xfrm>
          <a:prstGeom prst="rect">
            <a:avLst/>
          </a:prstGeom>
          <a:ln w="0">
            <a:noFill/>
          </a:ln>
        </p:spPr>
      </p:pic>
      <p:grpSp>
        <p:nvGrpSpPr>
          <p:cNvPr id="1446" name="Group 6"/>
          <p:cNvGrpSpPr/>
          <p:nvPr/>
        </p:nvGrpSpPr>
        <p:grpSpPr>
          <a:xfrm>
            <a:off x="0" y="0"/>
            <a:ext cx="9144000" cy="765000"/>
            <a:chOff x="0" y="0"/>
            <a:chExt cx="9144000" cy="765000"/>
          </a:xfrm>
        </p:grpSpPr>
        <p:sp>
          <p:nvSpPr>
            <p:cNvPr id="1447" name="Rectangle 7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WordArt 8"/>
            <p:cNvSpPr txBox="1"/>
            <p:nvPr/>
          </p:nvSpPr>
          <p:spPr>
            <a:xfrm>
              <a:off x="1582560" y="189000"/>
              <a:ext cx="597708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«Механическое движение»</a:t>
              </a:r>
              <a:endParaRPr b="1" lang="en-US" sz="1800" spc="1" strike="noStrike">
                <a:ln w="19080">
                  <a:solidFill>
                    <a:srgbClr val="99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9" name="Picture 45" descr=""/>
          <p:cNvPicPr/>
          <p:nvPr/>
        </p:nvPicPr>
        <p:blipFill>
          <a:blip r:embed="rId1"/>
          <a:stretch/>
        </p:blipFill>
        <p:spPr>
          <a:xfrm>
            <a:off x="7835760" y="2759040"/>
            <a:ext cx="603360" cy="669960"/>
          </a:xfrm>
          <a:prstGeom prst="rect">
            <a:avLst/>
          </a:prstGeom>
          <a:ln w="0">
            <a:noFill/>
          </a:ln>
        </p:spPr>
      </p:pic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тгадай кроссвор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1" name="Прямоугольник 1"/>
          <p:cNvSpPr/>
          <p:nvPr/>
        </p:nvSpPr>
        <p:spPr>
          <a:xfrm>
            <a:off x="3780000" y="1521000"/>
            <a:ext cx="576000" cy="64764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Прямоугольник 4"/>
          <p:cNvSpPr/>
          <p:nvPr/>
        </p:nvSpPr>
        <p:spPr>
          <a:xfrm>
            <a:off x="3200400" y="1521000"/>
            <a:ext cx="574560" cy="64764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Прямоугольник 5"/>
          <p:cNvSpPr/>
          <p:nvPr/>
        </p:nvSpPr>
        <p:spPr>
          <a:xfrm>
            <a:off x="3774960" y="4111560"/>
            <a:ext cx="576360" cy="64944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Прямоугольник 6"/>
          <p:cNvSpPr/>
          <p:nvPr/>
        </p:nvSpPr>
        <p:spPr>
          <a:xfrm>
            <a:off x="3780000" y="3463920"/>
            <a:ext cx="576000" cy="64764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Прямоугольник 7"/>
          <p:cNvSpPr/>
          <p:nvPr/>
        </p:nvSpPr>
        <p:spPr>
          <a:xfrm>
            <a:off x="3780000" y="2816280"/>
            <a:ext cx="576000" cy="64908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Прямоугольник 8"/>
          <p:cNvSpPr/>
          <p:nvPr/>
        </p:nvSpPr>
        <p:spPr>
          <a:xfrm>
            <a:off x="3780000" y="2168640"/>
            <a:ext cx="576000" cy="64764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5" descr=""/>
          <p:cNvPicPr/>
          <p:nvPr/>
        </p:nvPicPr>
        <p:blipFill>
          <a:blip r:embed="rId2"/>
          <a:stretch/>
        </p:blipFill>
        <p:spPr>
          <a:xfrm>
            <a:off x="4935600" y="214632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6" descr=""/>
          <p:cNvPicPr/>
          <p:nvPr/>
        </p:nvPicPr>
        <p:blipFill>
          <a:blip r:embed="rId3"/>
          <a:stretch/>
        </p:blipFill>
        <p:spPr>
          <a:xfrm>
            <a:off x="4356000" y="214632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59" name="Picture 7" descr=""/>
          <p:cNvPicPr/>
          <p:nvPr/>
        </p:nvPicPr>
        <p:blipFill>
          <a:blip r:embed="rId4"/>
          <a:stretch/>
        </p:blipFill>
        <p:spPr>
          <a:xfrm>
            <a:off x="4935600" y="150984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60" name="Picture 8" descr=""/>
          <p:cNvPicPr/>
          <p:nvPr/>
        </p:nvPicPr>
        <p:blipFill>
          <a:blip r:embed="rId5"/>
          <a:stretch/>
        </p:blipFill>
        <p:spPr>
          <a:xfrm>
            <a:off x="4351320" y="150984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61" name="Picture 9" descr=""/>
          <p:cNvPicPr/>
          <p:nvPr/>
        </p:nvPicPr>
        <p:blipFill>
          <a:blip r:embed="rId6"/>
          <a:stretch/>
        </p:blipFill>
        <p:spPr>
          <a:xfrm>
            <a:off x="7237440" y="213840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62" name="Picture 10" descr=""/>
          <p:cNvPicPr/>
          <p:nvPr/>
        </p:nvPicPr>
        <p:blipFill>
          <a:blip r:embed="rId7"/>
          <a:stretch/>
        </p:blipFill>
        <p:spPr>
          <a:xfrm>
            <a:off x="6634080" y="212868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11" descr=""/>
          <p:cNvPicPr/>
          <p:nvPr/>
        </p:nvPicPr>
        <p:blipFill>
          <a:blip r:embed="rId8"/>
          <a:stretch/>
        </p:blipFill>
        <p:spPr>
          <a:xfrm>
            <a:off x="6059520" y="212868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12" descr=""/>
          <p:cNvPicPr/>
          <p:nvPr/>
        </p:nvPicPr>
        <p:blipFill>
          <a:blip r:embed="rId9"/>
          <a:stretch/>
        </p:blipFill>
        <p:spPr>
          <a:xfrm>
            <a:off x="5497560" y="212868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13" descr=""/>
          <p:cNvPicPr/>
          <p:nvPr/>
        </p:nvPicPr>
        <p:blipFill>
          <a:blip r:embed="rId10"/>
          <a:stretch/>
        </p:blipFill>
        <p:spPr>
          <a:xfrm>
            <a:off x="4356000" y="277020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14" descr=""/>
          <p:cNvPicPr/>
          <p:nvPr/>
        </p:nvPicPr>
        <p:blipFill>
          <a:blip r:embed="rId11"/>
          <a:stretch/>
        </p:blipFill>
        <p:spPr>
          <a:xfrm>
            <a:off x="4935600" y="279396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15" descr=""/>
          <p:cNvPicPr/>
          <p:nvPr/>
        </p:nvPicPr>
        <p:blipFill>
          <a:blip r:embed="rId12"/>
          <a:stretch/>
        </p:blipFill>
        <p:spPr>
          <a:xfrm>
            <a:off x="2606760" y="2798640"/>
            <a:ext cx="603000" cy="66996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16" descr=""/>
          <p:cNvPicPr/>
          <p:nvPr/>
        </p:nvPicPr>
        <p:blipFill>
          <a:blip r:embed="rId13"/>
          <a:stretch/>
        </p:blipFill>
        <p:spPr>
          <a:xfrm>
            <a:off x="3200400" y="279396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17" descr=""/>
          <p:cNvPicPr/>
          <p:nvPr/>
        </p:nvPicPr>
        <p:blipFill>
          <a:blip r:embed="rId14"/>
          <a:stretch/>
        </p:blipFill>
        <p:spPr>
          <a:xfrm>
            <a:off x="7840800" y="2138400"/>
            <a:ext cx="603000" cy="66996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8" descr=""/>
          <p:cNvPicPr/>
          <p:nvPr/>
        </p:nvPicPr>
        <p:blipFill>
          <a:blip r:embed="rId15"/>
          <a:stretch/>
        </p:blipFill>
        <p:spPr>
          <a:xfrm>
            <a:off x="7237440" y="277020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9" descr=""/>
          <p:cNvPicPr/>
          <p:nvPr/>
        </p:nvPicPr>
        <p:blipFill>
          <a:blip r:embed="rId16"/>
          <a:stretch/>
        </p:blipFill>
        <p:spPr>
          <a:xfrm>
            <a:off x="6634080" y="277488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20" descr=""/>
          <p:cNvPicPr/>
          <p:nvPr/>
        </p:nvPicPr>
        <p:blipFill>
          <a:blip r:embed="rId17"/>
          <a:stretch/>
        </p:blipFill>
        <p:spPr>
          <a:xfrm>
            <a:off x="6059520" y="277488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21" descr=""/>
          <p:cNvPicPr/>
          <p:nvPr/>
        </p:nvPicPr>
        <p:blipFill>
          <a:blip r:embed="rId18"/>
          <a:stretch/>
        </p:blipFill>
        <p:spPr>
          <a:xfrm>
            <a:off x="5506920" y="277488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22" descr=""/>
          <p:cNvPicPr/>
          <p:nvPr/>
        </p:nvPicPr>
        <p:blipFill>
          <a:blip r:embed="rId19"/>
          <a:stretch/>
        </p:blipFill>
        <p:spPr>
          <a:xfrm>
            <a:off x="4332240" y="344160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23" descr=""/>
          <p:cNvPicPr/>
          <p:nvPr/>
        </p:nvPicPr>
        <p:blipFill>
          <a:blip r:embed="rId20"/>
          <a:stretch/>
        </p:blipFill>
        <p:spPr>
          <a:xfrm>
            <a:off x="4332240" y="409104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24" descr=""/>
          <p:cNvPicPr/>
          <p:nvPr/>
        </p:nvPicPr>
        <p:blipFill>
          <a:blip r:embed="rId21"/>
          <a:stretch/>
        </p:blipFill>
        <p:spPr>
          <a:xfrm>
            <a:off x="4894200" y="3446640"/>
            <a:ext cx="603360" cy="66960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25" descr=""/>
          <p:cNvPicPr/>
          <p:nvPr/>
        </p:nvPicPr>
        <p:blipFill>
          <a:blip r:embed="rId22"/>
          <a:stretch/>
        </p:blipFill>
        <p:spPr>
          <a:xfrm>
            <a:off x="3171960" y="4122720"/>
            <a:ext cx="603000" cy="66996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26" descr=""/>
          <p:cNvPicPr/>
          <p:nvPr/>
        </p:nvPicPr>
        <p:blipFill>
          <a:blip r:embed="rId23"/>
          <a:stretch/>
        </p:blipFill>
        <p:spPr>
          <a:xfrm>
            <a:off x="6031080" y="4091040"/>
            <a:ext cx="603000" cy="66996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27" descr=""/>
          <p:cNvPicPr/>
          <p:nvPr/>
        </p:nvPicPr>
        <p:blipFill>
          <a:blip r:embed="rId24"/>
          <a:stretch/>
        </p:blipFill>
        <p:spPr>
          <a:xfrm>
            <a:off x="5452920" y="408924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8" descr=""/>
          <p:cNvPicPr/>
          <p:nvPr/>
        </p:nvPicPr>
        <p:blipFill>
          <a:blip r:embed="rId25"/>
          <a:stretch/>
        </p:blipFill>
        <p:spPr>
          <a:xfrm>
            <a:off x="4894200" y="4100400"/>
            <a:ext cx="603360" cy="669960"/>
          </a:xfrm>
          <a:prstGeom prst="rect">
            <a:avLst/>
          </a:prstGeom>
          <a:ln w="0">
            <a:noFill/>
          </a:ln>
        </p:spPr>
      </p:pic>
      <p:sp>
        <p:nvSpPr>
          <p:cNvPr id="1481" name="TextBox 2"/>
          <p:cNvSpPr/>
          <p:nvPr/>
        </p:nvSpPr>
        <p:spPr>
          <a:xfrm>
            <a:off x="3299040" y="15526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TextBox 3"/>
          <p:cNvSpPr/>
          <p:nvPr/>
        </p:nvSpPr>
        <p:spPr>
          <a:xfrm>
            <a:off x="3874320" y="1552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TextBox 9"/>
          <p:cNvSpPr/>
          <p:nvPr/>
        </p:nvSpPr>
        <p:spPr>
          <a:xfrm>
            <a:off x="4456440" y="15825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TextBox 10"/>
          <p:cNvSpPr/>
          <p:nvPr/>
        </p:nvSpPr>
        <p:spPr>
          <a:xfrm>
            <a:off x="5004720" y="158256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Box 11"/>
          <p:cNvSpPr/>
          <p:nvPr/>
        </p:nvSpPr>
        <p:spPr>
          <a:xfrm>
            <a:off x="3860640" y="224784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TextBox 12"/>
          <p:cNvSpPr/>
          <p:nvPr/>
        </p:nvSpPr>
        <p:spPr>
          <a:xfrm>
            <a:off x="4412520" y="224640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TextBox 13"/>
          <p:cNvSpPr/>
          <p:nvPr/>
        </p:nvSpPr>
        <p:spPr>
          <a:xfrm>
            <a:off x="7339680" y="220356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TextBox 14"/>
          <p:cNvSpPr/>
          <p:nvPr/>
        </p:nvSpPr>
        <p:spPr>
          <a:xfrm>
            <a:off x="5582160" y="2203560"/>
            <a:ext cx="4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TextBox 15"/>
          <p:cNvSpPr/>
          <p:nvPr/>
        </p:nvSpPr>
        <p:spPr>
          <a:xfrm>
            <a:off x="6143040" y="2179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TextBox 16"/>
          <p:cNvSpPr/>
          <p:nvPr/>
        </p:nvSpPr>
        <p:spPr>
          <a:xfrm>
            <a:off x="6737760" y="22208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TextBox 17"/>
          <p:cNvSpPr/>
          <p:nvPr/>
        </p:nvSpPr>
        <p:spPr>
          <a:xfrm>
            <a:off x="4996440" y="221148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TextBox 18"/>
          <p:cNvSpPr/>
          <p:nvPr/>
        </p:nvSpPr>
        <p:spPr>
          <a:xfrm>
            <a:off x="7952760" y="2203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TextBox 2"/>
          <p:cNvSpPr/>
          <p:nvPr/>
        </p:nvSpPr>
        <p:spPr>
          <a:xfrm>
            <a:off x="3874680" y="352584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TextBox 3"/>
          <p:cNvSpPr/>
          <p:nvPr/>
        </p:nvSpPr>
        <p:spPr>
          <a:xfrm>
            <a:off x="4432680" y="3525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TextBox 9"/>
          <p:cNvSpPr/>
          <p:nvPr/>
        </p:nvSpPr>
        <p:spPr>
          <a:xfrm>
            <a:off x="4996080" y="3519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TextBox 10"/>
          <p:cNvSpPr/>
          <p:nvPr/>
        </p:nvSpPr>
        <p:spPr>
          <a:xfrm>
            <a:off x="5621040" y="28321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TextBox 11"/>
          <p:cNvSpPr/>
          <p:nvPr/>
        </p:nvSpPr>
        <p:spPr>
          <a:xfrm>
            <a:off x="3288960" y="2843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Box 12"/>
          <p:cNvSpPr/>
          <p:nvPr/>
        </p:nvSpPr>
        <p:spPr>
          <a:xfrm>
            <a:off x="3868200" y="2879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TextBox 13"/>
          <p:cNvSpPr/>
          <p:nvPr/>
        </p:nvSpPr>
        <p:spPr>
          <a:xfrm>
            <a:off x="4456440" y="2879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TextBox 14"/>
          <p:cNvSpPr/>
          <p:nvPr/>
        </p:nvSpPr>
        <p:spPr>
          <a:xfrm>
            <a:off x="5024160" y="285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Box 15"/>
          <p:cNvSpPr/>
          <p:nvPr/>
        </p:nvSpPr>
        <p:spPr>
          <a:xfrm>
            <a:off x="2730960" y="28605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Box 16"/>
          <p:cNvSpPr/>
          <p:nvPr/>
        </p:nvSpPr>
        <p:spPr>
          <a:xfrm>
            <a:off x="6144120" y="2816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TextBox 17"/>
          <p:cNvSpPr/>
          <p:nvPr/>
        </p:nvSpPr>
        <p:spPr>
          <a:xfrm>
            <a:off x="7339680" y="285264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TextBox 18"/>
          <p:cNvSpPr/>
          <p:nvPr/>
        </p:nvSpPr>
        <p:spPr>
          <a:xfrm>
            <a:off x="7942680" y="28605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TextBox 19"/>
          <p:cNvSpPr/>
          <p:nvPr/>
        </p:nvSpPr>
        <p:spPr>
          <a:xfrm>
            <a:off x="6739560" y="2852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TextBox 20"/>
          <p:cNvSpPr/>
          <p:nvPr/>
        </p:nvSpPr>
        <p:spPr>
          <a:xfrm>
            <a:off x="3213000" y="419724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TextBox 21"/>
          <p:cNvSpPr/>
          <p:nvPr/>
        </p:nvSpPr>
        <p:spPr>
          <a:xfrm>
            <a:off x="4958640" y="41623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TextBox 22"/>
          <p:cNvSpPr/>
          <p:nvPr/>
        </p:nvSpPr>
        <p:spPr>
          <a:xfrm>
            <a:off x="4443840" y="418140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TextBox 23"/>
          <p:cNvSpPr/>
          <p:nvPr/>
        </p:nvSpPr>
        <p:spPr>
          <a:xfrm>
            <a:off x="3847320" y="418140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TextBox 24"/>
          <p:cNvSpPr/>
          <p:nvPr/>
        </p:nvSpPr>
        <p:spPr>
          <a:xfrm>
            <a:off x="5599080" y="4173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TextBox 25"/>
          <p:cNvSpPr/>
          <p:nvPr/>
        </p:nvSpPr>
        <p:spPr>
          <a:xfrm>
            <a:off x="6142320" y="4181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2" name="Group 3"/>
          <p:cNvGrpSpPr/>
          <p:nvPr/>
        </p:nvGrpSpPr>
        <p:grpSpPr>
          <a:xfrm>
            <a:off x="123840" y="93600"/>
            <a:ext cx="8893080" cy="6670800"/>
            <a:chOff x="123840" y="93600"/>
            <a:chExt cx="8893080" cy="6670800"/>
          </a:xfrm>
        </p:grpSpPr>
        <p:sp>
          <p:nvSpPr>
            <p:cNvPr id="1513" name="Freeform 4"/>
            <p:cNvSpPr/>
            <p:nvPr/>
          </p:nvSpPr>
          <p:spPr>
            <a:xfrm>
              <a:off x="123840" y="93600"/>
              <a:ext cx="8893080" cy="6670800"/>
            </a:xfrm>
            <a:custGeom>
              <a:avLst/>
              <a:gdLst>
                <a:gd name="textAreaLeft" fmla="*/ 0 w 8893080"/>
                <a:gd name="textAreaRight" fmla="*/ 8893440 w 8893080"/>
                <a:gd name="textAreaTop" fmla="*/ 0 h 6670800"/>
                <a:gd name="textAreaBottom" fmla="*/ 6671160 h 6670800"/>
              </a:gdLst>
              <a:ahLst/>
              <a:rect l="textAreaLeft" t="textAreaTop" r="textAreaRight" b="textAreaBottom"/>
              <a:pathLst>
                <a:path w="6400" h="4480">
                  <a:moveTo>
                    <a:pt x="0" y="0"/>
                  </a:moveTo>
                  <a:lnTo>
                    <a:pt x="0" y="4480"/>
                  </a:lnTo>
                  <a:lnTo>
                    <a:pt x="6400" y="4480"/>
                  </a:lnTo>
                  <a:lnTo>
                    <a:pt x="6400" y="0"/>
                  </a:lnTo>
                  <a:lnTo>
                    <a:pt x="0" y="0"/>
                  </a:lnTo>
                  <a:close/>
                  <a:moveTo>
                    <a:pt x="6160" y="4000"/>
                  </a:moveTo>
                  <a:lnTo>
                    <a:pt x="6160" y="4000"/>
                  </a:lnTo>
                  <a:lnTo>
                    <a:pt x="6136" y="4002"/>
                  </a:lnTo>
                  <a:lnTo>
                    <a:pt x="6112" y="4004"/>
                  </a:lnTo>
                  <a:lnTo>
                    <a:pt x="6088" y="4010"/>
                  </a:lnTo>
                  <a:lnTo>
                    <a:pt x="6066" y="4018"/>
                  </a:lnTo>
                  <a:lnTo>
                    <a:pt x="6046" y="4028"/>
                  </a:lnTo>
                  <a:lnTo>
                    <a:pt x="6026" y="4040"/>
                  </a:lnTo>
                  <a:lnTo>
                    <a:pt x="6008" y="4054"/>
                  </a:lnTo>
                  <a:lnTo>
                    <a:pt x="5990" y="4070"/>
                  </a:lnTo>
                  <a:lnTo>
                    <a:pt x="5974" y="4088"/>
                  </a:lnTo>
                  <a:lnTo>
                    <a:pt x="5960" y="4106"/>
                  </a:lnTo>
                  <a:lnTo>
                    <a:pt x="5948" y="4126"/>
                  </a:lnTo>
                  <a:lnTo>
                    <a:pt x="5938" y="4146"/>
                  </a:lnTo>
                  <a:lnTo>
                    <a:pt x="5930" y="4168"/>
                  </a:lnTo>
                  <a:lnTo>
                    <a:pt x="5924" y="4192"/>
                  </a:lnTo>
                  <a:lnTo>
                    <a:pt x="5922" y="4216"/>
                  </a:lnTo>
                  <a:lnTo>
                    <a:pt x="5920" y="4240"/>
                  </a:lnTo>
                  <a:lnTo>
                    <a:pt x="5920" y="4260"/>
                  </a:lnTo>
                  <a:lnTo>
                    <a:pt x="5924" y="4282"/>
                  </a:lnTo>
                  <a:lnTo>
                    <a:pt x="5928" y="4300"/>
                  </a:lnTo>
                  <a:lnTo>
                    <a:pt x="5934" y="4320"/>
                  </a:lnTo>
                  <a:lnTo>
                    <a:pt x="466" y="4320"/>
                  </a:lnTo>
                  <a:lnTo>
                    <a:pt x="472" y="4300"/>
                  </a:lnTo>
                  <a:lnTo>
                    <a:pt x="476" y="4282"/>
                  </a:lnTo>
                  <a:lnTo>
                    <a:pt x="480" y="4260"/>
                  </a:lnTo>
                  <a:lnTo>
                    <a:pt x="480" y="4240"/>
                  </a:lnTo>
                  <a:lnTo>
                    <a:pt x="478" y="4216"/>
                  </a:lnTo>
                  <a:lnTo>
                    <a:pt x="476" y="4192"/>
                  </a:lnTo>
                  <a:lnTo>
                    <a:pt x="470" y="4168"/>
                  </a:lnTo>
                  <a:lnTo>
                    <a:pt x="462" y="4146"/>
                  </a:lnTo>
                  <a:lnTo>
                    <a:pt x="452" y="4126"/>
                  </a:lnTo>
                  <a:lnTo>
                    <a:pt x="440" y="4106"/>
                  </a:lnTo>
                  <a:lnTo>
                    <a:pt x="426" y="4088"/>
                  </a:lnTo>
                  <a:lnTo>
                    <a:pt x="410" y="4070"/>
                  </a:lnTo>
                  <a:lnTo>
                    <a:pt x="392" y="4054"/>
                  </a:lnTo>
                  <a:lnTo>
                    <a:pt x="374" y="4040"/>
                  </a:lnTo>
                  <a:lnTo>
                    <a:pt x="354" y="4028"/>
                  </a:lnTo>
                  <a:lnTo>
                    <a:pt x="334" y="4018"/>
                  </a:lnTo>
                  <a:lnTo>
                    <a:pt x="312" y="4010"/>
                  </a:lnTo>
                  <a:lnTo>
                    <a:pt x="288" y="4004"/>
                  </a:lnTo>
                  <a:lnTo>
                    <a:pt x="264" y="4002"/>
                  </a:lnTo>
                  <a:lnTo>
                    <a:pt x="240" y="4000"/>
                  </a:lnTo>
                  <a:lnTo>
                    <a:pt x="220" y="4000"/>
                  </a:lnTo>
                  <a:lnTo>
                    <a:pt x="198" y="4004"/>
                  </a:lnTo>
                  <a:lnTo>
                    <a:pt x="180" y="4008"/>
                  </a:lnTo>
                  <a:lnTo>
                    <a:pt x="160" y="4014"/>
                  </a:lnTo>
                  <a:lnTo>
                    <a:pt x="160" y="466"/>
                  </a:lnTo>
                  <a:lnTo>
                    <a:pt x="180" y="472"/>
                  </a:lnTo>
                  <a:lnTo>
                    <a:pt x="198" y="476"/>
                  </a:lnTo>
                  <a:lnTo>
                    <a:pt x="220" y="480"/>
                  </a:lnTo>
                  <a:lnTo>
                    <a:pt x="240" y="480"/>
                  </a:lnTo>
                  <a:lnTo>
                    <a:pt x="264" y="478"/>
                  </a:lnTo>
                  <a:lnTo>
                    <a:pt x="288" y="476"/>
                  </a:lnTo>
                  <a:lnTo>
                    <a:pt x="312" y="470"/>
                  </a:lnTo>
                  <a:lnTo>
                    <a:pt x="334" y="462"/>
                  </a:lnTo>
                  <a:lnTo>
                    <a:pt x="354" y="452"/>
                  </a:lnTo>
                  <a:lnTo>
                    <a:pt x="374" y="440"/>
                  </a:lnTo>
                  <a:lnTo>
                    <a:pt x="392" y="426"/>
                  </a:lnTo>
                  <a:lnTo>
                    <a:pt x="410" y="410"/>
                  </a:lnTo>
                  <a:lnTo>
                    <a:pt x="426" y="392"/>
                  </a:lnTo>
                  <a:lnTo>
                    <a:pt x="440" y="374"/>
                  </a:lnTo>
                  <a:lnTo>
                    <a:pt x="452" y="354"/>
                  </a:lnTo>
                  <a:lnTo>
                    <a:pt x="462" y="334"/>
                  </a:lnTo>
                  <a:lnTo>
                    <a:pt x="470" y="312"/>
                  </a:lnTo>
                  <a:lnTo>
                    <a:pt x="476" y="288"/>
                  </a:lnTo>
                  <a:lnTo>
                    <a:pt x="478" y="264"/>
                  </a:lnTo>
                  <a:lnTo>
                    <a:pt x="480" y="240"/>
                  </a:lnTo>
                  <a:lnTo>
                    <a:pt x="480" y="220"/>
                  </a:lnTo>
                  <a:lnTo>
                    <a:pt x="476" y="198"/>
                  </a:lnTo>
                  <a:lnTo>
                    <a:pt x="472" y="180"/>
                  </a:lnTo>
                  <a:lnTo>
                    <a:pt x="466" y="160"/>
                  </a:lnTo>
                  <a:lnTo>
                    <a:pt x="5934" y="160"/>
                  </a:lnTo>
                  <a:lnTo>
                    <a:pt x="5928" y="180"/>
                  </a:lnTo>
                  <a:lnTo>
                    <a:pt x="5924" y="198"/>
                  </a:lnTo>
                  <a:lnTo>
                    <a:pt x="5920" y="220"/>
                  </a:lnTo>
                  <a:lnTo>
                    <a:pt x="5920" y="240"/>
                  </a:lnTo>
                  <a:lnTo>
                    <a:pt x="5922" y="264"/>
                  </a:lnTo>
                  <a:lnTo>
                    <a:pt x="5924" y="288"/>
                  </a:lnTo>
                  <a:lnTo>
                    <a:pt x="5930" y="312"/>
                  </a:lnTo>
                  <a:lnTo>
                    <a:pt x="5938" y="334"/>
                  </a:lnTo>
                  <a:lnTo>
                    <a:pt x="5948" y="354"/>
                  </a:lnTo>
                  <a:lnTo>
                    <a:pt x="5960" y="374"/>
                  </a:lnTo>
                  <a:lnTo>
                    <a:pt x="5974" y="392"/>
                  </a:lnTo>
                  <a:lnTo>
                    <a:pt x="5990" y="410"/>
                  </a:lnTo>
                  <a:lnTo>
                    <a:pt x="6008" y="426"/>
                  </a:lnTo>
                  <a:lnTo>
                    <a:pt x="6026" y="440"/>
                  </a:lnTo>
                  <a:lnTo>
                    <a:pt x="6046" y="452"/>
                  </a:lnTo>
                  <a:lnTo>
                    <a:pt x="6066" y="462"/>
                  </a:lnTo>
                  <a:lnTo>
                    <a:pt x="6088" y="470"/>
                  </a:lnTo>
                  <a:lnTo>
                    <a:pt x="6112" y="476"/>
                  </a:lnTo>
                  <a:lnTo>
                    <a:pt x="6136" y="478"/>
                  </a:lnTo>
                  <a:lnTo>
                    <a:pt x="6160" y="480"/>
                  </a:lnTo>
                  <a:lnTo>
                    <a:pt x="6180" y="480"/>
                  </a:lnTo>
                  <a:lnTo>
                    <a:pt x="6202" y="476"/>
                  </a:lnTo>
                  <a:lnTo>
                    <a:pt x="6220" y="472"/>
                  </a:lnTo>
                  <a:lnTo>
                    <a:pt x="6240" y="466"/>
                  </a:lnTo>
                  <a:lnTo>
                    <a:pt x="6240" y="4014"/>
                  </a:lnTo>
                  <a:lnTo>
                    <a:pt x="6220" y="4008"/>
                  </a:lnTo>
                  <a:lnTo>
                    <a:pt x="6202" y="4004"/>
                  </a:lnTo>
                  <a:lnTo>
                    <a:pt x="6180" y="4000"/>
                  </a:lnTo>
                  <a:lnTo>
                    <a:pt x="6160" y="400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5"/>
            <p:cNvSpPr/>
            <p:nvPr/>
          </p:nvSpPr>
          <p:spPr>
            <a:xfrm>
              <a:off x="546120" y="546120"/>
              <a:ext cx="8048160" cy="5765040"/>
            </a:xfrm>
            <a:custGeom>
              <a:avLst/>
              <a:gdLst>
                <a:gd name="textAreaLeft" fmla="*/ 0 w 8048160"/>
                <a:gd name="textAreaRight" fmla="*/ 8048520 w 8048160"/>
                <a:gd name="textAreaTop" fmla="*/ 0 h 5765040"/>
                <a:gd name="textAreaBottom" fmla="*/ 5765400 h 5765040"/>
              </a:gdLst>
              <a:ahLst/>
              <a:rect l="textAreaLeft" t="textAreaTop" r="textAreaRight" b="textAreaBottom"/>
              <a:pathLst>
                <a:path w="5792" h="3872">
                  <a:moveTo>
                    <a:pt x="5492" y="3872"/>
                  </a:moveTo>
                  <a:lnTo>
                    <a:pt x="300" y="3872"/>
                  </a:lnTo>
                  <a:lnTo>
                    <a:pt x="308" y="3850"/>
                  </a:lnTo>
                  <a:lnTo>
                    <a:pt x="312" y="3832"/>
                  </a:lnTo>
                  <a:lnTo>
                    <a:pt x="316" y="3814"/>
                  </a:lnTo>
                  <a:lnTo>
                    <a:pt x="320" y="3796"/>
                  </a:lnTo>
                  <a:lnTo>
                    <a:pt x="320" y="3776"/>
                  </a:lnTo>
                  <a:lnTo>
                    <a:pt x="318" y="3754"/>
                  </a:lnTo>
                  <a:lnTo>
                    <a:pt x="316" y="3730"/>
                  </a:lnTo>
                  <a:lnTo>
                    <a:pt x="310" y="3710"/>
                  </a:lnTo>
                  <a:lnTo>
                    <a:pt x="302" y="3688"/>
                  </a:lnTo>
                  <a:lnTo>
                    <a:pt x="292" y="3670"/>
                  </a:lnTo>
                  <a:lnTo>
                    <a:pt x="282" y="3650"/>
                  </a:lnTo>
                  <a:lnTo>
                    <a:pt x="268" y="3634"/>
                  </a:lnTo>
                  <a:lnTo>
                    <a:pt x="254" y="3618"/>
                  </a:lnTo>
                  <a:lnTo>
                    <a:pt x="238" y="3604"/>
                  </a:lnTo>
                  <a:lnTo>
                    <a:pt x="222" y="3590"/>
                  </a:lnTo>
                  <a:lnTo>
                    <a:pt x="202" y="3580"/>
                  </a:lnTo>
                  <a:lnTo>
                    <a:pt x="184" y="3570"/>
                  </a:lnTo>
                  <a:lnTo>
                    <a:pt x="162" y="3562"/>
                  </a:lnTo>
                  <a:lnTo>
                    <a:pt x="142" y="3556"/>
                  </a:lnTo>
                  <a:lnTo>
                    <a:pt x="118" y="3554"/>
                  </a:lnTo>
                  <a:lnTo>
                    <a:pt x="96" y="3552"/>
                  </a:lnTo>
                  <a:lnTo>
                    <a:pt x="76" y="3552"/>
                  </a:lnTo>
                  <a:lnTo>
                    <a:pt x="58" y="3556"/>
                  </a:lnTo>
                  <a:lnTo>
                    <a:pt x="40" y="3560"/>
                  </a:lnTo>
                  <a:lnTo>
                    <a:pt x="22" y="3564"/>
                  </a:lnTo>
                  <a:lnTo>
                    <a:pt x="0" y="3572"/>
                  </a:lnTo>
                  <a:lnTo>
                    <a:pt x="0" y="300"/>
                  </a:lnTo>
                  <a:lnTo>
                    <a:pt x="22" y="308"/>
                  </a:lnTo>
                  <a:lnTo>
                    <a:pt x="40" y="312"/>
                  </a:lnTo>
                  <a:lnTo>
                    <a:pt x="58" y="316"/>
                  </a:lnTo>
                  <a:lnTo>
                    <a:pt x="76" y="320"/>
                  </a:lnTo>
                  <a:lnTo>
                    <a:pt x="96" y="320"/>
                  </a:lnTo>
                  <a:lnTo>
                    <a:pt x="118" y="318"/>
                  </a:lnTo>
                  <a:lnTo>
                    <a:pt x="142" y="316"/>
                  </a:lnTo>
                  <a:lnTo>
                    <a:pt x="162" y="310"/>
                  </a:lnTo>
                  <a:lnTo>
                    <a:pt x="184" y="302"/>
                  </a:lnTo>
                  <a:lnTo>
                    <a:pt x="202" y="292"/>
                  </a:lnTo>
                  <a:lnTo>
                    <a:pt x="222" y="282"/>
                  </a:lnTo>
                  <a:lnTo>
                    <a:pt x="238" y="268"/>
                  </a:lnTo>
                  <a:lnTo>
                    <a:pt x="254" y="254"/>
                  </a:lnTo>
                  <a:lnTo>
                    <a:pt x="268" y="238"/>
                  </a:lnTo>
                  <a:lnTo>
                    <a:pt x="282" y="222"/>
                  </a:lnTo>
                  <a:lnTo>
                    <a:pt x="292" y="202"/>
                  </a:lnTo>
                  <a:lnTo>
                    <a:pt x="302" y="184"/>
                  </a:lnTo>
                  <a:lnTo>
                    <a:pt x="310" y="162"/>
                  </a:lnTo>
                  <a:lnTo>
                    <a:pt x="316" y="142"/>
                  </a:lnTo>
                  <a:lnTo>
                    <a:pt x="318" y="118"/>
                  </a:lnTo>
                  <a:lnTo>
                    <a:pt x="320" y="96"/>
                  </a:lnTo>
                  <a:lnTo>
                    <a:pt x="320" y="76"/>
                  </a:lnTo>
                  <a:lnTo>
                    <a:pt x="316" y="58"/>
                  </a:lnTo>
                  <a:lnTo>
                    <a:pt x="312" y="40"/>
                  </a:lnTo>
                  <a:lnTo>
                    <a:pt x="308" y="22"/>
                  </a:lnTo>
                  <a:lnTo>
                    <a:pt x="300" y="0"/>
                  </a:lnTo>
                  <a:lnTo>
                    <a:pt x="5492" y="0"/>
                  </a:lnTo>
                  <a:lnTo>
                    <a:pt x="5484" y="22"/>
                  </a:lnTo>
                  <a:lnTo>
                    <a:pt x="5480" y="40"/>
                  </a:lnTo>
                  <a:lnTo>
                    <a:pt x="5476" y="58"/>
                  </a:lnTo>
                  <a:lnTo>
                    <a:pt x="5472" y="76"/>
                  </a:lnTo>
                  <a:lnTo>
                    <a:pt x="5472" y="96"/>
                  </a:lnTo>
                  <a:lnTo>
                    <a:pt x="5474" y="118"/>
                  </a:lnTo>
                  <a:lnTo>
                    <a:pt x="5476" y="142"/>
                  </a:lnTo>
                  <a:lnTo>
                    <a:pt x="5482" y="162"/>
                  </a:lnTo>
                  <a:lnTo>
                    <a:pt x="5490" y="184"/>
                  </a:lnTo>
                  <a:lnTo>
                    <a:pt x="5500" y="202"/>
                  </a:lnTo>
                  <a:lnTo>
                    <a:pt x="5510" y="222"/>
                  </a:lnTo>
                  <a:lnTo>
                    <a:pt x="5524" y="238"/>
                  </a:lnTo>
                  <a:lnTo>
                    <a:pt x="5538" y="254"/>
                  </a:lnTo>
                  <a:lnTo>
                    <a:pt x="5554" y="268"/>
                  </a:lnTo>
                  <a:lnTo>
                    <a:pt x="5570" y="282"/>
                  </a:lnTo>
                  <a:lnTo>
                    <a:pt x="5590" y="292"/>
                  </a:lnTo>
                  <a:lnTo>
                    <a:pt x="5608" y="302"/>
                  </a:lnTo>
                  <a:lnTo>
                    <a:pt x="5630" y="310"/>
                  </a:lnTo>
                  <a:lnTo>
                    <a:pt x="5650" y="316"/>
                  </a:lnTo>
                  <a:lnTo>
                    <a:pt x="5674" y="318"/>
                  </a:lnTo>
                  <a:lnTo>
                    <a:pt x="5696" y="320"/>
                  </a:lnTo>
                  <a:lnTo>
                    <a:pt x="5716" y="320"/>
                  </a:lnTo>
                  <a:lnTo>
                    <a:pt x="5734" y="316"/>
                  </a:lnTo>
                  <a:lnTo>
                    <a:pt x="5752" y="312"/>
                  </a:lnTo>
                  <a:lnTo>
                    <a:pt x="5770" y="308"/>
                  </a:lnTo>
                  <a:lnTo>
                    <a:pt x="5792" y="300"/>
                  </a:lnTo>
                  <a:lnTo>
                    <a:pt x="5792" y="3572"/>
                  </a:lnTo>
                  <a:lnTo>
                    <a:pt x="5770" y="3564"/>
                  </a:lnTo>
                  <a:lnTo>
                    <a:pt x="5752" y="3560"/>
                  </a:lnTo>
                  <a:lnTo>
                    <a:pt x="5734" y="3556"/>
                  </a:lnTo>
                  <a:lnTo>
                    <a:pt x="5716" y="3552"/>
                  </a:lnTo>
                  <a:lnTo>
                    <a:pt x="5696" y="3552"/>
                  </a:lnTo>
                  <a:lnTo>
                    <a:pt x="5674" y="3554"/>
                  </a:lnTo>
                  <a:lnTo>
                    <a:pt x="5650" y="3556"/>
                  </a:lnTo>
                  <a:lnTo>
                    <a:pt x="5630" y="3562"/>
                  </a:lnTo>
                  <a:lnTo>
                    <a:pt x="5608" y="3570"/>
                  </a:lnTo>
                  <a:lnTo>
                    <a:pt x="5590" y="3580"/>
                  </a:lnTo>
                  <a:lnTo>
                    <a:pt x="5570" y="3590"/>
                  </a:lnTo>
                  <a:lnTo>
                    <a:pt x="5554" y="3604"/>
                  </a:lnTo>
                  <a:lnTo>
                    <a:pt x="5538" y="3618"/>
                  </a:lnTo>
                  <a:lnTo>
                    <a:pt x="5524" y="3634"/>
                  </a:lnTo>
                  <a:lnTo>
                    <a:pt x="5510" y="3650"/>
                  </a:lnTo>
                  <a:lnTo>
                    <a:pt x="5500" y="3670"/>
                  </a:lnTo>
                  <a:lnTo>
                    <a:pt x="5490" y="3688"/>
                  </a:lnTo>
                  <a:lnTo>
                    <a:pt x="5482" y="3710"/>
                  </a:lnTo>
                  <a:lnTo>
                    <a:pt x="5476" y="3730"/>
                  </a:lnTo>
                  <a:lnTo>
                    <a:pt x="5474" y="3754"/>
                  </a:lnTo>
                  <a:lnTo>
                    <a:pt x="5472" y="3776"/>
                  </a:lnTo>
                  <a:lnTo>
                    <a:pt x="5472" y="3796"/>
                  </a:lnTo>
                  <a:lnTo>
                    <a:pt x="5476" y="3814"/>
                  </a:lnTo>
                  <a:lnTo>
                    <a:pt x="5480" y="3832"/>
                  </a:lnTo>
                  <a:lnTo>
                    <a:pt x="5484" y="3850"/>
                  </a:lnTo>
                  <a:lnTo>
                    <a:pt x="5492" y="3872"/>
                  </a:lnTo>
                  <a:close/>
                  <a:moveTo>
                    <a:pt x="344" y="3840"/>
                  </a:moveTo>
                  <a:lnTo>
                    <a:pt x="5448" y="3840"/>
                  </a:lnTo>
                  <a:lnTo>
                    <a:pt x="5442" y="3808"/>
                  </a:lnTo>
                  <a:lnTo>
                    <a:pt x="5440" y="3776"/>
                  </a:lnTo>
                  <a:lnTo>
                    <a:pt x="5442" y="3750"/>
                  </a:lnTo>
                  <a:lnTo>
                    <a:pt x="5446" y="3724"/>
                  </a:lnTo>
                  <a:lnTo>
                    <a:pt x="5452" y="3700"/>
                  </a:lnTo>
                  <a:lnTo>
                    <a:pt x="5460" y="3676"/>
                  </a:lnTo>
                  <a:lnTo>
                    <a:pt x="5470" y="3654"/>
                  </a:lnTo>
                  <a:lnTo>
                    <a:pt x="5484" y="3632"/>
                  </a:lnTo>
                  <a:lnTo>
                    <a:pt x="5498" y="3614"/>
                  </a:lnTo>
                  <a:lnTo>
                    <a:pt x="5516" y="3596"/>
                  </a:lnTo>
                  <a:lnTo>
                    <a:pt x="5534" y="3578"/>
                  </a:lnTo>
                  <a:lnTo>
                    <a:pt x="5552" y="3564"/>
                  </a:lnTo>
                  <a:lnTo>
                    <a:pt x="5574" y="3550"/>
                  </a:lnTo>
                  <a:lnTo>
                    <a:pt x="5596" y="3540"/>
                  </a:lnTo>
                  <a:lnTo>
                    <a:pt x="5620" y="3532"/>
                  </a:lnTo>
                  <a:lnTo>
                    <a:pt x="5644" y="3526"/>
                  </a:lnTo>
                  <a:lnTo>
                    <a:pt x="5670" y="3522"/>
                  </a:lnTo>
                  <a:lnTo>
                    <a:pt x="5696" y="3520"/>
                  </a:lnTo>
                  <a:lnTo>
                    <a:pt x="5728" y="3522"/>
                  </a:lnTo>
                  <a:lnTo>
                    <a:pt x="5760" y="3528"/>
                  </a:lnTo>
                  <a:lnTo>
                    <a:pt x="5760" y="344"/>
                  </a:lnTo>
                  <a:lnTo>
                    <a:pt x="5728" y="350"/>
                  </a:lnTo>
                  <a:lnTo>
                    <a:pt x="5696" y="352"/>
                  </a:lnTo>
                  <a:lnTo>
                    <a:pt x="5670" y="350"/>
                  </a:lnTo>
                  <a:lnTo>
                    <a:pt x="5644" y="346"/>
                  </a:lnTo>
                  <a:lnTo>
                    <a:pt x="5620" y="340"/>
                  </a:lnTo>
                  <a:lnTo>
                    <a:pt x="5596" y="332"/>
                  </a:lnTo>
                  <a:lnTo>
                    <a:pt x="5574" y="322"/>
                  </a:lnTo>
                  <a:lnTo>
                    <a:pt x="5552" y="308"/>
                  </a:lnTo>
                  <a:lnTo>
                    <a:pt x="5534" y="294"/>
                  </a:lnTo>
                  <a:lnTo>
                    <a:pt x="5516" y="276"/>
                  </a:lnTo>
                  <a:lnTo>
                    <a:pt x="5498" y="258"/>
                  </a:lnTo>
                  <a:lnTo>
                    <a:pt x="5484" y="240"/>
                  </a:lnTo>
                  <a:lnTo>
                    <a:pt x="5470" y="218"/>
                  </a:lnTo>
                  <a:lnTo>
                    <a:pt x="5460" y="196"/>
                  </a:lnTo>
                  <a:lnTo>
                    <a:pt x="5452" y="172"/>
                  </a:lnTo>
                  <a:lnTo>
                    <a:pt x="5446" y="148"/>
                  </a:lnTo>
                  <a:lnTo>
                    <a:pt x="5442" y="122"/>
                  </a:lnTo>
                  <a:lnTo>
                    <a:pt x="5440" y="96"/>
                  </a:lnTo>
                  <a:lnTo>
                    <a:pt x="5442" y="64"/>
                  </a:lnTo>
                  <a:lnTo>
                    <a:pt x="5448" y="32"/>
                  </a:lnTo>
                  <a:lnTo>
                    <a:pt x="344" y="32"/>
                  </a:lnTo>
                  <a:lnTo>
                    <a:pt x="350" y="64"/>
                  </a:lnTo>
                  <a:lnTo>
                    <a:pt x="352" y="96"/>
                  </a:lnTo>
                  <a:lnTo>
                    <a:pt x="350" y="122"/>
                  </a:lnTo>
                  <a:lnTo>
                    <a:pt x="346" y="148"/>
                  </a:lnTo>
                  <a:lnTo>
                    <a:pt x="340" y="172"/>
                  </a:lnTo>
                  <a:lnTo>
                    <a:pt x="332" y="196"/>
                  </a:lnTo>
                  <a:lnTo>
                    <a:pt x="322" y="218"/>
                  </a:lnTo>
                  <a:lnTo>
                    <a:pt x="308" y="240"/>
                  </a:lnTo>
                  <a:lnTo>
                    <a:pt x="294" y="258"/>
                  </a:lnTo>
                  <a:lnTo>
                    <a:pt x="276" y="276"/>
                  </a:lnTo>
                  <a:lnTo>
                    <a:pt x="258" y="294"/>
                  </a:lnTo>
                  <a:lnTo>
                    <a:pt x="240" y="308"/>
                  </a:lnTo>
                  <a:lnTo>
                    <a:pt x="218" y="322"/>
                  </a:lnTo>
                  <a:lnTo>
                    <a:pt x="196" y="332"/>
                  </a:lnTo>
                  <a:lnTo>
                    <a:pt x="172" y="340"/>
                  </a:lnTo>
                  <a:lnTo>
                    <a:pt x="148" y="346"/>
                  </a:lnTo>
                  <a:lnTo>
                    <a:pt x="122" y="350"/>
                  </a:lnTo>
                  <a:lnTo>
                    <a:pt x="96" y="352"/>
                  </a:lnTo>
                  <a:lnTo>
                    <a:pt x="64" y="350"/>
                  </a:lnTo>
                  <a:lnTo>
                    <a:pt x="32" y="344"/>
                  </a:lnTo>
                  <a:lnTo>
                    <a:pt x="32" y="3528"/>
                  </a:lnTo>
                  <a:lnTo>
                    <a:pt x="64" y="3522"/>
                  </a:lnTo>
                  <a:lnTo>
                    <a:pt x="96" y="3520"/>
                  </a:lnTo>
                  <a:lnTo>
                    <a:pt x="122" y="3522"/>
                  </a:lnTo>
                  <a:lnTo>
                    <a:pt x="148" y="3526"/>
                  </a:lnTo>
                  <a:lnTo>
                    <a:pt x="172" y="3532"/>
                  </a:lnTo>
                  <a:lnTo>
                    <a:pt x="196" y="3540"/>
                  </a:lnTo>
                  <a:lnTo>
                    <a:pt x="218" y="3550"/>
                  </a:lnTo>
                  <a:lnTo>
                    <a:pt x="240" y="3564"/>
                  </a:lnTo>
                  <a:lnTo>
                    <a:pt x="258" y="3578"/>
                  </a:lnTo>
                  <a:lnTo>
                    <a:pt x="276" y="3596"/>
                  </a:lnTo>
                  <a:lnTo>
                    <a:pt x="294" y="3614"/>
                  </a:lnTo>
                  <a:lnTo>
                    <a:pt x="308" y="3632"/>
                  </a:lnTo>
                  <a:lnTo>
                    <a:pt x="322" y="3654"/>
                  </a:lnTo>
                  <a:lnTo>
                    <a:pt x="332" y="3676"/>
                  </a:lnTo>
                  <a:lnTo>
                    <a:pt x="340" y="3700"/>
                  </a:lnTo>
                  <a:lnTo>
                    <a:pt x="346" y="3724"/>
                  </a:lnTo>
                  <a:lnTo>
                    <a:pt x="350" y="3750"/>
                  </a:lnTo>
                  <a:lnTo>
                    <a:pt x="352" y="3776"/>
                  </a:lnTo>
                  <a:lnTo>
                    <a:pt x="350" y="3808"/>
                  </a:lnTo>
                  <a:lnTo>
                    <a:pt x="344" y="384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5" name="Прямоугольник 4"/>
          <p:cNvSpPr/>
          <p:nvPr/>
        </p:nvSpPr>
        <p:spPr>
          <a:xfrm>
            <a:off x="609480" y="1197000"/>
            <a:ext cx="79250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c1afe0"/>
                </a:solidFill>
                <a:latin typeface="Arial"/>
              </a:rPr>
              <a:t>Вопро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называется механическим движени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Назови основные характеристики механического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Что такое траектор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. Дай определение пу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5. Что называется скорость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1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" dur="2000"/>
                                        <p:tgtEl>
                                          <p:spTgt spid="1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2000"/>
                                        <p:tgtEl>
                                          <p:spTgt spid="1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" dur="2000"/>
                                        <p:tgtEl>
                                          <p:spTgt spid="1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ставь пропущенные сло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вномерное движение – движение, пр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тором тело за равные промежутки време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ходит равные пу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равномерное движение – движение, п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тором тело за равные промежутки времени проходит разные пу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8" name="Прямоугольник 3"/>
          <p:cNvSpPr/>
          <p:nvPr/>
        </p:nvSpPr>
        <p:spPr>
          <a:xfrm>
            <a:off x="3276720" y="2276640"/>
            <a:ext cx="1295280" cy="43164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Прямоугольник 4"/>
          <p:cNvSpPr/>
          <p:nvPr/>
        </p:nvSpPr>
        <p:spPr>
          <a:xfrm>
            <a:off x="2340000" y="2852640"/>
            <a:ext cx="1224000" cy="50508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Прямоугольник 5"/>
          <p:cNvSpPr/>
          <p:nvPr/>
        </p:nvSpPr>
        <p:spPr>
          <a:xfrm>
            <a:off x="3276720" y="4076640"/>
            <a:ext cx="1295280" cy="43200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Прямоугольник 6"/>
          <p:cNvSpPr/>
          <p:nvPr/>
        </p:nvSpPr>
        <p:spPr>
          <a:xfrm>
            <a:off x="2227320" y="4594320"/>
            <a:ext cx="1152360" cy="43164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1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518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518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2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519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1519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8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520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520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521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1521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Rectangle 29"/>
          <p:cNvSpPr/>
          <p:nvPr/>
        </p:nvSpPr>
        <p:spPr>
          <a:xfrm>
            <a:off x="-6480" y="-38160"/>
            <a:ext cx="9144000" cy="76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0720" y="3348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полни таблицу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24" name=""/>
          <p:cNvGraphicFramePr/>
          <p:nvPr/>
        </p:nvGraphicFramePr>
        <p:xfrm>
          <a:off x="1116000" y="2205000"/>
          <a:ext cx="6053040" cy="1886040"/>
        </p:xfrm>
        <a:graphic>
          <a:graphicData uri="http://schemas.openxmlformats.org/drawingml/2006/table">
            <a:tbl>
              <a:tblPr/>
              <a:tblGrid>
                <a:gridCol w="2901960"/>
                <a:gridCol w="3151080"/>
              </a:tblGrid>
              <a:tr h="57636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омерное 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авномерное 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5" name="TextBox 4"/>
          <p:cNvSpPr/>
          <p:nvPr/>
        </p:nvSpPr>
        <p:spPr>
          <a:xfrm>
            <a:off x="307080" y="4711680"/>
            <a:ext cx="898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щение на карусели,                   старт раке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ятник настенных часов,             движение самолета при посадк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ический спутник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Rectangle 22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6bbff"/>
                </a:solidFill>
                <a:latin typeface="Arial"/>
              </a:rPr>
              <a:t>Соедини стрелками понятия и обозначени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строту движения характеризует физическая величина …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ть, пройденный телом, обозначается…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я в пути обозначается……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9" name="Объект 6" descr=""/>
          <p:cNvPicPr/>
          <p:nvPr/>
        </p:nvPicPr>
        <p:blipFill>
          <a:blip r:embed="rId1"/>
          <a:stretch/>
        </p:blipFill>
        <p:spPr>
          <a:xfrm>
            <a:off x="4572000" y="1603440"/>
            <a:ext cx="41148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Из представленных выбери единицы измерения_x000b_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1" name="TextBox 1"/>
          <p:cNvSpPr/>
          <p:nvPr/>
        </p:nvSpPr>
        <p:spPr>
          <a:xfrm>
            <a:off x="408960" y="1341360"/>
            <a:ext cx="220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А) пу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TextBox 2"/>
          <p:cNvSpPr/>
          <p:nvPr/>
        </p:nvSpPr>
        <p:spPr>
          <a:xfrm>
            <a:off x="3074400" y="1341360"/>
            <a:ext cx="242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Б)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TextBox 3"/>
          <p:cNvSpPr/>
          <p:nvPr/>
        </p:nvSpPr>
        <p:spPr>
          <a:xfrm>
            <a:off x="5764680" y="1341360"/>
            <a:ext cx="335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) скор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TextBox 4"/>
          <p:cNvSpPr/>
          <p:nvPr/>
        </p:nvSpPr>
        <p:spPr>
          <a:xfrm>
            <a:off x="2275560" y="458136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кун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TextBox 5"/>
          <p:cNvSpPr/>
          <p:nvPr/>
        </p:nvSpPr>
        <p:spPr>
          <a:xfrm>
            <a:off x="5012280" y="49500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Box 6"/>
          <p:cNvSpPr/>
          <p:nvPr/>
        </p:nvSpPr>
        <p:spPr>
          <a:xfrm>
            <a:off x="2793960" y="573264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р в секун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TextBox 7"/>
          <p:cNvSpPr/>
          <p:nvPr/>
        </p:nvSpPr>
        <p:spPr>
          <a:xfrm>
            <a:off x="6018480" y="573264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TextBox 8"/>
          <p:cNvSpPr/>
          <p:nvPr/>
        </p:nvSpPr>
        <p:spPr>
          <a:xfrm>
            <a:off x="794880" y="59180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TextBox 9"/>
          <p:cNvSpPr/>
          <p:nvPr/>
        </p:nvSpPr>
        <p:spPr>
          <a:xfrm>
            <a:off x="7671960" y="57326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ло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TextBox 10"/>
          <p:cNvSpPr/>
          <p:nvPr/>
        </p:nvSpPr>
        <p:spPr>
          <a:xfrm>
            <a:off x="6955920" y="4581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лометр в 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75723E-006 L 0.00781 -0.53479 E">
                                      <p:cBhvr>
                                        <p:cTn id="89" dur="2000" fill="hold"/>
                                        <p:tgtEl>
                                          <p:spTgt spid="1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10405E-006 L -0.78177 -0.33086 E">
                                      <p:cBhvr>
                                        <p:cTn id="93" dur="2000" fill="hold"/>
                                        <p:tgtEl>
                                          <p:spTgt spid="1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4624E-006 L 0.17934 -0.32046 E">
                                      <p:cBhvr>
                                        <p:cTn id="97" dur="2000" fill="hold"/>
                                        <p:tgtEl>
                                          <p:spTgt spid="1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0405E-006 L 0.43594 -0.49872 E">
                                      <p:cBhvr>
                                        <p:cTn id="101" dur="2000" fill="hold"/>
                                        <p:tgtEl>
                                          <p:spTgt spid="1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04624E-006 L -0.02986 -0.20508 E">
                                      <p:cBhvr>
                                        <p:cTn id="105" dur="2000" fill="hold"/>
                                        <p:tgtEl>
                                          <p:spTgt spid="1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Заполни таблиц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43" name=""/>
          <p:cNvGraphicFramePr/>
          <p:nvPr/>
        </p:nvGraphicFramePr>
        <p:xfrm>
          <a:off x="1187280" y="2852640"/>
          <a:ext cx="6096240" cy="2027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изическая 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означение физической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рение физической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9:55:50Z</dcterms:created>
  <dc:creator>-</dc:creator>
  <dc:description/>
  <dc:language>en-US</dc:language>
  <cp:lastModifiedBy>Учитель</cp:lastModifiedBy>
  <dcterms:modified xsi:type="dcterms:W3CDTF">2023-11-13T22:22:20Z</dcterms:modified>
  <cp:revision>20</cp:revision>
  <dc:subject/>
  <dc:title>Слайд 1</dc:title>
</cp:coreProperties>
</file>