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50A-6654-4DD4-811B-9A0C5296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C96-D20E-49CB-B761-FF3BA474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410-F3D0-49C7-8D99-8894E031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340-702A-45A8-AB44-43AAFB44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163-2971-447A-A859-2510D1B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F5E-FA47-419C-A4F7-0536936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75B-08B3-4B38-B710-8D340A87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045-D444-49DB-A323-3418E29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17A-9046-4867-934D-0929159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E5C-9682-406C-BCCC-EC5EB18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BDB-7E27-46F5-ABFC-78366F8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279-200D-484A-9A54-66FD1F5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77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657-5607-4B4E-AAE2-5F6271929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978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 внеурочной деятельност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збука безопасност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4 классе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ажанова О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 в красной шапочке рас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реди корней осинов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ня узнаешь за верс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овусь 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ndex"/>
          <p:cNvPicPr/>
          <p:nvPr/>
        </p:nvPicPr>
        <p:blipFill>
          <a:blip r:embed="rId1"/>
          <a:stretch/>
        </p:blipFill>
        <p:spPr>
          <a:xfrm>
            <a:off x="5508720" y="2637000"/>
            <a:ext cx="2647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Красивый под осино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архатная шап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еренькая тап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осиновик так яр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овно праздничный подар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конечно, не напра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зывается он крас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454896"/>
          <p:cNvPicPr/>
          <p:nvPr/>
        </p:nvPicPr>
        <p:blipFill>
          <a:blip r:embed="rId1"/>
          <a:stretch/>
        </p:blipFill>
        <p:spPr>
          <a:xfrm>
            <a:off x="5292720" y="1197000"/>
            <a:ext cx="2990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опушках, просе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ёлочках и сосе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овно бы после дожд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Шляпки их всегда блестя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ost-30-13085600422957"/>
          <p:cNvPicPr/>
          <p:nvPr/>
        </p:nvPicPr>
        <p:blipFill>
          <a:blip r:embed="rId1"/>
          <a:stretch/>
        </p:blipFill>
        <p:spPr>
          <a:xfrm>
            <a:off x="5435640" y="3117960"/>
            <a:ext cx="3192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77df7"/>
                </a:solidFill>
                <a:latin typeface="Arial"/>
              </a:rPr>
              <a:t>Грибные пря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слёнок с пелёнок под ёлкой зелё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ричневой шляпкой укрылся от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ходит по лесу грибник удивлённы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а что так маслята не любят всех на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2987640" y="443700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т грибов дружней, чем эти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нают взрослые и дети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пеньках растут в лес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веснушки на н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90f298dbd1c718f919508d3a3ce58c6"/>
          <p:cNvPicPr/>
          <p:nvPr/>
        </p:nvPicPr>
        <p:blipFill>
          <a:blip r:embed="rId1"/>
          <a:stretch/>
        </p:blipFill>
        <p:spPr>
          <a:xfrm>
            <a:off x="4500720" y="3083040"/>
            <a:ext cx="35892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Опёно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пенок не любит расти в одиночку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 ним рядышком вместе - сыночек и д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дядя, и тетя, и бабка, и дед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 лучше спросите, кого же там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906154_normal"/>
          <p:cNvPicPr/>
          <p:nvPr/>
        </p:nvPicPr>
        <p:blipFill>
          <a:blip r:embed="rId1"/>
          <a:stretch/>
        </p:blipFill>
        <p:spPr>
          <a:xfrm>
            <a:off x="2987640" y="3357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ричневой шляпкой  приветствую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 скромный грибок безо всяких прикр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белой березкой нашел я при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кажите-ка, дети, меня как зов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erez"/>
          <p:cNvPicPr/>
          <p:nvPr/>
        </p:nvPicPr>
        <p:blipFill>
          <a:blip r:embed="rId1"/>
          <a:stretch/>
        </p:blipFill>
        <p:spPr>
          <a:xfrm>
            <a:off x="2987640" y="3860640"/>
            <a:ext cx="26748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Подберёзови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чтатель скромный. Роща - мне светё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берёзой мощной, под берёзкой тонк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листвой опавшей появляюсь час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кусный и душистый. Грибнику на счасть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лейкая головка серенького ц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 меня найдите! Я - подарок л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нга Пидеви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485"/>
          <p:cNvPicPr/>
          <p:nvPr/>
        </p:nvPicPr>
        <p:blipFill>
          <a:blip r:embed="rId1"/>
          <a:stretch/>
        </p:blipFill>
        <p:spPr>
          <a:xfrm>
            <a:off x="539640" y="4292640"/>
            <a:ext cx="29750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НЕ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 белой ножкой, в красной шап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реди елей и ос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семейством, как опя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 растет себе од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зверей лекарства сл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ыщи хоть луг, хоть 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найти, таится в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довитый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ushrooms12"/>
          <p:cNvPicPr/>
          <p:nvPr/>
        </p:nvPicPr>
        <p:blipFill>
          <a:blip r:embed="rId1"/>
          <a:stretch/>
        </p:blipFill>
        <p:spPr>
          <a:xfrm>
            <a:off x="6012000" y="2852640"/>
            <a:ext cx="2892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G:\рцдо 22-23\46c5b520af2ae3cbb64bf78fa425f5ea.pn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90789532_griby-1995g"/>
          <p:cNvPicPr/>
          <p:nvPr/>
        </p:nvPicPr>
        <p:blipFill>
          <a:blip r:embed="rId1"/>
          <a:srcRect l="0" t="0" r="8595" b="124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284720" y="4581360"/>
            <a:ext cx="4562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Лучше не трога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красненьком платоч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еленькие 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 Мухомора чудный ви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Жаль, что так он ядов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оловной его у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крашает тёмный 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005-5"/>
          <p:cNvPicPr/>
          <p:nvPr/>
        </p:nvPicPr>
        <p:blipFill>
          <a:blip r:embed="rId1"/>
          <a:stretch/>
        </p:blipFill>
        <p:spPr>
          <a:xfrm>
            <a:off x="6012000" y="2133720"/>
            <a:ext cx="2376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3befb"/>
                </a:solidFill>
                <a:latin typeface="Arial"/>
              </a:rPr>
              <a:t>Лесная апте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хомор – красивый гри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олько очень я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оси лишь его е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при этом говоря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Нет надёжнее миксту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ъел – и нет темп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ечит коклюш и бронх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ъел – и горло не боли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хомор – целебный гри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для нас не ядо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SC_5031"/>
          <p:cNvPicPr/>
          <p:nvPr/>
        </p:nvPicPr>
        <p:blipFill>
          <a:blip r:embed="rId1"/>
          <a:stretch/>
        </p:blipFill>
        <p:spPr>
          <a:xfrm>
            <a:off x="324000" y="1989000"/>
            <a:ext cx="4025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НЕ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кромный, тоненький и бледный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т гриб, представьте, вред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падёт грибочек в суп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ас в больницу увез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тому что ядовит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на всех вокруг сердит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ы оставим на полян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у вредную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eadlygrib_02"/>
          <p:cNvPicPr/>
          <p:nvPr/>
        </p:nvPicPr>
        <p:blipFill>
          <a:blip r:embed="rId1"/>
          <a:stretch/>
        </p:blipFill>
        <p:spPr>
          <a:xfrm>
            <a:off x="5508720" y="3340080"/>
            <a:ext cx="3328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77df7"/>
                </a:solidFill>
                <a:latin typeface="Arial"/>
              </a:rPr>
              <a:t>Бледная пог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полянке спозара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встречала я пога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Почему ты бледн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Потому что вредна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ганка блед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ганка ядовит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шелками вся увит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омкая и блед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 виду ты безвред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на деле – ведьма зл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ы в лицо тебя узнаем!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-Amanita-Phalloides"/>
          <p:cNvPicPr/>
          <p:nvPr/>
        </p:nvPicPr>
        <p:blipFill>
          <a:blip r:embed="rId1"/>
          <a:stretch/>
        </p:blipFill>
        <p:spPr>
          <a:xfrm>
            <a:off x="4356000" y="2060640"/>
            <a:ext cx="44751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Пословицы о гриб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рал гриб боровик, а в горсти всего бородав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к гриб белый, так всякий смелый, а как сморчок - тут и молч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велик боровик, да знат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летел пух с осины - иди за подосинов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осиной есть грибы - и красивы, и вкус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цвела сосна - зернистый масленок появи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сосенки сыплют пыльцой золотой, масленки вылезут дружной толп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ята - дружные ребя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явились опёнки - лето конч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де растут мухоморы, там и боровики поют х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хомор хоть и красен, но ядовит и опас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лоха поганка, да, знать, нуж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1242103844_207a61cb71d31bff58eacb791e6aefe329e458a4"/>
          <p:cNvPicPr/>
          <p:nvPr/>
        </p:nvPicPr>
        <p:blipFill>
          <a:blip r:embed="rId1"/>
          <a:stretch/>
        </p:blipFill>
        <p:spPr>
          <a:xfrm>
            <a:off x="4643280" y="3357720"/>
            <a:ext cx="4202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G:\5a9d19e8ab891ef37f2b60e635eea059.jpg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:\YtDSnzIf-558_1200x0_AybP2us9.jpg"/>
          <p:cNvPicPr/>
          <p:nvPr/>
        </p:nvPicPr>
        <p:blipFill>
          <a:blip r:embed="rId2"/>
          <a:stretch/>
        </p:blipFill>
        <p:spPr>
          <a:xfrm>
            <a:off x="457200" y="333360"/>
            <a:ext cx="829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G:\5r9ecdqkt4c.jpg"/>
          <p:cNvPicPr/>
          <p:nvPr/>
        </p:nvPicPr>
        <p:blipFill>
          <a:blip r:embed="rId2"/>
          <a:stretch/>
        </p:blipFill>
        <p:spPr>
          <a:xfrm>
            <a:off x="457200" y="260280"/>
            <a:ext cx="821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ассказа В.П.Катаева Гриб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Жене и Павлику приехала из города двоюродная сестра Инно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дети, — сказала мама, — нечего вам без дела сидеть. Идите в лес за гри­бами. Посмотрим, кто из вас лучше грибы собира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учше всех собираю, — сказал Павл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я лучше, — сказала Же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нночка промолчала. Она вообще любила помалки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али дети в лес и разошлись в разные сторо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час возвраща­ют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учше всех собрал! — кричит Павлик издали. — У ме­ня больше всех грибов, глядите: полное ведр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ла мама и улыбнулась: Неудивительно, что у тебя полное ведро: ни одного хорошего гриба. Одни только поганки. Неважно ты собираешь грибы, друг мой Павлик. 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а! — кричит Женя. — Я же гово­рила, что я лучше всех собираю! Глядите: у меня самые большие и самые красивые грибы — красные в белый горошек. Ни у кого нет таких красивых грибов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ела мама и засмеялас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пенькая, это же мухоморы. Они хоть и красивые, да никуда не годятся. Ими отравиться можно. В общем, ты тоже плохо собираешь грибы, Женеч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Инночка стоит в сторонке и помалки­ва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ы, Инночка, что молчишь? Пока­зывай, что насобир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совсем мало, — говорит Ин­ночка застенчи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лянула мама в Инночкин кузовок, а там десять превосходных грибов. Две прехорошенькие сыроежки, похожие на розовые цветочки; две лисички в жёлтых китайских шапочках; два двоюродных братца — подосиновик и подберёзовик; груздь, рыжик, волнушка. Да большой, крепкий, пузатый боровик в бархатном бе­рет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верх того ещё целое гнездо опят — удалых ребя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40388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елк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осинк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оит мальчик-с-пальч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 нем кафтанч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пка краснен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00720" y="198864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млю пробурав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решок остав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 на свет яв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почкой прикры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18"/>
          <p:cNvPicPr/>
          <p:nvPr/>
        </p:nvPicPr>
        <p:blipFill>
          <a:blip r:embed="rId1"/>
          <a:stretch/>
        </p:blipFill>
        <p:spPr>
          <a:xfrm>
            <a:off x="179280" y="260280"/>
            <a:ext cx="1727280" cy="150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russkiy-alfavit-v-kartinkah-bukva-g"/>
          <p:cNvPicPr/>
          <p:nvPr/>
        </p:nvPicPr>
        <p:blipFill>
          <a:blip r:embed="rId2"/>
          <a:stretch/>
        </p:blipFill>
        <p:spPr>
          <a:xfrm>
            <a:off x="2411280" y="260280"/>
            <a:ext cx="1608120" cy="152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_7b733_cfab5c9a_XL"/>
          <p:cNvPicPr/>
          <p:nvPr/>
        </p:nvPicPr>
        <p:blipFill>
          <a:blip r:embed="rId3"/>
          <a:stretch/>
        </p:blipFill>
        <p:spPr>
          <a:xfrm>
            <a:off x="3492360" y="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0_7b733_cfab5c9a_XL"/>
          <p:cNvPicPr/>
          <p:nvPr/>
        </p:nvPicPr>
        <p:blipFill>
          <a:blip r:embed="rId4"/>
          <a:stretch/>
        </p:blipFill>
        <p:spPr>
          <a:xfrm>
            <a:off x="6372360" y="189000"/>
            <a:ext cx="1865160" cy="186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5"/>
          <p:cNvPicPr/>
          <p:nvPr/>
        </p:nvPicPr>
        <p:blipFill>
          <a:blip r:embed="rId5"/>
          <a:stretch/>
        </p:blipFill>
        <p:spPr>
          <a:xfrm>
            <a:off x="4932360" y="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_5dc57_2df02ab8_L"/>
          <p:cNvPicPr/>
          <p:nvPr/>
        </p:nvPicPr>
        <p:blipFill>
          <a:blip r:embed="rId6"/>
          <a:stretch/>
        </p:blipFill>
        <p:spPr>
          <a:xfrm>
            <a:off x="1116000" y="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0_99da5_42a7ca2f_XL"/>
          <p:cNvPicPr/>
          <p:nvPr/>
        </p:nvPicPr>
        <p:blipFill>
          <a:blip r:embed="rId7"/>
          <a:stretch/>
        </p:blipFill>
        <p:spPr>
          <a:xfrm>
            <a:off x="7451640" y="-17136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76522435_large_84e790a3f6f4"/>
          <p:cNvPicPr/>
          <p:nvPr/>
        </p:nvPicPr>
        <p:blipFill>
          <a:blip r:embed="rId8"/>
          <a:stretch/>
        </p:blipFill>
        <p:spPr>
          <a:xfrm>
            <a:off x="2700360" y="422100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G:\bb307b9911dd7d66c53cbc6946be4f26-800x.jpg"/>
          <p:cNvPicPr/>
          <p:nvPr/>
        </p:nvPicPr>
        <p:blipFill>
          <a:blip r:embed="rId3"/>
          <a:stretch/>
        </p:blipFill>
        <p:spPr>
          <a:xfrm>
            <a:off x="324000" y="260280"/>
            <a:ext cx="835164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ЪЕДОБ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СЪЕДОБ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 rot="3024000">
            <a:off x="2296080" y="15278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 rot="18938400">
            <a:off x="5940000" y="1557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345787_83623nothumb500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28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foto_griby_021"/>
          <p:cNvPicPr/>
          <p:nvPr/>
        </p:nvPicPr>
        <p:blipFill>
          <a:blip r:embed="rId2"/>
          <a:stretch/>
        </p:blipFill>
        <p:spPr>
          <a:xfrm>
            <a:off x="5435640" y="3500280"/>
            <a:ext cx="3117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доль лесных дорож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ного белых нож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шляпках разноцветн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здали приме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обирай, не мешка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..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586b64f65d7"/>
          <p:cNvPicPr/>
          <p:nvPr/>
        </p:nvPicPr>
        <p:blipFill>
          <a:blip r:embed="rId1"/>
          <a:stretch/>
        </p:blipFill>
        <p:spPr>
          <a:xfrm>
            <a:off x="4932360" y="350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77df7"/>
                </a:solidFill>
                <a:latin typeface="Arial"/>
              </a:rPr>
              <a:t>Их сырыми не едя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 ножках-белосне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оснулись Сырое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Хоть сыро им немножк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о так приятно нож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шляпкам, очень хрупк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траве вполне уют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енриетта Ляхов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9337"/>
          <p:cNvPicPr/>
          <p:nvPr/>
        </p:nvPicPr>
        <p:blipFill>
          <a:blip r:embed="rId1"/>
          <a:stretch/>
        </p:blipFill>
        <p:spPr>
          <a:xfrm>
            <a:off x="5003640" y="2133720"/>
            <a:ext cx="38260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поляне лес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могучей сос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арый старич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нем бурый колпач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лпачок на боч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то в лесу быв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от его и зн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47632052_0_2792_9f8c0208_XL"/>
          <p:cNvPicPr/>
          <p:nvPr/>
        </p:nvPicPr>
        <p:blipFill>
          <a:blip r:embed="rId1"/>
          <a:stretch/>
        </p:blipFill>
        <p:spPr>
          <a:xfrm>
            <a:off x="4716360" y="1989000"/>
            <a:ext cx="422748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Боровик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Я сегодня так уста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Я грибов нашла нема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олько жалко, что п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 нашла боров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аже если невел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риб с названьем «боровик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ы ему ужасно рады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он к этому привы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нает, что ему люб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тдает поклон земн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70614640_6--2010-1-89115541166-"/>
          <p:cNvPicPr/>
          <p:nvPr/>
        </p:nvPicPr>
        <p:blipFill>
          <a:blip r:embed="rId1"/>
          <a:stretch/>
        </p:blipFill>
        <p:spPr>
          <a:xfrm>
            <a:off x="5219640" y="2467080"/>
            <a:ext cx="3578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:\рцдо 22-23\510322bab825a864f771b8009f273d89.pn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7:52Z</dcterms:created>
  <dc:creator>Customer</dc:creator>
  <dc:description/>
  <dc:language>en-US</dc:language>
  <cp:lastModifiedBy>Документы</cp:lastModifiedBy>
  <dcterms:modified xsi:type="dcterms:W3CDTF">2023-11-14T07:45:16Z</dcterms:modified>
  <cp:revision>26</cp:revision>
  <dc:subject/>
  <dc:title>Съедобные и несъедобные  грибы</dc:title>
</cp:coreProperties>
</file>