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1.jpeg" ContentType="image/jpeg"/>
  <Override PartName="/ppt/media/image35.jpeg" ContentType="image/jpeg"/>
  <Override PartName="/ppt/media/image30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3.jpeg" ContentType="image/jpeg"/>
  <Override PartName="/ppt/media/image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5.jpeg" ContentType="image/jpeg"/>
  <Override PartName="/ppt/media/image16.png" ContentType="image/pn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677C-A99D-4901-B48B-DBF165BDB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304F-0E31-4AD4-9F1E-464E1897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8EDC-9467-4F15-8156-00E296981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F5AB-491D-4F46-A415-198488EED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5B82-143E-4CC6-8924-20A8363E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F8A9-E92E-40A2-998A-BFB36B73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4DC6-A35C-4A8C-B1CB-5751BFBD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1646-A12E-499A-9B0E-35C6AC72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91E9-1485-44D8-85C0-1DB3F75C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BB4E-5075-4A3A-805B-CA6F4466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25C4-8E2A-41B1-9C85-AA099FCE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1996-C1C7-4AE1-874B-C02E0FCE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477d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03FC-33FC-42BB-92B7-7E63BBE74F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1413000"/>
            <a:ext cx="8497800" cy="21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нятие по  внеурочной деятельности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Азбука безопасности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4 классе»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Бажанова О. 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77df7"/>
                </a:solidFill>
                <a:latin typeface="Arial"/>
              </a:rPr>
              <a:t>СЪЕДОБНЫЕ ГРИ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Я в красной шапочке рас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реди корней осиновы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Меня узнаешь за верст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Зовусь я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index"/>
          <p:cNvPicPr/>
          <p:nvPr/>
        </p:nvPicPr>
        <p:blipFill>
          <a:blip r:embed="rId1"/>
          <a:stretch/>
        </p:blipFill>
        <p:spPr>
          <a:xfrm>
            <a:off x="5508720" y="2637000"/>
            <a:ext cx="264780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77df7"/>
                </a:solidFill>
                <a:latin typeface="Arial"/>
              </a:rPr>
              <a:t>Красивый под осиной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Бархатная шапоч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еренькая тапоч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одосиновик так яро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ловно праздничный подаро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И конечно, не напрас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Называется он красны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454896"/>
          <p:cNvPicPr/>
          <p:nvPr/>
        </p:nvPicPr>
        <p:blipFill>
          <a:blip r:embed="rId1"/>
          <a:stretch/>
        </p:blipFill>
        <p:spPr>
          <a:xfrm>
            <a:off x="5292720" y="1197000"/>
            <a:ext cx="299088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77df7"/>
                </a:solidFill>
                <a:latin typeface="Arial"/>
              </a:rPr>
              <a:t>СЪЕДОБНЫЕ ГРИ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На опушках, просека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 ёлочках и сосенка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ловно бы после дожд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Шляпки их всегда блестя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post-30-13085600422957"/>
          <p:cNvPicPr/>
          <p:nvPr/>
        </p:nvPicPr>
        <p:blipFill>
          <a:blip r:embed="rId1"/>
          <a:stretch/>
        </p:blipFill>
        <p:spPr>
          <a:xfrm>
            <a:off x="5435640" y="3117960"/>
            <a:ext cx="3192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477df7"/>
                </a:solidFill>
                <a:latin typeface="Arial"/>
              </a:rPr>
              <a:t>Грибные прят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Маслёнок с пелёнок под ёлкой зелё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Коричневой шляпкой укрылся от глаз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И ходит по лесу грибник удивлённы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- За что так маслята не любят всех нас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2"/>
          <p:cNvPicPr/>
          <p:nvPr/>
        </p:nvPicPr>
        <p:blipFill>
          <a:blip r:embed="rId1"/>
          <a:stretch/>
        </p:blipFill>
        <p:spPr>
          <a:xfrm>
            <a:off x="2987640" y="4437000"/>
            <a:ext cx="259236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77df7"/>
                </a:solidFill>
                <a:latin typeface="Arial"/>
              </a:rPr>
              <a:t>СЪЕДОБНЫЕ ГРИ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ет грибов дружней, чем эти,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Знают взрослые и дети,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а пеньках растут в лес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ак веснушки на нос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090f298dbd1c718f919508d3a3ce58c6"/>
          <p:cNvPicPr/>
          <p:nvPr/>
        </p:nvPicPr>
        <p:blipFill>
          <a:blip r:embed="rId1"/>
          <a:stretch/>
        </p:blipFill>
        <p:spPr>
          <a:xfrm>
            <a:off x="4500720" y="3083040"/>
            <a:ext cx="358920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77df7"/>
                </a:solidFill>
                <a:latin typeface="Arial"/>
              </a:rPr>
              <a:t>Опёнок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пенок не любит расти в одиночку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 ним рядышком вместе - сыночек и доч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И дядя, и тетя, и бабка, и дед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ы лучше спросите, кого же там не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906154_normal"/>
          <p:cNvPicPr/>
          <p:nvPr/>
        </p:nvPicPr>
        <p:blipFill>
          <a:blip r:embed="rId1"/>
          <a:stretch/>
        </p:blipFill>
        <p:spPr>
          <a:xfrm>
            <a:off x="2987640" y="335772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77df7"/>
                </a:solidFill>
                <a:latin typeface="Arial"/>
              </a:rPr>
              <a:t>СЪЕДОБНЫЕ ГРИ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Коричневой шляпкой  приветствую в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Я скромный грибок безо всяких прикр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од белой березкой нашел я при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кажите-ка, дети, меня как зову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berez"/>
          <p:cNvPicPr/>
          <p:nvPr/>
        </p:nvPicPr>
        <p:blipFill>
          <a:blip r:embed="rId1"/>
          <a:stretch/>
        </p:blipFill>
        <p:spPr>
          <a:xfrm>
            <a:off x="2987640" y="3860640"/>
            <a:ext cx="2674800" cy="26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77df7"/>
                </a:solidFill>
                <a:latin typeface="Arial"/>
              </a:rPr>
              <a:t>Подберёзовик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6868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Я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мечтатель скромный. Роща - мне светёл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од берёзой мощной, под берёзкой тонко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од листвой опавшей появляюсь част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кусный и душистый. Грибнику на счастье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Клейкая головка серенького цве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ы меня найдите! Я - подарок ле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Инга Пидевич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8485"/>
          <p:cNvPicPr/>
          <p:nvPr/>
        </p:nvPicPr>
        <p:blipFill>
          <a:blip r:embed="rId1"/>
          <a:stretch/>
        </p:blipFill>
        <p:spPr>
          <a:xfrm>
            <a:off x="539640" y="4292640"/>
            <a:ext cx="2975040" cy="23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77df7"/>
                </a:solidFill>
                <a:latin typeface="Arial"/>
              </a:rPr>
              <a:t>НЕСЪЕДОБНЫЕ ГРИ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 белой ножкой, в красной шап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реди елей и осин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Не семейством, как опят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А растет себе оди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Для зверей лекарства слащ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быщи хоть луг, хоть б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Не найти, таится в чащ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Ядовитый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mushrooms12"/>
          <p:cNvPicPr/>
          <p:nvPr/>
        </p:nvPicPr>
        <p:blipFill>
          <a:blip r:embed="rId1"/>
          <a:stretch/>
        </p:blipFill>
        <p:spPr>
          <a:xfrm>
            <a:off x="6012000" y="2852640"/>
            <a:ext cx="28922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G:\рцдо 22-23\46c5b520af2ae3cbb64bf78fa425f5ea.png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1290789532_griby-1995g"/>
          <p:cNvPicPr/>
          <p:nvPr/>
        </p:nvPicPr>
        <p:blipFill>
          <a:blip r:embed="rId1"/>
          <a:srcRect l="0" t="0" r="8595" b="124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4284720" y="4581360"/>
            <a:ext cx="45622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77df7"/>
                </a:solidFill>
                <a:latin typeface="Arial"/>
              </a:rPr>
              <a:t>Лучше не трогай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На красненьком платоч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Беленькие точ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У Мухомора чудный ви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Жаль, что так он ядови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Головной его уб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украшает тёмный б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005-5"/>
          <p:cNvPicPr/>
          <p:nvPr/>
        </p:nvPicPr>
        <p:blipFill>
          <a:blip r:embed="rId1"/>
          <a:stretch/>
        </p:blipFill>
        <p:spPr>
          <a:xfrm>
            <a:off x="6012000" y="2133720"/>
            <a:ext cx="2376360" cy="21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a3befb"/>
                </a:solidFill>
                <a:latin typeface="Arial"/>
              </a:rPr>
              <a:t>Лесная аптека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Мухомор – красивый гриб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Только очень яд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Лоси лишь его едя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И при этом говоря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- Нет надёжнее микстур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ъел – и нет температу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Лечит коклюш и бронхи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ъел – и горло не болит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Мухомор – целебный гриб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Он для нас не ядов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DSC_5031"/>
          <p:cNvPicPr/>
          <p:nvPr/>
        </p:nvPicPr>
        <p:blipFill>
          <a:blip r:embed="rId1"/>
          <a:stretch/>
        </p:blipFill>
        <p:spPr>
          <a:xfrm>
            <a:off x="324000" y="1989000"/>
            <a:ext cx="402588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77df7"/>
                </a:solidFill>
                <a:latin typeface="Arial"/>
              </a:rPr>
              <a:t>НЕСЪЕДОБНЫЕ ГРИ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кромный, тоненький и бледный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Этот гриб, представьте, вредны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опадёт грибочек в суп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ас в больницу увезу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отому что ядовиты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И на всех вокруг сердиты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Мы оставим на полян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Эту вредную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deadlygrib_02"/>
          <p:cNvPicPr/>
          <p:nvPr/>
        </p:nvPicPr>
        <p:blipFill>
          <a:blip r:embed="rId1"/>
          <a:stretch/>
        </p:blipFill>
        <p:spPr>
          <a:xfrm>
            <a:off x="5508720" y="3340080"/>
            <a:ext cx="332892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477df7"/>
                </a:solidFill>
                <a:latin typeface="Arial"/>
              </a:rPr>
              <a:t>Бледная пога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а полянке спозаран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овстречала я поган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-Почему ты бледна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-Потому что вредная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оганка блед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оганка ядовита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шелками вся увита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ломкая и бледна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 виду ты безвредна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 на деле – ведьма зла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Мы в лицо тебя узнаем!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007-Amanita-Phalloides"/>
          <p:cNvPicPr/>
          <p:nvPr/>
        </p:nvPicPr>
        <p:blipFill>
          <a:blip r:embed="rId1"/>
          <a:stretch/>
        </p:blipFill>
        <p:spPr>
          <a:xfrm>
            <a:off x="4356000" y="2060640"/>
            <a:ext cx="447516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77df7"/>
                </a:solidFill>
                <a:latin typeface="Arial"/>
              </a:rPr>
              <a:t>Пословицы о гриб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Брал гриб боровик, а в горсти всего бородав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ак гриб белый, так всякий смелый, а как сморчок - тут и молч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евелик боровик, да знат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летел пух с осины - иди за подосиновик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д осиной есть грибы - и красивы, и вкус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Зацвела сосна - зернистый масленок появил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Если сосенки сыплют пыльцой золотой, масленки вылезут дружной толп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пята - дружные ребя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явились опёнки - лето кончилос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Где растут мухоморы, там и боровики поют хо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Мухомор хоть и красен, но ядовит и опас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лоха поганка, да, знать, нуж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1242103844_207a61cb71d31bff58eacb791e6aefe329e458a4"/>
          <p:cNvPicPr/>
          <p:nvPr/>
        </p:nvPicPr>
        <p:blipFill>
          <a:blip r:embed="rId1"/>
          <a:stretch/>
        </p:blipFill>
        <p:spPr>
          <a:xfrm>
            <a:off x="4643280" y="3357720"/>
            <a:ext cx="420228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G:\5a9d19e8ab891ef37f2b60e635eea059.jpg"/>
          <p:cNvPicPr/>
          <p:nvPr/>
        </p:nvPicPr>
        <p:blipFill>
          <a:blip r:embed="rId2"/>
          <a:stretch/>
        </p:blipFill>
        <p:spPr>
          <a:xfrm>
            <a:off x="324000" y="260280"/>
            <a:ext cx="864072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G:\YtDSnzIf-558_1200x0_AybP2us9.jpg"/>
          <p:cNvPicPr/>
          <p:nvPr/>
        </p:nvPicPr>
        <p:blipFill>
          <a:blip r:embed="rId2"/>
          <a:stretch/>
        </p:blipFill>
        <p:spPr>
          <a:xfrm>
            <a:off x="457200" y="333360"/>
            <a:ext cx="82915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G:\5r9ecdqkt4c.jpg"/>
          <p:cNvPicPr/>
          <p:nvPr/>
        </p:nvPicPr>
        <p:blipFill>
          <a:blip r:embed="rId2"/>
          <a:stretch/>
        </p:blipFill>
        <p:spPr>
          <a:xfrm>
            <a:off x="457200" y="260280"/>
            <a:ext cx="82184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рассказа В.П.Катаева Грибы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Жене и Павлику приехала из города двоюродная сестра Инночк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, дети, — сказала мама, — нечего вам без дела сидеть. Идите в лес за гри­бами. Посмотрим, кто из вас лучше грибы собирает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лучше всех собираю, — сказал Павлик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, я лучше, — сказала Жен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Инночка промолчала. Она вообще любила помалкивать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ежали дети в лес и разошлись в разные сторон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час возвраща­ютс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лучше всех собрал! — кричит Павлик издали. — У ме­ня больше всех грибов, глядите: полное ведро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ела мама и улыбнулась: Неудивительно, что у тебя полное ведро: ни одного хорошего гриба. Одни только поганки. Неважно ты собираешь грибы, друг мой Павлик. </a:t>
            </a:r>
            <a:br>
              <a:rPr sz="1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га! — кричит Женя. — Я же гово­рила, что я лучше всех собираю! Глядите: у меня самые большие и самые красивые грибы — красные в белый горошек. Ни у кого нет таких красивых грибов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мотрела мама и засмеялась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упенькая, это же мухоморы. Они хоть и красивые, да никуда не годятся. Ими отравиться можно. В общем, ты тоже плохо собираешь грибы, Женечк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Инночка стоит в сторонке и помалки­вает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ты, Инночка, что молчишь? Пока­зывай, что насобирал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меня совсем мало, — говорит Ин­ночка застенчиво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глянула мама в Инночкин кузовок, а там десять превосходных грибов. Две прехорошенькие сыроежки, похожие на розовые цветочки; две лисички в жёлтых китайских шапочках; два двоюродных братца — подосиновик и подберёзовик; груздь, рыжик, волнушка. Да большой, крепкий, пузатый боровик в бархатном бе­рет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сверх того ещё целое гнездо опят — удалых ребя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403884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д елкою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од осинко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тоит мальчик-с-пальчи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а нем кафтанчи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Шапка краснень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00720" y="1988640"/>
            <a:ext cx="403848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Землю пробурави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орешок остави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ам на свет явил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Шапочкой прикры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18"/>
          <p:cNvPicPr/>
          <p:nvPr/>
        </p:nvPicPr>
        <p:blipFill>
          <a:blip r:embed="rId1"/>
          <a:stretch/>
        </p:blipFill>
        <p:spPr>
          <a:xfrm>
            <a:off x="179280" y="260280"/>
            <a:ext cx="1727280" cy="1506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russkiy-alfavit-v-kartinkah-bukva-g"/>
          <p:cNvPicPr/>
          <p:nvPr/>
        </p:nvPicPr>
        <p:blipFill>
          <a:blip r:embed="rId2"/>
          <a:stretch/>
        </p:blipFill>
        <p:spPr>
          <a:xfrm>
            <a:off x="2411280" y="260280"/>
            <a:ext cx="1608120" cy="1522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0_7b733_cfab5c9a_XL"/>
          <p:cNvPicPr/>
          <p:nvPr/>
        </p:nvPicPr>
        <p:blipFill>
          <a:blip r:embed="rId3"/>
          <a:stretch/>
        </p:blipFill>
        <p:spPr>
          <a:xfrm>
            <a:off x="3492360" y="0"/>
            <a:ext cx="2154240" cy="2154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0_7b733_cfab5c9a_XL"/>
          <p:cNvPicPr/>
          <p:nvPr/>
        </p:nvPicPr>
        <p:blipFill>
          <a:blip r:embed="rId4"/>
          <a:stretch/>
        </p:blipFill>
        <p:spPr>
          <a:xfrm>
            <a:off x="6372360" y="189000"/>
            <a:ext cx="1865160" cy="1865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5"/>
          <p:cNvPicPr/>
          <p:nvPr/>
        </p:nvPicPr>
        <p:blipFill>
          <a:blip r:embed="rId5"/>
          <a:stretch/>
        </p:blipFill>
        <p:spPr>
          <a:xfrm>
            <a:off x="4932360" y="0"/>
            <a:ext cx="1692360" cy="1692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0_5dc57_2df02ab8_L"/>
          <p:cNvPicPr/>
          <p:nvPr/>
        </p:nvPicPr>
        <p:blipFill>
          <a:blip r:embed="rId6"/>
          <a:stretch/>
        </p:blipFill>
        <p:spPr>
          <a:xfrm>
            <a:off x="1116000" y="0"/>
            <a:ext cx="1882800" cy="1882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0_99da5_42a7ca2f_XL"/>
          <p:cNvPicPr/>
          <p:nvPr/>
        </p:nvPicPr>
        <p:blipFill>
          <a:blip r:embed="rId7"/>
          <a:stretch/>
        </p:blipFill>
        <p:spPr>
          <a:xfrm>
            <a:off x="7451640" y="-171360"/>
            <a:ext cx="2017800" cy="2017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5" descr="76522435_large_84e790a3f6f4"/>
          <p:cNvPicPr/>
          <p:nvPr/>
        </p:nvPicPr>
        <p:blipFill>
          <a:blip r:embed="rId8"/>
          <a:stretch/>
        </p:blipFill>
        <p:spPr>
          <a:xfrm>
            <a:off x="2700360" y="4221000"/>
            <a:ext cx="327672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G:\bb307b9911dd7d66c53cbc6946be4f26-800x.jpg"/>
          <p:cNvPicPr/>
          <p:nvPr/>
        </p:nvPicPr>
        <p:blipFill>
          <a:blip r:embed="rId3"/>
          <a:stretch/>
        </p:blipFill>
        <p:spPr>
          <a:xfrm>
            <a:off x="324000" y="260280"/>
            <a:ext cx="8351640" cy="60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77df7"/>
                </a:solidFill>
                <a:latin typeface="Arial"/>
              </a:rPr>
              <a:t>ГРИ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СЪЕДОБ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НЕСЪЕДОБ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8"/>
          <p:cNvSpPr/>
          <p:nvPr/>
        </p:nvSpPr>
        <p:spPr>
          <a:xfrm rot="3024000">
            <a:off x="2296080" y="15278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 rot="18938400">
            <a:off x="5940000" y="15570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1" descr="345787_83623nothumb500"/>
          <p:cNvPicPr/>
          <p:nvPr/>
        </p:nvPicPr>
        <p:blipFill>
          <a:blip r:embed="rId1"/>
          <a:stretch/>
        </p:blipFill>
        <p:spPr>
          <a:xfrm>
            <a:off x="395280" y="3500280"/>
            <a:ext cx="3313080" cy="2287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foto_griby_021"/>
          <p:cNvPicPr/>
          <p:nvPr/>
        </p:nvPicPr>
        <p:blipFill>
          <a:blip r:embed="rId2"/>
          <a:stretch/>
        </p:blipFill>
        <p:spPr>
          <a:xfrm>
            <a:off x="5435640" y="3500280"/>
            <a:ext cx="311796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77df7"/>
                </a:solidFill>
                <a:latin typeface="Arial"/>
              </a:rPr>
              <a:t>СЪЕДОБНЫЕ ГРИ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доль лесных дороже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Много белых ноже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 шляпках разноцветны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Издали примет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обирай, не мешкай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Это ..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4586b64f65d7"/>
          <p:cNvPicPr/>
          <p:nvPr/>
        </p:nvPicPr>
        <p:blipFill>
          <a:blip r:embed="rId1"/>
          <a:stretch/>
        </p:blipFill>
        <p:spPr>
          <a:xfrm>
            <a:off x="4932360" y="3500280"/>
            <a:ext cx="35528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477df7"/>
                </a:solidFill>
                <a:latin typeface="Arial"/>
              </a:rPr>
              <a:t>Их сырыми не едят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На ножках-белоснежка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проснулись Сыроеж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Хоть сыро им немножк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но так приятно ножка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и шляпкам, очень хрупки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 траве вполне уютно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Генриетта Ляховиц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9337"/>
          <p:cNvPicPr/>
          <p:nvPr/>
        </p:nvPicPr>
        <p:blipFill>
          <a:blip r:embed="rId1"/>
          <a:stretch/>
        </p:blipFill>
        <p:spPr>
          <a:xfrm>
            <a:off x="5003640" y="2133720"/>
            <a:ext cx="382608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77df7"/>
                </a:solidFill>
                <a:latin typeface="Arial"/>
              </a:rPr>
              <a:t>СЪЕДОБНЫЕ ГРИ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На поляне лесно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од могучей сос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тарый старичо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На нем бурый колпачо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Колпачок на бочо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Кто в лесу быва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Тот его и зна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47632052_0_2792_9f8c0208_XL"/>
          <p:cNvPicPr/>
          <p:nvPr/>
        </p:nvPicPr>
        <p:blipFill>
          <a:blip r:embed="rId1"/>
          <a:stretch/>
        </p:blipFill>
        <p:spPr>
          <a:xfrm>
            <a:off x="4716360" y="1989000"/>
            <a:ext cx="4227480" cy="31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77df7"/>
                </a:solidFill>
                <a:latin typeface="Arial"/>
              </a:rPr>
              <a:t>Боровик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Я сегодня так устал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Я грибов нашла немал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Только жалко, что по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Не нашла боров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Даже если невел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Гриб с названьем «боровик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Мы ему ужасно рады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И он к этому привык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Знает, что ему люб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Отдает поклон земной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70614640_6--2010-1-89115541166-"/>
          <p:cNvPicPr/>
          <p:nvPr/>
        </p:nvPicPr>
        <p:blipFill>
          <a:blip r:embed="rId1"/>
          <a:stretch/>
        </p:blipFill>
        <p:spPr>
          <a:xfrm>
            <a:off x="5219640" y="2467080"/>
            <a:ext cx="35784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G:\рцдо 22-23\510322bab825a864f771b8009f273d89.pn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0T09:47:52Z</dcterms:created>
  <dc:creator>Customer</dc:creator>
  <dc:description/>
  <dc:language>en-US</dc:language>
  <cp:lastModifiedBy>Документы</cp:lastModifiedBy>
  <dcterms:modified xsi:type="dcterms:W3CDTF">2023-11-14T07:45:16Z</dcterms:modified>
  <cp:revision>26</cp:revision>
  <dc:subject/>
  <dc:title>Съедобные и несъедобные  грибы</dc:title>
</cp:coreProperties>
</file>