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A63-043A-4166-9B05-41E9A6B2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33E-67C4-4DC9-901F-AFBC9A4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34D-14E8-49C0-B01C-550F596B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2EC-CE23-4AC1-B4A9-8F560D1D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24C-8D9B-4E30-803D-D7C0E6F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589-6E3E-427A-8008-7F5D8FC8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6A8-53C7-4E7E-A6CA-10B298D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889-8794-4297-8F37-31B7EEF3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2AE-E6FC-4507-9998-B26F889E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404-7C48-40CE-9D5C-8FA6976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3B2-FBE1-4F47-8D56-E858C88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366-78E6-43F7-A2F0-4181311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6DF-FC8E-4102-9C82-86C552DB0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1"/>
          <p:cNvPicPr/>
          <p:nvPr/>
        </p:nvPicPr>
        <p:blipFill>
          <a:blip r:embed="rId1"/>
          <a:stretch/>
        </p:blipFill>
        <p:spPr>
          <a:xfrm>
            <a:off x="657360" y="1762200"/>
            <a:ext cx="7829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5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"/>
          <p:cNvPicPr/>
          <p:nvPr/>
        </p:nvPicPr>
        <p:blipFill>
          <a:blip r:embed="rId1"/>
          <a:stretch/>
        </p:blipFill>
        <p:spPr>
          <a:xfrm>
            <a:off x="152280" y="438120"/>
            <a:ext cx="8686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" y="836640"/>
            <a:ext cx="8686800" cy="37530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— единая биологическ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минутно, ежесекундно в нас рождаются и умирают миллиарды клеток, они постоянно обновл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эти процессы абсолютно невозможны без кислорода, воды и водород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организм живет и правильно функционирует только в слабощелочной среде. pН главной жидкости организма — крови — 7,43 (+/- 0,02). Этот показатель одинаков для всех людей на Земл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водородный показатель организма, он регулятор всех систем и органов, ведущая константа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62120" y="533520"/>
            <a:ext cx="7619760" cy="20142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кров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pH Вашей крови поддерживается организмом в узком диапазоне7.35-7.45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pH крови должен всегда оставаться на безопасном уровне, поэтому организм использует вышеупомянутые органы и ткани для его под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80880" y="2160"/>
            <a:ext cx="7467840" cy="558036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поче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вень pH почек влияют как вода и пища, так и метаболические процессы в организ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тная еда (например мясные продукты, молочные продукты и др.) и напитки (сладкие газированные напитки, алкогольные напитки, кофе и пр.) приводят к низкому уровню pH в почках, потому что организм выводит излишнюю кислотность через мо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ниже уровень pH мочи, тем тяжелее приходится работать почкам. Поэтому кислотная нагрузка, приходящаяся от такой еды и напитков на почки, называется потенциальной кислотно-почечной нагрузк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а, приносимая почкам водой, — повышение уровня pH мочи, что снизит кислотную нагрузку, от которой почкам надо будет изба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pH мочи повышает pH организма и избавляет почки от кислотных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93960"/>
            <a:ext cx="8458200" cy="47574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желуд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устом желудке содержится не больше чайной ложки желудочной кислоты, выработанной в последний прием пищи. Желудок производит кислоту тогда, когда это ну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ок не выделяет кислоту, когда Вы пьете вод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е полезное — пить воду на пустой желудок, — pH, таким образом, увеличивается до уровня 5-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ный pH будет иметь мягкий антацидный эффект и приведет к увеличению количества полезных пробиотиков (благотворных бактер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pH желудка повышает pH организма, что ведет к здоровому пищеварению и освобождает от симптомов расстройства желуд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365040"/>
            <a:ext cx="8399520" cy="146556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 подкожного жи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овые ткани организма имеют кислотный pH, так как в них откладываются излишние кислоты. Организму приходится хранить кислоту в жировых тканях, когда она не может быть выведена или нейтрализована другими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861200"/>
            <a:ext cx="8950320" cy="311148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Н ко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стей щелочной pH, так как они в основном состоят из кальция. Их pH постоянен, но если кровь нуждается в регулировке pH, кальций забирается из кост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 печен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ечени слабощелочной pH, на уровень которого оказывают влияние и пища, и напитки. Сахар и алкоголь должны быть расщеплены в печени, а это приводит к излишкам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981080" y="304920"/>
            <a:ext cx="5486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52280" y="947160"/>
            <a:ext cx="8790120" cy="33858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есть 6 щелочных минералов, которые регулируют среду и могут удержать кислоро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a, K, Mg, Ca, Fe,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емые человеком жидкости должны иметь слабощелочную реакцию и находиться в пределах от 7,5 до 8,5, что является физиологичным для организма человека, поскольку указанный рН позволяет лучше сохранять кислотно-щелочное равновесие жидкостей организм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 - это кислотно-щелочное равновесие водных с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akonova</cp:lastModifiedBy>
  <dcterms:modified xsi:type="dcterms:W3CDTF">2021-05-17T07:24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