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2890-0D9B-4B91-8BCC-D50D0D4E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138-4FDE-48CF-9A28-D51C3B44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BF3F-620C-44D5-BFF4-771509BE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CEE-AD9B-4FD2-88CA-766DA5285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09E-0F13-4EE0-A000-054213A0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53E-6C75-4415-B48D-C2CED224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8D2-905A-436D-B6CE-7D6C5DBE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EE1-B01B-4CF8-AA33-E1747C91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B8E-32D2-4975-8836-6818A4AD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99FC-4C74-4FA5-A275-CE371D4D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16CF-B8C5-4349-B005-2119FBD9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1E40-4581-474A-968F-4AA1D5F6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CA35-E7EA-46D9-9D7A-BA1140387B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1"/>
          <p:cNvPicPr/>
          <p:nvPr/>
        </p:nvPicPr>
        <p:blipFill>
          <a:blip r:embed="rId1"/>
          <a:stretch/>
        </p:blipFill>
        <p:spPr>
          <a:xfrm>
            <a:off x="657360" y="1762200"/>
            <a:ext cx="78292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5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6"/>
          <p:cNvPicPr/>
          <p:nvPr/>
        </p:nvPicPr>
        <p:blipFill>
          <a:blip r:embed="rId1"/>
          <a:stretch/>
        </p:blipFill>
        <p:spPr>
          <a:xfrm>
            <a:off x="152280" y="438120"/>
            <a:ext cx="8686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228600" y="836640"/>
            <a:ext cx="8686800" cy="3753000"/>
          </a:xfrm>
          <a:prstGeom prst="rect">
            <a:avLst/>
          </a:prstGeom>
          <a:solidFill>
            <a:srgbClr val="f1f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— единая биологическая систе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минутно, ежесекундно в нас рождаются и умирают миллиарды клеток, они постоянно обновляю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эти процессы абсолютно невозможны без кислорода, воды и водород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ш организм живет и правильно функционирует только в слабощелочной среде. pН главной жидкости организма — крови — 7,43 (+/- 0,02). Этот показатель одинаков для всех людей на Земл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водородный показатель организма, он регулятор всех систем и органов, ведущая константа жиз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762120" y="533520"/>
            <a:ext cx="7619760" cy="2014200"/>
          </a:xfrm>
          <a:prstGeom prst="rect">
            <a:avLst/>
          </a:prstGeom>
          <a:solidFill>
            <a:srgbClr val="f1f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Hкров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pH Вашей крови поддерживается организмом в узком диапазоне7.35-7.45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pH крови должен всегда оставаться на безопасном уровне, поэтому организм использует вышеупомянутые органы и ткани для его поддерж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380880" y="2160"/>
            <a:ext cx="7467840" cy="5580360"/>
          </a:xfrm>
          <a:prstGeom prst="rect">
            <a:avLst/>
          </a:prstGeom>
          <a:solidFill>
            <a:srgbClr val="f1f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Hпочек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вень pH почек влияют как вода и пища, так и метаболические процессы в организ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тная еда (например мясные продукты, молочные продукты и др.) и напитки (сладкие газированные напитки, алкогольные напитки, кофе и пр.) приводят к низкому уровню pH в почках, потому что организм выводит излишнюю кислотность через мо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ниже уровень pH мочи, тем тяжелее приходится работать почкам. Поэтому кислотная нагрузка, приходящаяся от такой еды и напитков на почки, называется потенциальной кислотно-почечной нагрузк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а, приносимая почкам водой, — повышение уровня pH мочи, что снизит кислотную нагрузку, от которой почкам надо будет избав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е pH мочи повышает pH организма и избавляет почки от кислотных токс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304920" y="93960"/>
            <a:ext cx="8458200" cy="4757400"/>
          </a:xfrm>
          <a:prstGeom prst="rect">
            <a:avLst/>
          </a:prstGeom>
          <a:solidFill>
            <a:srgbClr val="f1f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Hжелудк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устом желудке содержится не больше чайной ложки желудочной кислоты, выработанной в последний прием пищи. Желудок производит кислоту тогда, когда это ну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удок не выделяет кислоту, когда Вы пьете вод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е полезное — пить воду на пустой желудок, — pH, таким образом, увеличивается до уровня 5-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ный pH будет иметь мягкий антацидный эффект и приведет к увеличению количества полезных пробиотиков (благотворных бактер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е pH желудка повышает pH организма, что ведет к здоровому пищеварению и освобождает от симптомов расстройства желудк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04920" y="365040"/>
            <a:ext cx="8399520" cy="1465560"/>
          </a:xfrm>
          <a:prstGeom prst="rect">
            <a:avLst/>
          </a:prstGeom>
          <a:solidFill>
            <a:srgbClr val="f1f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H подкожного жир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ровые ткани организма имеют кислотный pH, так как в них откладываются излишние кислоты. Организму приходится хранить кислоту в жировых тканях, когда она не может быть выведена или нейтрализована другими способ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04920" y="1861200"/>
            <a:ext cx="8950320" cy="3111480"/>
          </a:xfrm>
          <a:prstGeom prst="rect">
            <a:avLst/>
          </a:prstGeom>
          <a:solidFill>
            <a:srgbClr val="f1f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Н кост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костей щелочной pH, так как они в основном состоят из кальция. Их pH постоянен, но если кровь нуждается в регулировке pH, кальций забирается из кост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H печен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печени слабощелочной pH, на уровень которого оказывают влияние и пища, и напитки. Сахар и алкоголь должны быть расщеплены в печени, а это приводит к излишкам кисл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2"/>
          <p:cNvPicPr/>
          <p:nvPr/>
        </p:nvPicPr>
        <p:blipFill>
          <a:blip r:embed="rId1"/>
          <a:stretch/>
        </p:blipFill>
        <p:spPr>
          <a:xfrm>
            <a:off x="1981080" y="304920"/>
            <a:ext cx="54864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52280" y="947160"/>
            <a:ext cx="8790120" cy="3385800"/>
          </a:xfrm>
          <a:prstGeom prst="rect">
            <a:avLst/>
          </a:prstGeom>
          <a:solidFill>
            <a:srgbClr val="f1f9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роде есть 6 щелочных минералов, которые регулируют среду и могут удержать кислород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a, K, Mg, Ca, Fe, 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отребляемые человеком жидкости должны иметь слабощелочную реакцию и находиться в пределах от 7,5 до 8,5, что является физиологичным для организма человека, поскольку указанный рН позволяет лучше сохранять кислотно-щелочное равновесие жидкостей организм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Н - это кислотно-щелочное равновесие водных ср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3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yakonova</cp:lastModifiedBy>
  <dcterms:modified xsi:type="dcterms:W3CDTF">2021-05-17T07:24:1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