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D55-400F-41B4-903B-1CBD27DB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816-46DE-42F0-BFB6-11BDFCDC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831-F839-40E6-919F-7BC4BF16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F66-9E97-4CB3-9D91-2EDC723B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300-0639-491F-9D8D-3AB48149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FE2-D122-4F81-AECF-71BA1589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FF3-2906-4639-870B-47EF9E43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D35-22EB-4309-9621-678233FF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922-93F4-4851-969C-818FB34D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069-ADCC-4334-8994-7D8841A8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44F-F9FA-4911-B7E6-840BC27B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BEB-E648-455B-B30E-3CCB1A5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360880-98E8-4C7E-89A5-879E9A42E571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6520" y="-148680"/>
            <a:ext cx="2977200" cy="2839680"/>
            <a:chOff x="6896520" y="-148680"/>
            <a:chExt cx="2977200" cy="283968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6520" y="-148680"/>
              <a:ext cx="2977200" cy="2839680"/>
              <a:chOff x="6896520" y="-148680"/>
              <a:chExt cx="2977200" cy="283968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6520" y="-148680"/>
                <a:ext cx="2977200" cy="2839680"/>
                <a:chOff x="6896520" y="-148680"/>
                <a:chExt cx="2977200" cy="283968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8160" y="-25920"/>
                  <a:ext cx="348840" cy="225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937280" y="644040"/>
                  <a:ext cx="613080" cy="7905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40200" y="414000"/>
                  <a:ext cx="1151280" cy="162072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20760" y="58320"/>
                  <a:ext cx="1728360" cy="24253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410320" y="1856160"/>
                  <a:ext cx="385200" cy="21996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90080" y="1655640"/>
                  <a:ext cx="412560" cy="2595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803720" y="298080"/>
                  <a:ext cx="412920" cy="26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38920" y="140040"/>
                  <a:ext cx="407880" cy="2487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708280"/>
            <a:ext cx="871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емы по формированию смыслового чтения на коррекционных занятиях с детьми ОВЗ (начальная школа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           Педагог-психолог МБОУ ООШ №22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              Шаньгина Светлана Александ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25920"/>
            <a:ext cx="813744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Пиктограммы»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Развитие словесно-логического и наглядно-образного мышления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.Развитие умения воспринимать текст на слух                                                                                               3. Развитие творческого воображения                                                                                                               4. Развитие зрительной и слуховой памяти                                                                                                        5. Развитие навыка пересказа текста                                                                                                                  6. Развитие связной реч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 обучающиеся, слушая текст, условно зарисовывают смысл каждого предложения с помощью пиктограмм. Затем пересказывают с опорой на пиктограммы.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2421000"/>
            <a:ext cx="7661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mic Sans MS"/>
              </a:rPr>
              <a:t>     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Опорные слова»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Развитие зрительного внимания                                                                                                                     2. Умение воспринимать и видеть фразу, текст целостно и понимать смысл прочитанного.                                                                                                                                3. Развитие навыка пересказа текста                                                                                                                      4. Развитие связной реч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 при чтении подчеркиваются опорные (ключевые) слова для лучшего запоминания и смыслового понимания содержание текста, выписываются, затем по этим ключевым словам как можно точнее пересказывается содержание текс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2741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Пересказ по кругу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Развитие словесно-логического мышления                                           2.Развитие словесной памяти                                                                                         3.Развитие навыка пересказа текста                                                                                                 4.Развитие умения работать в групп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 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читается текст два раза, учащиеся по очереди пересказывают по одному предложению. Затем ещё раз читается текст, учащиеся исправляют ошибки, если они были, или дополняют его, если было что-то упущено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3573000"/>
            <a:ext cx="76327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Приём восстановления текста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 Развитие словесно-логического мышления                          (анализ и синтез текста)                                                                               2.Отработка и автоматизация навыка чтения                                                                                                                  3.Развитие умения работать в группе                                                                                                            4.Умение понимать смысл прочитанного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 обучающимся предлагается прочитать части разрезанного текста и коллективно восстановить его последовательность. Затем результат работы сравнивают с образц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4941360"/>
            <a:ext cx="694044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Цыплят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ила курочка с цыплятами по двору. Вдруг пошел дождь. Курочка скорей на землю присела, все перышки растопырила и заквохтала. Это значит: прячьтесь скорей. И все цыплята залезли к ней под крылышки. Кто совсем спрятался, у кого только лапки видны, у кого головка торчит, у кого клюв выглядывает. Не страшен дождь цыплятам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2491920"/>
            <a:ext cx="73454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риём «Найди ошибку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Определение смысловой структуры текста, связи смысловых частей текста.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.Умение понимать смысл прочитанного.                                                                                                                  3. Развитие слуховой памя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 читаются предложения с  речевыми ошибками, учащимся необходимо их найти и исправи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9:24:02Z</dcterms:created>
  <dc:creator>Alex</dc:creator>
  <dc:description/>
  <dc:language>en-US</dc:language>
  <cp:lastModifiedBy>Пользователь</cp:lastModifiedBy>
  <dcterms:modified xsi:type="dcterms:W3CDTF">2023-11-01T15:34:26Z</dcterms:modified>
  <cp:revision>126</cp:revision>
  <dc:subject/>
  <dc:title>Слайд 1</dc:title>
</cp:coreProperties>
</file>