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550-5F40-439F-B5D6-FEE4D1FB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883-5EB0-4913-A07F-EE1506C4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E71-CC83-4F24-9C7B-5EF90346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620-4FD5-40DA-9E25-A8087486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CC2-8886-4E22-B05F-C47675D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92B-9F47-4023-9F82-45EC81C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55F-EC09-4BE8-9775-5FE4DE36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ED3-99EE-449D-A23A-588007DB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C1E-6811-47E9-8FF8-0DDED87E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49D-43CC-4579-B090-2A8DD3FE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96FE-0F6E-440D-892C-F5BB2D15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AC6-5555-4A3B-B527-AC96DC8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8318AE-7913-4427-ACB3-17AEFAEC5489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Freeform 8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9" name="Freeform 10"/>
            <p:cNvSpPr/>
            <p:nvPr/>
          </p:nvSpPr>
          <p:spPr>
            <a:xfrm>
              <a:off x="38160" y="5563800"/>
              <a:ext cx="1728720" cy="10285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622520" y="5686200"/>
              <a:ext cx="112680" cy="2041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31680" y="5990400"/>
              <a:ext cx="1257480" cy="6498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04840" y="6044040"/>
              <a:ext cx="833400" cy="5925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770040" y="5606640"/>
              <a:ext cx="214200" cy="19188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017720" y="6607080"/>
              <a:ext cx="120600" cy="1774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0280" y="5725800"/>
              <a:ext cx="306360" cy="60696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1060560" y="5698800"/>
              <a:ext cx="577800" cy="27540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550800" y="5861880"/>
              <a:ext cx="247680" cy="10620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grpSp>
          <p:nvGrpSpPr>
            <p:cNvPr id="18" name="Group 19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19" name="Group 20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20" name="Freeform 21"/>
                <p:cNvSpPr/>
                <p:nvPr/>
              </p:nvSpPr>
              <p:spPr>
                <a:xfrm>
                  <a:off x="792000" y="5693760"/>
                  <a:ext cx="248760" cy="13716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2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3"/>
                <p:cNvSpPr/>
                <p:nvPr/>
              </p:nvSpPr>
              <p:spPr>
                <a:xfrm>
                  <a:off x="1592280" y="5654160"/>
                  <a:ext cx="68040" cy="18504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4"/>
              <p:cNvSpPr/>
              <p:nvPr/>
            </p:nvSpPr>
            <p:spPr>
              <a:xfrm>
                <a:off x="120600" y="5923800"/>
                <a:ext cx="944640" cy="396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2920" y="6167880"/>
                <a:ext cx="387360" cy="2347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896760" y="5841360"/>
                <a:ext cx="169920" cy="37692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26" name="Group 27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27" name="Freeform 28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29"/>
                <p:cNvSpPr/>
                <p:nvPr/>
              </p:nvSpPr>
              <p:spPr>
                <a:xfrm>
                  <a:off x="7920" y="5916600"/>
                  <a:ext cx="1335240" cy="69624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0"/>
                <p:cNvSpPr/>
                <p:nvPr/>
              </p:nvSpPr>
              <p:spPr>
                <a:xfrm>
                  <a:off x="167760" y="5983200"/>
                  <a:ext cx="126720" cy="26388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712080" y="5540400"/>
                  <a:ext cx="51048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916560" y="5793120"/>
                  <a:ext cx="151920" cy="3988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519840" y="5761440"/>
                  <a:ext cx="309240" cy="213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6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36" name="Freeform 37"/>
            <p:cNvSpPr/>
            <p:nvPr/>
          </p:nvSpPr>
          <p:spPr>
            <a:xfrm flipH="1">
              <a:off x="8680320" y="4158360"/>
              <a:ext cx="324000" cy="226440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 flipH="1">
              <a:off x="8740440" y="2116080"/>
              <a:ext cx="324000" cy="25912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grpSp>
        <p:nvGrpSpPr>
          <p:cNvPr id="38" name="Group 39"/>
          <p:cNvGrpSpPr/>
          <p:nvPr/>
        </p:nvGrpSpPr>
        <p:grpSpPr>
          <a:xfrm>
            <a:off x="6896520" y="-148680"/>
            <a:ext cx="2977200" cy="2839680"/>
            <a:chOff x="6896520" y="-148680"/>
            <a:chExt cx="2977200" cy="2839680"/>
          </a:xfrm>
        </p:grpSpPr>
        <p:grpSp>
          <p:nvGrpSpPr>
            <p:cNvPr id="39" name="Group 40"/>
            <p:cNvGrpSpPr/>
            <p:nvPr/>
          </p:nvGrpSpPr>
          <p:grpSpPr>
            <a:xfrm>
              <a:off x="6896520" y="-148680"/>
              <a:ext cx="2977200" cy="2839680"/>
              <a:chOff x="6896520" y="-148680"/>
              <a:chExt cx="2977200" cy="2839680"/>
            </a:xfrm>
          </p:grpSpPr>
          <p:sp>
            <p:nvSpPr>
              <p:cNvPr id="40" name="Freeform 41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grpSp>
            <p:nvGrpSpPr>
              <p:cNvPr id="41" name="Group 42"/>
              <p:cNvGrpSpPr/>
              <p:nvPr/>
            </p:nvGrpSpPr>
            <p:grpSpPr>
              <a:xfrm>
                <a:off x="6896520" y="-148680"/>
                <a:ext cx="2977200" cy="2839680"/>
                <a:chOff x="6896520" y="-148680"/>
                <a:chExt cx="2977200" cy="2839680"/>
              </a:xfrm>
            </p:grpSpPr>
            <p:sp>
              <p:nvSpPr>
                <p:cNvPr id="42" name="Freeform 43"/>
                <p:cNvSpPr/>
                <p:nvPr/>
              </p:nvSpPr>
              <p:spPr>
                <a:xfrm rot="18420000">
                  <a:off x="7778160" y="-25920"/>
                  <a:ext cx="348840" cy="225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 rot="18420000">
                  <a:off x="7937280" y="644040"/>
                  <a:ext cx="613080" cy="7905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5"/>
                <p:cNvSpPr/>
                <p:nvPr/>
              </p:nvSpPr>
              <p:spPr>
                <a:xfrm rot="18420000">
                  <a:off x="7540200" y="414000"/>
                  <a:ext cx="1151280" cy="16207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6"/>
                <p:cNvSpPr/>
                <p:nvPr/>
              </p:nvSpPr>
              <p:spPr>
                <a:xfrm rot="18420000">
                  <a:off x="7520760" y="58320"/>
                  <a:ext cx="1728360" cy="242532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 rot="18420000">
                  <a:off x="8410320" y="1856160"/>
                  <a:ext cx="385200" cy="21996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8"/>
                <p:cNvSpPr/>
                <p:nvPr/>
              </p:nvSpPr>
              <p:spPr>
                <a:xfrm rot="18420000">
                  <a:off x="8290080" y="1655640"/>
                  <a:ext cx="412560" cy="2595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49"/>
                <p:cNvSpPr/>
                <p:nvPr/>
              </p:nvSpPr>
              <p:spPr>
                <a:xfrm rot="18420000">
                  <a:off x="7803720" y="298080"/>
                  <a:ext cx="412920" cy="26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 rot="18420000">
                  <a:off x="7738920" y="140040"/>
                  <a:ext cx="407880" cy="2487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2708280"/>
            <a:ext cx="87138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Приемы по формированию смыслового чтения на коррекционных занятиях с детьми ОВЗ (начальная школа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     Педагог-психолог МБОУ ООШ №22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                Шаньгина Светлана Александров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25920"/>
            <a:ext cx="8137440" cy="58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mic Sans MS"/>
              </a:rPr>
              <a:t>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Пиктограммы»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Развитие словесно-логического и наглядно-образного мышления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.Развитие умения воспринимать текст на слух                                                                                               3. Развитие творческого воображения                                                                                                               4. Развитие зрительной и слуховой памяти                                                                                                        5. Развитие навыка пересказа текста                                                                                                                  6. Развитие связной реч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обучающиеся, слушая текст, условно зарисовывают смысл каждого предложения с помощью пиктограмм. Затем пересказывают с опорой на пиктограммы.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76611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Comic Sans MS"/>
              </a:rPr>
              <a:t> 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Опорные слова»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Развитие зрительного внимания                                                                                                                     2. Умение воспринимать и видеть фразу, текст целостно и понимать смысл прочитанного.                                                                                                                                3. Развитие навыка пересказа текста                                                                                                                      4. Развитие связной речи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при чтении подчеркиваются опорные (ключевые) слова для лучшего запоминания и смыслового понимания содержание текста, выписываются, затем по этим ключевым словам как можно точнее пересказывается содержание текст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2741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Пересказ по кругу»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Развитие словесно-логического мышления                                           2.Развитие словесной памяти                                                                                         3.Развитие навыка пересказа текста                                                                                                 4.Развитие умения работать в групп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 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читается текст два раза, учащиеся по очереди пересказывают по одному предложению. Затем ещё раз читается текст, учащиеся исправляют ошибки, если они были, или дополняют его, если было что-то упущено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3573000"/>
            <a:ext cx="76327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«Приём восстановления текста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 Развитие словесно-логического мышления                          (анализ и синтез текста)                                                                               2.Отработка и автоматизация навыка чтения                                                                                                                  3.Развитие умения работать в группе                                                                                                            4.Умение понимать смысл прочитанного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обучающимся предлагается прочитать части разрезанного текста и коллективно восстановить его последовательность. Затем результат работы сравнивают с образцо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4941360"/>
            <a:ext cx="694044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Цыплята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ила курочка с цыплятами по двору. Вдруг пошел дождь. Курочка скорей на землю присела, все перышки растопырила и заквохтала. Это значит: прячьтесь скорей. И все цыплята залезли к ней под крылышки. Кто совсем спрятался, у кого только лапки видны, у кого головка торчит, у кого клюв выглядывает. Не страшен дождь цыплятам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2491920"/>
            <a:ext cx="734544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риём «Найди ошибку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.Определение смысловой структуры текста, связи смысловых частей текста.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.Умение понимать смысл прочитанного.                                                                                                                  3. Развитие слуховой памяти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Ход работы: читаются предложения с  речевыми ошибками, учащимся необходимо их найти и исправи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9:24:02Z</dcterms:created>
  <dc:creator>Alex</dc:creator>
  <dc:description/>
  <dc:language>en-US</dc:language>
  <cp:lastModifiedBy>Пользователь</cp:lastModifiedBy>
  <dcterms:modified xsi:type="dcterms:W3CDTF">2023-11-01T15:34:26Z</dcterms:modified>
  <cp:revision>126</cp:revision>
  <dc:subject/>
  <dc:title>Слайд 1</dc:title>
</cp:coreProperties>
</file>