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8A3-4DFF-413D-9854-37928414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54DB-ACAB-408F-945D-77F9D2DF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437F-56A0-44FB-8213-25107F82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1690-B2EE-437A-A624-5B9EBC91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333F-F96F-4098-8DE7-72A05D69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FC6C-3278-4A45-ABE5-7BA55248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17B3-672E-4B12-BBCD-77913329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5B89-6F13-47DD-8BA3-F210FBB1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A07C-4EC9-452C-A0E6-DAD06B21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88CF-8CC1-4AB7-9A73-11202CDB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7F43-3632-489B-AB88-0B3A9545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D821-052C-4D38-8494-20B95EBE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2C8C-E7F3-49D3-AE4F-1653C2401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Урок-соревн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03280" y="1700280"/>
            <a:ext cx="6193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Знатоки"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-1065240" y="4745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«Лидерские гонки»(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да или нет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1.В русском языке 6 падеж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2.Суффикс – это часть слова перед кор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3.Основа – часть слова без оконч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4.Диалог – речь двух или нескольких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5.На зиму пингвины улетают на сев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6.В русском слове не может быть более трех суффиксов, и двух оконч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7.В этом году Г. Муратбаеву исполнится 9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8.Матрешка – это игрушка казахского на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9.Древние времена казахи жили в коттедж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10.Русская масленица славится с бли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«Разми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1.Главная значимая часть однокоренных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2.Изменяемая часть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3.Назовите стили литератур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4.Назовите 3 волшебные сл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5.Словарный состав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6.Часть речи которая обозначает признак пред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7.Раздел русского языка, изучающий правила написания слов.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8.Раздел науки о языке, изучающий звуки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«Разми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1.Часть слова без оконч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2.Значимая часть слова перед корн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3.Назовите 3 волшебных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4.Типы текс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5.Часть речи, которая обозначает действие предмета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Часть речи, которая обозначает количество, число, порядок, предметов при сч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7.Типы словосочет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8.Часть речи, которая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обозначает признак предм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«Дополни пословиц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Больше думай -  … гово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Будет зима - будет и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Не мудрено начать, мудрено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Ученье – свет, неученье – …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Неверный друг– опасный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Смелый там найдет, где робкий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«Дополни пословиц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Уж лучше умный враг, чем …дур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Слово - серебро, … - золо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Лес и вода, брат и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На добрый привет– добрый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Лучшая вещь новая, лучший друг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Не спеши языком, …. Дел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Отгадайте загад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На дворе горой, а в избе во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Без рук, без ног, а рисовать уме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Прозрачен как стекл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А не вставить в ок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Что всегда идет, а с места не сойд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Льется речка мы- лежи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Лед на крыше мы беж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Отгадайте загад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Летом серый, зимой бел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Белый камень растая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На доске следы оста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Сами не видят, а видеть помог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Без рук, без ног, под окном стучится – в дом прос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Падают с ветки золотые моне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«Мозговая ата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Какое русское слово состоит из трех слогов, а указывает на тридцать три бук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Какую ноту кладут в суп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Каким ключом нельзя отвернуть гайк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В каких лесах нельзя заблудить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Из какого крана нельзя брать вод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Какой лук не кладут в суп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Из каких ноготков нельзя собрать бук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Какие две ноты растут в о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Название какой птицы состоит из сорока 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Как написать слова 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ласточка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 и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 кисточка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 тремя буква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«Лидерские гонки»(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да или нет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1.В русском алфавите 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33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бук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2.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Приставка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в слове стоит после кор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3.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Окончание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– это изменяемая часть сл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4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.Монолог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– речь одного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5.Самый короткий месяц 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м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6. В русском слове не может быть более трех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 приставок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и трех 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кор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7.В нашем городе есть стадион по имени 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Г.Муратбаева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8.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КВН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– это спортивная иг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9.Русские строят 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избы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из деревянных сруб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10. Для приготовления </a:t>
            </a:r>
            <a:r>
              <a:rPr b="0" i="1" lang="ru-RU" sz="2000" spc="-1" strike="noStrike">
                <a:solidFill>
                  <a:srgbClr val="660066"/>
                </a:solidFill>
                <a:latin typeface="Arial"/>
              </a:rPr>
              <a:t>«Наурыз коже»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понадобятся 8 ингреди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09:10:37Z</dcterms:created>
  <dc:creator>mektep</dc:creator>
  <dc:description/>
  <dc:language>en-US</dc:language>
  <cp:lastModifiedBy>Admin</cp:lastModifiedBy>
  <dcterms:modified xsi:type="dcterms:W3CDTF">2012-04-06T12:03:50Z</dcterms:modified>
  <cp:revision>9</cp:revision>
  <dc:subject/>
  <dc:title>Знатоки </dc:title>
</cp:coreProperties>
</file>