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A42-F8CF-47C0-A51E-CA4DAD85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AA2-E869-42F4-AB42-EBA23526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DB8-D0BA-4A1C-BAD6-363B736E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7A5-1F7C-48C6-9BC8-982054D9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023-3CAA-4621-90C8-3C19CDDF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5E9-6CD8-46B4-8D89-261FCC1A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EA8-D994-4AA5-8651-B3E75172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DEB-C941-4C29-A2D1-15489101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BB3-8262-4B14-8E25-7D1A5B5B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4C1-659F-4F60-8FE8-EB021AF5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782-99BE-48B5-B91C-2D936B1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CAB-2FF9-4BAD-A192-09FB72E4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CD2C-C131-4DD7-9668-C2750EFBE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Урок-сорев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03280" y="1700280"/>
            <a:ext cx="619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Знатоки"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-106524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«Лидерские гонки»(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да или нет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1.В русском языке 6 паде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2.Суффикс – это часть слова перед кор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3.Основа – часть слова без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4.Диалог – речь двух или нескольких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5.На зиму пингвины улетают на сев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6.В русском слове не может быть более трех суффиксов, и двух оконч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7.В этом году Г. Муратбаеву исполнится 9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8.Матрешка – это игрушка казахск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9.Древние времена казахи жили в коттед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10.Русская масленица славится с бл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«Разм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1.Главная значимая часть однокорен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2.Изменяемая часть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3.Назовите стили литератур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.Назовите 3 волшебные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5.Словарный состав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6.Часть речи которая обозначает признак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7.Раздел русского языка, изучающий правила написания слов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8.Раздел науки о языке, изучающий звук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«Разм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Часть слова без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.Значимая часть слова перед кор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.Назовите 3 волшебных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.Типы тек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.Часть речи, которая обозначает действие предмета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Часть речи, которая обозначает количество, число, порядок, предметов при сч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7.Типы словосочет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8.Часть речи, которая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обозначает признак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«Дополни пословиц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Больше думай -  … гово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Будет зима - будет и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е мудрено начать, мудрено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Ученье – свет, неученье –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еверный друг– опасный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мелый там найдет, где робкий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«Дополни пословиц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Уж лучше умный враг, чем …дур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лово - серебро, … - золо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с и вода, брат и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а добрый привет– добрый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учшая вещь новая, лучший друг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е спеши языком, …. Дел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тгадайте загад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На дворе горой, а в избе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Без рук, без ног, а рисовать уме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Прозрачен как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 не вставить в ок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Что всегда идет, а с места не сой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ьется речка мы- леж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ед на крыше мы беж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тгадайте загад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етом серый, зимой бел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Белый камень раста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На доске следы оста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Сами не видят, а видеть помог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Без рук, без ног, под окном стучится – в дом прос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Падают с ветки золотые мон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«Мозговая ата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ое русское слово состоит из трех слогов, а указывает на тридцать три бук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ую ноту кладут в суп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им ключом нельзя отвернуть гай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В каких лесах нельзя заблудит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Из какого крана нельзя брать во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ой лук не кладут в суп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Из каких ноготков нельзя собрать бук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ие две ноты растут в о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Название какой птицы состоит из сорока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 написать слова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ласточка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и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кисточка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тремя букв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«Лидерские гонки»(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да или нет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1.В русском алфавите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33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Приставка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в слове стоит после кор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Окончание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это изменяемая часть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4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.Монолог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речь одн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5.Самый короткий месяц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м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6. В русском слове не может быть более трех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 приставок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и трех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кор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7.В нашем городе есть стадион по имени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Г.Муратбаева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8.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КВН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– это спортивная 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9.Русские строят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избы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из деревянных сру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10. Для приготовления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«Наурыз коже»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понадобятся 8 ингреди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9:10:37Z</dcterms:created>
  <dc:creator>mektep</dc:creator>
  <dc:description/>
  <dc:language>en-US</dc:language>
  <cp:lastModifiedBy>Admin</cp:lastModifiedBy>
  <dcterms:modified xsi:type="dcterms:W3CDTF">2012-04-06T12:03:50Z</dcterms:modified>
  <cp:revision>9</cp:revision>
  <dc:subject/>
  <dc:title>Знатоки </dc:title>
</cp:coreProperties>
</file>