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575C-B79D-4D71-843C-D69ADD309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06F6-D561-41E5-A886-589777DE6D64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A1A1-82FB-4A51-9C68-44596802EBBC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2C81-98BF-4065-A363-E77757E8E7E6}" type="slidenum">
              <a:rPr b="0" lang="en-US" sz="12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7777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777777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777777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28600" y="3794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к русского языка в 5 классе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52280" y="914400"/>
          <a:ext cx="8839440" cy="5746680"/>
        </p:xfrm>
        <a:graphic>
          <a:graphicData uri="http://schemas.openxmlformats.org/drawingml/2006/table">
            <a:tbl>
              <a:tblPr/>
              <a:tblGrid>
                <a:gridCol w="1629000"/>
                <a:gridCol w="1301760"/>
                <a:gridCol w="2279520"/>
                <a:gridCol w="1628640"/>
                <a:gridCol w="2000520"/>
              </a:tblGrid>
              <a:tr h="63972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Времена глагола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476f8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Когда происходит действие?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476f8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Вопросы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476f8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Вид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476f8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Морфологические признаки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476f8"/>
                    </a:solidFill>
                  </a:tcPr>
                </a:tc>
              </a:tr>
              <a:tr h="222768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Прошедшее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476f8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До момента речи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6fc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Что делал?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Что делали?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Что сделал?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Что сделали? 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6fc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Несовершенный вид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Совершенный вид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6fc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Род, число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6fc"/>
                    </a:solidFill>
                  </a:tcPr>
                </a:tc>
              </a:tr>
              <a:tr h="74808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Настоящее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476f8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В момент речи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e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Что делаю? 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Что делаем?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e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Несовершенный вид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 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e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Лицо и число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fe"/>
                    </a:solidFill>
                  </a:tcPr>
                </a:tc>
              </a:tr>
              <a:tr h="2131560"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Будущее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476f8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После момента речи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6fc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что сделаем?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что сделаете?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что будешь делать?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что будем делать? 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6fc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Совершенный вид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 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 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 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 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 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Несовершенный вид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6fc"/>
                    </a:solidFill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777777"/>
                          </a:solidFill>
                          <a:latin typeface="Microsoft Sans Serif"/>
                        </a:rPr>
                        <a:t>Лицо и число</a:t>
                      </a:r>
                      <a:endParaRPr b="0" lang="en-US" sz="1400" spc="-1" strike="noStrike">
                        <a:solidFill>
                          <a:srgbClr val="777777"/>
                        </a:solidFill>
                        <a:latin typeface="Arial"/>
                      </a:endParaRPr>
                    </a:p>
                  </a:txBody>
                  <a:tcPr anchor="ctr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6f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152280" y="1371600"/>
            <a:ext cx="861084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20a28"/>
                </a:solidFill>
                <a:latin typeface="Times New Roman"/>
                <a:ea typeface="Calibri"/>
              </a:rPr>
              <a:t>Застучала за окошком звонкая капель, потеплел воздух, потемнел и осел снег. Умчались зимние дни. В лесу все дышит весной. Вот-вот выбросят первые цветки-сережки деревья, прилетят грачи, поплывут по реке первые льдинки, шальные весенние ручьи наполнят лес звонким журчанием. 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20a28"/>
                </a:solidFill>
                <a:latin typeface="Times New Roman"/>
                <a:ea typeface="Calibri"/>
              </a:rPr>
              <a:t>(«Юный натуралист»)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20a28"/>
                </a:solidFill>
                <a:latin typeface="Times New Roman"/>
                <a:ea typeface="Calibri"/>
              </a:rPr>
              <a:t> 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88394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лгоритм определения времени глагола</a:t>
            </a:r>
            <a:endParaRPr b="0" lang="en-US" sz="36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560" y="20574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Чтобы определить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ремя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глагола, нужно:</a:t>
            </a:r>
            <a:endParaRPr b="0" lang="en-US" sz="2400" spc="-1" strike="noStrike">
              <a:solidFill>
                <a:srgbClr val="777777"/>
              </a:solidFill>
              <a:latin typeface="Microsoft Sans Serif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. Поставить к слову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прос.</a:t>
            </a:r>
            <a:endParaRPr b="0" lang="en-US" sz="2400" spc="-1" strike="noStrike">
              <a:solidFill>
                <a:srgbClr val="777777"/>
              </a:solidFill>
              <a:latin typeface="Microsoft Sans Serif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. Подумать, когда происходит действие.</a:t>
            </a:r>
            <a:endParaRPr b="0" lang="en-US" sz="2400" spc="-1" strike="noStrike">
              <a:solidFill>
                <a:srgbClr val="777777"/>
              </a:solidFill>
              <a:latin typeface="Microsoft Sans Serif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 Если действие происходит в момент речи (сейчас) и глагол отвечает на вопрос что делает?, то это форма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настоящего времени.</a:t>
            </a:r>
            <a:endParaRPr b="0" lang="en-US" sz="2400" spc="-1" strike="noStrike">
              <a:solidFill>
                <a:srgbClr val="777777"/>
              </a:solidFill>
              <a:latin typeface="Microsoft Sans Serif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4. Если действие произойдет после момента речи (позднее, потом) и глагол отвечает на вопрос что сделает? будет делать?, то это форма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будущего времени.</a:t>
            </a:r>
            <a:endParaRPr b="0" lang="en-US" sz="2400" spc="-1" strike="noStrike">
              <a:solidFill>
                <a:srgbClr val="777777"/>
              </a:solidFill>
              <a:latin typeface="Microsoft Sans Serif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5. Если действие произошло до момента речи и глагол отвечает на вопрос что делал? что сделал?, то это форма </a:t>
            </a:r>
            <a:r>
              <a:rPr b="1" i="1" lang="ru-RU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шедшего времени.</a:t>
            </a:r>
            <a:endParaRPr b="0" lang="en-US" sz="2400" spc="-1" strike="noStrike">
              <a:solidFill>
                <a:srgbClr val="777777"/>
              </a:solidFill>
              <a:latin typeface="Microsoft Sans Serif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Это интересно! 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4920" y="243828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времени могут употребляться не только в своём основном значении, но и в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осном, в значении других времён. </a:t>
            </a:r>
            <a:endParaRPr b="0" lang="en-US" sz="3600" spc="-1" strike="noStrike">
              <a:solidFill>
                <a:srgbClr val="777777"/>
              </a:solidFill>
              <a:latin typeface="Microsoft Sans Serif"/>
            </a:endParaRPr>
          </a:p>
          <a:p>
            <a:pPr indent="43164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Завтра </a:t>
            </a:r>
            <a:r>
              <a:rPr b="1" i="1" lang="ru-RU" sz="44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еду</a:t>
            </a:r>
            <a:r>
              <a:rPr b="0" i="1" lang="ru-RU" sz="44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 на дачу.</a:t>
            </a:r>
            <a:br>
              <a:rPr sz="4400"/>
            </a:br>
            <a:r>
              <a:rPr b="0" i="1" lang="ru-RU" sz="40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У меня уже всё готово, после обеда</a:t>
            </a:r>
            <a:r>
              <a:rPr b="0" i="1" lang="en-US" sz="40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 </a:t>
            </a:r>
            <a:r>
              <a:rPr b="1" i="1" lang="ru-RU" sz="40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отправляю</a:t>
            </a:r>
            <a:r>
              <a:rPr b="1" i="1" lang="en-US" sz="40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 </a:t>
            </a:r>
            <a:r>
              <a:rPr b="0" i="1" lang="ru-RU" sz="40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вещи. </a:t>
            </a:r>
            <a:br>
              <a:rPr sz="4000"/>
            </a:br>
            <a:endParaRPr b="0" lang="en-US" sz="40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09480" y="388620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Выделенный глагол употреблен в форме </a:t>
            </a:r>
            <a:r>
              <a:rPr b="0" lang="ru-RU" sz="3200" spc="-1" strike="noStrike" u="sng">
                <a:solidFill>
                  <a:srgbClr val="020a28"/>
                </a:solidFill>
                <a:uFillTx/>
                <a:latin typeface="Times New Roman"/>
                <a:ea typeface="Times New Roman"/>
              </a:rPr>
              <a:t>настоящего</a:t>
            </a:r>
            <a:r>
              <a:rPr b="0" lang="ru-RU" sz="32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 времени, но имеет значение </a:t>
            </a:r>
            <a:r>
              <a:rPr b="0" lang="ru-RU" sz="3200" spc="-1" strike="noStrike" u="sng">
                <a:solidFill>
                  <a:srgbClr val="020a28"/>
                </a:solidFill>
                <a:uFillTx/>
                <a:latin typeface="Times New Roman"/>
                <a:ea typeface="Times New Roman"/>
              </a:rPr>
              <a:t>будущего</a:t>
            </a:r>
            <a:r>
              <a:rPr b="0" lang="ru-RU" sz="32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 времени.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9051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Иду</a:t>
            </a:r>
            <a:r>
              <a:rPr b="0" i="1" lang="ru-RU" sz="44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 я вчера по улице и </a:t>
            </a:r>
            <a:r>
              <a:rPr b="1" i="1" lang="ru-RU" sz="44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вижу</a:t>
            </a:r>
            <a:r>
              <a:rPr b="0" lang="ru-RU" sz="44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90360" y="3352320"/>
            <a:ext cx="6933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Выделенный глагол употреблён в форме </a:t>
            </a:r>
            <a:r>
              <a:rPr b="0" lang="ru-RU" sz="3200" spc="-1" strike="noStrike" u="sng">
                <a:solidFill>
                  <a:srgbClr val="020a28"/>
                </a:solidFill>
                <a:uFillTx/>
                <a:latin typeface="Times New Roman"/>
                <a:ea typeface="Times New Roman"/>
              </a:rPr>
              <a:t>настоящего</a:t>
            </a:r>
            <a:r>
              <a:rPr b="0" lang="ru-RU" sz="32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 времени, но имеет значение </a:t>
            </a:r>
            <a:r>
              <a:rPr b="0" lang="ru-RU" sz="3200" spc="-1" strike="noStrike" u="sng">
                <a:solidFill>
                  <a:srgbClr val="020a28"/>
                </a:solidFill>
                <a:uFillTx/>
                <a:latin typeface="Times New Roman"/>
                <a:ea typeface="Times New Roman"/>
              </a:rPr>
              <a:t>прошедшего </a:t>
            </a:r>
            <a:r>
              <a:rPr b="0" lang="ru-RU" sz="32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времени.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Герасим глядел, глядел, да как </a:t>
            </a:r>
            <a:r>
              <a:rPr b="1" i="1" lang="ru-RU" sz="44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засмеётся</a:t>
            </a:r>
            <a:r>
              <a:rPr b="0" i="1" lang="ru-RU" sz="44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 вдруг.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04560" y="35049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ный глагол употреблен в форм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удуще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ени, но имеет значени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шедше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ени.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indent="43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indent="43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4756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Что-то я газету никак не </a:t>
            </a:r>
            <a:r>
              <a:rPr b="1" i="1" lang="ru-RU" sz="44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найду</a:t>
            </a:r>
            <a:r>
              <a:rPr b="0" i="1" lang="ru-RU" sz="44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777777"/>
              </a:solidFill>
              <a:latin typeface="Microsoft Sans Serif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14400" y="335268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ный глагол употреблен в форм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удуще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ени, но имеет значени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стояще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ени.</a:t>
            </a: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  <a:p>
            <a:pPr indent="43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77777"/>
              </a:solidFill>
              <a:latin typeface="Microsoft Sans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3374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304920" y="1295280"/>
            <a:ext cx="84582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 Русский язык… красив, певуч, выразителен, гибок, послушен, ловок, вместителен».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. И. Куприн.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1219320" y="2662200"/>
            <a:ext cx="586728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тересная часть речи 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усском языке живет. 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то что делает, расскажет: 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ртит, пишет иль поет. 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шивает или пашет, 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ли забивает гол, 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рит, жарит, моет, чистит – 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расскажет нам… </a:t>
            </a: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380880" y="1295280"/>
            <a:ext cx="8077320" cy="36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фографическая разминка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..гать, выр..щивать, пост..лить, разр..статься, бл..стать, подб..рать, зам..реть, подп..рать, выт..рать,   соб..рать.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446040" y="1371600"/>
            <a:ext cx="8012160" cy="36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ть, выр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ивать,  пост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ь, разр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ся, бл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, подб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ть, зам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ь, подп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ть, выт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ть, соб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ть.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295280" y="351000"/>
            <a:ext cx="1393920" cy="1858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4937040" y="2286000"/>
            <a:ext cx="3765600" cy="40766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533520" y="248112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ёт, а без ног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ит, а без крыльев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гнать, не остановить.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533520" y="451800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тьи к нам пришли: седая,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а нею — молодая,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ья ярко расцветает,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четвёртая рыдает. 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1828800" y="609480"/>
            <a:ext cx="711216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228600" y="1676520"/>
            <a:ext cx="853452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Тема: </a:t>
            </a:r>
            <a:r>
              <a:rPr b="0" lang="ru-RU" sz="32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Времена глагола.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Цели: 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торить и систематизировать знания по теме «Времена глагола».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Научиться определять временные формы глагола и правильно их образовывать.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3. Научиться использовать глаголы разных времён в речи.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271440" y="2057400"/>
            <a:ext cx="864396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Провести наблюдение над употреблением глагола.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Зафиксировать результаты в таблице.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На основе наблюдения сделать вывод и составить алгоритм определения времени глагола.</a:t>
            </a:r>
            <a:endParaRPr b="0" lang="en-US" sz="36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474840" y="1295280"/>
            <a:ext cx="499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План решения проблемы: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152280" y="1258920"/>
            <a:ext cx="8458200" cy="38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когда, относительно момента речи, происходит действие?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назовёте это время? 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акому виду относятся глаголы?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lvl="1" marL="743040" indent="-28584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зменяются глаголы (определить число, лицо или род).</a:t>
            </a:r>
            <a:endParaRPr b="0" lang="en-US" sz="3200" spc="-1" strike="noStrike">
              <a:solidFill>
                <a:srgbClr val="777777"/>
              </a:solidFill>
              <a:latin typeface="Arial"/>
            </a:endParaRPr>
          </a:p>
          <a:p>
            <a:pPr marL="4492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777777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1006560" y="488880"/>
            <a:ext cx="452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20a28"/>
                </a:solidFill>
                <a:latin typeface="Times New Roman"/>
                <a:ea typeface="Times New Roman"/>
              </a:rPr>
              <a:t>Работа с таблицей</a:t>
            </a:r>
            <a:endParaRPr b="0" lang="en-US" sz="4400" spc="-1" strike="noStrike">
              <a:solidFill>
                <a:srgbClr val="77777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Наталья Ноздрина</cp:lastModifiedBy>
  <dcterms:modified xsi:type="dcterms:W3CDTF">2023-11-14T06:51:55Z</dcterms:modified>
  <cp:revision>378</cp:revision>
  <dc:subject/>
  <dc:title>Name of presentation</dc:title>
</cp:coreProperties>
</file>