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90FB-DA7A-4C2D-B117-51C63A58E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C257-CB9B-4951-A0BD-EFA666722034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C610-C19C-497F-B350-6D302D15BCFF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46B2-A062-412D-A90B-8F9F0AD5A0E0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28600" y="3794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русского языка в 5 классе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52280" y="914400"/>
          <a:ext cx="8839440" cy="5746680"/>
        </p:xfrm>
        <a:graphic>
          <a:graphicData uri="http://schemas.openxmlformats.org/drawingml/2006/table">
            <a:tbl>
              <a:tblPr/>
              <a:tblGrid>
                <a:gridCol w="1629000"/>
                <a:gridCol w="1301760"/>
                <a:gridCol w="2279520"/>
                <a:gridCol w="1628640"/>
                <a:gridCol w="2000520"/>
              </a:tblGrid>
              <a:tr h="6397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ремена глагола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Когда происходит действие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Морфологические признаки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</a:tr>
              <a:tr h="222768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Прошедшее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До момента речи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делал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делали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сделал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сделали?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Несовершенный 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Совершенный 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Род, числ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</a:tr>
              <a:tr h="74808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Настоящее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В момент речи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e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делаю?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делаем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e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Несовершенный 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e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Лицо и числ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e"/>
                    </a:solidFill>
                  </a:tcPr>
                </a:tc>
              </a:tr>
              <a:tr h="213156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Будущее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После момента речи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сделаем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сделаете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будешь делать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будем делать?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Совершенный 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Несовершенный 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Лицо и числ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52280" y="1371600"/>
            <a:ext cx="861084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Calibri"/>
              </a:rPr>
              <a:t>Застучала за окошком звонкая капель, потеплел воздух, потемнел и осел снег. Умчались зимние дни. В лесу все дышит весной. Вот-вот выбросят первые цветки-сережки деревья, прилетят грачи, поплывут по реке первые льдинки, шальные весенние ручьи наполнят лес звонким журчанием. 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Calibri"/>
              </a:rPr>
              <a:t>(«Юный натуралист»)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839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лгоритм определения времени глагола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20574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тобы определить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я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глагола, нужно: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 Поставить к слову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рос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 Подумать, когда происходит действие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 Если действие происходит в момент речи (сейчас) и глагол отвечает на вопрос что делает?, то это форма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настоящего времени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 Если действие произойдет после момента речи (позднее, потом) и глагол отвечает на вопрос что сделает? будет делать?, то это форма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будущего времени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 Если действие произошло до момента речи и глагол отвечает на вопрос что делал? что сделал?, то это форма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шедшего времени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Это интересно! 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24382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ремени могут употребляться не только в своём основном значении, но и 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ном, в значении других времён.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indent="4316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Завтра </a:t>
            </a:r>
            <a:r>
              <a:rPr b="1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еду</a:t>
            </a: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на дачу.</a:t>
            </a:r>
            <a:br>
              <a:rPr sz="4400"/>
            </a:br>
            <a:r>
              <a:rPr b="0" i="1" lang="ru-RU" sz="40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У меня уже всё готово, после обеда</a:t>
            </a:r>
            <a:r>
              <a:rPr b="0" i="1" lang="en-US" sz="40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 </a:t>
            </a:r>
            <a:r>
              <a:rPr b="1" i="1" lang="ru-RU" sz="40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отправляю</a:t>
            </a:r>
            <a:r>
              <a:rPr b="1" i="1" lang="en-US" sz="40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 </a:t>
            </a:r>
            <a:r>
              <a:rPr b="0" i="1" lang="ru-RU" sz="40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ещи. </a:t>
            </a:r>
            <a:br>
              <a:rPr sz="4000"/>
            </a:b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3886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ыделенный глагол употреблен в форме </a:t>
            </a:r>
            <a:r>
              <a:rPr b="0" lang="ru-RU" sz="3200" spc="-1" strike="noStrike" u="sng">
                <a:solidFill>
                  <a:srgbClr val="020a28"/>
                </a:solidFill>
                <a:uFillTx/>
                <a:latin typeface="Times New Roman"/>
                <a:ea typeface="Times New Roman"/>
              </a:rPr>
              <a:t>настоящего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времени, но имеет значение </a:t>
            </a:r>
            <a:r>
              <a:rPr b="0" lang="ru-RU" sz="3200" spc="-1" strike="noStrike" u="sng">
                <a:solidFill>
                  <a:srgbClr val="020a28"/>
                </a:solidFill>
                <a:uFillTx/>
                <a:latin typeface="Times New Roman"/>
                <a:ea typeface="Times New Roman"/>
              </a:rPr>
              <a:t>будущего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времени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9051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Иду</a:t>
            </a: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я вчера по улице и </a:t>
            </a:r>
            <a:r>
              <a:rPr b="1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ижу</a:t>
            </a:r>
            <a:r>
              <a:rPr b="0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360" y="3352320"/>
            <a:ext cx="6933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ыделенный глагол употреблён в форме </a:t>
            </a:r>
            <a:r>
              <a:rPr b="0" lang="ru-RU" sz="3200" spc="-1" strike="noStrike" u="sng">
                <a:solidFill>
                  <a:srgbClr val="020a28"/>
                </a:solidFill>
                <a:uFillTx/>
                <a:latin typeface="Times New Roman"/>
                <a:ea typeface="Times New Roman"/>
              </a:rPr>
              <a:t>настоящего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времени, но имеет значение </a:t>
            </a:r>
            <a:r>
              <a:rPr b="0" lang="ru-RU" sz="3200" spc="-1" strike="noStrike" u="sng">
                <a:solidFill>
                  <a:srgbClr val="020a28"/>
                </a:solidFill>
                <a:uFillTx/>
                <a:latin typeface="Times New Roman"/>
                <a:ea typeface="Times New Roman"/>
              </a:rPr>
              <a:t>прошедшего 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ремени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Герасим глядел, глядел, да как </a:t>
            </a:r>
            <a:r>
              <a:rPr b="1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засмеётся</a:t>
            </a: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вдруг.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560" y="35049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ный глагол употреблен в форм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удущ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ени, но имеет значен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шедш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ени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43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43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Что-то я газету никак не </a:t>
            </a:r>
            <a:r>
              <a:rPr b="1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найду</a:t>
            </a: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335268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ный глагол употреблен в форм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удущ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ени, но имеет значен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стоящ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ени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43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337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04920" y="1295280"/>
            <a:ext cx="84582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 Русский язык… красив, певуч, выразителен, гибок, послушен, ловок, вместителен»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. И. Куприн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219320" y="2662200"/>
            <a:ext cx="5867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есная часть речи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усском языке живет.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что делает, расскажет: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тит, пишет иль поет.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шивает или пашет,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забивает гол,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т, жарит, моет, чистит –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расскажет нам…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380880" y="1295280"/>
            <a:ext cx="8077320" cy="36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графическая разминка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..гать, выр..щивать, пост..лить, разр..статься, бл..стать, подб..рать, зам..реть, подп..рать, выт..рать,   соб..рать.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446040" y="1371600"/>
            <a:ext cx="8012160" cy="36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ть, вы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вать,  пос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ь, раз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ся, б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, подб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ь, зам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ь, под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ь, вы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ь, соб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ь.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295280" y="351000"/>
            <a:ext cx="1393920" cy="185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4937040" y="2286000"/>
            <a:ext cx="3765600" cy="40766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533520" y="24811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ёт, а без но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ит, а без крыльев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гнать, не остановить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33520" y="45180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ьи к нам пришли: седая,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 нею — молодая,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ярко расцветает,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етвёртая рыдает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71121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28600" y="1676520"/>
            <a:ext cx="853452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ремена глагола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Цели: 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торить и систематизировать знания по теме «Времена глагола»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аучиться определять временные формы глагола и правильно их образовывать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3. Научиться использовать глаголы разных времён в речи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71440" y="2057400"/>
            <a:ext cx="864396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Провести наблюдение над употреблением глагола.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Зафиксировать результаты в таблице.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На основе наблюдения сделать вывод и составить алгоритм определения времени глагола.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74840" y="129528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План решения проблемы: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52280" y="1258920"/>
            <a:ext cx="8458200" cy="38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когда, относительно момента речи, происходит действие?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назовёте это время? 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виду относятся глаголы?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яются глаголы (определить число, лицо или род)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marL="4492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006560" y="488880"/>
            <a:ext cx="452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Работа с таблицей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Наталья Ноздрина</cp:lastModifiedBy>
  <dcterms:modified xsi:type="dcterms:W3CDTF">2023-11-14T06:51:55Z</dcterms:modified>
  <cp:revision>378</cp:revision>
  <dc:subject/>
  <dc:title>Name of presentation</dc:title>
</cp:coreProperties>
</file>