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F66B-CD00-4B56-B60F-49AA304E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3C519-62BD-4D8F-9380-D7421809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12D44-5D09-4653-A981-C627F591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0ACC9-638A-438A-A729-378B6E19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40BB8-3EEE-447C-BF21-53CBC0B3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FC9A3-137A-4C69-9EAA-68490C6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4115A-A6CB-4C63-8398-1DDF58A0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F88E4-78F8-4DA8-8AB1-5E5C6E09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775F-2D23-4752-8D03-82C0CA75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97D79-B6BF-405C-9AE7-4AE1EECE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A8974-225F-44C7-A33A-D775A7AF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487B0-DC95-4D9C-8732-9F9BFCA5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B51F8-8081-43F3-B574-032E2F26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0DA76-B65B-409B-AC16-6A87EC0D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6A9F1-16A0-4350-A2B7-043BFF3E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E1D56-F2D3-416F-82CC-5BCB873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03FF6-49E6-466B-B849-84DB8684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3C814-CA32-467B-B639-A3D9813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EC98E-3214-41B8-84C0-EC9A97B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E7E7B-6213-4B6D-A008-F4EFBCC5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29A88-AD34-4E52-96A1-6143A9EC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B1FB6-690C-47F4-8EBF-055265F0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B0EF1-FCE5-414C-B5D7-F6E94D4A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56664-5657-402C-80B0-2145081C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A94F1-7C6B-4308-80B3-AB895F0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E00C7-24B0-436A-A017-F226E490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8CEA5-DBD2-4C70-9487-DFFA056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CD810-C170-4727-8431-A1BDE66A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A06C2-0F0A-49EC-8C11-F0D1F42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5BEFB-26CF-4B87-B7B6-80F0250D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7CE-E646-4094-B382-55D91BD0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D034D-9F75-4A9E-93C7-81A01089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7F22B-153D-4AF2-87D8-4B598F41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0571C-5E96-482D-BA44-991DB318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9EFF4-CB94-4801-BD2C-BA883B16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7E767-6F83-42A7-9880-089BA9BC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3883F-07DE-4346-8314-4E30ACED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4D7C2-557B-4A10-8F94-6DA84391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250DC-AD5A-4DF6-B7A8-126F9F0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49709-49FD-4F20-B56A-10DCB3D4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6B177-343F-4981-9CD4-432B4935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959-F107-4136-BEE5-714EE141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40B9B-A56B-4078-A84D-86F9039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0AE64-A501-4AEB-B073-BBCF462C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45F30-DEA8-436E-A321-7D4B66EB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D7B29-3638-4B9C-93C9-F45D6499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5645C-D625-44C1-B654-EAE35BCB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852-0247-4F96-935A-DB5032C7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A20-0A56-4837-92C7-8155314F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8DF-7039-4618-BFB3-71B6A6D1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1B8-0203-4327-9847-506E2A14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4CE-A804-4320-A6FE-4108D476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E59-2F0A-436E-84F7-2B04F3BD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430-7441-4C7A-9AEA-B89987E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E43-481C-4E68-969C-2B61E270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EE4-E1CB-41A7-AE08-3BC5EFFD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C20-38DA-4E6B-A330-D08D2F22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63A0-9F0B-4A96-A693-E6DCB39B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316-F03D-454F-A72B-04C4688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BEB7-D9DC-478F-9C5A-60B7A07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50C9-6F8D-4478-85E0-2D8E4DBA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EDA8-7D43-49A1-A57C-296E7F50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1910-71DC-4AEE-817B-AFDB5DE6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8995-6007-4B4E-96B3-A0FFC04E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B98-7EC9-4F9E-92CB-D1DEA209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69EE-917C-4212-A210-D97218C8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D30F-8D66-4B56-A907-94A2E8D3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C30A-76D4-4893-A4B9-7C186087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A59C-2A0B-4009-AA76-F77DBB6A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2BC4-CD83-49D4-BB90-3A3AE419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9CD3-2A7D-42A5-88EB-44D52278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BDCB-BBBE-4030-8B78-3CF75864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EB28-9921-46B1-B1FA-DADBFBDC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9A06-D1B7-4959-94F4-EA1BBA1C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6B93-6376-43BF-B1DC-9555F5DA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335F-396B-49AE-8D11-E2927954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D139-8606-4060-A0E9-275B0DD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D367-D18E-4C09-9E87-880E8562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0E09-CE72-4259-B5E7-3A8A8F7F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8864-F0AC-41DA-90F8-586C088B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4019-B3BA-4D53-9E47-25012F1F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DC4E5-CEB9-4735-9974-53F617CA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D53EF-2984-4826-A548-52B1B3CD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13D6B-D4C1-40B8-A9D5-3E587059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81A6-00B2-42BB-BEFC-89C9E98F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EF92-4CAD-464F-85A5-3B9E1E2B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83A9-A364-48CE-94E1-9A2FC122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8F648-0454-4874-9C55-A64D3648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5F35F-A8DB-4D8B-860D-5C9ADADC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C8F6-CDDB-4165-BCC6-DFEBBA1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FA35-8012-4F3A-8251-87221F6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F043-5133-48FE-9803-ACAE0446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17C7-718A-4475-986F-7E257D2A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7BB65-CD9A-4585-9380-04BF42F4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593AF-A2D7-479B-9143-1B37B28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7A42-E685-4335-97B8-CC92D7CC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372D1-089B-4091-8FFA-93D6BEEE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50F6-8D85-4E57-B2AC-3DC85BE1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08F9-27B8-479B-A2FA-C93ED21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E254-DFA7-4F15-8316-057F185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911E-E960-45D0-BE95-6F9C5A01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1CF0D-5B19-4601-BB15-11A7F86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8DBF-92AD-4F20-BAB1-A65616A5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6C401-042E-40BE-B678-05B20A71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A9FF-41CB-4767-95C2-6889361D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39DB3-312D-4788-AA48-5A5EF4DE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3E5BA-3DB4-4248-87B8-F98CBFD9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51994-EABA-4592-8B09-16A11439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8E20D-2C29-4962-B688-53EA61E4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13759-D121-4F0C-9E72-B68E2495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CC1C7-5A24-446C-AE4F-98AD6A3B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FD483-B9C3-452E-97AE-9368F49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F45AA-1E06-4EC6-8500-3A3DF21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309C-0BEF-48CD-BF40-BB0EF486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BF761-5016-4D20-8BAC-277979E9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22C08-B028-4922-A7FA-333E21A8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FF38D-0503-4E06-B12A-B892B59D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EA81-9CD1-4CFA-8270-A56193D5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01BC1-A481-4CA3-AE6B-0645F746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014D-B8C6-4B22-8591-E8CD024B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40838-A6A7-4A75-BD8C-5E3532CB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7928A-5C66-491E-8857-C6EB84F2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53A1F-1D3F-424F-80B4-002AA405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A5B54-CC81-4A02-AD31-7C921A4D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62D69-7314-48BC-ADB5-B5AFE902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0F681-2512-4860-897E-4639B873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27CB6-944A-44A7-9C09-72388A03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D0B8F-B3E5-4E97-9DFF-18E8B5A0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136B7-21A4-4AC2-B80F-137B93FC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78FEC-9C3A-4EF4-A176-1D3F6BB2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83AB3-AA4A-4334-841D-3FE2037F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47695-163E-498C-9A0B-17D923BD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D737-0BEF-4107-8479-D6A445071040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0F52-48EC-42B8-A95B-8D45543BBDB3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D3B2-9B4C-478B-8928-C604A0D75196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B485-7172-4276-9DE9-B58BBE94637C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77DD-A32A-4F75-B7D1-549F1299364C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31A9-15D9-4452-8C72-6BFC18686A7B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9AFB-070F-4C19-A136-F407A1984B85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E13E-D29F-4845-AB0D-E9474304E50D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AD56-0372-4152-A1BA-AE7F3D3AA7B6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2CC3-610A-48D9-B794-28EFDA46BE1A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C81D-60EE-49B5-AF80-C309A7416A4B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4"/>
          <p:cNvSpPr/>
          <p:nvPr/>
        </p:nvSpPr>
        <p:spPr>
          <a:xfrm>
            <a:off x="2484360" y="208764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494c8"/>
                </a:solidFill>
                <a:latin typeface="Times New Roman"/>
                <a:ea typeface="Times New Roman"/>
              </a:rPr>
              <a:t>Звук и буква 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Прямоугольник 6" descr=""/>
          <p:cNvPicPr/>
          <p:nvPr/>
        </p:nvPicPr>
        <p:blipFill>
          <a:blip r:embed="rId1"/>
          <a:stretch/>
        </p:blipFill>
        <p:spPr>
          <a:xfrm>
            <a:off x="249120" y="4438800"/>
            <a:ext cx="1446480" cy="14443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"/>
          <p:cNvSpPr/>
          <p:nvPr/>
        </p:nvSpPr>
        <p:spPr>
          <a:xfrm>
            <a:off x="4643280" y="4513320"/>
            <a:ext cx="372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-логоп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инская Е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Прямоугольник 2"/>
          <p:cNvSpPr/>
          <p:nvPr/>
        </p:nvSpPr>
        <p:spPr>
          <a:xfrm>
            <a:off x="2292480" y="836640"/>
            <a:ext cx="571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Презентация к уроку по коррекционному курсу "Альтернативная коммуникация"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https://i.pinimg.com/originals/39/b5/af/39b5af8a30e850d32319c6f9b5e0ea57.jpg"/>
          <p:cNvPicPr/>
          <p:nvPr/>
        </p:nvPicPr>
        <p:blipFill>
          <a:blip r:embed="rId1"/>
          <a:srcRect l="0" t="62283" r="0" b="0"/>
          <a:stretch/>
        </p:blipFill>
        <p:spPr>
          <a:xfrm>
            <a:off x="2195640" y="3284640"/>
            <a:ext cx="6246720" cy="25016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"/>
          <p:cNvSpPr/>
          <p:nvPr/>
        </p:nvSpPr>
        <p:spPr>
          <a:xfrm>
            <a:off x="1952640" y="6588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м букв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6" descr="https://sovyatka.ru/800/600/https/1.bp.blogspot.com/-ZTLfbjrBHlo/XayOco3MTcI/AAAAAAAAJSA/bENnDgSrivEFlEJH0Pz1LMow4xJZ8bnegCLcBGAsYHQ/s1600/hello_html_67231caf.png"/>
          <p:cNvPicPr/>
          <p:nvPr/>
        </p:nvPicPr>
        <p:blipFill>
          <a:blip r:embed="rId2"/>
          <a:stretch/>
        </p:blipFill>
        <p:spPr>
          <a:xfrm>
            <a:off x="5319720" y="658800"/>
            <a:ext cx="29592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2633760" y="426960"/>
            <a:ext cx="51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м слоги с буквой 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Группа 3"/>
          <p:cNvGrpSpPr/>
          <p:nvPr/>
        </p:nvGrpSpPr>
        <p:grpSpPr>
          <a:xfrm>
            <a:off x="2208240" y="1268280"/>
            <a:ext cx="5951520" cy="4464360"/>
            <a:chOff x="2208240" y="1268280"/>
            <a:chExt cx="5951520" cy="4464360"/>
          </a:xfrm>
        </p:grpSpPr>
        <p:pic>
          <p:nvPicPr>
            <p:cNvPr id="540" name="Picture 4" descr="https://sun9-64.userapi.com/impg/qb9s0AQoiFTJjtixn5I2XY-XA7xARGXcLxoypA/Sc4MMN9J3J4.jpg?size=604x453&amp;quality=96&amp;sign=ab464bc747b4ce6815769cb53bd13155&amp;c_uniq_tag=phFWduU77PqLswOIjgLE0zTQ9feA47k3R64dc5FK_C4&amp;type=album"/>
            <p:cNvPicPr/>
            <p:nvPr/>
          </p:nvPicPr>
          <p:blipFill>
            <a:blip r:embed="rId1"/>
            <a:stretch/>
          </p:blipFill>
          <p:spPr>
            <a:xfrm>
              <a:off x="2208240" y="1268280"/>
              <a:ext cx="5951520" cy="44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"/>
            <p:cNvSpPr/>
            <p:nvPr/>
          </p:nvSpPr>
          <p:spPr>
            <a:xfrm>
              <a:off x="4832280" y="2564280"/>
              <a:ext cx="935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1"/>
          <p:cNvSpPr/>
          <p:nvPr/>
        </p:nvSpPr>
        <p:spPr>
          <a:xfrm>
            <a:off x="2050920" y="1052640"/>
            <a:ext cx="65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формирование представлений о букве 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познакомить с графическим изображением буквы 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фонематический слух и навык проведения звукобуквенного анализа сл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графо-моторных навыков, пишем букву 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навык правильного, сознательного, выразительного чтения слогов с изученными бук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3351240" y="3016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 загад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124000" y="4869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нают взрослые и дети — Тонкие плетёт он сети, Мухам враг он, а не друг. Как зовут его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рямоугольник 3"/>
          <p:cNvSpPr/>
          <p:nvPr/>
        </p:nvSpPr>
        <p:spPr>
          <a:xfrm>
            <a:off x="2124000" y="3157560"/>
            <a:ext cx="393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 стеклом сидит синьор, Толстый, красный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Прямоугольник 4"/>
          <p:cNvSpPr/>
          <p:nvPr/>
        </p:nvSpPr>
        <p:spPr>
          <a:xfrm>
            <a:off x="1979640" y="126036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Ходит в белом колпаке С поварёшкою в руке. Он готовит нам обед: кашу, щи и винегр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Группа 1"/>
          <p:cNvGrpSpPr/>
          <p:nvPr/>
        </p:nvGrpSpPr>
        <p:grpSpPr>
          <a:xfrm>
            <a:off x="7286760" y="684360"/>
            <a:ext cx="1116000" cy="2181600"/>
            <a:chOff x="7286760" y="684360"/>
            <a:chExt cx="1116000" cy="2181600"/>
          </a:xfrm>
        </p:grpSpPr>
        <p:pic>
          <p:nvPicPr>
            <p:cNvPr id="477" name="Рисунок 6" descr=""/>
            <p:cNvPicPr/>
            <p:nvPr/>
          </p:nvPicPr>
          <p:blipFill>
            <a:blip r:embed="rId1"/>
            <a:stretch/>
          </p:blipFill>
          <p:spPr>
            <a:xfrm>
              <a:off x="7286760" y="684360"/>
              <a:ext cx="111600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Прямоугольник 5"/>
            <p:cNvSpPr/>
            <p:nvPr/>
          </p:nvSpPr>
          <p:spPr>
            <a:xfrm>
              <a:off x="7417080" y="246708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</a:t>
              </a:r>
              <a:r>
                <a:rPr b="0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овар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9" name="Группа 2"/>
          <p:cNvGrpSpPr/>
          <p:nvPr/>
        </p:nvGrpSpPr>
        <p:grpSpPr>
          <a:xfrm>
            <a:off x="5037120" y="2521080"/>
            <a:ext cx="1492200" cy="1787760"/>
            <a:chOff x="5037120" y="2521080"/>
            <a:chExt cx="1492200" cy="1787760"/>
          </a:xfrm>
        </p:grpSpPr>
        <p:pic>
          <p:nvPicPr>
            <p:cNvPr id="480" name="Рисунок 7" descr=""/>
            <p:cNvPicPr/>
            <p:nvPr/>
          </p:nvPicPr>
          <p:blipFill>
            <a:blip r:embed="rId2"/>
            <a:stretch/>
          </p:blipFill>
          <p:spPr>
            <a:xfrm>
              <a:off x="5037120" y="2521080"/>
              <a:ext cx="149220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Прямоугольник 8"/>
            <p:cNvSpPr/>
            <p:nvPr/>
          </p:nvSpPr>
          <p:spPr>
            <a:xfrm>
              <a:off x="5262840" y="3909960"/>
              <a:ext cx="11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</a:t>
              </a:r>
              <a:r>
                <a:rPr b="0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омидор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Группа 3"/>
          <p:cNvGrpSpPr/>
          <p:nvPr/>
        </p:nvGrpSpPr>
        <p:grpSpPr>
          <a:xfrm>
            <a:off x="6875640" y="3807000"/>
            <a:ext cx="1703160" cy="2075040"/>
            <a:chOff x="6875640" y="3807000"/>
            <a:chExt cx="1703160" cy="2075040"/>
          </a:xfrm>
        </p:grpSpPr>
        <p:pic>
          <p:nvPicPr>
            <p:cNvPr id="483" name="Рисунок 9" descr=""/>
            <p:cNvPicPr/>
            <p:nvPr/>
          </p:nvPicPr>
          <p:blipFill>
            <a:blip r:embed="rId3"/>
            <a:stretch/>
          </p:blipFill>
          <p:spPr>
            <a:xfrm>
              <a:off x="6875640" y="3807000"/>
              <a:ext cx="17031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Прямоугольник 11"/>
            <p:cNvSpPr/>
            <p:nvPr/>
          </p:nvSpPr>
          <p:spPr>
            <a:xfrm>
              <a:off x="7284240" y="548316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</a:t>
              </a:r>
              <a:r>
                <a:rPr b="0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ау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TextBox 12"/>
          <p:cNvSpPr/>
          <p:nvPr/>
        </p:nvSpPr>
        <p:spPr>
          <a:xfrm>
            <a:off x="3059280" y="6316560"/>
            <a:ext cx="44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вук слышим в начале сло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https://abvgdee.ru/images/kartinki/alfavit6/p.jpg"/>
          <p:cNvPicPr/>
          <p:nvPr/>
        </p:nvPicPr>
        <p:blipFill>
          <a:blip r:embed="rId1"/>
          <a:srcRect l="1820" t="0" r="1726" b="0"/>
          <a:stretch/>
        </p:blipFill>
        <p:spPr>
          <a:xfrm>
            <a:off x="1908000" y="760320"/>
            <a:ext cx="6912000" cy="574848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"/>
          <p:cNvSpPr/>
          <p:nvPr/>
        </p:nvSpPr>
        <p:spPr>
          <a:xfrm>
            <a:off x="3203640" y="2365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слова на букву 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https://advour.ru/wp-content/uploads/4/d/a/4dad7fb7a0ef6746132f427e8dc768e7.jpeg"/>
          <p:cNvPicPr/>
          <p:nvPr/>
        </p:nvPicPr>
        <p:blipFill>
          <a:blip r:embed="rId1"/>
          <a:srcRect l="59240" t="54142" r="4457" b="7643"/>
          <a:stretch/>
        </p:blipFill>
        <p:spPr>
          <a:xfrm>
            <a:off x="2165400" y="1069920"/>
            <a:ext cx="1849320" cy="1459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https://advour.ru/wp-content/uploads/4/d/a/4dad7fb7a0ef6746132f427e8dc768e7.jpeg"/>
          <p:cNvPicPr/>
          <p:nvPr/>
        </p:nvPicPr>
        <p:blipFill>
          <a:blip r:embed="rId2"/>
          <a:srcRect l="7961" t="16882" r="61469" b="44908"/>
          <a:stretch/>
        </p:blipFill>
        <p:spPr>
          <a:xfrm>
            <a:off x="2212920" y="2717640"/>
            <a:ext cx="1805040" cy="1692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1"/>
          <p:cNvSpPr/>
          <p:nvPr/>
        </p:nvSpPr>
        <p:spPr>
          <a:xfrm>
            <a:off x="2556000" y="297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похожа букв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2" descr="https://almadeladanza.ru/wp-content/uploads/e/5/c/e5cc57112bc2f735a13d9375b2b3d514.jpeg"/>
          <p:cNvPicPr/>
          <p:nvPr/>
        </p:nvPicPr>
        <p:blipFill>
          <a:blip r:embed="rId3"/>
          <a:srcRect l="7228" t="3643" r="6732" b="19879"/>
          <a:stretch/>
        </p:blipFill>
        <p:spPr>
          <a:xfrm>
            <a:off x="4475160" y="1827360"/>
            <a:ext cx="2232000" cy="2033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https://shareslide.ru/img/thumbs/eb8c992084c4713628301808fa18562d-800x.jpg"/>
          <p:cNvPicPr/>
          <p:nvPr/>
        </p:nvPicPr>
        <p:blipFill>
          <a:blip r:embed="rId4"/>
          <a:srcRect l="3359" t="4479" r="65300" b="56718"/>
          <a:stretch/>
        </p:blipFill>
        <p:spPr>
          <a:xfrm>
            <a:off x="5602320" y="4540320"/>
            <a:ext cx="1655640" cy="1536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https://advour.ru/wp-content/uploads/4/d/a/4dad7fb7a0ef6746132f427e8dc768e7.jpeg"/>
          <p:cNvPicPr/>
          <p:nvPr/>
        </p:nvPicPr>
        <p:blipFill>
          <a:blip r:embed="rId5"/>
          <a:srcRect l="7642" t="63701" r="77654" b="3181"/>
          <a:stretch/>
        </p:blipFill>
        <p:spPr>
          <a:xfrm>
            <a:off x="7245360" y="781200"/>
            <a:ext cx="1444680" cy="24368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https://fikiwiki.com/uploads/posts/2022-02/1645004739_37-fikiwiki-com-p-kartinki-bukva-p-40.jpg"/>
          <p:cNvPicPr/>
          <p:nvPr/>
        </p:nvPicPr>
        <p:blipFill>
          <a:blip r:embed="rId6"/>
          <a:srcRect l="50797" t="20000" r="3176" b="5931"/>
          <a:stretch/>
        </p:blipFill>
        <p:spPr>
          <a:xfrm>
            <a:off x="7068960" y="3218040"/>
            <a:ext cx="1644840" cy="19857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https://shareslide.ru/img/thumbs/eb8c992084c4713628301808fa18562d-800x.jpg"/>
          <p:cNvPicPr/>
          <p:nvPr/>
        </p:nvPicPr>
        <p:blipFill>
          <a:blip r:embed="rId7"/>
          <a:srcRect l="37743" t="4479" r="31719" b="56718"/>
          <a:stretch/>
        </p:blipFill>
        <p:spPr>
          <a:xfrm>
            <a:off x="3575160" y="4471920"/>
            <a:ext cx="18018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1"/>
          <p:cNvSpPr/>
          <p:nvPr/>
        </p:nvSpPr>
        <p:spPr>
          <a:xfrm>
            <a:off x="3221280" y="333360"/>
            <a:ext cx="34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ожим букву  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8" descr="https://cdn2.imgbb.ru/user/102/1021701/201508/1cdb2a754f76b91d2cffe7cdc6b90bd8.jpg"/>
          <p:cNvPicPr/>
          <p:nvPr/>
        </p:nvPicPr>
        <p:blipFill>
          <a:blip r:embed="rId1"/>
          <a:stretch/>
        </p:blipFill>
        <p:spPr>
          <a:xfrm>
            <a:off x="2700360" y="1125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2"/>
          <p:cNvSpPr/>
          <p:nvPr/>
        </p:nvSpPr>
        <p:spPr>
          <a:xfrm>
            <a:off x="2557440" y="549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и обведи все буквы 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2" descr="https://i.pinimg.com/originals/e1/f6/e1/e1f6e176386c019dec1797d129442555.gif"/>
          <p:cNvPicPr/>
          <p:nvPr/>
        </p:nvPicPr>
        <p:blipFill>
          <a:blip r:embed="rId1"/>
          <a:stretch/>
        </p:blipFill>
        <p:spPr>
          <a:xfrm>
            <a:off x="2124000" y="1989000"/>
            <a:ext cx="626580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4"/>
          <p:cNvSpPr/>
          <p:nvPr/>
        </p:nvSpPr>
        <p:spPr>
          <a:xfrm>
            <a:off x="1922400" y="81000"/>
            <a:ext cx="6676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 с буквой П только те предметы, названия которых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ются с данного зву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6" descr="https://avatars.mds.yandex.net/i?id=dbd8d5b48863900ec74821a2f2a7825a_l-4987768-images-thumbs&amp;n=13"/>
          <p:cNvPicPr/>
          <p:nvPr/>
        </p:nvPicPr>
        <p:blipFill>
          <a:blip r:embed="rId1"/>
          <a:stretch/>
        </p:blipFill>
        <p:spPr>
          <a:xfrm>
            <a:off x="7389720" y="5257800"/>
            <a:ext cx="1238400" cy="857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ttps://gas-kvas.com/uploads/posts/2023-01/1673524868_gas-kvas-com-p-detskii-risunok-pila-1.png"/>
          <p:cNvPicPr/>
          <p:nvPr/>
        </p:nvPicPr>
        <p:blipFill>
          <a:blip r:embed="rId2"/>
          <a:stretch/>
        </p:blipFill>
        <p:spPr>
          <a:xfrm rot="19575600">
            <a:off x="7601040" y="3492000"/>
            <a:ext cx="944640" cy="14209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https://i.artfile.ru/3338x2644_1183965_%5bwww.ArtFile.ru%5d.jpg"/>
          <p:cNvPicPr/>
          <p:nvPr/>
        </p:nvPicPr>
        <p:blipFill>
          <a:blip r:embed="rId3"/>
          <a:srcRect l="-9235" t="0" r="24737" b="-24"/>
          <a:stretch/>
        </p:blipFill>
        <p:spPr>
          <a:xfrm>
            <a:off x="5800680" y="3298680"/>
            <a:ext cx="1589040" cy="14907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2" descr="https://polinka.top/uploads/posts/2023-06/1686276619_polinka-top-p-russkaya-pechka-kartinka-dlya-detei-instag-2.jpg"/>
          <p:cNvPicPr/>
          <p:nvPr/>
        </p:nvPicPr>
        <p:blipFill>
          <a:blip r:embed="rId4"/>
          <a:srcRect l="0" t="5781" r="0" b="7068"/>
          <a:stretch/>
        </p:blipFill>
        <p:spPr>
          <a:xfrm>
            <a:off x="2313000" y="1576440"/>
            <a:ext cx="1168560" cy="1439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4" descr="https://superawesomevectors.com/wp-content/uploads/2016/10/cartoon-style-wooden-barrel-vector-800x566.jpg"/>
          <p:cNvPicPr/>
          <p:nvPr/>
        </p:nvPicPr>
        <p:blipFill>
          <a:blip r:embed="rId5"/>
          <a:srcRect l="29614" t="11348" r="29763" b="12533"/>
          <a:stretch/>
        </p:blipFill>
        <p:spPr>
          <a:xfrm>
            <a:off x="6300720" y="1868400"/>
            <a:ext cx="787320" cy="10447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8" descr="С зонтиком для детей на прозрачном"/>
          <p:cNvPicPr/>
          <p:nvPr/>
        </p:nvPicPr>
        <p:blipFill>
          <a:blip r:embed="rId6"/>
          <a:stretch/>
        </p:blipFill>
        <p:spPr>
          <a:xfrm>
            <a:off x="5500800" y="4548240"/>
            <a:ext cx="1342800" cy="156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0" descr="розовый бант"/>
          <p:cNvPicPr/>
          <p:nvPr/>
        </p:nvPicPr>
        <p:blipFill>
          <a:blip r:embed="rId7"/>
          <a:stretch/>
        </p:blipFill>
        <p:spPr>
          <a:xfrm>
            <a:off x="7297560" y="1576440"/>
            <a:ext cx="857520" cy="11016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2" descr="http://img-fotki.yandex.ru/get/9496/16969765.1b5/0_87ae8_684430ed_M.png"/>
          <p:cNvPicPr/>
          <p:nvPr/>
        </p:nvPicPr>
        <p:blipFill>
          <a:blip r:embed="rId8"/>
          <a:stretch/>
        </p:blipFill>
        <p:spPr>
          <a:xfrm>
            <a:off x="2227320" y="4648320"/>
            <a:ext cx="961920" cy="1395360"/>
          </a:xfrm>
          <a:prstGeom prst="rect">
            <a:avLst/>
          </a:prstGeom>
          <a:ln w="0">
            <a:noFill/>
          </a:ln>
        </p:spPr>
      </p:pic>
      <p:grpSp>
        <p:nvGrpSpPr>
          <p:cNvPr id="509" name="Группа 9"/>
          <p:cNvGrpSpPr/>
          <p:nvPr/>
        </p:nvGrpSpPr>
        <p:grpSpPr>
          <a:xfrm>
            <a:off x="4695840" y="1928880"/>
            <a:ext cx="1130400" cy="1431720"/>
            <a:chOff x="4695840" y="1928880"/>
            <a:chExt cx="1130400" cy="1431720"/>
          </a:xfrm>
        </p:grpSpPr>
        <p:sp>
          <p:nvSpPr>
            <p:cNvPr id="510" name="Овал 8"/>
            <p:cNvSpPr/>
            <p:nvPr/>
          </p:nvSpPr>
          <p:spPr>
            <a:xfrm>
              <a:off x="4695840" y="1928880"/>
              <a:ext cx="1130400" cy="14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Прямоугольник 7"/>
            <p:cNvSpPr/>
            <p:nvPr/>
          </p:nvSpPr>
          <p:spPr>
            <a:xfrm>
              <a:off x="4936320" y="2195280"/>
              <a:ext cx="78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7494c8"/>
                  </a:solidFill>
                  <a:latin typeface="Times New Roman"/>
                  <a:ea typeface="Times New Roman"/>
                </a:rPr>
                <a:t>П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2" name="Picture 4" descr="https://avatars.mds.yandex.net/i?id=a181c0433190bfed4ed3f8c02cdf24830b18219b-4838719-images-thumbs&amp;n=13"/>
          <p:cNvPicPr/>
          <p:nvPr/>
        </p:nvPicPr>
        <p:blipFill>
          <a:blip r:embed="rId9"/>
          <a:srcRect l="4724" t="7131" r="3929" b="10858"/>
          <a:stretch/>
        </p:blipFill>
        <p:spPr>
          <a:xfrm>
            <a:off x="2098800" y="3433680"/>
            <a:ext cx="2541600" cy="1008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4" descr="https://gas-kvas.com/uploads/posts/2023-01/1673456448_gas-kvas-com-p-parokhod-detskii-risunok-1.jpg"/>
          <p:cNvPicPr/>
          <p:nvPr/>
        </p:nvPicPr>
        <p:blipFill>
          <a:blip r:embed="rId10"/>
          <a:stretch/>
        </p:blipFill>
        <p:spPr>
          <a:xfrm>
            <a:off x="3564000" y="4716360"/>
            <a:ext cx="17938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https://i.pinimg.com/originals/f9/61/c0/f961c08c3a55208e9d2df3afde0cd02d.jpg"/>
          <p:cNvPicPr/>
          <p:nvPr/>
        </p:nvPicPr>
        <p:blipFill>
          <a:blip r:embed="rId1"/>
          <a:stretch/>
        </p:blipFill>
        <p:spPr>
          <a:xfrm>
            <a:off x="2484360" y="115920"/>
            <a:ext cx="5112000" cy="6232320"/>
          </a:xfrm>
          <a:prstGeom prst="rect">
            <a:avLst/>
          </a:prstGeom>
          <a:ln w="0">
            <a:noFill/>
          </a:ln>
        </p:spPr>
      </p:pic>
      <p:cxnSp>
        <p:nvCxnSpPr>
          <p:cNvPr id="515" name="Прямая со стрелкой 4"/>
          <p:cNvCxnSpPr/>
          <p:nvPr/>
        </p:nvCxnSpPr>
        <p:spPr>
          <a:xfrm>
            <a:off x="3851280" y="1773000"/>
            <a:ext cx="434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Прямая со стрелкой 6"/>
          <p:cNvCxnSpPr/>
          <p:nvPr/>
        </p:nvCxnSpPr>
        <p:spPr>
          <a:xfrm>
            <a:off x="4500360" y="177300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7" name="Прямая со стрелкой 7"/>
          <p:cNvCxnSpPr/>
          <p:nvPr/>
        </p:nvCxnSpPr>
        <p:spPr>
          <a:xfrm>
            <a:off x="5040000" y="1773000"/>
            <a:ext cx="108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Прямая со стрелкой 12"/>
          <p:cNvCxnSpPr/>
          <p:nvPr/>
        </p:nvCxnSpPr>
        <p:spPr>
          <a:xfrm flipV="1">
            <a:off x="5148360" y="2400120"/>
            <a:ext cx="459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Прямая со стрелкой 14"/>
          <p:cNvCxnSpPr/>
          <p:nvPr/>
        </p:nvCxnSpPr>
        <p:spPr>
          <a:xfrm flipV="1">
            <a:off x="5874840" y="2408040"/>
            <a:ext cx="4597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Прямая со стрелкой 15"/>
          <p:cNvCxnSpPr/>
          <p:nvPr/>
        </p:nvCxnSpPr>
        <p:spPr>
          <a:xfrm flipV="1">
            <a:off x="4500720" y="5299920"/>
            <a:ext cx="45936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Прямая со стрелкой 16"/>
          <p:cNvCxnSpPr/>
          <p:nvPr/>
        </p:nvCxnSpPr>
        <p:spPr>
          <a:xfrm>
            <a:off x="3718080" y="4876920"/>
            <a:ext cx="1152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Прямая со стрелкой 17"/>
          <p:cNvCxnSpPr/>
          <p:nvPr/>
        </p:nvCxnSpPr>
        <p:spPr>
          <a:xfrm>
            <a:off x="3701880" y="4149360"/>
            <a:ext cx="720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Прямая со стрелкой 20"/>
          <p:cNvCxnSpPr/>
          <p:nvPr/>
        </p:nvCxnSpPr>
        <p:spPr>
          <a:xfrm>
            <a:off x="6411960" y="2276640"/>
            <a:ext cx="7200" cy="54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Прямая со стрелкой 24"/>
          <p:cNvCxnSpPr/>
          <p:nvPr/>
        </p:nvCxnSpPr>
        <p:spPr>
          <a:xfrm>
            <a:off x="6411960" y="2923920"/>
            <a:ext cx="7200" cy="470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Прямая со стрелкой 27"/>
          <p:cNvCxnSpPr/>
          <p:nvPr/>
        </p:nvCxnSpPr>
        <p:spPr>
          <a:xfrm flipH="1" flipV="1">
            <a:off x="5863680" y="3499560"/>
            <a:ext cx="362520" cy="1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Прямая со стрелкой 30"/>
          <p:cNvCxnSpPr/>
          <p:nvPr/>
        </p:nvCxnSpPr>
        <p:spPr>
          <a:xfrm flipH="1" flipV="1">
            <a:off x="5197320" y="3509640"/>
            <a:ext cx="36252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Прямая со стрелкой 31"/>
          <p:cNvCxnSpPr/>
          <p:nvPr/>
        </p:nvCxnSpPr>
        <p:spPr>
          <a:xfrm flipH="1" flipV="1">
            <a:off x="4500000" y="4129920"/>
            <a:ext cx="36252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Прямая со стрелкой 32"/>
          <p:cNvCxnSpPr/>
          <p:nvPr/>
        </p:nvCxnSpPr>
        <p:spPr>
          <a:xfrm flipH="1" flipV="1">
            <a:off x="3850560" y="4122000"/>
            <a:ext cx="362520" cy="1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Прямая со стрелкой 33"/>
          <p:cNvCxnSpPr/>
          <p:nvPr/>
        </p:nvCxnSpPr>
        <p:spPr>
          <a:xfrm>
            <a:off x="5040360" y="3593880"/>
            <a:ext cx="7200" cy="470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Прямая со стрелкой 34"/>
          <p:cNvCxnSpPr/>
          <p:nvPr/>
        </p:nvCxnSpPr>
        <p:spPr>
          <a:xfrm>
            <a:off x="5040360" y="5287680"/>
            <a:ext cx="7200" cy="470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Прямая со стрелкой 35"/>
          <p:cNvCxnSpPr/>
          <p:nvPr/>
        </p:nvCxnSpPr>
        <p:spPr>
          <a:xfrm>
            <a:off x="5175000" y="587664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Прямая со стрелкой 36"/>
          <p:cNvCxnSpPr/>
          <p:nvPr/>
        </p:nvCxnSpPr>
        <p:spPr>
          <a:xfrm>
            <a:off x="5887800" y="587664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Прямая со стрелкой 37"/>
          <p:cNvCxnSpPr/>
          <p:nvPr/>
        </p:nvCxnSpPr>
        <p:spPr>
          <a:xfrm>
            <a:off x="3701520" y="1125360"/>
            <a:ext cx="108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Прямая со стрелкой 40"/>
          <p:cNvCxnSpPr/>
          <p:nvPr/>
        </p:nvCxnSpPr>
        <p:spPr>
          <a:xfrm flipV="1">
            <a:off x="3863520" y="5262120"/>
            <a:ext cx="4611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Фокина Лидия Петровна</dc:creator>
  <dc:description/>
  <cp:keywords>Шаблон презентации</cp:keywords>
  <dc:language>en-US</dc:language>
  <cp:lastModifiedBy>Учитель</cp:lastModifiedBy>
  <dcterms:modified xsi:type="dcterms:W3CDTF">2023-11-02T12:53:15Z</dcterms:modified>
  <cp:revision>162</cp:revision>
  <dc:subject/>
  <dc:title>Тетрадь на спирали</dc:title>
</cp:coreProperties>
</file>