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2EDFD-B020-4C12-9EDC-2FE4965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DAA5F-EFF8-4C53-AC57-0AAB1B9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C0D54-07C5-4EDC-8D87-44BB49A0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FAF3B-4C8E-4BBB-B877-69088D6A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1ECD0-13A9-44B5-A4F5-30D34403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32929-4878-4951-9128-219BDB4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8CAF2-CE73-44D2-8BD2-525C3D93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F3060-FE37-429F-86E6-0C993B8A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744E-D450-42C8-BE7C-9E5CD805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07FF3-8081-45ED-BDEF-5907A766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FD1C-3F55-449E-BD72-59B1453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D9716-628C-47BD-B161-4F4F484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F3333-AC6F-454B-98BE-245F2175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0E056D-3E01-4841-9F23-28B74E30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C067F-C6F4-42D9-B02D-7AC1C860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93EA4-23E7-4D32-9F2C-2EEAE7A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143E7-B5AD-4DA2-959D-97D3456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17CA-2160-479F-9813-1602F00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E63AD-404A-4509-9916-6350094A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F6469-AE33-4A4D-BB4E-664F663CF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BC72F-DB27-4E15-A460-75FE6447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72A0E-C0DF-413A-B9B3-362ACEB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80F89-C2D7-4DE8-901A-82600319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6F9AC-B706-40E2-9020-43600E0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E97F7-79FB-4C34-A855-082D366C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33593-0193-4570-8FF3-D45C885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1A869-E97F-4418-BA73-A8CC54EE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D1051-ABED-4652-9286-27A46E8A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4E11A-C84D-4CC4-9E28-3C52E81D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090BB-C9D4-4588-882E-3E8EB2A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B88-2BC0-47F2-BC7E-0CCDE6B6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5071C-4F11-4801-89A6-DAD1E57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5B31-879B-4560-A039-33BD73DA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29121-D178-4964-A495-8D888313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791D1-AF4D-4E7C-920B-C00752F5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E9CC-C859-4CEF-B3E1-55887ED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C4AA9-908D-48CE-B61E-66445162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42E01-E96C-474C-A984-F7292E82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6AC2F-F509-40C9-9451-00DF4A9B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F3B13-B3B1-40E0-AAFF-909E5736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BE335-A369-478C-ADD6-20354DE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1D7-BEC8-4C5E-8C47-5B8F75A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A5864-BEA1-4CCD-8639-95675DAC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FD6B1-5A42-485D-9BDC-B079BA68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C6082-6E5A-412B-8C70-EE280693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FD49B-9727-42DB-B183-01DD94B6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E932D-D35F-426A-BB00-F997821D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1A6-CDE5-4EC1-8A3A-99D47BC5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E97-382C-42EB-B8C7-8270457E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1A0-76F9-4347-BB16-643A1E0A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4E7-6B3C-47AF-B535-4CB3641A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829-D7BC-426A-9095-0EC83A4D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43D-3060-42A0-8701-1BCA068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D7F-5830-45E4-97A9-AECFDB1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D66-9D81-4C0B-B7D8-263D042F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E78-9037-4124-820F-7B5158EF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D81-43DA-4BB7-8B72-BC62743E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C838-3841-4A40-8F32-0CBF9666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5759-B9C3-4B91-BA3C-90E4ACC2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8695-0537-4BFC-AFC3-D9EBD39A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FD53-91C3-44BA-B00A-D8DFF935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5D6-3746-4FB5-919E-F35208CF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C1B1-D516-4AC3-A520-81599802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6A1-6411-42A8-9938-12B2072C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4F23-477F-4466-BA0F-AC976914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C291-0A9F-4E57-8001-AC5A863C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31AB-DF13-4D0A-AB0F-93341559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9AD5-18CB-4240-9130-D2EFD801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2D18-D37D-4A88-BA54-B27012F2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936E-214E-4B29-9DF4-B4ABF2BB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C9F6F-7A64-41E0-8D1D-2066E0D6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18971-1CE0-4B52-BFC3-73562A9A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4CC1F-980B-4BDD-AA76-46723656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3C7E2-94A5-4062-A2AC-3E9FE55D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8DFC-77EE-42CB-9D2F-15BFFE25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CBE8-11A5-4C02-9D9E-951A36D2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515D4-18EF-407C-BC4A-6D4571D4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84B0-FA34-48BC-9E13-3F05858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C85EF-1922-40AE-B2EE-A1D0A9A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1434-AF93-4E69-BDD2-B327CE4E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C858-1AF5-49C7-B835-F3588160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F741-7B96-453D-B269-DE135B93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E5832-753F-47BB-97FD-E638F740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C92B-3BA3-4EC7-9931-2D5C0A6D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56FF-030A-4DAD-B690-22498348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FC03-00EF-49B3-91D2-0A68DBE8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470B-0D8F-42B4-8324-010FB0F4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DA11-1D46-4A14-AEFB-AAE0B08D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C445-83C4-4C64-B480-BE3878C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CCAA-7B13-4283-969C-933CBB3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8B78C-7EB1-42AC-A941-56FD8B8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0CF2E-46CF-4125-BCF2-697B484A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52B4F-1001-4E7C-9908-14706B9C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EF9C-AF91-4C33-BDC1-CA1E2926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F7C56-8A26-407F-A358-29033FA4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597A4-AD0D-4762-BCF2-DBDA7F78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2F292-1476-4048-819B-9484B90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1D16D-A797-46A1-B8B3-EB8F828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478C7-19CF-45B6-A0DF-96B41256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46FFD-F503-4AF8-AE9D-ACD86910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5E2C-3BC1-438E-BC24-4AC562B4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5621C-F255-48B6-9D20-B8826D0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AA02B-7BB5-459F-8ADF-51D5F810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2AD53-E449-44A3-A990-1CC460DB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CC175-665A-4564-932F-AAACF5D7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7D5F-356B-49A0-9145-10D9592B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4B878-2AD9-4C3D-8AB7-CC149C2C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4B79B-EB90-47C1-8CC3-A83BD7C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107FF-6E86-4A08-88EC-A8ADD9FC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BE62-E27D-49E2-A6AB-AAA2D4F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CC9D-3EDE-4839-B72E-3F792B9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D5CD-5A81-4013-969C-AF272DC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7328-084F-49C6-8C93-E97C301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8B749-72DB-46E9-BBE6-7913FD17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48C3A-AB7D-4BB0-97C1-90A006B1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86AA5-319C-4AE8-8FF1-9DC277E3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D5552-98C7-4EBA-B33D-06488584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920E5-2B7B-4F63-910B-23FCAB18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2E70F-373C-40CB-8E6C-EA88AD6C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8207C-AFF4-458A-8396-E464875F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00308-39B5-4CE3-9789-37958F51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33DC-667C-4749-8846-D46A6FD5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63F0E-3619-4888-893C-92E80C70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60738-2364-41E4-B87C-3DCDA52C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7ABE9-0635-4860-B405-4165183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EDFE6-11E9-4A1F-B015-DD016F4F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B3BF9-6909-4559-AA2B-C8B13995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51AED-2A67-4327-9FE3-618507F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EF372-F244-449D-BF45-D0AB92B9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D69A4-AE41-4E87-816D-9EC39164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F0636-63AE-47D5-AA22-89C7B700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639C8-40FD-42B6-8253-00010D0C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26EC-BFE5-4B51-9362-393C3D3204D5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5558-AA5C-4722-AFCE-C1B07F62D843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978-739C-4078-91CD-1AF2129AB87E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538-DF2B-45F1-9ED9-986864D56568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9A39-9FE8-4BAC-B031-14BBAF03298D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94FD-60C7-49E1-9011-1C192B8BDD1E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C403-B2FC-413D-8999-EC9B9EA86844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E5C9-5B42-4B92-94A7-2BE498943758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0587-72A0-4A32-BADB-1E235B6475C8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B4FA-BFE4-46E0-A051-C6517335C360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CFB0-4E3A-41A6-9236-5095D6C08FBA}" type="slidenum"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7.jpeg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4"/>
          <p:cNvSpPr/>
          <p:nvPr/>
        </p:nvSpPr>
        <p:spPr>
          <a:xfrm>
            <a:off x="2484360" y="2087640"/>
            <a:ext cx="59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494c8"/>
                </a:solidFill>
                <a:latin typeface="Times New Roman"/>
                <a:ea typeface="Times New Roman"/>
              </a:rPr>
              <a:t>Звук и буква 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Прямоугольник 6" descr=""/>
          <p:cNvPicPr/>
          <p:nvPr/>
        </p:nvPicPr>
        <p:blipFill>
          <a:blip r:embed="rId1"/>
          <a:stretch/>
        </p:blipFill>
        <p:spPr>
          <a:xfrm>
            <a:off x="249120" y="4438800"/>
            <a:ext cx="1446480" cy="14443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1"/>
          <p:cNvSpPr/>
          <p:nvPr/>
        </p:nvSpPr>
        <p:spPr>
          <a:xfrm>
            <a:off x="4643280" y="4513320"/>
            <a:ext cx="372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-логоп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инская Е.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Прямоугольник 2"/>
          <p:cNvSpPr/>
          <p:nvPr/>
        </p:nvSpPr>
        <p:spPr>
          <a:xfrm>
            <a:off x="2292480" y="836640"/>
            <a:ext cx="571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529"/>
                </a:solidFill>
                <a:latin typeface="Times New Roman"/>
                <a:ea typeface="Times New Roman"/>
              </a:rPr>
              <a:t>Презентация к уроку по коррекционному курсу "Альтернативная коммуникация"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https://i.pinimg.com/originals/39/b5/af/39b5af8a30e850d32319c6f9b5e0ea57.jpg"/>
          <p:cNvPicPr/>
          <p:nvPr/>
        </p:nvPicPr>
        <p:blipFill>
          <a:blip r:embed="rId1"/>
          <a:srcRect l="0" t="62283" r="0" b="0"/>
          <a:stretch/>
        </p:blipFill>
        <p:spPr>
          <a:xfrm>
            <a:off x="2195640" y="3284640"/>
            <a:ext cx="6246720" cy="25016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"/>
          <p:cNvSpPr/>
          <p:nvPr/>
        </p:nvSpPr>
        <p:spPr>
          <a:xfrm>
            <a:off x="1952640" y="6588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м бук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6" descr="https://sovyatka.ru/800/600/https/1.bp.blogspot.com/-ZTLfbjrBHlo/XayOco3MTcI/AAAAAAAAJSA/bENnDgSrivEFlEJH0Pz1LMow4xJZ8bnegCLcBGAsYHQ/s1600/hello_html_67231caf.png"/>
          <p:cNvPicPr/>
          <p:nvPr/>
        </p:nvPicPr>
        <p:blipFill>
          <a:blip r:embed="rId2"/>
          <a:stretch/>
        </p:blipFill>
        <p:spPr>
          <a:xfrm>
            <a:off x="5319720" y="658800"/>
            <a:ext cx="29592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Box 1"/>
          <p:cNvSpPr/>
          <p:nvPr/>
        </p:nvSpPr>
        <p:spPr>
          <a:xfrm>
            <a:off x="2633760" y="426960"/>
            <a:ext cx="51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м слоги с буквой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Группа 3"/>
          <p:cNvGrpSpPr/>
          <p:nvPr/>
        </p:nvGrpSpPr>
        <p:grpSpPr>
          <a:xfrm>
            <a:off x="2208240" y="1268280"/>
            <a:ext cx="5951520" cy="4464360"/>
            <a:chOff x="2208240" y="1268280"/>
            <a:chExt cx="5951520" cy="4464360"/>
          </a:xfrm>
        </p:grpSpPr>
        <p:pic>
          <p:nvPicPr>
            <p:cNvPr id="540" name="Picture 4" descr="https://sun9-64.userapi.com/impg/qb9s0AQoiFTJjtixn5I2XY-XA7xARGXcLxoypA/Sc4MMN9J3J4.jpg?size=604x453&amp;quality=96&amp;sign=ab464bc747b4ce6815769cb53bd13155&amp;c_uniq_tag=phFWduU77PqLswOIjgLE0zTQ9feA47k3R64dc5FK_C4&amp;type=album"/>
            <p:cNvPicPr/>
            <p:nvPr/>
          </p:nvPicPr>
          <p:blipFill>
            <a:blip r:embed="rId1"/>
            <a:stretch/>
          </p:blipFill>
          <p:spPr>
            <a:xfrm>
              <a:off x="2208240" y="1268280"/>
              <a:ext cx="5951520" cy="446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"/>
            <p:cNvSpPr/>
            <p:nvPr/>
          </p:nvSpPr>
          <p:spPr>
            <a:xfrm>
              <a:off x="4832280" y="2564280"/>
              <a:ext cx="935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Box 1"/>
          <p:cNvSpPr/>
          <p:nvPr/>
        </p:nvSpPr>
        <p:spPr>
          <a:xfrm>
            <a:off x="2050920" y="1052640"/>
            <a:ext cx="65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формирование представлений о букве 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познакомить с графическим изображением буквы 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фонематический слух и навык проведения звукобуквенного анализа сл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графо-моторных навыков, пишем букву 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ть навык правильного, сознательного, выразительного чтения слогов с изученными бук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Box 1"/>
          <p:cNvSpPr/>
          <p:nvPr/>
        </p:nvSpPr>
        <p:spPr>
          <a:xfrm>
            <a:off x="3351240" y="3016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й загад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124000" y="4869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нают взрослые и дети — Тонкие плетёт он сети, Мухам враг он, а не друг. Как зовут его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Прямоугольник 3"/>
          <p:cNvSpPr/>
          <p:nvPr/>
        </p:nvSpPr>
        <p:spPr>
          <a:xfrm>
            <a:off x="2124000" y="3157560"/>
            <a:ext cx="393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а стеклом сидит синьор, Толстый, красный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Прямоугольник 4"/>
          <p:cNvSpPr/>
          <p:nvPr/>
        </p:nvSpPr>
        <p:spPr>
          <a:xfrm>
            <a:off x="1979640" y="1260360"/>
            <a:ext cx="43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Ходит в белом колпаке С поварёшкою в руке. Он готовит нам обед: кашу, щи и винегр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Группа 1"/>
          <p:cNvGrpSpPr/>
          <p:nvPr/>
        </p:nvGrpSpPr>
        <p:grpSpPr>
          <a:xfrm>
            <a:off x="7286760" y="684360"/>
            <a:ext cx="1116000" cy="2181600"/>
            <a:chOff x="7286760" y="684360"/>
            <a:chExt cx="1116000" cy="2181600"/>
          </a:xfrm>
        </p:grpSpPr>
        <p:pic>
          <p:nvPicPr>
            <p:cNvPr id="477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7286760" y="684360"/>
              <a:ext cx="111600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Прямоугольник 5"/>
            <p:cNvSpPr/>
            <p:nvPr/>
          </p:nvSpPr>
          <p:spPr>
            <a:xfrm>
              <a:off x="7417080" y="2467080"/>
              <a:ext cx="86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</a:t>
              </a:r>
              <a:r>
                <a:rPr b="0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овар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9" name="Группа 2"/>
          <p:cNvGrpSpPr/>
          <p:nvPr/>
        </p:nvGrpSpPr>
        <p:grpSpPr>
          <a:xfrm>
            <a:off x="5037120" y="2521080"/>
            <a:ext cx="1492200" cy="1787760"/>
            <a:chOff x="5037120" y="2521080"/>
            <a:chExt cx="1492200" cy="1787760"/>
          </a:xfrm>
        </p:grpSpPr>
        <p:pic>
          <p:nvPicPr>
            <p:cNvPr id="480" name="Рисунок 7" descr=""/>
            <p:cNvPicPr/>
            <p:nvPr/>
          </p:nvPicPr>
          <p:blipFill>
            <a:blip r:embed="rId2"/>
            <a:stretch/>
          </p:blipFill>
          <p:spPr>
            <a:xfrm>
              <a:off x="5037120" y="2521080"/>
              <a:ext cx="149220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Прямоугольник 8"/>
            <p:cNvSpPr/>
            <p:nvPr/>
          </p:nvSpPr>
          <p:spPr>
            <a:xfrm>
              <a:off x="5262840" y="3909960"/>
              <a:ext cx="11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</a:t>
              </a:r>
              <a:r>
                <a:rPr b="0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омидор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Группа 3"/>
          <p:cNvGrpSpPr/>
          <p:nvPr/>
        </p:nvGrpSpPr>
        <p:grpSpPr>
          <a:xfrm>
            <a:off x="6875640" y="3807000"/>
            <a:ext cx="1703160" cy="2075040"/>
            <a:chOff x="6875640" y="3807000"/>
            <a:chExt cx="1703160" cy="2075040"/>
          </a:xfrm>
        </p:grpSpPr>
        <p:pic>
          <p:nvPicPr>
            <p:cNvPr id="483" name="Рисунок 9" descr=""/>
            <p:cNvPicPr/>
            <p:nvPr/>
          </p:nvPicPr>
          <p:blipFill>
            <a:blip r:embed="rId3"/>
            <a:stretch/>
          </p:blipFill>
          <p:spPr>
            <a:xfrm>
              <a:off x="6875640" y="3807000"/>
              <a:ext cx="17031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Прямоугольник 11"/>
            <p:cNvSpPr/>
            <p:nvPr/>
          </p:nvSpPr>
          <p:spPr>
            <a:xfrm>
              <a:off x="7284240" y="5483160"/>
              <a:ext cx="74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П</a:t>
              </a:r>
              <a:r>
                <a:rPr b="0" lang="ru-RU" sz="2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ау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5" name="TextBox 12"/>
          <p:cNvSpPr/>
          <p:nvPr/>
        </p:nvSpPr>
        <p:spPr>
          <a:xfrm>
            <a:off x="3059280" y="6316560"/>
            <a:ext cx="44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звук слышим в начале сл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2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https://abvgdee.ru/images/kartinki/alfavit6/p.jpg"/>
          <p:cNvPicPr/>
          <p:nvPr/>
        </p:nvPicPr>
        <p:blipFill>
          <a:blip r:embed="rId1"/>
          <a:srcRect l="1820" t="0" r="1726" b="0"/>
          <a:stretch/>
        </p:blipFill>
        <p:spPr>
          <a:xfrm>
            <a:off x="1908000" y="760320"/>
            <a:ext cx="6912000" cy="574848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"/>
          <p:cNvSpPr/>
          <p:nvPr/>
        </p:nvSpPr>
        <p:spPr>
          <a:xfrm>
            <a:off x="3203640" y="2365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слова на букву 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https://advour.ru/wp-content/uploads/4/d/a/4dad7fb7a0ef6746132f427e8dc768e7.jpeg"/>
          <p:cNvPicPr/>
          <p:nvPr/>
        </p:nvPicPr>
        <p:blipFill>
          <a:blip r:embed="rId1"/>
          <a:srcRect l="59240" t="54142" r="4457" b="7643"/>
          <a:stretch/>
        </p:blipFill>
        <p:spPr>
          <a:xfrm>
            <a:off x="2165400" y="1069920"/>
            <a:ext cx="1849320" cy="14590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https://advour.ru/wp-content/uploads/4/d/a/4dad7fb7a0ef6746132f427e8dc768e7.jpeg"/>
          <p:cNvPicPr/>
          <p:nvPr/>
        </p:nvPicPr>
        <p:blipFill>
          <a:blip r:embed="rId2"/>
          <a:srcRect l="7961" t="16882" r="61469" b="44908"/>
          <a:stretch/>
        </p:blipFill>
        <p:spPr>
          <a:xfrm>
            <a:off x="2212920" y="2717640"/>
            <a:ext cx="1805040" cy="1692360"/>
          </a:xfrm>
          <a:prstGeom prst="rect">
            <a:avLst/>
          </a:prstGeom>
          <a:ln w="0">
            <a:noFill/>
          </a:ln>
        </p:spPr>
      </p:pic>
      <p:sp>
        <p:nvSpPr>
          <p:cNvPr id="490" name="TextBox 1"/>
          <p:cNvSpPr/>
          <p:nvPr/>
        </p:nvSpPr>
        <p:spPr>
          <a:xfrm>
            <a:off x="2556000" y="297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то похожа букв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2" descr="https://almadeladanza.ru/wp-content/uploads/e/5/c/e5cc57112bc2f735a13d9375b2b3d514.jpeg"/>
          <p:cNvPicPr/>
          <p:nvPr/>
        </p:nvPicPr>
        <p:blipFill>
          <a:blip r:embed="rId3"/>
          <a:srcRect l="7228" t="3643" r="6732" b="19879"/>
          <a:stretch/>
        </p:blipFill>
        <p:spPr>
          <a:xfrm>
            <a:off x="4475160" y="1827360"/>
            <a:ext cx="2232000" cy="20332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https://shareslide.ru/img/thumbs/eb8c992084c4713628301808fa18562d-800x.jpg"/>
          <p:cNvPicPr/>
          <p:nvPr/>
        </p:nvPicPr>
        <p:blipFill>
          <a:blip r:embed="rId4"/>
          <a:srcRect l="3359" t="4479" r="65300" b="56718"/>
          <a:stretch/>
        </p:blipFill>
        <p:spPr>
          <a:xfrm>
            <a:off x="5602320" y="4540320"/>
            <a:ext cx="1655640" cy="15364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" descr="https://advour.ru/wp-content/uploads/4/d/a/4dad7fb7a0ef6746132f427e8dc768e7.jpeg"/>
          <p:cNvPicPr/>
          <p:nvPr/>
        </p:nvPicPr>
        <p:blipFill>
          <a:blip r:embed="rId5"/>
          <a:srcRect l="7642" t="63701" r="77654" b="3181"/>
          <a:stretch/>
        </p:blipFill>
        <p:spPr>
          <a:xfrm>
            <a:off x="7245360" y="781200"/>
            <a:ext cx="1444680" cy="24368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https://fikiwiki.com/uploads/posts/2022-02/1645004739_37-fikiwiki-com-p-kartinki-bukva-p-40.jpg"/>
          <p:cNvPicPr/>
          <p:nvPr/>
        </p:nvPicPr>
        <p:blipFill>
          <a:blip r:embed="rId6"/>
          <a:srcRect l="50797" t="20000" r="3176" b="5931"/>
          <a:stretch/>
        </p:blipFill>
        <p:spPr>
          <a:xfrm>
            <a:off x="7068960" y="3218040"/>
            <a:ext cx="1644840" cy="19857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ttps://shareslide.ru/img/thumbs/eb8c992084c4713628301808fa18562d-800x.jpg"/>
          <p:cNvPicPr/>
          <p:nvPr/>
        </p:nvPicPr>
        <p:blipFill>
          <a:blip r:embed="rId7"/>
          <a:srcRect l="37743" t="4479" r="31719" b="56718"/>
          <a:stretch/>
        </p:blipFill>
        <p:spPr>
          <a:xfrm>
            <a:off x="3575160" y="4471920"/>
            <a:ext cx="18018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Прямоугольник 1"/>
          <p:cNvSpPr/>
          <p:nvPr/>
        </p:nvSpPr>
        <p:spPr>
          <a:xfrm>
            <a:off x="3221280" y="333360"/>
            <a:ext cx="349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ложим букву 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Picture 8" descr="https://cdn2.imgbb.ru/user/102/1021701/201508/1cdb2a754f76b91d2cffe7cdc6b90bd8.jpg"/>
          <p:cNvPicPr/>
          <p:nvPr/>
        </p:nvPicPr>
        <p:blipFill>
          <a:blip r:embed="rId1"/>
          <a:stretch/>
        </p:blipFill>
        <p:spPr>
          <a:xfrm>
            <a:off x="2700360" y="112536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2"/>
          <p:cNvSpPr/>
          <p:nvPr/>
        </p:nvSpPr>
        <p:spPr>
          <a:xfrm>
            <a:off x="2557440" y="549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и обведи все буквы 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Picture 2" descr="https://i.pinimg.com/originals/e1/f6/e1/e1f6e176386c019dec1797d129442555.gif"/>
          <p:cNvPicPr/>
          <p:nvPr/>
        </p:nvPicPr>
        <p:blipFill>
          <a:blip r:embed="rId1"/>
          <a:stretch/>
        </p:blipFill>
        <p:spPr>
          <a:xfrm>
            <a:off x="2124000" y="1989000"/>
            <a:ext cx="626580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Box 4"/>
          <p:cNvSpPr/>
          <p:nvPr/>
        </p:nvSpPr>
        <p:spPr>
          <a:xfrm>
            <a:off x="1922400" y="81000"/>
            <a:ext cx="6676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 с буквой П только те предметы, названия которых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ются с данного зву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6" descr="https://avatars.mds.yandex.net/i?id=dbd8d5b48863900ec74821a2f2a7825a_l-4987768-images-thumbs&amp;n=13"/>
          <p:cNvPicPr/>
          <p:nvPr/>
        </p:nvPicPr>
        <p:blipFill>
          <a:blip r:embed="rId1"/>
          <a:stretch/>
        </p:blipFill>
        <p:spPr>
          <a:xfrm>
            <a:off x="7389720" y="5257800"/>
            <a:ext cx="1238400" cy="85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ttps://gas-kvas.com/uploads/posts/2023-01/1673524868_gas-kvas-com-p-detskii-risunok-pila-1.png"/>
          <p:cNvPicPr/>
          <p:nvPr/>
        </p:nvPicPr>
        <p:blipFill>
          <a:blip r:embed="rId2"/>
          <a:stretch/>
        </p:blipFill>
        <p:spPr>
          <a:xfrm rot="19575600">
            <a:off x="7601040" y="3492000"/>
            <a:ext cx="944640" cy="1420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0" descr="https://i.artfile.ru/3338x2644_1183965_%5bwww.ArtFile.ru%5d.jpg"/>
          <p:cNvPicPr/>
          <p:nvPr/>
        </p:nvPicPr>
        <p:blipFill>
          <a:blip r:embed="rId3"/>
          <a:srcRect l="-9235" t="0" r="24737" b="-24"/>
          <a:stretch/>
        </p:blipFill>
        <p:spPr>
          <a:xfrm>
            <a:off x="5800680" y="3298680"/>
            <a:ext cx="1589040" cy="14907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2" descr="https://polinka.top/uploads/posts/2023-06/1686276619_polinka-top-p-russkaya-pechka-kartinka-dlya-detei-instag-2.jpg"/>
          <p:cNvPicPr/>
          <p:nvPr/>
        </p:nvPicPr>
        <p:blipFill>
          <a:blip r:embed="rId4"/>
          <a:srcRect l="0" t="5781" r="0" b="7068"/>
          <a:stretch/>
        </p:blipFill>
        <p:spPr>
          <a:xfrm>
            <a:off x="2313000" y="1576440"/>
            <a:ext cx="1168560" cy="1439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4" descr="https://superawesomevectors.com/wp-content/uploads/2016/10/cartoon-style-wooden-barrel-vector-800x566.jpg"/>
          <p:cNvPicPr/>
          <p:nvPr/>
        </p:nvPicPr>
        <p:blipFill>
          <a:blip r:embed="rId5"/>
          <a:srcRect l="29614" t="11348" r="29763" b="12533"/>
          <a:stretch/>
        </p:blipFill>
        <p:spPr>
          <a:xfrm>
            <a:off x="6300720" y="1868400"/>
            <a:ext cx="787320" cy="10447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8" descr="С зонтиком для детей на прозрачном"/>
          <p:cNvPicPr/>
          <p:nvPr/>
        </p:nvPicPr>
        <p:blipFill>
          <a:blip r:embed="rId6"/>
          <a:stretch/>
        </p:blipFill>
        <p:spPr>
          <a:xfrm>
            <a:off x="5500800" y="4548240"/>
            <a:ext cx="1342800" cy="15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0" descr="розовый бант"/>
          <p:cNvPicPr/>
          <p:nvPr/>
        </p:nvPicPr>
        <p:blipFill>
          <a:blip r:embed="rId7"/>
          <a:stretch/>
        </p:blipFill>
        <p:spPr>
          <a:xfrm>
            <a:off x="7297560" y="1576440"/>
            <a:ext cx="857520" cy="11016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2" descr="http://img-fotki.yandex.ru/get/9496/16969765.1b5/0_87ae8_684430ed_M.png"/>
          <p:cNvPicPr/>
          <p:nvPr/>
        </p:nvPicPr>
        <p:blipFill>
          <a:blip r:embed="rId8"/>
          <a:stretch/>
        </p:blipFill>
        <p:spPr>
          <a:xfrm>
            <a:off x="2227320" y="4648320"/>
            <a:ext cx="961920" cy="1395360"/>
          </a:xfrm>
          <a:prstGeom prst="rect">
            <a:avLst/>
          </a:prstGeom>
          <a:ln w="0">
            <a:noFill/>
          </a:ln>
        </p:spPr>
      </p:pic>
      <p:grpSp>
        <p:nvGrpSpPr>
          <p:cNvPr id="509" name="Группа 9"/>
          <p:cNvGrpSpPr/>
          <p:nvPr/>
        </p:nvGrpSpPr>
        <p:grpSpPr>
          <a:xfrm>
            <a:off x="4695840" y="1928880"/>
            <a:ext cx="1130400" cy="1431720"/>
            <a:chOff x="4695840" y="1928880"/>
            <a:chExt cx="1130400" cy="1431720"/>
          </a:xfrm>
        </p:grpSpPr>
        <p:sp>
          <p:nvSpPr>
            <p:cNvPr id="510" name="Овал 8"/>
            <p:cNvSpPr/>
            <p:nvPr/>
          </p:nvSpPr>
          <p:spPr>
            <a:xfrm>
              <a:off x="4695840" y="1928880"/>
              <a:ext cx="1130400" cy="14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Прямоугольник 7"/>
            <p:cNvSpPr/>
            <p:nvPr/>
          </p:nvSpPr>
          <p:spPr>
            <a:xfrm>
              <a:off x="4936320" y="2195280"/>
              <a:ext cx="780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7494c8"/>
                  </a:solidFill>
                  <a:latin typeface="Times New Roman"/>
                  <a:ea typeface="Times New Roman"/>
                </a:rPr>
                <a:t>П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2" name="Picture 4" descr="https://avatars.mds.yandex.net/i?id=a181c0433190bfed4ed3f8c02cdf24830b18219b-4838719-images-thumbs&amp;n=13"/>
          <p:cNvPicPr/>
          <p:nvPr/>
        </p:nvPicPr>
        <p:blipFill>
          <a:blip r:embed="rId9"/>
          <a:srcRect l="4724" t="7131" r="3929" b="10858"/>
          <a:stretch/>
        </p:blipFill>
        <p:spPr>
          <a:xfrm>
            <a:off x="2098800" y="3433680"/>
            <a:ext cx="2541600" cy="1008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4" descr="https://gas-kvas.com/uploads/posts/2023-01/1673456448_gas-kvas-com-p-parokhod-detskii-risunok-1.jpg"/>
          <p:cNvPicPr/>
          <p:nvPr/>
        </p:nvPicPr>
        <p:blipFill>
          <a:blip r:embed="rId10"/>
          <a:stretch/>
        </p:blipFill>
        <p:spPr>
          <a:xfrm>
            <a:off x="3564000" y="4716360"/>
            <a:ext cx="17938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https://i.pinimg.com/originals/f9/61/c0/f961c08c3a55208e9d2df3afde0cd02d.jpg"/>
          <p:cNvPicPr/>
          <p:nvPr/>
        </p:nvPicPr>
        <p:blipFill>
          <a:blip r:embed="rId1"/>
          <a:stretch/>
        </p:blipFill>
        <p:spPr>
          <a:xfrm>
            <a:off x="2484360" y="115920"/>
            <a:ext cx="5112000" cy="6232320"/>
          </a:xfrm>
          <a:prstGeom prst="rect">
            <a:avLst/>
          </a:prstGeom>
          <a:ln w="0">
            <a:noFill/>
          </a:ln>
        </p:spPr>
      </p:pic>
      <p:cxnSp>
        <p:nvCxnSpPr>
          <p:cNvPr id="515" name="Прямая со стрелкой 4"/>
          <p:cNvCxnSpPr/>
          <p:nvPr/>
        </p:nvCxnSpPr>
        <p:spPr>
          <a:xfrm>
            <a:off x="3851280" y="1773000"/>
            <a:ext cx="434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Прямая со стрелкой 6"/>
          <p:cNvCxnSpPr/>
          <p:nvPr/>
        </p:nvCxnSpPr>
        <p:spPr>
          <a:xfrm>
            <a:off x="4500360" y="177300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Прямая со стрелкой 7"/>
          <p:cNvCxnSpPr/>
          <p:nvPr/>
        </p:nvCxnSpPr>
        <p:spPr>
          <a:xfrm>
            <a:off x="5040000" y="1773000"/>
            <a:ext cx="1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Прямая со стрелкой 12"/>
          <p:cNvCxnSpPr/>
          <p:nvPr/>
        </p:nvCxnSpPr>
        <p:spPr>
          <a:xfrm flipV="1">
            <a:off x="5148360" y="2400120"/>
            <a:ext cx="4593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Прямая со стрелкой 14"/>
          <p:cNvCxnSpPr/>
          <p:nvPr/>
        </p:nvCxnSpPr>
        <p:spPr>
          <a:xfrm flipV="1">
            <a:off x="5874840" y="2408040"/>
            <a:ext cx="459720" cy="10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Прямая со стрелкой 15"/>
          <p:cNvCxnSpPr/>
          <p:nvPr/>
        </p:nvCxnSpPr>
        <p:spPr>
          <a:xfrm flipV="1">
            <a:off x="4500720" y="5299920"/>
            <a:ext cx="459360" cy="10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Прямая со стрелкой 16"/>
          <p:cNvCxnSpPr/>
          <p:nvPr/>
        </p:nvCxnSpPr>
        <p:spPr>
          <a:xfrm>
            <a:off x="3718080" y="4876920"/>
            <a:ext cx="1152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Прямая со стрелкой 17"/>
          <p:cNvCxnSpPr/>
          <p:nvPr/>
        </p:nvCxnSpPr>
        <p:spPr>
          <a:xfrm>
            <a:off x="3701880" y="4149360"/>
            <a:ext cx="7200" cy="3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Прямая со стрелкой 20"/>
          <p:cNvCxnSpPr/>
          <p:nvPr/>
        </p:nvCxnSpPr>
        <p:spPr>
          <a:xfrm>
            <a:off x="6411960" y="2276640"/>
            <a:ext cx="7200" cy="546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Прямая со стрелкой 24"/>
          <p:cNvCxnSpPr/>
          <p:nvPr/>
        </p:nvCxnSpPr>
        <p:spPr>
          <a:xfrm>
            <a:off x="6411960" y="2923920"/>
            <a:ext cx="720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Прямая со стрелкой 27"/>
          <p:cNvCxnSpPr/>
          <p:nvPr/>
        </p:nvCxnSpPr>
        <p:spPr>
          <a:xfrm flipH="1" flipV="1">
            <a:off x="5863680" y="3499560"/>
            <a:ext cx="362520" cy="1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Прямая со стрелкой 30"/>
          <p:cNvCxnSpPr/>
          <p:nvPr/>
        </p:nvCxnSpPr>
        <p:spPr>
          <a:xfrm flipH="1" flipV="1">
            <a:off x="5197320" y="3509640"/>
            <a:ext cx="362520" cy="1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Прямая со стрелкой 31"/>
          <p:cNvCxnSpPr/>
          <p:nvPr/>
        </p:nvCxnSpPr>
        <p:spPr>
          <a:xfrm flipH="1" flipV="1">
            <a:off x="4500000" y="4129920"/>
            <a:ext cx="362520" cy="1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Прямая со стрелкой 32"/>
          <p:cNvCxnSpPr/>
          <p:nvPr/>
        </p:nvCxnSpPr>
        <p:spPr>
          <a:xfrm flipH="1" flipV="1">
            <a:off x="3850560" y="4122000"/>
            <a:ext cx="362520" cy="1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Прямая со стрелкой 33"/>
          <p:cNvCxnSpPr/>
          <p:nvPr/>
        </p:nvCxnSpPr>
        <p:spPr>
          <a:xfrm>
            <a:off x="5040360" y="3593880"/>
            <a:ext cx="720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Прямая со стрелкой 34"/>
          <p:cNvCxnSpPr/>
          <p:nvPr/>
        </p:nvCxnSpPr>
        <p:spPr>
          <a:xfrm>
            <a:off x="5040360" y="5287680"/>
            <a:ext cx="7200" cy="470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1" name="Прямая со стрелкой 35"/>
          <p:cNvCxnSpPr/>
          <p:nvPr/>
        </p:nvCxnSpPr>
        <p:spPr>
          <a:xfrm>
            <a:off x="5175000" y="587664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Прямая со стрелкой 36"/>
          <p:cNvCxnSpPr/>
          <p:nvPr/>
        </p:nvCxnSpPr>
        <p:spPr>
          <a:xfrm>
            <a:off x="5887800" y="5876640"/>
            <a:ext cx="432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3" name="Прямая со стрелкой 37"/>
          <p:cNvCxnSpPr/>
          <p:nvPr/>
        </p:nvCxnSpPr>
        <p:spPr>
          <a:xfrm>
            <a:off x="3701520" y="1125360"/>
            <a:ext cx="1080" cy="648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Прямая со стрелкой 40"/>
          <p:cNvCxnSpPr/>
          <p:nvPr/>
        </p:nvCxnSpPr>
        <p:spPr>
          <a:xfrm flipV="1">
            <a:off x="3863520" y="5262120"/>
            <a:ext cx="461160" cy="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6T18:18:01Z</dcterms:created>
  <dc:creator>Фокина Лидия Петровна</dc:creator>
  <dc:description/>
  <cp:keywords>Шаблон презентации</cp:keywords>
  <dc:language>en-US</dc:language>
  <cp:lastModifiedBy>Учитель</cp:lastModifiedBy>
  <dcterms:modified xsi:type="dcterms:W3CDTF">2023-11-02T12:53:15Z</dcterms:modified>
  <cp:revision>162</cp:revision>
  <dc:subject/>
  <dc:title>Тетрадь на спирали</dc:title>
</cp:coreProperties>
</file>