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30B-0A7C-4C38-A9DF-F8270C04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1B9-DF63-4D92-A950-261B58F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D77-9800-4DF3-AFDB-71A1D13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208-B308-491B-B4E4-50C4D34E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D79-A358-4540-9497-AFB1F0E5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6BD-0CF6-495D-90DB-F0C3661B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9DA-FD25-408C-8E0B-52FA91D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CB9-9AFE-499D-BA8B-59C480E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A80-1AD0-47E1-A137-80E0CB5F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DFE-61FA-4761-8071-3CDB392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493-395B-404D-86E7-05F8156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8A1-EE45-4FFB-8651-3DEB999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8FF3-181F-4A2C-9A93-0D55A252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_3731"/>
          <p:cNvPicPr/>
          <p:nvPr/>
        </p:nvPicPr>
        <p:blipFill>
          <a:blip r:embed="rId1"/>
          <a:stretch/>
        </p:blipFill>
        <p:spPr>
          <a:xfrm>
            <a:off x="6858000" y="5041800"/>
            <a:ext cx="1981080" cy="15163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42" name="Text Box 8"/>
          <p:cNvSpPr/>
          <p:nvPr/>
        </p:nvSpPr>
        <p:spPr>
          <a:xfrm>
            <a:off x="2590920" y="60357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заводский рай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28600" y="1600200"/>
            <a:ext cx="86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Times New Roman"/>
              </a:rPr>
              <a:t>Учебная мотив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Times New Roman"/>
              </a:rPr>
              <a:t>МБОУ «Школа № 1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648320" y="4191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Балахон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292320" y="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09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каз, лекция, беседа позволяют разъяснять учащимся значимость учения, как в общественном, так и в личностном плане - для получения желаемой профессии, для активной общественной и культурной жизни в обществе. Яркий, образный рассказ невольно приковывает внимание учеников к теме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еизвестно стимулирующее влияние наглядности, которая повышает интерес школьников к изучаемым вопросам, возбуждает новые силы, позволяющие преодолеть утомляемость. Ученики, особенно мальчики, позволяют повышенный интерес к практическим работам, которые в этом случае выступают в роли стимуляторов активности в 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Ценным стимулирующим влиянием обладают проблемно-поисковые методы в том случае, когда проблемные ситуации находятся в зоне реальных учебных возможностей школьников, т.е. доступны для самостоятельного разрешения. В этом случае мотивом учебной деятельности учащихся является стремление решить поставленную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3840" y="838080"/>
            <a:ext cx="90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род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7820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оцесс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звитие зоны ближайше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Контакт со школой, изучение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Контроль за самооценкой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Поощ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28800" y="-21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-3124080" y="306360"/>
            <a:ext cx="1533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Мониторинг учебной мотив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2021-2022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828800"/>
          <a:ext cx="8364600" cy="4343040"/>
        </p:xfrm>
        <a:graphic>
          <a:graphicData uri="http://schemas.openxmlformats.org/drawingml/2006/table">
            <a:tbl>
              <a:tblPr/>
              <a:tblGrid>
                <a:gridCol w="2787840"/>
                <a:gridCol w="2851200"/>
                <a:gridCol w="2725560"/>
              </a:tblGrid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чальная шко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нее звен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ршее звен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класс – 1уч. 2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класс- 1 уч. 2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класс- 4 уч. 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класс- 21уч. 33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класс –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класс 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класс –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5"/>
          <p:cNvSpPr/>
          <p:nvPr/>
        </p:nvSpPr>
        <p:spPr>
          <a:xfrm>
            <a:off x="380880" y="6164280"/>
            <a:ext cx="8269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Учебная 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2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89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ущая деятельность по Выгот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альтернативный процесс 4"/>
          <p:cNvSpPr/>
          <p:nvPr/>
        </p:nvSpPr>
        <p:spPr>
          <a:xfrm>
            <a:off x="457200" y="1905120"/>
            <a:ext cx="3657600" cy="8380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альтернативный процесс 40"/>
          <p:cNvSpPr/>
          <p:nvPr/>
        </p:nvSpPr>
        <p:spPr>
          <a:xfrm>
            <a:off x="4971960" y="2286000"/>
            <a:ext cx="3409920" cy="7621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альтернативный процесс 46"/>
          <p:cNvSpPr/>
          <p:nvPr/>
        </p:nvSpPr>
        <p:spPr>
          <a:xfrm>
            <a:off x="457200" y="3581280"/>
            <a:ext cx="3809880" cy="5335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Интимно- личностн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85800" y="4952880"/>
            <a:ext cx="7620120" cy="1191240"/>
          </a:xfrm>
          <a:prstGeom prst="rect">
            <a:avLst/>
          </a:prstGeom>
          <a:noFill/>
          <a:ln w="38160">
            <a:solidFill>
              <a:srgbClr val="daede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ский сад (игровая) 1-4 класс (учебная) 5-8 (интимно-личностное общение со сверстниками) 9-11 (профессиональное самоопреде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2"/>
          <p:cNvCxnSpPr/>
          <p:nvPr/>
        </p:nvCxnSpPr>
        <p:spPr>
          <a:xfrm>
            <a:off x="1676160" y="2895480"/>
            <a:ext cx="1143720" cy="5342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6" name="Прямая со стрелкой 63"/>
          <p:cNvCxnSpPr/>
          <p:nvPr/>
        </p:nvCxnSpPr>
        <p:spPr>
          <a:xfrm flipV="1">
            <a:off x="3733920" y="3200040"/>
            <a:ext cx="2210400" cy="9914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133200" y="838080"/>
            <a:ext cx="89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28600" y="2362320"/>
            <a:ext cx="875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благополучие в семье: ребенок, привыкший к высокому эмоциональному отрицательному накалу во время переживаний по поводу своей семьи, как правило, уже просто не реагирует на проблемы по поводу учебы и отметок – у него просто не хватает на это энерги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1066680"/>
            <a:ext cx="106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236232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четкой организации жизни ребенка, несоблюдение режима дня, безнадзорность в быту – дети, которые организованы помимо школы, т.е. посещают какие-то интересные для них занятия, как правило, несмотря на нагрузку, более мотивированы на учеб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762120"/>
            <a:ext cx="1066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92120" y="22096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ти не посещают детский сад. Отсутствие контакта со сверстниками ведет к отсутствию произвольного поведения, когда ребенок вынужден играть с другими, соблюдать правила, даже, если ему не очень хочется, считаться с чужим мнением и желанием, жить в коллекти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28600" y="914400"/>
            <a:ext cx="1043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" y="1981080"/>
            <a:ext cx="8381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 рано отдают в школу. Родитель считает, что ребенок готов к обучению в школе, потому что он много знает для своего возраста. Но его интеллектуальная готовность – это не готовность психологическая. К моменту поступления в школу у ребенка должно быть сформировано умение подчиняться определенным правилам и делать не то, что ему хо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457200" y="304920"/>
            <a:ext cx="102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57200" y="121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 для учителя: его методическое мастерство, личностные качества, увлеченность своим предметом, умение вовлечь школьников в учебный процесс, своим примером педагог формирует положительное социальное поведение и мотивирование обучения. Только «мотивированный учитель воспитывает мотивированных ученик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57200" y="0"/>
            <a:ext cx="850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04920" y="144792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того чтобы повысить мотивацию учащихся необходимо использовать весь арсенал методов организации и осуществления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лядные и практически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продуктивные и поисков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амостоятельной учебной работы и работы под руководством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85840" y="1057320"/>
            <a:ext cx="8629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22-10-30T10:28:17Z</dcterms:modified>
  <cp:revision>1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