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36F0-5608-43AA-8CB5-50404F7B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A36-5C7F-42BC-8B6E-E883E6A8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1C4-0C0F-4CE4-B46D-975E613D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15CC-BA63-47FD-A349-57A4B92F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B39-2DBF-473D-9D57-E30A86FB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3E5-1E1D-4049-AEA6-D9F60051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0B4-AFDF-4654-B36C-45FE1691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DBE-9F00-44CB-9F4B-BFAEFD48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D42-87FA-4CD5-8039-1358961E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7AA-E499-4B26-A7F8-9D6B9DBE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94BE-754B-4774-AD9A-E234828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393-A2C4-4DB5-885A-5F183D94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7FCC-8B43-4F85-B5B7-077B99DFB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MG_3731"/>
          <p:cNvPicPr/>
          <p:nvPr/>
        </p:nvPicPr>
        <p:blipFill>
          <a:blip r:embed="rId1"/>
          <a:stretch/>
        </p:blipFill>
        <p:spPr>
          <a:xfrm>
            <a:off x="6858000" y="5041800"/>
            <a:ext cx="1981080" cy="1516320"/>
          </a:xfrm>
          <a:prstGeom prst="rect">
            <a:avLst/>
          </a:prstGeom>
          <a:ln w="38160">
            <a:solidFill>
              <a:srgbClr val="003300"/>
            </a:solidFill>
            <a:miter/>
          </a:ln>
        </p:spPr>
      </p:pic>
      <p:sp>
        <p:nvSpPr>
          <p:cNvPr id="42" name="Text Box 8"/>
          <p:cNvSpPr/>
          <p:nvPr/>
        </p:nvSpPr>
        <p:spPr>
          <a:xfrm>
            <a:off x="2590920" y="603576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тозаводский рай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.Нижний Новго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228600" y="1600200"/>
            <a:ext cx="86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Times New Roman"/>
              </a:rPr>
              <a:t>Учебная мотив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62673"/>
                </a:solidFill>
                <a:latin typeface="Times New Roman"/>
              </a:rPr>
              <a:t>МБОУ «Школа № 15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4648320" y="41911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дагог-психолог Балахонова Т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292320" y="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Как повысить учебную мотивацию (уч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09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ссказ, лекция, беседа позволяют разъяснять учащимся значимость учения, как в общественном, так и в личностном плане - для получения желаемой профессии, для активной общественной и культурной жизни в обществе. Яркий, образный рассказ невольно приковывает внимание учеников к теме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бщеизвестно стимулирующее влияние наглядности, которая повышает интерес школьников к изучаемым вопросам, возбуждает новые силы, позволяющие преодолеть утомляемость. Ученики, особенно мальчики, позволяют повышенный интерес к практическим работам, которые в этом случае выступают в роли стимуляторов активности в 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Ценным стимулирующим влиянием обладают проблемно-поисковые методы в том случае, когда проблемные ситуации находятся в зоне реальных учебных возможностей школьников, т.е. доступны для самостоятельного разрешения. В этом случае мотивом учебной деятельности учащихся является стремление решить поставленную зада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3840" y="838080"/>
            <a:ext cx="905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Как повысить учебную мотивацию (роди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87820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процесса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Развитие зоны ближайше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Контакт со школой, изучение треб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Контроль за самооценкой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  Поощ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конт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828800" y="-213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-3124080" y="306360"/>
            <a:ext cx="1533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Мониторинг учебной мотив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2021-2022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828800"/>
          <a:ext cx="8364600" cy="4343040"/>
        </p:xfrm>
        <a:graphic>
          <a:graphicData uri="http://schemas.openxmlformats.org/drawingml/2006/table">
            <a:tbl>
              <a:tblPr/>
              <a:tblGrid>
                <a:gridCol w="2787840"/>
                <a:gridCol w="2851200"/>
                <a:gridCol w="2725560"/>
              </a:tblGrid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чальная шко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нее звен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ршее звено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8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класс – 1уч. 2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класс- 1 уч. 2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класс- 4 уч. 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класс- 21уч. 33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класс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класс –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класс 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класс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класс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класс- 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класс –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47" name="Прямоугольник 5"/>
          <p:cNvSpPr/>
          <p:nvPr/>
        </p:nvSpPr>
        <p:spPr>
          <a:xfrm>
            <a:off x="380880" y="6164280"/>
            <a:ext cx="82695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Учебная мотив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2"/>
          <p:cNvSpPr/>
          <p:nvPr/>
        </p:nvSpPr>
        <p:spPr>
          <a:xfrm>
            <a:off x="0" y="45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457200" y="89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дущая деятельность по Выготс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альтернативный процесс 4"/>
          <p:cNvSpPr/>
          <p:nvPr/>
        </p:nvSpPr>
        <p:spPr>
          <a:xfrm>
            <a:off x="457200" y="1905120"/>
            <a:ext cx="3657600" cy="8380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Уч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альтернативный процесс 40"/>
          <p:cNvSpPr/>
          <p:nvPr/>
        </p:nvSpPr>
        <p:spPr>
          <a:xfrm>
            <a:off x="4971960" y="2286000"/>
            <a:ext cx="3409920" cy="7621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Профессиональное самоопре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альтернативный процесс 46"/>
          <p:cNvSpPr/>
          <p:nvPr/>
        </p:nvSpPr>
        <p:spPr>
          <a:xfrm>
            <a:off x="457200" y="3581280"/>
            <a:ext cx="3809880" cy="53352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Интимно- личностное об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685800" y="4952880"/>
            <a:ext cx="7620120" cy="1191240"/>
          </a:xfrm>
          <a:prstGeom prst="rect">
            <a:avLst/>
          </a:prstGeom>
          <a:noFill/>
          <a:ln w="38160">
            <a:solidFill>
              <a:srgbClr val="daede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етский сад (игровая) 1-4 класс (учебная) 5-8 (интимно-личностное общение со сверстниками) 9-11 (профессиональное самоопредел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2"/>
          <p:cNvCxnSpPr/>
          <p:nvPr/>
        </p:nvCxnSpPr>
        <p:spPr>
          <a:xfrm>
            <a:off x="1676160" y="2895480"/>
            <a:ext cx="1143720" cy="53424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6" name="Прямая со стрелкой 63"/>
          <p:cNvCxnSpPr/>
          <p:nvPr/>
        </p:nvCxnSpPr>
        <p:spPr>
          <a:xfrm flipV="1">
            <a:off x="3733920" y="3200040"/>
            <a:ext cx="2210400" cy="991440"/>
          </a:xfrm>
          <a:prstGeom prst="straightConnector1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133200" y="838080"/>
            <a:ext cx="898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Портрет ученика с низкой учебной мотив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228600" y="2362320"/>
            <a:ext cx="875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благополучие в семье: ребенок, привыкший к высокому эмоциональному отрицательному накалу во время переживаний по поводу своей семьи, как правило, уже просто не реагирует на проблемы по поводу учебы и отметок – у него просто не хватает на это энергии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0" y="1066680"/>
            <a:ext cx="106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Портрет ученика с низкой учебной мотив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457200" y="236232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четкой организации жизни ребенка, несоблюдение режима дня, безнадзорность в быту – дети, которые организованы помимо школы, т.е. посещают какие-то интересные для них занятия, как правило, несмотря на нагрузку, более мотивированы на учеб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2"/>
          <p:cNvSpPr/>
          <p:nvPr/>
        </p:nvSpPr>
        <p:spPr>
          <a:xfrm>
            <a:off x="0" y="762120"/>
            <a:ext cx="1066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Портрет ученика с низкой учебной мотив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492120" y="220968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ти не посещают детский сад. Отсутствие контакта со сверстниками ведет к отсутствию произвольного поведения, когда ребенок вынужден играть с другими, соблюдать правила, даже, если ему не очень хочется, считаться с чужим мнением и желанием, жить в коллекти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2"/>
          <p:cNvSpPr/>
          <p:nvPr/>
        </p:nvSpPr>
        <p:spPr>
          <a:xfrm>
            <a:off x="228600" y="914400"/>
            <a:ext cx="1043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Портрет ученика с низкой учебной мотива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57200" y="1981080"/>
            <a:ext cx="8381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а рано отдают в школу. Родитель считает, что ребенок готов к обучению в школе, потому что он много знает для своего возраста. Но его интеллектуальная готовность – это не готовность психологическая. К моменту поступления в школу у ребенка должно быть сформировано умение подчиняться определенным правилам и делать не то, что ему хо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457200" y="304920"/>
            <a:ext cx="102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Как повысить учебную мотивацию (учи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57200" y="12193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337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важны для учителя: его методическое мастерство, личностные качества, увлеченность своим предметом, умение вовлечь школьников в учебный процесс, своим примером педагог формирует положительное социальное поведение и мотивирование обучения. Только «мотивированный учитель воспитывает мотивированных ученик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50000">
              <a:srgbClr val="00ff99"/>
            </a:gs>
            <a:gs pos="100000">
              <a:srgbClr val="66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457200" y="0"/>
            <a:ext cx="850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22268"/>
                </a:solidFill>
                <a:latin typeface="Times New Roman"/>
              </a:rPr>
              <a:t>Как повысить учебную мотивацию (учите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304920" y="144792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того чтобы повысить мотивацию учащихся необходимо использовать весь арсенал методов организации и осуществления учеб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лядные и практически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продуктивные и поисков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•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самостоятельной учебной работы и работы под руководством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85840" y="1057320"/>
            <a:ext cx="8629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митрий</cp:lastModifiedBy>
  <dcterms:modified xsi:type="dcterms:W3CDTF">2022-10-30T10:28:17Z</dcterms:modified>
  <cp:revision>1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