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2560" y="2854440"/>
            <a:ext cx="76438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42560" y="4847040"/>
            <a:ext cx="76438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2854440"/>
            <a:ext cx="3729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9360" y="2854440"/>
            <a:ext cx="3729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2560" y="4847040"/>
            <a:ext cx="3729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59360" y="4847040"/>
            <a:ext cx="3729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560" y="2854440"/>
            <a:ext cx="2460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27000" y="2854440"/>
            <a:ext cx="2460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11440" y="2854440"/>
            <a:ext cx="2460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42560" y="4847040"/>
            <a:ext cx="2460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27000" y="4847040"/>
            <a:ext cx="2460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11440" y="4847040"/>
            <a:ext cx="2460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42560" y="2854440"/>
            <a:ext cx="764388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42560" y="2854440"/>
            <a:ext cx="764388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2560" y="2854440"/>
            <a:ext cx="37299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59360" y="2854440"/>
            <a:ext cx="37299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560" y="2131920"/>
            <a:ext cx="76438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854440"/>
            <a:ext cx="3729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59360" y="2854440"/>
            <a:ext cx="37299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42560" y="4847040"/>
            <a:ext cx="3729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42560" y="2854440"/>
            <a:ext cx="764388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560" y="2854440"/>
            <a:ext cx="37299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9360" y="2854440"/>
            <a:ext cx="3729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59360" y="4847040"/>
            <a:ext cx="3729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560" y="2854440"/>
            <a:ext cx="3729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9360" y="2854440"/>
            <a:ext cx="3729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2560" y="4847040"/>
            <a:ext cx="76438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560" y="2854440"/>
            <a:ext cx="76438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42560" y="4847040"/>
            <a:ext cx="76438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854440"/>
            <a:ext cx="3729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9360" y="2854440"/>
            <a:ext cx="3729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847040"/>
            <a:ext cx="3729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59360" y="4847040"/>
            <a:ext cx="3729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560" y="2854440"/>
            <a:ext cx="2460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7000" y="2854440"/>
            <a:ext cx="2460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11440" y="2854440"/>
            <a:ext cx="2460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42560" y="4847040"/>
            <a:ext cx="2460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7000" y="4847040"/>
            <a:ext cx="2460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11440" y="4847040"/>
            <a:ext cx="2460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42560" y="2854440"/>
            <a:ext cx="764388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42560" y="2854440"/>
            <a:ext cx="37299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59360" y="2854440"/>
            <a:ext cx="37299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560" y="2131920"/>
            <a:ext cx="764388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560" y="2854440"/>
            <a:ext cx="3729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59360" y="2854440"/>
            <a:ext cx="37299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42560" y="4847040"/>
            <a:ext cx="3729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560" y="2854440"/>
            <a:ext cx="37299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9360" y="2854440"/>
            <a:ext cx="3729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9360" y="4847040"/>
            <a:ext cx="3729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2560" y="2854440"/>
            <a:ext cx="3729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9360" y="2854440"/>
            <a:ext cx="37299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42560" y="4847040"/>
            <a:ext cx="76438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2854440"/>
            <a:ext cx="764388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42560" y="2854440"/>
            <a:ext cx="764388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3715920"/>
            <a:ext cx="7772400" cy="22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Коррекционно- развивающая работа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МБОУ «Школа № 15»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ши фото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42960" y="3000240"/>
            <a:ext cx="2128680" cy="1597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6429240" y="4857840"/>
            <a:ext cx="2143440" cy="1608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642960" y="47862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4"/>
          <a:stretch/>
        </p:blipFill>
        <p:spPr>
          <a:xfrm>
            <a:off x="3643200" y="3000240"/>
            <a:ext cx="2190960" cy="164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:\Users\Татьяна\Desktop\фото с телефона и планшета\IMG_20171121_134441.jpg"/>
          <p:cNvPicPr/>
          <p:nvPr/>
        </p:nvPicPr>
        <p:blipFill>
          <a:blip r:embed="rId5"/>
          <a:stretch/>
        </p:blipFill>
        <p:spPr>
          <a:xfrm>
            <a:off x="6500880" y="2500200"/>
            <a:ext cx="1928880" cy="2089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C:\Users\Татьяна\Desktop\фото с телефона и планшета\IMG_20171121_140510.jpg"/>
          <p:cNvPicPr/>
          <p:nvPr/>
        </p:nvPicPr>
        <p:blipFill>
          <a:blip r:embed="rId6"/>
          <a:stretch/>
        </p:blipFill>
        <p:spPr>
          <a:xfrm>
            <a:off x="3786120" y="4786200"/>
            <a:ext cx="20718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«Наш класс- единая команда!»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42560" y="2854080"/>
            <a:ext cx="7643880" cy="40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ок для учащихся 3 класса по  обучению раскрытия способностей, развитию познавательных интересов и формированию коммуникативных навы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написана на основании методического пособия классных часов с психологом Ю.В. Груздева, Н.А. Богачкина издательство Глобус 2009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формирование коммуникативных навыков, направленных на решение и предупреждение психологических проблем, возникающих в период обучения в 3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2000160"/>
            <a:ext cx="76438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99680" y="2500200"/>
            <a:ext cx="818676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ь коммуникативные нав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овать процессу само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лотить класс, развить чувство товари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оциальной наблюда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ь умение работать в груп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ь умение управлять своим повед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ить способам выхода из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навык конструктивного поведения в груп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умение правильно оценивать себя и друг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гуманистических черт в характ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 правильно выражать свои чув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Форма проведения кружка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42560" y="3071880"/>
            <a:ext cx="76438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ок проводится в виде совместного классного часа учителя и психо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ассе 20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раз в неделю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ши фото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09" name="Picture 2" descr="C:\Users\Татьяна\Desktop\фото с телефона и планшета\IMG_20171109_132335.jpg"/>
          <p:cNvPicPr/>
          <p:nvPr/>
        </p:nvPicPr>
        <p:blipFill>
          <a:blip r:embed="rId1"/>
          <a:stretch/>
        </p:blipFill>
        <p:spPr>
          <a:xfrm>
            <a:off x="214200" y="2000160"/>
            <a:ext cx="2571840" cy="224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Татьяна\Desktop\фото с телефона и планшета\07122017461.jpg"/>
          <p:cNvPicPr/>
          <p:nvPr/>
        </p:nvPicPr>
        <p:blipFill>
          <a:blip r:embed="rId2"/>
          <a:stretch/>
        </p:blipFill>
        <p:spPr>
          <a:xfrm>
            <a:off x="6357960" y="46432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Users\Татьяна\Desktop\фото с телефона и планшета\IMG_20171109_130642.jpg"/>
          <p:cNvPicPr/>
          <p:nvPr/>
        </p:nvPicPr>
        <p:blipFill>
          <a:blip r:embed="rId3"/>
          <a:stretch/>
        </p:blipFill>
        <p:spPr>
          <a:xfrm>
            <a:off x="6357960" y="2571840"/>
            <a:ext cx="2500200" cy="1973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Users\Татьяна\Desktop\фото с телефона и планшета\07122017459.jpg"/>
          <p:cNvPicPr/>
          <p:nvPr/>
        </p:nvPicPr>
        <p:blipFill>
          <a:blip r:embed="rId4"/>
          <a:stretch/>
        </p:blipFill>
        <p:spPr>
          <a:xfrm>
            <a:off x="357120" y="4483080"/>
            <a:ext cx="2595600" cy="1946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:\Users\Татьяна\Desktop\фото с телефона и планшета\IMG_20171109_131811.jpg"/>
          <p:cNvPicPr/>
          <p:nvPr/>
        </p:nvPicPr>
        <p:blipFill>
          <a:blip r:embed="rId5"/>
          <a:stretch/>
        </p:blipFill>
        <p:spPr>
          <a:xfrm>
            <a:off x="3357720" y="2857680"/>
            <a:ext cx="257148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2560" y="2357280"/>
            <a:ext cx="764388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«Секреты общения»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42960" y="2642760"/>
            <a:ext cx="804384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ок для учащихся 5 классов по преодолению личностной тревожности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ю социализации,  развитию навыка эффективного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написана на основании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ого тренинга с подростками. –М. Академия, 2001 Лидерс А.Г. ,построения коррекционных программ по преодолению тревожности у подростков и юношей. –М., 1989 Прихожан А.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снижение личностной тревожности у подрос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2131560"/>
            <a:ext cx="764388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42560" y="2854440"/>
            <a:ext cx="76438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е конкретных знаний для решение подростками своих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ка адекватной самооценки и коррекция своего п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личности младшего подростка, его способностей к общ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2000160"/>
            <a:ext cx="76438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Форма проведения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5840" y="2571480"/>
            <a:ext cx="857232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часть, как правило, содержит обсуждение и проигрывание ситуаций по предложенной теме, а заключительная часть направлена на анализ, самопроверку и рефлек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я по форме напоминают тренинги: с помощью специальных упражнений или ролевых игр участники овладевают навыками эффективного общения. На занятиях у ребят есть возможность получить конкретные знания, осознать и решить свои личные проблемы, а также вырабатывать адекватную самооценку и скорректировать свое по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ши фото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1" name="Picture 6" descr="DSC06694"/>
          <p:cNvPicPr/>
          <p:nvPr/>
        </p:nvPicPr>
        <p:blipFill>
          <a:blip r:embed="rId1"/>
          <a:stretch/>
        </p:blipFill>
        <p:spPr>
          <a:xfrm>
            <a:off x="5900760" y="4243320"/>
            <a:ext cx="3157560" cy="2554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Психолог 1"/>
          <p:cNvPicPr/>
          <p:nvPr/>
        </p:nvPicPr>
        <p:blipFill>
          <a:blip r:embed="rId2"/>
          <a:stretch/>
        </p:blipFill>
        <p:spPr>
          <a:xfrm>
            <a:off x="-30240" y="1743120"/>
            <a:ext cx="3346560" cy="2414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DSC06708"/>
          <p:cNvPicPr/>
          <p:nvPr/>
        </p:nvPicPr>
        <p:blipFill>
          <a:blip r:embed="rId3"/>
          <a:stretch/>
        </p:blipFill>
        <p:spPr>
          <a:xfrm>
            <a:off x="5900760" y="2243160"/>
            <a:ext cx="3133800" cy="2536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J:\фото_8г\DSC06650.JPG"/>
          <p:cNvPicPr/>
          <p:nvPr/>
        </p:nvPicPr>
        <p:blipFill>
          <a:blip r:embed="rId4"/>
          <a:stretch/>
        </p:blipFill>
        <p:spPr>
          <a:xfrm>
            <a:off x="-30240" y="4029120"/>
            <a:ext cx="3206880" cy="2584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Балахонова Татьяна Алексеевна"/>
          <p:cNvPicPr/>
          <p:nvPr/>
        </p:nvPicPr>
        <p:blipFill>
          <a:blip r:embed="rId5"/>
          <a:stretch/>
        </p:blipFill>
        <p:spPr>
          <a:xfrm>
            <a:off x="3108240" y="3316320"/>
            <a:ext cx="32004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42560" y="2131560"/>
            <a:ext cx="76438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Работа осуществляется, через программы дополнительного образования (кружковую деятельность)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042560" y="3642840"/>
            <a:ext cx="764388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е действуют 4 круж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чусь общаться 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ы самый, самый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ш класс- единая коман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креты общ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«Учусь общаться !»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71680" y="2854440"/>
            <a:ext cx="811512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ок для обучающихся 1-х классов с личностными и поведенческими пробле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написана на основании опыта, накопленного в общеметодических (В.С.Мухиной, Ч.А.Измайлова, Р.М.Рахматулиной, О.В.Хухлаевой, М.И.Чистяковой и др.) и психологических (А.И.Копытина, Г.А.Бреслава, Г.Л.Лендера, Н.М.Погосовой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развитие эмоционально – волевой сферы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2560" y="1928520"/>
            <a:ext cx="7643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5840" y="2285640"/>
            <a:ext cx="88581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учить входить в контакт друг с другом и  взрос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мочь осознать свои положительные черты. Найти общие интере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учить правилам поведения на уроке и перем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Укрепить желание уч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звивать у детей эмпатию по отношению друг к дру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азвивать у детей культуру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аучить правильно, отреагировать отрицательные эмо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Развить умение договариваться, работать в коман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Повысить самооценку, дать возможность  самовыражения.      10.Помочь детям расширить представления о себе, укрепить уверенность в своих возможностях, научить осознавать и выражать свои чувства и желания. 11.Научить детей снижать мышечное напряжение и зажи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работы используются псих. технологии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42560" y="2854440"/>
            <a:ext cx="764388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кие детям данного возрас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тера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.- тера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отера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овые упраж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Татьяна\Desktop\фото с телефона и планшета\IMG_20171120_135128.jpg"/>
          <p:cNvPicPr/>
          <p:nvPr/>
        </p:nvPicPr>
        <p:blipFill>
          <a:blip r:embed="rId1"/>
          <a:stretch/>
        </p:blipFill>
        <p:spPr>
          <a:xfrm>
            <a:off x="285840" y="2000160"/>
            <a:ext cx="2643120" cy="2214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6429240" y="2214720"/>
            <a:ext cx="2500560" cy="2190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Users\Татьяна\Desktop\фото с телефона и планшета\05122017457.jpg"/>
          <p:cNvPicPr/>
          <p:nvPr/>
        </p:nvPicPr>
        <p:blipFill>
          <a:blip r:embed="rId3"/>
          <a:stretch/>
        </p:blipFill>
        <p:spPr>
          <a:xfrm>
            <a:off x="6477120" y="45720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Татьяна\Desktop\фото с телефона и планшета\27112017418.jpg"/>
          <p:cNvPicPr/>
          <p:nvPr/>
        </p:nvPicPr>
        <p:blipFill>
          <a:blip r:embed="rId4"/>
          <a:stretch/>
        </p:blipFill>
        <p:spPr>
          <a:xfrm>
            <a:off x="428760" y="4429080"/>
            <a:ext cx="27241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560" y="2131560"/>
            <a:ext cx="764388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«Ты самый, самый…»</a:t>
            </a:r>
            <a:br>
              <a:rPr sz="3600"/>
            </a:b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1680" y="2928600"/>
            <a:ext cx="828648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ок для обучающихся 1-х класс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ПФ и школьной мотив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написана на основании Практикума по детской психокоррекции О.Н. Истратова Изд. 4- Ростов на /Д: Феникс, 2010г. Комплекса интеллектуальных игр для развития мышления, логической памяти учащихся Зайка Е.В. Вопросы психологии 1990-1991 г. №6 стр.86-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42960" y="2714760"/>
            <a:ext cx="804384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учить воспринимать речь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учить концентрировать и переключать вним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аучить самостоятельному выполнению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учить планировать свои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учить приемам само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азвивать процессы логическ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азвивать зрительную и слухоречевую пам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овысить уровень мотивации к школьному обу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560" y="213192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Занятие состоит из упражнений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42560" y="3071880"/>
            <a:ext cx="76438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аморегуляции и организацию свое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витие внимания: концентрация и пере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витие памяти: слухоречевой и зритель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витие мышления: дифференциация, классификация, сравнение, об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витие мотивации к школьному обу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21:20:54Z</dcterms:created>
  <dc:creator>DSasd</dc:creator>
  <dc:description/>
  <dc:language>en-US</dc:language>
  <cp:lastModifiedBy>Татьяна</cp:lastModifiedBy>
  <dcterms:modified xsi:type="dcterms:W3CDTF">2017-12-18T10:03:57Z</dcterms:modified>
  <cp:revision>42</cp:revision>
  <dc:subject/>
  <dc:title>Слайд 1</dc:title>
</cp:coreProperties>
</file>