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912C-6CCA-474C-A10D-94909A87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29F-3B67-4939-9BF4-D7AFA431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9A9-0787-4D7E-B682-8AA6676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AB52-AB01-46F7-95EA-B3EE81E8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112-B236-46A7-A677-ED398325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526-E25D-40ED-84CC-9B4895A6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9227-DCCE-48BF-BCB0-5A29674F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9BC-3294-4257-AB03-6D4CDDCB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606-C7D3-44CD-A0B3-EF418CA3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F11-4F59-4C71-908B-0AA2995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9CF-E71F-4CCC-B25B-593B5A3F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F05-C5A7-4F2A-B6BE-6E012348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40B6-C3FA-4F0E-A7EE-8AB1B242D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29160"/>
            <a:ext cx="7772400" cy="3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сихологические особенности общения педагогов с общественн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1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общении со «слабым» учеником 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108000" y="618120"/>
            <a:ext cx="9109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ает учащемуся меньше времени на от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если дан неверный ответ, не повторяет во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чаще ругает учащегося за невер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хвалит за прави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не реагирует  на ответ не замечая поднятой 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улыб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меньше смотрит в гл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еже вызывает к до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1"/>
          <a:stretch/>
        </p:blipFill>
        <p:spPr>
          <a:xfrm>
            <a:off x="4662360" y="3573360"/>
            <a:ext cx="42134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ль-род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2286000" y="-324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179280" y="1123920"/>
            <a:ext cx="878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Диалог - специфическая форма общения, в которой другой человек воспринимается как равный собеседник с правом на собственную позицию. Для возникновения диалога необходимо взаимное стремление его участников к установлению истины, единство целей, способность выслушать точку зрения собеседника, как бы она ни отличалась от собст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2411280" y="3789360"/>
            <a:ext cx="457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читель-учи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1"/>
          <a:stretch/>
        </p:blipFill>
        <p:spPr>
          <a:xfrm>
            <a:off x="5081760" y="1336680"/>
            <a:ext cx="3701880" cy="46134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611280" y="1341360"/>
            <a:ext cx="446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Солида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Коллектив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по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Взаимо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Arial"/>
              </a:rPr>
              <a:t>Честь и горд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-19440"/>
            <a:ext cx="81583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Что способствует высокому уровню 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"/>
          <p:cNvSpPr/>
          <p:nvPr/>
        </p:nvSpPr>
        <p:spPr>
          <a:xfrm>
            <a:off x="539640" y="126828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Улыбаетесь улыбка обогащает тех кто ее получает и обедняет тех кто ее не дае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мните что для человека звук его имени является самым важным называйте людей по имен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ризнавайте хорошее в разных людях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Помните желание понимать друг друга порождает сотрудн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3366ff"/>
                </a:solidFill>
                <a:latin typeface="Arial"/>
              </a:rPr>
              <a:t>Д.Карне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1187280" y="1413000"/>
            <a:ext cx="7027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«Хочешь быть умным, научись разумн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спрашивать, внимательно слуша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спокойно отвечать и переставать говорить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когда нечего больше сказа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                                       </a:t>
            </a:r>
            <a:r>
              <a:rPr b="1" lang="ru-RU" sz="3000" spc="-1" strike="noStrike">
                <a:solidFill>
                  <a:srgbClr val="3366ff"/>
                </a:solidFill>
                <a:latin typeface="Arial"/>
              </a:rPr>
              <a:t>И. Лафа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1597680"/>
            <a:ext cx="1774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щение – реа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человеческих отнош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ид и атрибут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атегория «общение»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дной из центральных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рофессионально-педагогичес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я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960587"/>
          <p:cNvPicPr/>
          <p:nvPr/>
        </p:nvPicPr>
        <p:blipFill>
          <a:blip r:embed="rId1"/>
          <a:stretch/>
        </p:blipFill>
        <p:spPr>
          <a:xfrm>
            <a:off x="6334200" y="1652760"/>
            <a:ext cx="2765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115920"/>
            <a:ext cx="8002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тегори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3640" y="13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итель-р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I:\parentteacher200.jpg"/>
          <p:cNvPicPr/>
          <p:nvPr/>
        </p:nvPicPr>
        <p:blipFill>
          <a:blip r:embed="rId1"/>
          <a:stretch/>
        </p:blipFill>
        <p:spPr>
          <a:xfrm>
            <a:off x="4716360" y="3573360"/>
            <a:ext cx="41245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овни общ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ыделяются низкий и высокий уровень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Низкий уровень общение строится на основе схемы «субъект – объект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ысокий уровень общения на основе схемы «субъект – субъект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:\article-2174783-0BD405BD000005DC-264_468x286_popup.jpg"/>
          <p:cNvPicPr/>
          <p:nvPr/>
        </p:nvPicPr>
        <p:blipFill>
          <a:blip r:embed="rId1"/>
          <a:stretch/>
        </p:blipFill>
        <p:spPr>
          <a:xfrm>
            <a:off x="4356000" y="3573360"/>
            <a:ext cx="440064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изкий уров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1072800"/>
            <a:ext cx="814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Участники изначально занимают неравные позиции. Инициаторы такого вида общения воспринимают другого лишь как носителя определенной роли или источник значимой информации, а не как ли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43280" y="3860640"/>
            <a:ext cx="340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931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сокий уров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90756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Предполагает активности обеих сторон об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равенства психологических и личностных позиций партне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заимного проникновения в мир чувств и переживаний другого человека и эмоциональный отклик на 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71640" y="4149720"/>
            <a:ext cx="350532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55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Разновидностями высок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84200"/>
            <a:ext cx="830268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конвенцион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игр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ел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духо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485136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Категория учитель-уче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539640" y="935640"/>
            <a:ext cx="7964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щение в педагогической работе выступ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1. как средство решения учебных задач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2.социально-психолог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обеспечение воспитательного проце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3.способ 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Arial"/>
              </a:rPr>
              <a:t>взаимоотношения субъектов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I:\121079_g.jpg"/>
          <p:cNvPicPr/>
          <p:nvPr/>
        </p:nvPicPr>
        <p:blipFill>
          <a:blip r:embed="rId1"/>
          <a:stretch/>
        </p:blipFill>
        <p:spPr>
          <a:xfrm>
            <a:off x="3117960" y="4429080"/>
            <a:ext cx="31082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7:35:58Z</dcterms:created>
  <dc:creator>Admin</dc:creator>
  <dc:description/>
  <dc:language>en-US</dc:language>
  <cp:lastModifiedBy>User</cp:lastModifiedBy>
  <dcterms:modified xsi:type="dcterms:W3CDTF">2008-12-31T21:01:06Z</dcterms:modified>
  <cp:revision>25</cp:revision>
  <dc:subject/>
  <dc:title>Личностный рост учащихся 6б класса</dc:title>
</cp:coreProperties>
</file>