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4EC2-744A-42C6-AADA-7BD35017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E9D-3D67-40A0-B313-5CD5B1D1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3CFB-DF75-49AC-9934-8704236A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BB7-870C-4D7C-B145-6222560D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02F-F373-4052-BB05-51FD9783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910-706A-421D-A6BD-FC7C4D46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62F8-A93C-4EED-B13A-111620EA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780F-68F0-4061-B811-18442E34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BDE-8D7B-4748-B5E2-6C7D63ED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354E-0412-417C-9B10-63D01FF4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56C-867E-40DE-8A30-093120D0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A8B-5827-4E25-B624-5A0D386D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71DA-8355-4149-90D9-D43B908A3B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29160"/>
            <a:ext cx="7772400" cy="3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Психологические особенности общения педагогов с общественност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186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 общении со «слабым» учеником 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108000" y="618120"/>
            <a:ext cx="91090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дает учащемуся меньше времени на отв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если дан неверный ответ, не повторяет во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чаще ругает учащегося за невер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реже хвалит за прави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не реагирует  на ответ не замечая поднятой 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реже улыб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меньше смотрит в гл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реже вызывает к до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1"/>
          <a:stretch/>
        </p:blipFill>
        <p:spPr>
          <a:xfrm>
            <a:off x="4662360" y="3573360"/>
            <a:ext cx="42134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читель-род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286000" y="-324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179280" y="1123920"/>
            <a:ext cx="878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Диалог - специфическая форма общения, в которой другой человек воспринимается как равный собеседник с правом на собственную позицию. Для возникновения диалога необходимо взаимное стремление его участников к установлению истины, единство целей, способность выслушать точку зрения собеседника, как бы она ни отличалась от собст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1"/>
          <a:stretch/>
        </p:blipFill>
        <p:spPr>
          <a:xfrm>
            <a:off x="2411280" y="3789360"/>
            <a:ext cx="45720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читель-уч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1"/>
          <a:stretch/>
        </p:blipFill>
        <p:spPr>
          <a:xfrm>
            <a:off x="5081760" y="1336680"/>
            <a:ext cx="3701880" cy="46134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611280" y="1341360"/>
            <a:ext cx="446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Солида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Коллек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Взаимо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Взаимопо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Взаимо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Ответ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Честь и гор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-19440"/>
            <a:ext cx="81583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Что способствует высокому уровню 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"/>
          <p:cNvSpPr/>
          <p:nvPr/>
        </p:nvSpPr>
        <p:spPr>
          <a:xfrm>
            <a:off x="539640" y="1268280"/>
            <a:ext cx="72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Улыбаетесь улыбка обогащает тех кто ее получает и обедняет тех кто ее не дае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Помните что для человека звук его имени является самым важным называйте людей по имен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Признавайте хорошее в разных людя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Помните желание понимать друг друга порождает сотрудн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                                                                </a:t>
            </a: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Д.Карне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1187280" y="1413000"/>
            <a:ext cx="70279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66ff"/>
                </a:solidFill>
                <a:latin typeface="Arial"/>
              </a:rPr>
              <a:t>«Хочешь быть умным, научись разумн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66ff"/>
                </a:solidFill>
                <a:latin typeface="Arial"/>
              </a:rPr>
              <a:t>спрашивать, внимательно слушать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66ff"/>
                </a:solidFill>
                <a:latin typeface="Arial"/>
              </a:rPr>
              <a:t>спокойно отвечать и переставать говорить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66ff"/>
                </a:solidFill>
                <a:latin typeface="Arial"/>
              </a:rPr>
              <a:t>когда нечего больше сказать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66ff"/>
                </a:solidFill>
                <a:latin typeface="Arial"/>
              </a:rPr>
              <a:t>                                       </a:t>
            </a:r>
            <a:r>
              <a:rPr b="1" lang="ru-RU" sz="3000" spc="-1" strike="noStrike">
                <a:solidFill>
                  <a:srgbClr val="3366ff"/>
                </a:solidFill>
                <a:latin typeface="Arial"/>
              </a:rPr>
              <a:t>И. Лафат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1597680"/>
            <a:ext cx="1774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Общение – реа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человеческих отношен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вид и атрибут лю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Категория «общение» яв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одной из центральных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профессионально-педагогиче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деятельн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960587"/>
          <p:cNvPicPr/>
          <p:nvPr/>
        </p:nvPicPr>
        <p:blipFill>
          <a:blip r:embed="rId1"/>
          <a:stretch/>
        </p:blipFill>
        <p:spPr>
          <a:xfrm>
            <a:off x="6334200" y="1652760"/>
            <a:ext cx="27655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115920"/>
            <a:ext cx="8002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атегории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3640" y="13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читель-уче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читель-уч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читель-р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:\parentteacher200.jpg"/>
          <p:cNvPicPr/>
          <p:nvPr/>
        </p:nvPicPr>
        <p:blipFill>
          <a:blip r:embed="rId1"/>
          <a:stretch/>
        </p:blipFill>
        <p:spPr>
          <a:xfrm>
            <a:off x="4716360" y="3573360"/>
            <a:ext cx="41245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002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ровни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Выделяются низкий и высокий уровень 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Низкий уровень общение строится на основе схемы «субъект – объект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Высокий уровень общения на основе схемы «субъект – субъект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:\article-2174783-0BD405BD000005DC-264_468x286_popup.jpg"/>
          <p:cNvPicPr/>
          <p:nvPr/>
        </p:nvPicPr>
        <p:blipFill>
          <a:blip r:embed="rId1"/>
          <a:stretch/>
        </p:blipFill>
        <p:spPr>
          <a:xfrm>
            <a:off x="4356000" y="3573360"/>
            <a:ext cx="440064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6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изкий уров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1280" y="1072800"/>
            <a:ext cx="8146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частники изначально занимают неравные позиции. Инициаторы такого вида общения воспринимают другого лишь как носителя определенной роли или источник значимой информации, а не как л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843280" y="3860640"/>
            <a:ext cx="3402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931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сокий урове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90756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Предполагает активности обеих сторон об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равенства психологических и личностных позиций партне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взаимного проникновения в мир чувств и переживаний другого человека и эмоциональный отклик на 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71640" y="4149720"/>
            <a:ext cx="350532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075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Разновидностями высокого уро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384200"/>
            <a:ext cx="830268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конвенцион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игр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дел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духо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485136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атегория учитель-уче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539640" y="935640"/>
            <a:ext cx="7964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Общение в педагогической работе выступ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1. как средство решения учебных задач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2.социально-психологичес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обеспечение воспитательного проце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3.способ орган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взаимоотношения субъектов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I:\121079_g.jpg"/>
          <p:cNvPicPr/>
          <p:nvPr/>
        </p:nvPicPr>
        <p:blipFill>
          <a:blip r:embed="rId1"/>
          <a:stretch/>
        </p:blipFill>
        <p:spPr>
          <a:xfrm>
            <a:off x="3117960" y="4429080"/>
            <a:ext cx="31082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7:35:58Z</dcterms:created>
  <dc:creator>Admin</dc:creator>
  <dc:description/>
  <dc:language>en-US</dc:language>
  <cp:lastModifiedBy>User</cp:lastModifiedBy>
  <dcterms:modified xsi:type="dcterms:W3CDTF">2008-12-31T21:01:06Z</dcterms:modified>
  <cp:revision>25</cp:revision>
  <dc:subject/>
  <dc:title>Личностный рост учащихся 6б класса</dc:title>
</cp:coreProperties>
</file>