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499A-2785-4D10-8736-294A54CED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4950-195F-4C7E-A57B-8C07DB50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83B2-8546-4C85-9A3A-E30AF6DDE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9F48-F348-429B-8786-28C27C23E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BEC1-DC75-4750-A73D-CEA4C9F4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30F2-3E0A-4686-8F17-32101469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9D3F-48FC-4E47-817D-2EE5F7C3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6895-9FD5-4470-B2D7-8B521667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256F-718D-42FC-8BE2-46A96970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9B2F-AEE1-46CC-A80E-87663FC4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3F6E-FFAC-4D30-8418-66975152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13D0-71EA-44C1-9A18-2EB36057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2A9C-F3A9-4470-88FA-0DE5042EA5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92360" y="549000"/>
            <a:ext cx="518328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Методические приемы развития критического мышления на уроках математики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292720" y="5013360"/>
            <a:ext cx="32400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Автор: Дружини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Светлана Анатолье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учитель мате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Класт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556000" y="1197000"/>
            <a:ext cx="6130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На стадии осмысления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ходу работы с текстом вносятся исправления и дополнения в грозд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На стадии рефлексии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равления неверных предположений в "предварительных кластерах", заполнение их на основе новой информации, установление причинно-следственных связей между отдельными смысловыми блок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жный момент - </a:t>
            </a: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презентация "новых" класте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а этой формы - не только систематизация материала, но и установление причинно-следственных связей между гроздь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324000" y="3284640"/>
            <a:ext cx="237636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Приём «Верные и неверные утверждения или Верите ли в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763280" y="1599840"/>
            <a:ext cx="692316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т прием может быть началом урока. Учащиеся, выбирая "верные утверждения" из предложенных учителем, описывают заданную тему (ситуацию, обстановку, систему прави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тем попросите учащихся установить, верны ли данные утверждения, обосновывая свой от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знакомства с основной информацией(текст параграфа, лекция по данной теме) мы возвращаемся к данным утверждениям и просим учащихся оценить их достоверность, используя полученную на уроке информа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258920" y="5373720"/>
          <a:ext cx="7200720" cy="792000"/>
        </p:xfrm>
        <a:graphic>
          <a:graphicData uri="http://schemas.openxmlformats.org/drawingml/2006/table">
            <a:tbl>
              <a:tblPr/>
              <a:tblGrid>
                <a:gridCol w="2400120"/>
                <a:gridCol w="2400480"/>
                <a:gridCol w="240012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чтения тек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 чтения тек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Приём «Инсер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763280" y="1268280"/>
            <a:ext cx="6923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ение текста с пометк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уже зна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-» –  думал инач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+» - ново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?» – не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ление таблицы, выписываются основные положения из тек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т приём работает на стадии осмыс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заполнения таблицы нужно будет вернуться к тексту, таким образом обеспечивается вдумчивое, внимательное чт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523880" y="5289480"/>
          <a:ext cx="6096240" cy="7318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Приём «Концептуальная таблиц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11280" y="3573360"/>
          <a:ext cx="8064360" cy="216072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гория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гория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гория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гория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соналиифак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соналиифак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86" name="Прямоугольник 3"/>
          <p:cNvSpPr/>
          <p:nvPr/>
        </p:nvSpPr>
        <p:spPr>
          <a:xfrm>
            <a:off x="1908000" y="1197000"/>
            <a:ext cx="6767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ём особенно полезен, когда предполагается сравнение трех и более аспектов или вопро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блица строится так: по горизонтали располагается то, что подлежит сравнению, а по вертикали различные черты и свойства, по которым это сравнение происход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Приём «Сводная таблиц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900000" y="5373720"/>
          <a:ext cx="7345440" cy="1036440"/>
        </p:xfrm>
        <a:graphic>
          <a:graphicData uri="http://schemas.openxmlformats.org/drawingml/2006/table">
            <a:tbl>
              <a:tblPr/>
              <a:tblGrid>
                <a:gridCol w="1468440"/>
                <a:gridCol w="1470240"/>
                <a:gridCol w="1468440"/>
                <a:gridCol w="1468440"/>
                <a:gridCol w="1469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ния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89" name="Прямоугольник 3"/>
          <p:cNvSpPr/>
          <p:nvPr/>
        </p:nvSpPr>
        <p:spPr>
          <a:xfrm>
            <a:off x="1979640" y="1444680"/>
            <a:ext cx="6696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воляет за короткое время описать и изучить большое количество информ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Линии сравнения» - это характеристики, по которым учащиеся сравнивают различные явления, объекты и прочее, формулируют сами учени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тегории сравнения можно выделять как до чтения текста, так и после его прочтения. Они могут быть сформулированы как в форме понятий, так и в форме ключевых слов, а также в любой другой форме: рисуночной, вопросов, восклицаний, цитат и так дал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Приём «Причинная карт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335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3"/>
          <p:cNvSpPr/>
          <p:nvPr/>
        </p:nvSpPr>
        <p:spPr>
          <a:xfrm>
            <a:off x="1908000" y="1844640"/>
            <a:ext cx="689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Причинная кар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графическая схема, на которой отображается проблема и факторы, на нее влияющие. Для отображения силы связи используется разная толщина стрел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Правила построения кар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вить анализируемую проблем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ить список факторов (причин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ь связь между проблемой и фактор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азать силу влияния прич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Приёмы проведения рефлек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554120"/>
            <a:ext cx="8229600" cy="4608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3"/>
          <p:cNvSpPr/>
          <p:nvPr/>
        </p:nvSpPr>
        <p:spPr>
          <a:xfrm>
            <a:off x="1763640" y="1444680"/>
            <a:ext cx="7056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флексия осуществляется на протяжении всего учебного процесса, выполняя на разных его этапах различные функ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оцесс рефлексии вовлечены и учащиеся, и учите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оказывает опыт, в случае неучастия кого-либо из субъектов процесса обучения в процессе рефлексии, весь механизм рефлексии оказывается неэффектив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флексия может быть осуществлена в устной или письменной фор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этом она имеет разное смысловое назна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Синквей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1554120"/>
            <a:ext cx="8229600" cy="4608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3"/>
          <p:cNvSpPr/>
          <p:nvPr/>
        </p:nvSpPr>
        <p:spPr>
          <a:xfrm>
            <a:off x="1835280" y="1052640"/>
            <a:ext cx="70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Синквей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стихотворение из пяти строк, которое строится по правил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ервой строчке тема называется одним словом (обычно существительным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торая строчка - это описание темы в двух словах (двумя прилагательным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тья строчка - это описание действия в рамках этой темы тремя слов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вертая строка - это фраза из четырех слов, показывающая отношение к тем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няя строка - это синоним из одного слова, который повторяет суть те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4"/>
          <p:cNvSpPr/>
          <p:nvPr/>
        </p:nvSpPr>
        <p:spPr>
          <a:xfrm>
            <a:off x="826920" y="4437000"/>
            <a:ext cx="7777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квейны полезны в качестве инструмента для синтезирования сложной информации, в качестве среза оценки понятийного и словарного багажа учащих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внешней простоте формы, синквейн-быстрый, но мощный инструмент для рефлексии (резюмировать информацию, излагать сложные идеи, чувства и представления в нескольких словах не так-то просто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835280" y="620280"/>
            <a:ext cx="68515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Критическое мышлени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это способность ставить новые вопросы, вырабатывать разнообразные аргументы, принимать независимые продуманные реш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Критическое мышлени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это отправная точка для развития творческого мыш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692000" y="0"/>
            <a:ext cx="727236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Технология развития критического мыш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Технологическая основ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базовая модель трех стадий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"вызов -реализация (осмысление) -рефлексия (размышление)"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ая позволяет помочь учащимся самим определять цели обучения, осуществлять активный поиск информации и размышлять о том, что они узн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зовая модель задает не только определенную логику построения урока, но и последовательность, и способы сочетания конкретных методических прие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ная цель технологии развития критического мышления - развитие интеллектуальных способностей ученика, позволяющих ему учиться самостояте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Заголовок 1" descr=""/>
          <p:cNvPicPr/>
          <p:nvPr/>
        </p:nvPicPr>
        <p:blipFill>
          <a:blip r:embed="rId1"/>
          <a:stretch/>
        </p:blipFill>
        <p:spPr>
          <a:xfrm>
            <a:off x="463680" y="828720"/>
            <a:ext cx="8242200" cy="731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457200" y="5084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зовая модель задает не только определенную логику построения урока, но и последовательность, и способы сочетания конкретных методических прием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3"/>
          <p:cNvSpPr/>
          <p:nvPr/>
        </p:nvSpPr>
        <p:spPr>
          <a:xfrm>
            <a:off x="1258920" y="2781360"/>
            <a:ext cx="1728720" cy="2303280"/>
          </a:xfrm>
          <a:custGeom>
            <a:avLst/>
            <a:gdLst>
              <a:gd name="textAreaLeft" fmla="*/ 84240 w 1728720"/>
              <a:gd name="textAreaRight" fmla="*/ 1644480 w 1728720"/>
              <a:gd name="textAreaTop" fmla="*/ 84240 h 2303280"/>
              <a:gd name="textAreaBottom" fmla="*/ 2219040 h 2303280"/>
            </a:gdLst>
            <a:ahLst/>
            <a:rect l="textAreaLeft" t="textAreaTop" r="textAreaRight" b="textAreaBottom"/>
            <a:pathLst>
              <a:path w="21600" h="28778">
                <a:moveTo>
                  <a:pt x="3600" y="0"/>
                </a:moveTo>
                <a:arcTo wR="3600" hR="3600" stAng="16200000" swAng="-5400000"/>
                <a:lnTo>
                  <a:pt x="0" y="25178"/>
                </a:lnTo>
                <a:arcTo wR="3600" hR="3600" stAng="10800000" swAng="-5400000"/>
                <a:lnTo>
                  <a:pt x="18000" y="287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3a3e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дия выз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10"/>
          <p:cNvSpPr/>
          <p:nvPr/>
        </p:nvSpPr>
        <p:spPr>
          <a:xfrm>
            <a:off x="4067280" y="2852640"/>
            <a:ext cx="1863720" cy="2232000"/>
          </a:xfrm>
          <a:custGeom>
            <a:avLst/>
            <a:gdLst>
              <a:gd name="textAreaLeft" fmla="*/ 90720 w 1863720"/>
              <a:gd name="textAreaRight" fmla="*/ 1773000 w 1863720"/>
              <a:gd name="textAreaTop" fmla="*/ 90720 h 2232000"/>
              <a:gd name="textAreaBottom" fmla="*/ 2141280 h 2232000"/>
            </a:gdLst>
            <a:ahLst/>
            <a:rect l="textAreaLeft" t="textAreaTop" r="textAreaRight" b="textAreaBottom"/>
            <a:pathLst>
              <a:path w="21600" h="25867">
                <a:moveTo>
                  <a:pt x="3600" y="0"/>
                </a:moveTo>
                <a:arcTo wR="3600" hR="3600" stAng="16200000" swAng="-5400000"/>
                <a:lnTo>
                  <a:pt x="0" y="22267"/>
                </a:lnTo>
                <a:arcTo wR="3600" hR="3600" stAng="10800000" swAng="-5400000"/>
                <a:lnTo>
                  <a:pt x="18000" y="258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8fbf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дия осмысления новой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11"/>
          <p:cNvSpPr/>
          <p:nvPr/>
        </p:nvSpPr>
        <p:spPr>
          <a:xfrm>
            <a:off x="6875640" y="2852640"/>
            <a:ext cx="1855440" cy="2160720"/>
          </a:xfrm>
          <a:custGeom>
            <a:avLst/>
            <a:gdLst>
              <a:gd name="textAreaLeft" fmla="*/ 90360 w 1855440"/>
              <a:gd name="textAreaRight" fmla="*/ 1765080 w 1855440"/>
              <a:gd name="textAreaTop" fmla="*/ 90360 h 2160720"/>
              <a:gd name="textAreaBottom" fmla="*/ 2070360 h 2160720"/>
            </a:gdLst>
            <a:ahLst/>
            <a:rect l="textAreaLeft" t="textAreaTop" r="textAreaRight" b="textAreaBottom"/>
            <a:pathLst>
              <a:path w="21600" h="25153">
                <a:moveTo>
                  <a:pt x="3600" y="0"/>
                </a:moveTo>
                <a:arcTo wR="3600" hR="3600" stAng="16200000" swAng="-5400000"/>
                <a:lnTo>
                  <a:pt x="0" y="21553"/>
                </a:lnTo>
                <a:arcTo wR="3600" hR="3600" stAng="10800000" swAng="-5400000"/>
                <a:lnTo>
                  <a:pt x="18000" y="251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дия рефлек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трелка вправо 12"/>
          <p:cNvSpPr/>
          <p:nvPr/>
        </p:nvSpPr>
        <p:spPr>
          <a:xfrm>
            <a:off x="3203640" y="3573360"/>
            <a:ext cx="785880" cy="57168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26267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трелка вправо 13"/>
          <p:cNvSpPr/>
          <p:nvPr/>
        </p:nvSpPr>
        <p:spPr>
          <a:xfrm>
            <a:off x="5940360" y="3573360"/>
            <a:ext cx="785880" cy="57168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26267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8"/>
          <p:cNvSpPr/>
          <p:nvPr/>
        </p:nvSpPr>
        <p:spPr>
          <a:xfrm>
            <a:off x="1908000" y="1125360"/>
            <a:ext cx="698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Технологическая основ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базовая модель трех стадий, которая позволяет помочь учащимся самим определять цели обучения, осуществлять активный поиск информации и размышлять о том, что они узн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9"/>
          <p:cNvSpPr/>
          <p:nvPr/>
        </p:nvSpPr>
        <p:spPr>
          <a:xfrm>
            <a:off x="1763640" y="26028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Базовая модель РК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63280" y="549000"/>
            <a:ext cx="692316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Функции фаз технологии РК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4000" y="1268280"/>
            <a:ext cx="8002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1835280" y="1557360"/>
            <a:ext cx="151272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ы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4"/>
          <p:cNvSpPr/>
          <p:nvPr/>
        </p:nvSpPr>
        <p:spPr>
          <a:xfrm>
            <a:off x="3492360" y="1484280"/>
            <a:ext cx="230364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Реа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5"/>
          <p:cNvSpPr/>
          <p:nvPr/>
        </p:nvSpPr>
        <p:spPr>
          <a:xfrm>
            <a:off x="6084720" y="1484280"/>
            <a:ext cx="2232360" cy="865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Рефлек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6"/>
          <p:cNvSpPr/>
          <p:nvPr/>
        </p:nvSpPr>
        <p:spPr>
          <a:xfrm>
            <a:off x="971640" y="2781360"/>
            <a:ext cx="2448000" cy="3168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7"/>
          <p:cNvSpPr/>
          <p:nvPr/>
        </p:nvSpPr>
        <p:spPr>
          <a:xfrm>
            <a:off x="3492360" y="2781360"/>
            <a:ext cx="2374920" cy="3168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8"/>
          <p:cNvSpPr/>
          <p:nvPr/>
        </p:nvSpPr>
        <p:spPr>
          <a:xfrm>
            <a:off x="6012000" y="2708280"/>
            <a:ext cx="2663640" cy="3457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1116000" y="2852640"/>
            <a:ext cx="20876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Мотивацион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побуждение к работе с новой информацией, пробуждение интереса к тем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Информацион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вызов имеющихся знаний по тем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Коммуникацион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обмен мнениям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0"/>
          <p:cNvSpPr/>
          <p:nvPr/>
        </p:nvSpPr>
        <p:spPr>
          <a:xfrm>
            <a:off x="3564000" y="2852640"/>
            <a:ext cx="2736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Информацион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получение новой информации по тем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Систематизацион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классификация получен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формации по категория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2"/>
          <p:cNvSpPr/>
          <p:nvPr/>
        </p:nvSpPr>
        <p:spPr>
          <a:xfrm>
            <a:off x="6012000" y="2637000"/>
            <a:ext cx="259236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Коммуникацион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обмен мнениям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Информацион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приобретение зна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Мотивационна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побуждение к расширению информационного пол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Оцено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оотнесение новой информации с имеющейся, выработка собственной позиции, оценка процесс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трелка вправо 14"/>
          <p:cNvSpPr/>
          <p:nvPr/>
        </p:nvSpPr>
        <p:spPr>
          <a:xfrm rot="5400000">
            <a:off x="2261520" y="2498400"/>
            <a:ext cx="300240" cy="287640"/>
          </a:xfrm>
          <a:prstGeom prst="rightArrow">
            <a:avLst>
              <a:gd name="adj1" fmla="val 50000"/>
              <a:gd name="adj2" fmla="val 5019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трелка вниз 15"/>
          <p:cNvSpPr/>
          <p:nvPr/>
        </p:nvSpPr>
        <p:spPr>
          <a:xfrm>
            <a:off x="4500720" y="2421000"/>
            <a:ext cx="268200" cy="330120"/>
          </a:xfrm>
          <a:prstGeom prst="downArrow">
            <a:avLst>
              <a:gd name="adj1" fmla="val 50000"/>
              <a:gd name="adj2" fmla="val 5004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трелка вниз 16"/>
          <p:cNvSpPr/>
          <p:nvPr/>
        </p:nvSpPr>
        <p:spPr>
          <a:xfrm>
            <a:off x="7164360" y="2349360"/>
            <a:ext cx="287280" cy="35892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835280" y="692280"/>
            <a:ext cx="698472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Что дает ТРКМ ученик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шение эффективности восприятия информ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шение интереса как к изучаемому материалу, так и к самому процессу обу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ие ответственно относиться к собственному образован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ие работать в сотрудничестве с други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шение качества образ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лание и умение стать человеком, который учится в течение всей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332000" y="260280"/>
            <a:ext cx="77040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Учитель, владеющий технологией развития критического мышления</a:t>
            </a: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способе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ть условия для развития личности, способной критически мысли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ктировать пути и способы достижения поставленных задач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лизировать собственную деятель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ть разнообразный комплекс методов и приёмов ТРКМ, так как данная технология является общепедагогической,  личностно-ориентированной и позволяет решать широкий спектр образовательных задач: обучающих, воспитательных и развивающ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Приём  «Ключевые слов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835280" y="1600200"/>
            <a:ext cx="68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На стадии вызов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яются "ключевые слова", по которым можно придумать задачу или расставить их в определенной последова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На стадии осмыслен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щут подтверждение своим предположениям, расширяя матери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Приём «Тонкие и толстые вопросы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403280" y="1484280"/>
            <a:ext cx="7283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ём может быть использован на любой из трех фаз урок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на стадии вызов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опросы до изучения тем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на стадии осмысле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пособ активной фиксации вопросов по ходу чтения, слуша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при размышлени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емонстрация понимания пройденн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187280" y="3933720"/>
          <a:ext cx="6913800" cy="2425680"/>
        </p:xfrm>
        <a:graphic>
          <a:graphicData uri="http://schemas.openxmlformats.org/drawingml/2006/table">
            <a:tbl>
              <a:tblPr/>
              <a:tblGrid>
                <a:gridCol w="3456000"/>
                <a:gridCol w="3457800"/>
              </a:tblGrid>
              <a:tr h="66204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лсты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нк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76364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ясните почему….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ему вы думаете….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оложите, что будет если…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чём различие…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ему вы считаете….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..? Что…? Когда…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т…? Мог ли…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ло ли…? Будет…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гласны ли вы…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но ли…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5T17:54:48Z</dcterms:created>
  <dc:creator>User</dc:creator>
  <dc:description/>
  <dc:language>en-US</dc:language>
  <cp:lastModifiedBy>Света</cp:lastModifiedBy>
  <dcterms:modified xsi:type="dcterms:W3CDTF">2021-06-08T06:09:22Z</dcterms:modified>
  <cp:revision>85</cp:revision>
  <dc:subject/>
  <dc:title>Слайд 1</dc:title>
</cp:coreProperties>
</file>