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44A-E5AD-427B-9ADC-31C3D04E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562-08F3-40AA-B977-BF8962AA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E1A-570C-4A03-A76E-EA2BA243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313-B091-43E1-B793-45A8CC52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CE5-E7F6-40A2-A548-DF2CFD53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2A2-0D42-41B2-85C1-3E3FCB29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A2B-6689-4872-9752-287A9C83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A3D-3A75-44F4-BA02-4FAACC1F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4651-3FA1-4C9E-8E4E-A58C4E46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FC7-11CA-44F4-987B-4B4AF10E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E4F-13AC-4614-B335-759725AB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55A1-03ED-4683-8084-DD8A8A7F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4540-6BA3-4E8E-9962-1C24E5FA9F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92360" y="549000"/>
            <a:ext cx="518328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Методические приемы развития критического мышления на уроках математик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92720" y="5013360"/>
            <a:ext cx="32400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Автор: Дружин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Светлана Анатол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ласт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56000" y="1197000"/>
            <a:ext cx="6130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На стадии осмысления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ходу работы с текстом вносятся исправления и дополнения в гроз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На стадии рефлекси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равления неверных предположений в "предварительных кластерах", заполнение их на основе новой информации, установление причинно-следственных связей между отдельными смысловыми бло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ый момент - 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резентация "новых" класте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этой формы - не только систематизация материала, но и установление причинно-следственных связей между гроздь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237636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иём «Верные и неверные утверждения или Верите ли в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63280" y="1599840"/>
            <a:ext cx="692316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прием может быть началом урока. Учащиеся, выбирая "верные утверждения" из предложенных учителем, описывают заданную тему (ситуацию, обстановку, систему прави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попросите учащихся установить, верны ли данные утверждения, обосновывая сво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знакомства с основной информацией(текст параграфа, лекция по данной теме) мы возвращаемся к данным утверждениям и просим учащихся оценить их достоверность, используя полученную на уроке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258920" y="5373720"/>
          <a:ext cx="7200720" cy="792000"/>
        </p:xfrm>
        <a:graphic>
          <a:graphicData uri="http://schemas.openxmlformats.org/drawingml/2006/table">
            <a:tbl>
              <a:tblPr/>
              <a:tblGrid>
                <a:gridCol w="2400120"/>
                <a:gridCol w="2400480"/>
                <a:gridCol w="240012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чтения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чтения текс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иём «Инсер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63280" y="1268280"/>
            <a:ext cx="6923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текста с пометк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уже зн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-» –  думал инач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+» - нов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?» – н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ие таблицы, выписываются основные положения из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приём работает на стадии осмы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заполнения таблицы нужно будет вернуться к тексту, таким образом обеспечивается вдумчивое, внимательное чт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5289480"/>
          <a:ext cx="6096240" cy="7318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иём «Концептуальная табл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11280" y="3573360"/>
          <a:ext cx="8064360" cy="216072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ииф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алиифа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86" name="Прямоугольник 3"/>
          <p:cNvSpPr/>
          <p:nvPr/>
        </p:nvSpPr>
        <p:spPr>
          <a:xfrm>
            <a:off x="1908000" y="1197000"/>
            <a:ext cx="676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ём особенно полезен, когда предполагается сравнение трех и более аспектов или вопро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ца строится так: по горизонтали располагается то, что подлежит сравнению, а по вертикали различные черты и свойства, по которым это сравнение происхо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иём «Сводная табл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900000" y="5373720"/>
          <a:ext cx="7345440" cy="1036440"/>
        </p:xfrm>
        <a:graphic>
          <a:graphicData uri="http://schemas.openxmlformats.org/drawingml/2006/table">
            <a:tbl>
              <a:tblPr/>
              <a:tblGrid>
                <a:gridCol w="1468440"/>
                <a:gridCol w="1470240"/>
                <a:gridCol w="1468440"/>
                <a:gridCol w="1468440"/>
                <a:gridCol w="1469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и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89" name="Прямоугольник 3"/>
          <p:cNvSpPr/>
          <p:nvPr/>
        </p:nvSpPr>
        <p:spPr>
          <a:xfrm>
            <a:off x="1979640" y="1444680"/>
            <a:ext cx="6696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за короткое время описать и изучить большое количество информ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Линии сравнения» - это характеристики, по которым учащиеся сравнивают различные явления, объекты и прочее, формулируют сами уче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егории сравнения можно выделять как до чтения текста, так и после его прочтения. Они могут быть сформулированы как в форме понятий, так и в форме ключевых слов, а также в любой другой форме: рисуночной, вопросов, восклицаний, цитат и так дал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иём «Причинная карт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335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3"/>
          <p:cNvSpPr/>
          <p:nvPr/>
        </p:nvSpPr>
        <p:spPr>
          <a:xfrm>
            <a:off x="1908000" y="1844640"/>
            <a:ext cx="689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ичинная карт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графическая схема, на которой отображается проблема и факторы, на нее влияющие. Для отображения силы связи используется разная толщина стре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авила построения кар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анализируемую пробле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ить список факторов (причи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связь между проблемой и фактор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ь силу влияния пр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иёмы проведения рефлек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554120"/>
            <a:ext cx="8229600" cy="46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1763640" y="1444680"/>
            <a:ext cx="705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лексия осуществляется на протяжении всего учебного процесса, выполняя на разных его этапах различные фун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 рефлексии вовлечены и учащиеся, и учит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оказывает опыт, в случае неучастия кого-либо из субъектов процесса обучения в процессе рефлексии, весь механизм рефлексии оказывается неэффектив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лексия может быть осуществлена в устной или письменной фор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она имеет разное смысловое на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Синкве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554120"/>
            <a:ext cx="8229600" cy="460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1835280" y="1052640"/>
            <a:ext cx="70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Синквей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тихотворение из пяти строк, которое строится по правил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ой строчке тема называется одним словом (обычно существительны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ая строчка - это описание темы в двух словах (двумя прилагательным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тья строчка - это описание действия в рамках этой темы тремя сло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ая строка - это фраза из четырех слов, показывающая отношение к те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няя строка - это синоним из одного слова, который повторяет суть 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826920" y="4437000"/>
            <a:ext cx="777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квейны полезны в качестве инструмента для синтезирования сложной информации, в качестве среза оценки понятийного и словарного багажа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нешней простоте формы, синквейн-быстрый, но мощный инструмент для рефлексии (резюмировать информацию, излагать сложные идеи, чувства и представления в нескольких словах не так-то прост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835280" y="620280"/>
            <a:ext cx="68515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ритическое мышл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способность ставить новые вопросы, вырабатывать разнообразные аргументы, принимать независимые продуманные ре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Критическое мышл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это отправная точка для развития творческого мыш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692000" y="0"/>
            <a:ext cx="72723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Технология развития критического мыш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Технологическая основ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азовая модель трех стади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"вызов -реализация (осмысление) -рефлексия (размышление)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позволяет помочь учащимся самим определять цели обучения, осуществлять активный поиск информации и размышлять о том, что они узн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овая модель задает не только определенную логику построения урока, но и последовательность, и способы сочетания конкретных методических прие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ая цель технологии развития критического мышления - развитие интеллектуальных способностей ученика, позволяющих ему учиться самостояте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824220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08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овая модель задает не только определенную логику построения урока, но и последовательность, и способы сочетания конкретных методических прие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3"/>
          <p:cNvSpPr/>
          <p:nvPr/>
        </p:nvSpPr>
        <p:spPr>
          <a:xfrm>
            <a:off x="1258920" y="2781360"/>
            <a:ext cx="1728720" cy="2303280"/>
          </a:xfrm>
          <a:custGeom>
            <a:avLst/>
            <a:gdLst>
              <a:gd name="textAreaLeft" fmla="*/ 84240 w 1728720"/>
              <a:gd name="textAreaRight" fmla="*/ 1644480 w 1728720"/>
              <a:gd name="textAreaTop" fmla="*/ 84240 h 2303280"/>
              <a:gd name="textAreaBottom" fmla="*/ 2219040 h 2303280"/>
            </a:gdLst>
            <a:ahLst/>
            <a:rect l="textAreaLeft" t="textAreaTop" r="textAreaRight" b="textAreaBottom"/>
            <a:pathLst>
              <a:path w="21600" h="28778">
                <a:moveTo>
                  <a:pt x="3600" y="0"/>
                </a:moveTo>
                <a:arcTo wR="3600" hR="3600" stAng="16200000" swAng="-5400000"/>
                <a:lnTo>
                  <a:pt x="0" y="25178"/>
                </a:lnTo>
                <a:arcTo wR="3600" hR="3600" stAng="10800000" swAng="-5400000"/>
                <a:lnTo>
                  <a:pt x="18000" y="287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я выз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10"/>
          <p:cNvSpPr/>
          <p:nvPr/>
        </p:nvSpPr>
        <p:spPr>
          <a:xfrm>
            <a:off x="4067280" y="2852640"/>
            <a:ext cx="1863720" cy="2232000"/>
          </a:xfrm>
          <a:custGeom>
            <a:avLst/>
            <a:gdLst>
              <a:gd name="textAreaLeft" fmla="*/ 90720 w 1863720"/>
              <a:gd name="textAreaRight" fmla="*/ 1773000 w 1863720"/>
              <a:gd name="textAreaTop" fmla="*/ 90720 h 2232000"/>
              <a:gd name="textAreaBottom" fmla="*/ 2141280 h 2232000"/>
            </a:gdLst>
            <a:ahLst/>
            <a:rect l="textAreaLeft" t="textAreaTop" r="textAreaRight" b="textAreaBottom"/>
            <a:pathLst>
              <a:path w="21600" h="25867">
                <a:moveTo>
                  <a:pt x="3600" y="0"/>
                </a:moveTo>
                <a:arcTo wR="3600" hR="3600" stAng="16200000" swAng="-5400000"/>
                <a:lnTo>
                  <a:pt x="0" y="22267"/>
                </a:lnTo>
                <a:arcTo wR="3600" hR="3600" stAng="10800000" swAng="-5400000"/>
                <a:lnTo>
                  <a:pt x="18000" y="258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8fbf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я осмысления нов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1"/>
          <p:cNvSpPr/>
          <p:nvPr/>
        </p:nvSpPr>
        <p:spPr>
          <a:xfrm>
            <a:off x="6875640" y="2852640"/>
            <a:ext cx="1855440" cy="2160720"/>
          </a:xfrm>
          <a:custGeom>
            <a:avLst/>
            <a:gdLst>
              <a:gd name="textAreaLeft" fmla="*/ 90360 w 1855440"/>
              <a:gd name="textAreaRight" fmla="*/ 1765080 w 1855440"/>
              <a:gd name="textAreaTop" fmla="*/ 90360 h 2160720"/>
              <a:gd name="textAreaBottom" fmla="*/ 2070360 h 2160720"/>
            </a:gdLst>
            <a:ahLst/>
            <a:rect l="textAreaLeft" t="textAreaTop" r="textAreaRight" b="textAreaBottom"/>
            <a:pathLst>
              <a:path w="21600" h="25153">
                <a:moveTo>
                  <a:pt x="3600" y="0"/>
                </a:moveTo>
                <a:arcTo wR="3600" hR="3600" stAng="16200000" swAng="-5400000"/>
                <a:lnTo>
                  <a:pt x="0" y="21553"/>
                </a:lnTo>
                <a:arcTo wR="3600" hR="3600" stAng="10800000" swAng="-5400000"/>
                <a:lnTo>
                  <a:pt x="18000" y="251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я рефлек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право 12"/>
          <p:cNvSpPr/>
          <p:nvPr/>
        </p:nvSpPr>
        <p:spPr>
          <a:xfrm>
            <a:off x="3203640" y="3573360"/>
            <a:ext cx="785880" cy="5716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право 13"/>
          <p:cNvSpPr/>
          <p:nvPr/>
        </p:nvSpPr>
        <p:spPr>
          <a:xfrm>
            <a:off x="5940360" y="3573360"/>
            <a:ext cx="785880" cy="57168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1908000" y="1125360"/>
            <a:ext cx="69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Технологическая осно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азовая модель трех стадий, которая позволяет помочь учащимся самим определять цели обучения, осуществлять активный поиск информации и размышлять о том, что они узн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1763640" y="260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Базовая модель Р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280" y="549000"/>
            <a:ext cx="69231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Функции фаз технологии РК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4000" y="1268280"/>
            <a:ext cx="8002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1835280" y="1557360"/>
            <a:ext cx="151272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ы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3492360" y="1484280"/>
            <a:ext cx="23036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а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6084720" y="1484280"/>
            <a:ext cx="2232360" cy="865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971640" y="2781360"/>
            <a:ext cx="2448000" cy="316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3492360" y="2781360"/>
            <a:ext cx="2374920" cy="316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8"/>
          <p:cNvSpPr/>
          <p:nvPr/>
        </p:nvSpPr>
        <p:spPr>
          <a:xfrm>
            <a:off x="6012000" y="2708280"/>
            <a:ext cx="2663640" cy="3457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1116000" y="2852640"/>
            <a:ext cx="2087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Мотив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обуждение к работе с новой информацией, пробуждение интереса к тем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Информ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ызов имеющихся знаний по тем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Коммуник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мен мнени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3564000" y="2852640"/>
            <a:ext cx="2736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Информ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олучение новой информации по тем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Систематиз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классификация получ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и по категория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6012000" y="2637000"/>
            <a:ext cx="25923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Коммуник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мен мнениям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Информа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иобретение зн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Мотивационна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обуждение к расширению информационного пол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Оцено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оотнесение новой информации с имеющейся, выработка собственной позиции, оценка процес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право 14"/>
          <p:cNvSpPr/>
          <p:nvPr/>
        </p:nvSpPr>
        <p:spPr>
          <a:xfrm rot="5400000">
            <a:off x="2261520" y="2498400"/>
            <a:ext cx="300240" cy="287640"/>
          </a:xfrm>
          <a:prstGeom prst="rightArrow">
            <a:avLst>
              <a:gd name="adj1" fmla="val 50000"/>
              <a:gd name="adj2" fmla="val 501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низ 15"/>
          <p:cNvSpPr/>
          <p:nvPr/>
        </p:nvSpPr>
        <p:spPr>
          <a:xfrm>
            <a:off x="4500720" y="2421000"/>
            <a:ext cx="268200" cy="330120"/>
          </a:xfrm>
          <a:prstGeom prst="downArrow">
            <a:avLst>
              <a:gd name="adj1" fmla="val 50000"/>
              <a:gd name="adj2" fmla="val 5004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низ 16"/>
          <p:cNvSpPr/>
          <p:nvPr/>
        </p:nvSpPr>
        <p:spPr>
          <a:xfrm>
            <a:off x="7164360" y="2349360"/>
            <a:ext cx="287280" cy="3589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835280" y="692280"/>
            <a:ext cx="698472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Что дает ТРКМ учени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эффективности восприятия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интереса как к изучаемому материалу, так и к самому процессу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ответственно относиться к собственному образова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е работать в сотрудничестве с други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 качества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ание и умение стать человеком, который учится в течение все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332000" y="260280"/>
            <a:ext cx="7704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Учитель, владеющий технологией развития критического мышления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способе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условия для развития личности, способной критически мысл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ировать пути и способы достижения поставленных зада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ировать собственную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 разнообразный комплекс методов и приёмов ТРКМ, так как данная технология является общепедагогической,  личностно-ориентированной и позволяет решать широкий спектр образовательных задач: обучающих, воспитательных и развиваю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иём  «Ключевые сло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83528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На стадии вызов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ются "ключевые слова", по которым можно придумать задачу или расставить их в определенной последова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На стадии осмыслени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щут подтверждение своим предположениям, расширяя матери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Приём «Тонкие и толстые вопрос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403280" y="1484280"/>
            <a:ext cx="7283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ём может быть использован на любой из трех фаз урок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на стадии вызов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опросы до изучения тем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на стадии осмысле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особ активной фиксации вопросов по ходу чтения, слуш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при размышлен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демонстрация понимания пройден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187280" y="3933720"/>
          <a:ext cx="6913800" cy="2425680"/>
        </p:xfrm>
        <a:graphic>
          <a:graphicData uri="http://schemas.openxmlformats.org/drawingml/2006/table">
            <a:tbl>
              <a:tblPr/>
              <a:tblGrid>
                <a:gridCol w="3456000"/>
                <a:gridCol w="3457800"/>
              </a:tblGrid>
              <a:tr h="6620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сты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76364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ясните почему….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вы думаете….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оложите, что будет если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чём различие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ему вы считаете….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..? Что…? Когда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т…? Мог ли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о ли…? Будет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гласны ли вы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о ли…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54:48Z</dcterms:created>
  <dc:creator>User</dc:creator>
  <dc:description/>
  <dc:language>en-US</dc:language>
  <cp:lastModifiedBy>Света</cp:lastModifiedBy>
  <dcterms:modified xsi:type="dcterms:W3CDTF">2021-06-08T06:09:22Z</dcterms:modified>
  <cp:revision>85</cp:revision>
  <dc:subject/>
  <dc:title>Слайд 1</dc:title>
</cp:coreProperties>
</file>