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EB1-B263-42F8-BEB9-D792A2A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E9B-048F-4B61-8EAE-A02A765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C768-0C4C-4A54-B3BC-26B34B8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1C32-FB92-41A1-BD73-02FECEF7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E4882-8EC5-4E22-A114-9A0CA50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C226-25AD-4DF6-ABFE-D1FE2D3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C01C2-5CBE-4AE1-9761-E259C16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C6B77-E601-4B5B-8C19-74EA0A7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A8CA2-2856-4962-845D-9125ABA5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E8446-E87A-451D-A767-E21CAED4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B2A87-79C2-4A06-BAC5-EBDCAF4E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C239F-3DD8-45C9-830F-2C770C2B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0A4-F2D2-4CFF-9D34-F9C3E8F4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71EF1-379C-4BFA-A923-6F97DEB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719A6-83EC-4DD0-A34F-54533856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154F7-55A8-431B-A5A9-BFE3ACB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6D54B-DD53-4217-BD8E-3DD1B14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86EE2-D104-427B-97A7-17B1871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3D81E-4A48-4CF9-A249-D85E8A0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343F-6214-43DA-B486-F74A783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41F5C-0540-4016-975B-7F58793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A1370-D7B2-47E2-AE9A-FD43AA09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EAA3-D5F7-4740-B05F-B378AFDA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DDC-39D7-4660-BB97-1AB8E86E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CC0D1-659D-403A-A481-848A060C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49763-7721-4AA7-9BAF-5392E41B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9AB70-3AF1-4EEB-A0C2-6371F04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DC1D-BBDD-4A91-8EC6-BDC9818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27E56-2E26-4946-94CF-60BDF0A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10AD-4A94-40BB-8ABF-88ED284C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306C1-FE7E-472B-9929-EB3E55D9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78566-EA76-4065-9DDE-B012B6F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3FBF-D92E-4CF3-B10C-8B502FB7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75AEF-B681-4C7A-B50D-5CF90AF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1C32-CCDB-4A88-8399-2DDE59EB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69B4-BE34-4797-8F3C-1117F00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BC50-F6B4-4996-A6E8-FEDD76AA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D668-914E-44FF-AF98-8F2D3644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1DA-DD48-4A36-9CA1-C52E013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6AA-9B1D-476E-9ECC-E6B90AA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7D53-CBCE-44EA-AE0B-05EBA5B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4A60-52CB-4EF9-A2D0-8674052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7A0-5523-4B24-BA8D-B938F73F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CAD-18A6-4C0A-9832-728F13C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56E-F36A-450D-B0A1-886C735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B1AF-F89E-4754-8B3F-63537B3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DDB-9D8F-4405-BD80-270D511D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46E-B59C-4AFB-B3E9-9649C84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96C8-5A36-465F-A743-79B7B868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562C-8ED3-4942-83C9-BD084D51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45DD-D68E-44EF-BCA2-58E69DD6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16DC-7E96-4B03-A352-AC5DD4DF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A80C-C0F2-4B3C-910E-BF822EFE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55F0-1B2D-423E-B265-B29B63E7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308D-3A48-43B8-87D3-9D3A621C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F71-5065-4847-BEF8-E3DEE78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FA02-4920-44E5-9F15-B7A7F58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7520-DDE2-451F-84CF-7EF915D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CCBB-FA20-467B-814C-6DF80E4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8FFE-2D0D-4EAB-A50C-D35CD88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1B3C-ED56-42E4-9ADB-9336FE1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8B3C-936C-40E2-ABCB-75BF661B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9903-4356-4BFE-812E-3F558B35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1E04-64B4-4F3E-9021-6A9D2F0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4FEE-7DC2-4568-9CC6-397E9CF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0270-D5E1-4E3C-B33A-341864F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47D-278E-4536-A2EA-FD80AF5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F7D6-D4BB-435D-899F-B901675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6464-EA47-4651-8803-D350F34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8250-DD5D-422B-B89E-E881076F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E6D4-0075-4CE9-80BA-051C2FD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EF96-1AC6-48A0-8687-0F4B3C5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A3D0-11DC-4484-95C3-A1FDEDF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CA07-4332-4167-9582-A5CAED26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5A5C-AD44-4E9D-A945-C6FDDA50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7016-4865-4218-B696-B680F088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A44B-F31B-4F02-8DC2-912132E8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8CA-C0DF-4755-B2E2-76C6D71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D0B0-AD93-410B-AFBA-DCB4E5C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22F7-A14F-4E6E-AE83-091DEAD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F982-3D79-4BF5-9059-F34EA64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1116-702D-4F4E-86F7-E065A30C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428F-37D7-4563-A018-8BB356F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6B29-CA2D-4741-9552-56963DE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1180-CEF7-4DC5-83B3-BCA1131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DD22-32A2-4C8C-98CC-46F7667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3277-2A56-4389-8C7B-7247E466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7A36-7640-45E2-AF87-F513E51A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C6B-B702-4761-A49D-5553219F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CBA4-8C68-4F9D-B4D8-96D7D91D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1511-556C-4665-A2D7-60AF8F37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CA0A-CABD-435D-A3EF-E443F64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FCD1-D78A-402C-81D8-D8C2EBC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C1EB-0154-4A83-8DAD-73435D92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7DEE-2233-444B-AE7B-DF00B03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658E-E5EA-45A8-87F8-C240B1D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1A50-B406-4E72-992B-246FF6D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E6751-16C3-4794-BF7F-FE20AAF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9F4C-66A2-4013-861C-248E8B6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C3B-4913-4CA5-B4D2-E13717E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0466-993B-48F9-BCB6-CC35BCD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E063-5437-45B3-B26D-9ADF6376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0786-A3E3-4418-BAE1-C0070E58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2213-A710-43A2-9213-C0491D92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11A8-35EB-429D-B99A-CCD91BF3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8F24-6F8D-43BA-9DE6-F7C1A6F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01A3-2DAF-4A11-8831-3028E5C2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A25F1-133E-496A-BE64-80AC3D8D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EB67C-E198-418A-A539-FBA09822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382F-5157-4D0C-B243-C36F576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3B0-223A-4750-9459-876C5225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8DD3-590D-4C34-B5CC-EEC9C26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F2C8-80DF-4A9B-9535-42048FD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E50E7-F86C-41D5-A101-6837BB74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2B3B-9FB0-45D4-8E5F-592962EC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6CC48-5254-4C1B-BDA7-D9777E5D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D28DF-C05C-4E9E-A837-28FE6CD7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942A3-DC62-45E9-9E80-93738416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A938A-E548-4A92-BEDB-D89F743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3C4A-954F-411C-B64B-2363DA45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452A5-D43B-4CDB-B1C7-0925CCB2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B72-C8F3-4BEC-8AAD-7404054E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E97D-C0F9-44E0-9F33-D03B942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92F69-4868-467D-911F-8BD5FA8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56CA-9B68-4FA1-9948-2475D55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3182-76A2-4D3A-86F4-FE35F7E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E8426-8ED9-4A77-9302-FAC5D8CE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A9EDD-DD14-417C-9D1E-843A36DD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B7104-18B1-4FF6-9EAD-180F951E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34FBE-A8A2-4647-ADD4-DBA288FE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BA74-E469-421B-A6AD-92516FE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67C29-7F4F-4C42-87C1-FBD9D3F9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830E-9D92-4C72-BD84-3892168A73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9D8F-6AA5-4AEE-9CE2-7CFD27C0BA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CB4-898F-4C1B-B583-797F839AB7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FC75-5CE9-4F0B-8A4E-4CF47E6D25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C19-FF2E-4CB2-8CAF-FE64C3DCD02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93D5-6515-4EEF-8D9F-3C8D1E7C80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9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9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ED15-F493-4935-B96A-50C4B5649A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F7B-1373-492F-991F-11DE695118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8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E64A-BFBE-4A46-B60C-ED959EAB3B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D47-2AB6-43A5-B3A5-4CA662BA29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494B-7BD8-4A7F-9E4E-6496E97784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30B7-E02D-44EC-A863-354B538EE8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WordArt 7"/>
          <p:cNvSpPr txBox="1"/>
          <p:nvPr/>
        </p:nvSpPr>
        <p:spPr>
          <a:xfrm>
            <a:off x="1042920" y="3357720"/>
            <a:ext cx="6842160" cy="863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его критерии и структура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97" name="TextBox 6"/>
          <p:cNvSpPr/>
          <p:nvPr/>
        </p:nvSpPr>
        <p:spPr>
          <a:xfrm>
            <a:off x="214200" y="928800"/>
            <a:ext cx="8715600" cy="1922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Вид –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эволюционная единиц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ны способом питания, местом обитания, набором факторов внешней среды, необходимых для их существ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2071800" y="714240"/>
            <a:ext cx="53877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805120" cy="1581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8"/>
          <p:cNvSpPr/>
          <p:nvPr/>
        </p:nvSpPr>
        <p:spPr>
          <a:xfrm>
            <a:off x="395280" y="472428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ица обыкновенная селится в нижней части ствола берёзы или ольх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348000" y="3357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аичка сама строит дупло в деревь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012000" y="4724280"/>
            <a:ext cx="26636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ица – моск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еляет трещины в стволах деревье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A535-6435-413F-90D2-9C5E1DC0D4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ство в поведении, особенно в брачный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( ритуалы ухаживания, брачные песн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Исключения существуют виды с близким пове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WordArt 4"/>
          <p:cNvSpPr txBox="1"/>
          <p:nvPr/>
        </p:nvSpPr>
        <p:spPr>
          <a:xfrm>
            <a:off x="1785960" y="785880"/>
            <a:ext cx="624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176720" cy="24541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1258920" y="58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ухарь на то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8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338640" cy="24588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58000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терев в брачный пери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3F4-7FF9-4A50-B36C-ADC5E0A218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Общность предков, единая история возникновения и развития в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WordArt 4"/>
          <p:cNvSpPr txBox="1"/>
          <p:nvPr/>
        </p:nvSpPr>
        <p:spPr>
          <a:xfrm>
            <a:off x="1785960" y="857160"/>
            <a:ext cx="588636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р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990440" cy="1500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2276640" cy="1714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250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Вопросы на первичное закрепление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23640" y="1197000"/>
            <a:ext cx="83739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Биологическая задача №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р и бизон - два вида, относящиеся к одному роду. Они очень схожи между собой внешне и в неволе дают плодовитое потомство зубробизона. В природе не скрещиваются, так обитают на разных материках – зубр в Европе, а бизон – в Северной Америке. Как можно назвать этот критерий ви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0DF-0ACA-46C0-AC7E-8955B1D1D5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Рисунок 4" descr="зубр.jpg"/>
          <p:cNvPicPr/>
          <p:nvPr/>
        </p:nvPicPr>
        <p:blipFill>
          <a:blip r:embed="rId1"/>
          <a:stretch/>
        </p:blipFill>
        <p:spPr>
          <a:xfrm>
            <a:off x="5219640" y="4149720"/>
            <a:ext cx="3430800" cy="21956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5" descr="275px-Bizon_sobie_stoi.jpg"/>
          <p:cNvPicPr/>
          <p:nvPr/>
        </p:nvPicPr>
        <p:blipFill>
          <a:blip r:embed="rId2"/>
          <a:stretch/>
        </p:blipFill>
        <p:spPr>
          <a:xfrm>
            <a:off x="395280" y="4005360"/>
            <a:ext cx="32860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24000" y="40464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Биологическая задача №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ый медведь обитает в арктическом поясе, окраска шерсти белая, питается рыбой и морскими млекопитающими. Бурый медведь распространен в лесах умеренного пояса, окраска шерсти бурая, пища растительная и животная, на зиму впадает в спячку. На основании какого критерия можно сделать вывод, что особи этих видов не могут скрещиватьс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A93-0955-44BB-9A34-190CB48A5A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21"/>
          <p:cNvPicPr/>
          <p:nvPr/>
        </p:nvPicPr>
        <p:blipFill>
          <a:blip r:embed="rId1"/>
          <a:stretch/>
        </p:blipFill>
        <p:spPr>
          <a:xfrm>
            <a:off x="4643280" y="3789360"/>
            <a:ext cx="4219560" cy="271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17"/>
          <p:cNvPicPr/>
          <p:nvPr/>
        </p:nvPicPr>
        <p:blipFill>
          <a:blip r:embed="rId2"/>
          <a:stretch/>
        </p:blipFill>
        <p:spPr>
          <a:xfrm>
            <a:off x="324000" y="3789360"/>
            <a:ext cx="3662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6426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Биологическая задача №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о, что под названием «чёрная крыса» скрываются два вида – двойника: крысы с 38-ю и с 42-мя хромосомами. Они не скрещиваются между собой. Как можно назвать такой критер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675A-D2C0-4483-9592-C88CF69BA6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C:\Documents and Settings\user.A1D2F17B847F4AE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4356000" y="3213000"/>
            <a:ext cx="4289400" cy="3200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C:\Documents and Settings\user.A1D2F17B847F4AE\Мои документы\Мои рисунки\крыса.jpg"/>
          <p:cNvPicPr/>
          <p:nvPr/>
        </p:nvPicPr>
        <p:blipFill>
          <a:blip r:embed="rId2"/>
          <a:stretch/>
        </p:blipFill>
        <p:spPr>
          <a:xfrm>
            <a:off x="755640" y="3068640"/>
            <a:ext cx="257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499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Биологическая задача №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 , что в природе существуют два вида зайцев – беляк и русак. Объясните, почему их относят к разным видам?. Какими критериями вы руководствовались при ответе на этот вопрос? Почему нельзя определить принадлежность особи к тому или иному виду только по                 морфологическом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5A6-0196-4D60-98B7-03DF0F2BAF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заяц1"/>
          <p:cNvPicPr/>
          <p:nvPr/>
        </p:nvPicPr>
        <p:blipFill>
          <a:blip r:embed="rId1"/>
          <a:stretch/>
        </p:blipFill>
        <p:spPr>
          <a:xfrm>
            <a:off x="6516720" y="4149720"/>
            <a:ext cx="2494080" cy="2519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-аяц2"/>
          <p:cNvPicPr/>
          <p:nvPr/>
        </p:nvPicPr>
        <p:blipFill>
          <a:blip r:embed="rId2"/>
          <a:stretch/>
        </p:blipFill>
        <p:spPr>
          <a:xfrm>
            <a:off x="169920" y="3933720"/>
            <a:ext cx="2511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e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6e0000"/>
                </a:solidFill>
                <a:latin typeface="Times New Roman"/>
              </a:rPr>
              <a:t>Каждый критерий в отдельности не может быть основанием для определения вида;  только в совокупности они позволяют выяснить принадлежность живого организм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D52-3639-431D-B1F9-9490409209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27280" y="134136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совокупность близких популяций, особи которых способны в природных условиях скрещиваться между собой и обладают общими морфофизиологическими признаками, и биологически изолированных от популяций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2411280" y="692280"/>
            <a:ext cx="453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ид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6732720" y="2924280"/>
            <a:ext cx="2216160" cy="3168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638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8360" y="1196640"/>
            <a:ext cx="822960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это ряд общих особенностей, по которым один вид отличается от других и которые определяют видовую принадлежность того или иного орган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WordArt 7"/>
          <p:cNvSpPr txBox="1"/>
          <p:nvPr/>
        </p:nvSpPr>
        <p:spPr>
          <a:xfrm>
            <a:off x="1258920" y="620640"/>
            <a:ext cx="66978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итерии  (признаки) вида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11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961-3E27-4C65-B58C-E105A751C8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. Генетический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виды различают по числу и структуре хромо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граф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виды занимают определённый аре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Эк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каждый вид может существовать только в определённых условиях, занимая свою экологическую ниш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иохим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виды различают по биохимическим параметрам (состав и структура белков и нуклеиновых кисло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изи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сходство жизненных процессов и возможности размн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6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орфологический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сходство строения организмов одного ви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7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т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особенности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тор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единство происхождения особей в пределах  ви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2500200" y="500040"/>
            <a:ext cx="36561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итерии ви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5DF5-F1A1-4171-A19F-9EB7EDED30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1483920"/>
            <a:ext cx="4286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ходство внешнего и внутреннего строения организ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WordArt 7"/>
          <p:cNvSpPr txBox="1"/>
          <p:nvPr/>
        </p:nvSpPr>
        <p:spPr>
          <a:xfrm>
            <a:off x="826920" y="836640"/>
            <a:ext cx="756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фологиче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302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2"/>
          <a:stretch/>
        </p:blipFill>
        <p:spPr>
          <a:xfrm>
            <a:off x="6977160" y="3500280"/>
            <a:ext cx="2166840" cy="3095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3024000" cy="21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4"/>
          <a:stretch/>
        </p:blipFill>
        <p:spPr>
          <a:xfrm>
            <a:off x="3132000" y="4508640"/>
            <a:ext cx="2592360" cy="2055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735280" cy="2060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1"/>
          <p:cNvSpPr/>
          <p:nvPr/>
        </p:nvSpPr>
        <p:spPr>
          <a:xfrm>
            <a:off x="719928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ятел пёстр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4572000" y="35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ятел 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334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вер луг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468360" y="3141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вер ползуч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Характерный для каждого вида набор хромосом; строго определено их число, размеры и формы, состав ДНК, но различная регуляция работы генов.</a:t>
            </a: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WordArt 4"/>
          <p:cNvSpPr txBox="1"/>
          <p:nvPr/>
        </p:nvSpPr>
        <p:spPr>
          <a:xfrm>
            <a:off x="2556000" y="692280"/>
            <a:ext cx="4105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2062080" cy="27367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684360" y="5805360"/>
            <a:ext cx="763272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0000"/>
                </a:solidFill>
                <a:latin typeface="Times New Roman"/>
              </a:rPr>
              <a:t>Например различие в песне дроздов, пеночек, славок, зябликов и вьюрка, глухой  и обыкновенной кукуш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08000" y="50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укушка глух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877080" y="494172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укушка обыкнове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1714320"/>
            <a:ext cx="86407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6e0000"/>
                </a:solidFill>
                <a:latin typeface="Times New Roman"/>
              </a:rPr>
              <a:t>Сходство всех процессов жизнедеятельности и возможность получения плодовитого потомства при скрещиван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Исключе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WordArt 4"/>
          <p:cNvSpPr txBox="1"/>
          <p:nvPr/>
        </p:nvSpPr>
        <p:spPr>
          <a:xfrm>
            <a:off x="1500120" y="836640"/>
            <a:ext cx="65278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и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0" name="Picture 5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73771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035C-2B07-4C84-9DD2-274EB06F03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ны по биохимическим параметрам (состав и структура белков и нуклеиновых кислот) . Компоненты поверхностного аппарата клетки, например: бациллы сибирской язвы имеют в капсуле полипептид, который не встречается у других баци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1714680" y="642960"/>
            <a:ext cx="59562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хим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5543640" cy="27734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"/>
          <p:cNvSpPr/>
          <p:nvPr/>
        </p:nvSpPr>
        <p:spPr>
          <a:xfrm>
            <a:off x="3276720" y="6381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цилла сибирской яз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D032-0AD2-4672-B1B9-0262D6D0B8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При определении многих видов растений, насекомых, птиц, млекопитающих и других групп организмов, распространение которых хорошо изучено, значения ареала играют существенную роль. Исключение: космополи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1643040" y="907920"/>
            <a:ext cx="6458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ограф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06:02:42Z</dcterms:created>
  <dc:creator>учитель</dc:creator>
  <dc:description/>
  <dc:language>en-US</dc:language>
  <cp:lastModifiedBy>Windows User</cp:lastModifiedBy>
  <dcterms:modified xsi:type="dcterms:W3CDTF">2023-11-14T04:41:02Z</dcterms:modified>
  <cp:revision>34</cp:revision>
  <dc:subject/>
  <dc:title>Вид, критерий вида</dc:title>
</cp:coreProperties>
</file>