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23.png" ContentType="image/png"/>
  <Override PartName="/ppt/media/image7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289-B5ED-41A7-8F10-A3855FFC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97A-1F5B-4574-8723-D6A97790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A1FD2-62B1-4FBD-BBB8-A30CBCD4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D26B2-1CAC-4E95-9651-93410DC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B8CEF-B014-43E8-AAF1-8F0DDA1E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903E0-ED21-41D9-B2F4-8109E415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D53DB-BF06-4DA5-96C4-7235F0C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021B0-7197-43B7-8048-1585B14B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498CC-8162-4808-8549-7D16B3E7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49D73-97B8-45D1-B13F-233848A4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97B14-41C3-441D-B89C-9EF7319F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EE342-0F04-4CF0-983D-F60622FA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A474-DD33-4144-BA80-275B67C0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397E4-1393-4D74-9116-D52DC490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1D58B0-86C6-4713-B7DD-BD0B55A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AC16-D63F-47F3-A242-36A4D319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E0C86-6858-4D08-A573-D1505A71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3229-D3D6-46DF-BB84-64B719AD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6DBC9-F518-4574-8EC0-E6B3C0E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89964-F29E-453B-8CD1-EC535AF6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BBF89-1C00-4893-8C5F-AEECA314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E7A49-A009-4B0B-BF36-EBC564B1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B3EFA-6C0D-45AC-A283-85AD48F6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4B4-2F05-4B89-B04D-C4A48DF7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E764D-356E-4169-B11E-1179BB36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7A0C8-FE5C-45E4-A33D-E85FDFE8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67CFB-2397-4366-B03A-10235EDA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C7DA6-7104-446F-A0F6-14857F4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BDE4E-DB0D-4268-A10D-2767C344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9BA57-7260-449F-945F-3974FD91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B897E-C9EF-4832-BF4B-3FF946CA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20299-1FB1-4490-A443-2718987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2D8D4-96C9-47E6-9044-2C454FC8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BBED9-D9E2-4ABD-83C7-F1B4BE09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09D9-7839-44C1-98DC-12F0D18E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7750C-001A-420C-87C6-A5DE5F2E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A30CB-E2FC-485E-9BA6-AB7EC835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E93CE-63C0-4A62-BFDC-2C3F1623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EFF3-091A-43EB-AB3D-D6814137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FF40-B222-4D82-A9C5-39536AE9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644-61D9-4726-9BF3-700004D5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9C6C-0310-452E-9682-53262C1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EC39-3EF0-424D-8715-59CAA402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B8F6-60AC-4FD6-BACB-D7A3C45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130-4A9F-48CB-A2BB-B01B04B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CE07-4972-4B4E-A012-5CF3FD8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8CB2-D4E3-4C7A-9668-D2C6E7E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3B38-7760-42F7-9275-17255105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2DF0-6F19-4721-8A82-CFA1DBBE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ED3-50B4-498C-93AA-CE717445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7D772-C79A-4D64-9813-CE296E02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695C-43AE-4257-A7BD-1A5F0629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C045-49D0-4C4F-B33A-56A396B6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7ABA-294E-4683-9875-23642B36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D3D40-77CE-4AE1-87EF-304BC93F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760-D52D-4DA1-9BE8-E3AEC2A4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C55FF-47B1-4101-8A74-9D49373A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FA0B-829A-43FE-80DB-7DD63BA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5F5E-8AA7-4D7D-A423-E3BECEA2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42B0A-9CAD-48B4-9069-697FD04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14120-419F-4509-897F-61428DEE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B837-6CBC-4DFA-9D82-00CA534A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98EE-C89B-4E2B-8734-48C9EC0E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565A5-CE7C-439D-A411-776DD41F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96536-196A-4321-A82C-D2691BFA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A78F-A23A-4923-A4AD-E9E489B4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E22-5544-4935-BDC4-BD53AAAA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3C801-3847-4F06-8EF4-8244C55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07423-194F-4CD6-BD8E-2BDC58BE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4D41-F205-49BB-94BD-14C5D7AB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CAB3F-C67D-43BE-B31C-5BE0DABE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E96A-A2D7-4F0F-AF56-85E4D99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1E3BB-CC75-4A87-B90D-BFE8F996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ABDE6-3F7A-4C25-ABEF-1BAA7A08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1D028-2914-40D6-9AE2-DE327963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9934-4067-42C9-8D67-C45F8007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4718-6C99-42A4-AC9B-447037FB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6AE-022F-4438-BA69-57DB2AD8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E2FA1-D775-4047-939F-D677F6BB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86146-7E75-443E-AFEA-2E36F1E5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CCFD-A859-4FF3-821B-71A36407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CD823-9944-437A-A9F6-00B8A204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B0A4C-7A73-419B-8BF0-66584547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40DF-18AF-41D0-B576-EEC7A99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29C67-624D-43E3-9996-012E1F29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02153-07C1-417F-94F8-7E609E1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52BC1-AA16-4064-8625-A6BF4084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58F6D-9CDF-4F82-81B6-4AC044A2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1C59-F843-46BA-8717-2552EE45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9388E-EB7A-4A4C-BC03-3B169744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FB7C6-ED07-4FB5-B093-1A2FB7C7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2DAD0-D7EF-482C-B39D-BE42E869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5A663-AB9C-4A33-B1CC-82E2B472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1F34A-B181-4231-B836-9A370676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7D4CA-1761-46CC-9F59-010B3E0D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067A3-DBC6-44B4-BAC7-17780F39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E2A33-E997-4890-B9C8-4AF83A13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5E779-0A09-4977-BDDC-8271A333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3224E-057A-465C-99A9-0F7A9553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325-5FA7-42D2-9649-053F183B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3A9DE-2114-453D-8E10-F1EE4162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6282B-4577-4C54-BA85-5CC6CF09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A397-08F8-474F-B690-9924F349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27DF4-3A19-42F3-BA13-CE4228D9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00225-0F6C-4107-8DF5-6FD850C1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D17E0-12D7-4CFF-8325-FF5252B6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F86E9-58D6-4E35-B878-BB74E1C5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EEA17-D213-4668-B55B-75F48F05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BC198-6507-48BE-A45B-FFBFCA7A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2FB2F-9611-42FB-8DB0-C3410EC1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CDD-DE8F-4ABE-BB1E-15238A8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511FB-D9CC-4EBB-877B-7FA463E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3D042-5FBB-438B-B4E5-D922AFB4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8A959-7605-4AD8-8CBE-3499EB5E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A7E02-EC83-40E0-8443-29D465A1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B7C60-8073-4F39-A537-CC3B0FFC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4E92F-A654-44BE-A9E0-5C874EB9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2DB7-4874-4897-900C-24F86B6B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11A3-E0C0-49D8-A539-630382AA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1CF92-0272-4C04-AD78-7300B79A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4F4A7-3FC6-4F23-9774-B97DDAEA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097-037F-4418-A940-F9C1C07C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3FD8-C237-4987-827B-37E123B7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5D1E-3950-4FE7-9BCC-52A61D2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C900-012B-4199-A9FA-57F192CD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EC96E-BB75-48E1-A866-402E490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23C3F-650F-47CA-B083-71123DD8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8985B-1852-4256-A661-4924F42D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3CFC7-E651-4C8F-8018-43BF13FC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02E53-2775-477A-9458-F85BA6AB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4F206-3D9C-4BE2-A665-5FB060B1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E28CF-3CDB-4713-B48E-6BB7E3D0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BFB3-75FD-4493-93F1-4EF834DE280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6977-85AB-4A16-B9CB-8F0C0537388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B53E-68FA-4F1E-8589-543D94A345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4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3AED-F5F2-4893-801D-87A0857D0F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D0D-6020-4B75-96BE-F898816F9DE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147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6ADD-5041-4925-8968-BEF0D07844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9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9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9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533-1A54-4E9A-BD4B-9B466A323E8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24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9C48-12F2-4A00-A91B-3941F47A7D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8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F633-34E6-489B-BE03-60E2A38F7B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A6F8-93A6-484D-AC5A-70067A4A22A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7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AE1-0A3A-4B49-B5CA-02A42B66E8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D30A-5F69-43A3-AFC1-1E45F41D8D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WordArt 7"/>
          <p:cNvSpPr txBox="1"/>
          <p:nvPr/>
        </p:nvSpPr>
        <p:spPr>
          <a:xfrm>
            <a:off x="1042920" y="3357720"/>
            <a:ext cx="6842160" cy="8632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его критерии и структура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497" name="TextBox 6"/>
          <p:cNvSpPr/>
          <p:nvPr/>
        </p:nvSpPr>
        <p:spPr>
          <a:xfrm>
            <a:off x="214200" y="928800"/>
            <a:ext cx="8715600" cy="19227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Вид –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эволюционная единиц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Сходны способом питания, местом обитания, набором факторов внешней среды, необходимых для их существова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WordArt 4"/>
          <p:cNvSpPr txBox="1"/>
          <p:nvPr/>
        </p:nvSpPr>
        <p:spPr>
          <a:xfrm>
            <a:off x="2071800" y="714240"/>
            <a:ext cx="538776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колог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1" name="Picture 5" descr=""/>
          <p:cNvPicPr/>
          <p:nvPr/>
        </p:nvPicPr>
        <p:blipFill>
          <a:blip r:embed="rId1"/>
          <a:stretch/>
        </p:blipFill>
        <p:spPr>
          <a:xfrm>
            <a:off x="395280" y="2997360"/>
            <a:ext cx="2376360" cy="1584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2805120" cy="1581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"/>
          <p:cNvPicPr/>
          <p:nvPr/>
        </p:nvPicPr>
        <p:blipFill>
          <a:blip r:embed="rId3"/>
          <a:stretch/>
        </p:blipFill>
        <p:spPr>
          <a:xfrm>
            <a:off x="3203640" y="436572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8"/>
          <p:cNvSpPr/>
          <p:nvPr/>
        </p:nvSpPr>
        <p:spPr>
          <a:xfrm>
            <a:off x="395280" y="472428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ица обыкновенная селится в нижней части ствола берёзы или ольх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3348000" y="335772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аичка сама строит дупло в деревья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012000" y="4724280"/>
            <a:ext cx="266364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ица – моск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селяет трещины в стволах деревьев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F35E-359E-4A6C-B1B1-92B162CE5BC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Сходство в поведении, особенно в брачный пери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( ритуалы ухаживания, брачные песни и т.д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Исключения существуют виды с близким повед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WordArt 4"/>
          <p:cNvSpPr txBox="1"/>
          <p:nvPr/>
        </p:nvSpPr>
        <p:spPr>
          <a:xfrm>
            <a:off x="1785960" y="785880"/>
            <a:ext cx="6246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олог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0" name="Picture 6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4176720" cy="245412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1258920" y="580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ухарь на ток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8" descr=""/>
          <p:cNvPicPr/>
          <p:nvPr/>
        </p:nvPicPr>
        <p:blipFill>
          <a:blip r:embed="rId2"/>
          <a:stretch/>
        </p:blipFill>
        <p:spPr>
          <a:xfrm>
            <a:off x="5364000" y="3284640"/>
            <a:ext cx="3338640" cy="24588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58000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терев в брачный пери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47FD-C4C6-4021-9EE0-78CE6B9A5F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Общность предков, единая история возникновения и развития в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WordArt 4"/>
          <p:cNvSpPr txBox="1"/>
          <p:nvPr/>
        </p:nvSpPr>
        <p:spPr>
          <a:xfrm>
            <a:off x="1785960" y="857160"/>
            <a:ext cx="5886360" cy="5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р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2143080" cy="1714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3419640" y="2852640"/>
            <a:ext cx="1990440" cy="15001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5940360" y="3716280"/>
            <a:ext cx="2276640" cy="17146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"/>
          <p:cNvPicPr/>
          <p:nvPr/>
        </p:nvPicPr>
        <p:blipFill>
          <a:blip r:embed="rId4"/>
          <a:stretch/>
        </p:blipFill>
        <p:spPr>
          <a:xfrm>
            <a:off x="3276720" y="4653000"/>
            <a:ext cx="25002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</a:rPr>
              <a:t>Вопросы на первичное закрепление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23640" y="1197000"/>
            <a:ext cx="83739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Биологическая задача № 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убр и бизон - два вида, относящиеся к одному роду. Они очень схожи между собой внешне и в неволе дают плодовитое потомство зубробизона. В природе не скрещиваются, так обитают на разных материках – зубр в Европе, а бизон – в Северной Америке. Как можно назвать этот критерий вид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FD21-27D1-4D76-B4C8-EE1F1F5B60B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Рисунок 4" descr="зубр.jpg"/>
          <p:cNvPicPr/>
          <p:nvPr/>
        </p:nvPicPr>
        <p:blipFill>
          <a:blip r:embed="rId1"/>
          <a:stretch/>
        </p:blipFill>
        <p:spPr>
          <a:xfrm>
            <a:off x="5219640" y="4149720"/>
            <a:ext cx="3430800" cy="219564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5" descr="275px-Bizon_sobie_stoi.jpg"/>
          <p:cNvPicPr/>
          <p:nvPr/>
        </p:nvPicPr>
        <p:blipFill>
          <a:blip r:embed="rId2"/>
          <a:stretch/>
        </p:blipFill>
        <p:spPr>
          <a:xfrm>
            <a:off x="395280" y="4005360"/>
            <a:ext cx="32860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24000" y="404640"/>
            <a:ext cx="9144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660000"/>
                </a:solidFill>
                <a:latin typeface="Times New Roman"/>
              </a:rPr>
              <a:t>Биологическая задача № </a:t>
            </a:r>
            <a:r>
              <a:rPr b="1" lang="ru-RU" sz="2800" spc="-1" strike="noStrike">
                <a:solidFill>
                  <a:srgbClr val="660000"/>
                </a:solidFill>
                <a:latin typeface="Times New Roman"/>
              </a:rPr>
              <a:t>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лый медведь обитает в арктическом поясе, окраска шерсти белая, питается рыбой и морскими млекопитающими. Бурый медведь распространен в лесах умеренного пояса, окраска шерсти бурая, пища растительная и животная, на зиму впадает в спячку. На основании какого критерия можно сделать вывод, что особи этих видов не могут скрещиваться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D160-EAAA-47E7-8F32-9A6B1DC1353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Picture 4" descr="21"/>
          <p:cNvPicPr/>
          <p:nvPr/>
        </p:nvPicPr>
        <p:blipFill>
          <a:blip r:embed="rId1"/>
          <a:stretch/>
        </p:blipFill>
        <p:spPr>
          <a:xfrm>
            <a:off x="4643280" y="3789360"/>
            <a:ext cx="4219560" cy="2714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8" descr="17"/>
          <p:cNvPicPr/>
          <p:nvPr/>
        </p:nvPicPr>
        <p:blipFill>
          <a:blip r:embed="rId2"/>
          <a:stretch/>
        </p:blipFill>
        <p:spPr>
          <a:xfrm>
            <a:off x="324000" y="3789360"/>
            <a:ext cx="3662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64260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Биологическая задача № 4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тановлено, что под названием «чёрная крыса» скрываются два вида – двойника: крысы с 38-ю и с 42-мя хромосомами. Они не скрещиваются между собой. Как можно назвать такой критерий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53C0-24E0-4FB0-BE83-FF466CA751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6" descr="C:\Documents and Settings\user.A1D2F17B847F4AE\Мои документы\Мои рисунки\i.jpg"/>
          <p:cNvPicPr/>
          <p:nvPr/>
        </p:nvPicPr>
        <p:blipFill>
          <a:blip r:embed="rId1"/>
          <a:stretch/>
        </p:blipFill>
        <p:spPr>
          <a:xfrm>
            <a:off x="4356000" y="3213000"/>
            <a:ext cx="4289400" cy="32004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C:\Documents and Settings\user.A1D2F17B847F4AE\Мои документы\Мои рисунки\крыса.jpg"/>
          <p:cNvPicPr/>
          <p:nvPr/>
        </p:nvPicPr>
        <p:blipFill>
          <a:blip r:embed="rId2"/>
          <a:stretch/>
        </p:blipFill>
        <p:spPr>
          <a:xfrm>
            <a:off x="755640" y="3068640"/>
            <a:ext cx="257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457200" y="49968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Биологическая задача № 4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естно , что в природе существуют два вида зайцев – беляк и русак. Объясните, почему их относят к разным видам?. Какими критериями вы руководствовались при ответе на этот вопрос? Почему нельзя определить принадлежность особи к тому или иному виду только по                 морфологическому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58A3-1922-4B82-8F36-5937D54E9F4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Picture 6" descr="заяц1"/>
          <p:cNvPicPr/>
          <p:nvPr/>
        </p:nvPicPr>
        <p:blipFill>
          <a:blip r:embed="rId1"/>
          <a:stretch/>
        </p:blipFill>
        <p:spPr>
          <a:xfrm>
            <a:off x="6516720" y="4149720"/>
            <a:ext cx="2494080" cy="2519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8" descr="-аяц2"/>
          <p:cNvPicPr/>
          <p:nvPr/>
        </p:nvPicPr>
        <p:blipFill>
          <a:blip r:embed="rId2"/>
          <a:stretch/>
        </p:blipFill>
        <p:spPr>
          <a:xfrm>
            <a:off x="169920" y="3933720"/>
            <a:ext cx="2511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e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6e0000"/>
                </a:solidFill>
                <a:latin typeface="Times New Roman"/>
              </a:rPr>
              <a:t>Каждый критерий в отдельности не может быть основанием для определения вида;  только в совокупности они позволяют выяснить принадлежность живого организм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07BD-5742-4869-933D-26D9BDED64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27280" y="134136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это совокупность близких популяций, особи которых способны в природных условиях скрещиваться между собой и обладают общими морфофизиологическими признаками, и биологически изолированных от популяций други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WordArt 4"/>
          <p:cNvSpPr txBox="1"/>
          <p:nvPr/>
        </p:nvSpPr>
        <p:spPr>
          <a:xfrm>
            <a:off x="2411280" y="692280"/>
            <a:ext cx="4537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такое вид: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tretch/>
        </p:blipFill>
        <p:spPr>
          <a:xfrm>
            <a:off x="6732720" y="2924280"/>
            <a:ext cx="2216160" cy="3168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638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8360" y="1196640"/>
            <a:ext cx="822960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это ряд общих особенностей, по которым один вид отличается от других и которые определяют видовую принадлежность того или иного организ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WordArt 7"/>
          <p:cNvSpPr txBox="1"/>
          <p:nvPr/>
        </p:nvSpPr>
        <p:spPr>
          <a:xfrm>
            <a:off x="1258920" y="620640"/>
            <a:ext cx="669780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итерии  (признаки) вида 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1979640" y="3213000"/>
            <a:ext cx="51134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6888-4573-40A9-8522-0C42FE0A0C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. Генетический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– виды различают по числу и структуре хромос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2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Географ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виды занимают определённый ареа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3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Эколог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каждый вид может существовать только в определённых условиях, занимая свою экологическую ниш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4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Биохим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виды различают по биохимическим параметрам (состав и структура белков и нуклеиновых кислот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5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Физиолог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сходство жизненных процессов и возможности размнож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6.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орфологический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– сходство строения организмов одного ви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7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толог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особенности пове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8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сторический</a:t>
            </a: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 – единство происхождения особей в пределах  ви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WordArt 4"/>
          <p:cNvSpPr txBox="1"/>
          <p:nvPr/>
        </p:nvSpPr>
        <p:spPr>
          <a:xfrm>
            <a:off x="2500200" y="500040"/>
            <a:ext cx="36561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итерии вид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07EA-51A9-4DD4-BF55-867FAF1B0C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1483920"/>
            <a:ext cx="4286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ходство внешнего и внутреннего строения организм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WordArt 7"/>
          <p:cNvSpPr txBox="1"/>
          <p:nvPr/>
        </p:nvSpPr>
        <p:spPr>
          <a:xfrm>
            <a:off x="826920" y="836640"/>
            <a:ext cx="756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рфологиче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302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"/>
          <p:cNvPicPr/>
          <p:nvPr/>
        </p:nvPicPr>
        <p:blipFill>
          <a:blip r:embed="rId2"/>
          <a:stretch/>
        </p:blipFill>
        <p:spPr>
          <a:xfrm>
            <a:off x="6977160" y="3500280"/>
            <a:ext cx="2166840" cy="3095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3024000" cy="217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"/>
          <p:cNvPicPr/>
          <p:nvPr/>
        </p:nvPicPr>
        <p:blipFill>
          <a:blip r:embed="rId4"/>
          <a:stretch/>
        </p:blipFill>
        <p:spPr>
          <a:xfrm>
            <a:off x="3132000" y="4508640"/>
            <a:ext cx="2592360" cy="2055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735280" cy="20606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1"/>
          <p:cNvSpPr/>
          <p:nvPr/>
        </p:nvSpPr>
        <p:spPr>
          <a:xfrm>
            <a:off x="7199280" y="64911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ятел пёстр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4572000" y="3500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ятел че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3348000" y="407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вер лугов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468360" y="3141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евер ползуч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179280" y="1196640"/>
            <a:ext cx="81360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Характерный для каждого вида набор хромосом; строго определено их число, размеры и формы, состав ДНК, но различная регуляция работы генов.</a:t>
            </a: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WordArt 4"/>
          <p:cNvSpPr txBox="1"/>
          <p:nvPr/>
        </p:nvSpPr>
        <p:spPr>
          <a:xfrm>
            <a:off x="2556000" y="692280"/>
            <a:ext cx="4105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нет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2"/>
          <a:stretch/>
        </p:blipFill>
        <p:spPr>
          <a:xfrm>
            <a:off x="4788000" y="2781360"/>
            <a:ext cx="2062080" cy="273672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7"/>
          <p:cNvSpPr/>
          <p:nvPr/>
        </p:nvSpPr>
        <p:spPr>
          <a:xfrm>
            <a:off x="684360" y="5805360"/>
            <a:ext cx="763272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e0000"/>
                </a:solidFill>
                <a:latin typeface="Times New Roman"/>
              </a:rPr>
              <a:t>Например различие в песне дроздов, пеночек, славок, зябликов и вьюрка, глухой  и обыкновенной кукуше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108000" y="50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укушка глух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877080" y="4941720"/>
            <a:ext cx="19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Кукушка обыкнове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324000" y="1714320"/>
            <a:ext cx="864072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e0000"/>
                </a:solidFill>
                <a:latin typeface="Times New Roman"/>
              </a:rPr>
              <a:t>     </a:t>
            </a:r>
            <a:r>
              <a:rPr b="1" lang="ru-RU" sz="3000" spc="-1" strike="noStrike">
                <a:solidFill>
                  <a:srgbClr val="6e0000"/>
                </a:solidFill>
                <a:latin typeface="Times New Roman"/>
              </a:rPr>
              <a:t>Сходство всех процессов жизнедеятельности и возможность получения плодовитого потомства при скрещиван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e0000"/>
                </a:solidFill>
                <a:latin typeface="Times New Roman"/>
              </a:rPr>
              <a:t>Исключе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WordArt 4"/>
          <p:cNvSpPr txBox="1"/>
          <p:nvPr/>
        </p:nvSpPr>
        <p:spPr>
          <a:xfrm>
            <a:off x="1500120" y="836640"/>
            <a:ext cx="652788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иолог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0" name="Picture 5" descr=""/>
          <p:cNvPicPr/>
          <p:nvPr/>
        </p:nvPicPr>
        <p:blipFill>
          <a:blip r:embed="rId1"/>
          <a:stretch/>
        </p:blipFill>
        <p:spPr>
          <a:xfrm>
            <a:off x="324000" y="4365720"/>
            <a:ext cx="73771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058-7399-436B-9065-4FFC7AFB42E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Сходны по биохимическим параметрам (состав и структура белков и нуклеиновых кислот) . Компоненты поверхностного аппарата клетки, например: бациллы сибирской язвы имеют в капсуле полипептид, который не встречается у других бацил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1714680" y="642960"/>
            <a:ext cx="59562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иохим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4" name="Picture 6" descr=""/>
          <p:cNvPicPr/>
          <p:nvPr/>
        </p:nvPicPr>
        <p:blipFill>
          <a:blip r:embed="rId1"/>
          <a:stretch/>
        </p:blipFill>
        <p:spPr>
          <a:xfrm>
            <a:off x="1979640" y="3573360"/>
            <a:ext cx="5543640" cy="27734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7"/>
          <p:cNvSpPr/>
          <p:nvPr/>
        </p:nvSpPr>
        <p:spPr>
          <a:xfrm>
            <a:off x="3276720" y="6381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цилла сибирской яз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C72-A0A5-4934-994E-3811F2601D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6e0000"/>
                </a:solidFill>
                <a:latin typeface="Times New Roman"/>
              </a:rPr>
              <a:t>При определении многих видов растений, насекомых, птиц, млекопитающих и других групп организмов, распространение которых хорошо изучено, значения ареала играют существенную роль. Исключение: космополи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WordArt 4"/>
          <p:cNvSpPr txBox="1"/>
          <p:nvPr/>
        </p:nvSpPr>
        <p:spPr>
          <a:xfrm>
            <a:off x="1643040" y="907920"/>
            <a:ext cx="6458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еографиче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06:02:42Z</dcterms:created>
  <dc:creator>учитель</dc:creator>
  <dc:description/>
  <dc:language>en-US</dc:language>
  <cp:lastModifiedBy>Windows User</cp:lastModifiedBy>
  <dcterms:modified xsi:type="dcterms:W3CDTF">2023-11-14T04:41:02Z</dcterms:modified>
  <cp:revision>34</cp:revision>
  <dc:subject/>
  <dc:title>Вид, критерий вида</dc:title>
</cp:coreProperties>
</file>