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6B6B-164E-45C4-9524-E3396D390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6C77-98BC-4A03-B699-14AB20C3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502C-6D20-43C6-8770-B44CABED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5DCD-76A0-4637-A07F-291BE1000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ECA2-B9DF-4CC9-A04A-7E7226F82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6785-71CA-44DD-8988-500EC3A8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228F-4F9C-44CF-B87F-D104A271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AFD6-D2E0-4795-8610-4CE24DFB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4C28-2315-4B79-B18E-AC01E186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9014-F502-4A8B-920E-1D7EA61B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80D4-BA02-4845-AA4B-9769A902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48E8-F78E-4E40-A69B-F9857DC3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8C35-B6F2-47E2-BE46-F7BB515E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E865-AC87-444E-A057-195D8574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0EA8-891D-4F56-B072-6F732609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E17B-CEC4-4934-9F50-8AA8BD5EA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2485-276F-4963-B575-411D33555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32C2-523E-4427-BA1F-40EE682D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EFD8-D1D7-4B8A-96CB-163F1710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84F3-EDE5-4B86-A439-C4282A38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23CC-FE44-4306-B352-AF25A660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ED6A-6CCF-4F4E-911A-B25FDFD9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170F-9D6B-4C18-BB60-77BD4C40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0C3D-E048-47E4-9F46-89BBF74F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87AA-87C5-4E7A-9924-D42F7AEC90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369F-CF81-478B-AECC-8AD1FF8919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971280" y="2852640"/>
            <a:ext cx="77914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ебёнок – непризнанный ге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редь буднично серых люд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. Волош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764640"/>
            <a:ext cx="769608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«Новая педагогическая технология(технология встречных усилий) как средство активизация познавательной деятельности ученика»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685800" y="152280"/>
          <a:ext cx="8207280" cy="6500880"/>
        </p:xfrm>
        <a:graphic>
          <a:graphicData uri="http://schemas.openxmlformats.org/drawingml/2006/table">
            <a:tbl>
              <a:tblPr/>
              <a:tblGrid>
                <a:gridCol w="534960"/>
                <a:gridCol w="767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тап уро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Разминка» («Разогрев» учебной группы, включающий эмоциональную и интеллек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уальную «разминку»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нтрольно – подготовительный этап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прос по предыдущим тема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Вызов» (обеспечивает интерес к постав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енной цели, мобилизацию сил, знаний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Сотворчество»: сведение воедино усилий всех участнико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флексивный этап: осмысление результатов работы, оценивание. Участие в разработке домашнего задан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95280" y="152280"/>
          <a:ext cx="8280360" cy="6521400"/>
        </p:xfrm>
        <a:graphic>
          <a:graphicData uri="http://schemas.openxmlformats.org/drawingml/2006/table">
            <a:tbl>
              <a:tblPr/>
              <a:tblGrid>
                <a:gridCol w="576360"/>
                <a:gridCol w="2808360"/>
                <a:gridCol w="4895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тап уро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дагогические приём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Разминка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Отсроченная отгадка», «Погружение», «Эпиграф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нтрольно-подготови-тельный эта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Лови ошибку», «Опрос – кроссворд», «Согласен – не согласен» и д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Вызов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Цель и цели», «Вопросы к тексту», «Знаю-не знаю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Сотворчест-во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ловые игры, «Театрализация», «Кластер», «Машина времени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флексивный этап уро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Итоги», «Возврат к началу», «Три уровня д/з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11280" y="1268280"/>
            <a:ext cx="662472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08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691920"/>
            <a:ext cx="769608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2005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ы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Аймакта улустын тоозы – 17 531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4760 бил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34 баланы опекундар азырайдыла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оп балдарлу 1178 бил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енек балдардын тоозы коптоп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ат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475920"/>
            <a:ext cx="769608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2006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ылдын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анар айынд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287 бала чыккан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209 кижи божогон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120 биле тозолгон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82 биле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айрадылган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инквей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557000"/>
            <a:ext cx="777240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   Бил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   2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рталгыш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.   3 глаго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.   4 состон турган эрме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.   синоним со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4T08:54:07Z</dcterms:created>
  <dc:creator>User</dc:creator>
  <dc:description/>
  <dc:language>en-US</dc:language>
  <cp:lastModifiedBy>User</cp:lastModifiedBy>
  <dcterms:modified xsi:type="dcterms:W3CDTF">2009-02-24T19:13:18Z</dcterms:modified>
  <cp:revision>4</cp:revision>
  <dc:subject/>
  <dc:title>Слайд 1</dc:title>
</cp:coreProperties>
</file>