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A59B2-DA87-4FAC-83BC-D1F81B54B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5F109-39DF-4D63-B485-4830664BE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1C354-C5D8-46E0-9B35-474DB2410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08FFD-8D3D-417E-9EC0-25EF7E5B8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AA823-CCE6-4A37-81E5-7A3C65761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365D0-CE03-4B50-B845-E925C82C6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CD8A0-9228-4D68-8C97-017B13740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F5B46-8D67-4C03-A714-D45D11889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AA9B0-A437-40F9-BACF-42D3630DA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BD43B-900D-422A-9C60-CF07B21CC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E7A02-7A69-4070-83FF-34232966E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2D0B7-803E-46A8-8EA1-0341EF9AE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CD191-7AE5-48DA-8AC5-941CE415B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384C2-60DF-4D90-A2AB-B71FE893E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DCDA1-DAEF-4183-8CDC-0289FEF29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B5A6A-A6E7-4B6B-ADA1-A09511C4F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01F05-1AA5-4E86-91C2-C0D206FAE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0540E-E30D-4132-93D8-5988A5439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089E6-FEEC-4A0E-9714-6BCD16670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D6BC8-6909-4AAF-9C24-C6D4C7497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F7568-BBC9-4619-9CDB-858448C59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23C1B-E3FA-4BFD-AE29-40CFAE895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4A47E-68FF-40DF-A6BD-4E99641E7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4C84D-F276-4D02-B97A-56AA4E803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EC8E8-D93E-459E-92D0-3D2EFB45FA9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C3ABC-3BC5-4ED9-87B7-AC59C6025AC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971280" y="2852640"/>
            <a:ext cx="779148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Ребёнок – непризнанный гений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средь буднично серых людей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М. Волошин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685800" y="764640"/>
            <a:ext cx="7696080" cy="609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ahoma"/>
              </a:rPr>
              <a:t>«Новая педагогическая технология(технология встречных усилий) как средство активизация познавательной деятельности ученика»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1" name=""/>
          <p:cNvGraphicFramePr/>
          <p:nvPr/>
        </p:nvGraphicFramePr>
        <p:xfrm>
          <a:off x="685800" y="152280"/>
          <a:ext cx="8207280" cy="6500880"/>
        </p:xfrm>
        <a:graphic>
          <a:graphicData uri="http://schemas.openxmlformats.org/drawingml/2006/table">
            <a:tbl>
              <a:tblPr/>
              <a:tblGrid>
                <a:gridCol w="534960"/>
                <a:gridCol w="76723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№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        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Этап уро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8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«Разминка» («Разогрев» учебной группы, включающий эмоциональную и интеллек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уальную «разминку»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онтрольно – подготовительный этап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прос по предыдущим темам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«Вызов» (обеспечивает интерес к постав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енной цели, мобилизацию сил, знаний.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«Сотворчество»: сведение воедино усилий всех участников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ефлексивный этап: осмысление результатов работы, оценивание. Участие в разработке домашнего задания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395280" y="152280"/>
          <a:ext cx="8280360" cy="6521400"/>
        </p:xfrm>
        <a:graphic>
          <a:graphicData uri="http://schemas.openxmlformats.org/drawingml/2006/table">
            <a:tbl>
              <a:tblPr/>
              <a:tblGrid>
                <a:gridCol w="576360"/>
                <a:gridCol w="2808360"/>
                <a:gridCol w="48956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№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Этап уро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едагогические приём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«Разминка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«Отсроченная отгадка», «Погружение», «Эпиграф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онтрольно-подготови-тельный этап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«Лови ошибку», «Опрос – кроссворд», «Согласен – не согласен» и др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«Вызов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«Цель и цели», «Вопросы к тексту», «Знаю-не знаю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«Сотворчест-во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еловые игры, «Театрализация», «Кластер», «Машина времени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ефлексивный этап уро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«Итоги», «Возврат к началу», «Три уровня д/з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611280" y="1268280"/>
            <a:ext cx="6624720" cy="34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2008</a:t>
            </a:r>
            <a:endParaRPr b="0" lang="en-US" sz="1800" spc="1" strike="noStrike">
              <a:ln w="0">
                <a:noFill/>
              </a:ln>
              <a:solidFill>
                <a:srgbClr val="00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685800" y="691920"/>
            <a:ext cx="7696080" cy="47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              </a:t>
            </a: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2005 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j</a:t>
            </a: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ыл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Аймакта улустын тоозы – 17 531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4760 биле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134 баланы опекундар азырайдылар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Коп балдарлу 1178 биле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Кенек балдардын тоозы коптоп 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j</a:t>
            </a: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ат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685800" y="475920"/>
            <a:ext cx="7696080" cy="50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2006 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j</a:t>
            </a: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ылдын 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j</a:t>
            </a: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анар айында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ahoma"/>
              </a:rPr>
              <a:t>287 бала чыккан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ahoma"/>
              </a:rPr>
              <a:t>209 кижи божогон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ahoma"/>
              </a:rPr>
              <a:t>120 биле тозолгон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ahoma"/>
              </a:rPr>
              <a:t>82 биле </a:t>
            </a: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j</a:t>
            </a:r>
            <a:r>
              <a:rPr b="0" lang="ru-RU" sz="4800" spc="-1" strike="noStrike">
                <a:solidFill>
                  <a:srgbClr val="000000"/>
                </a:solidFill>
                <a:latin typeface="Tahoma"/>
              </a:rPr>
              <a:t>айрадылган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           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Синквейн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1557000"/>
            <a:ext cx="7772400" cy="45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1.   Бил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2.   2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j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арталгыш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3.   3 глагол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4.   4 состон турган эрмек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5.   синоним сос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4T08:54:07Z</dcterms:created>
  <dc:creator>User</dc:creator>
  <dc:description/>
  <dc:language>en-US</dc:language>
  <cp:lastModifiedBy>User</cp:lastModifiedBy>
  <dcterms:modified xsi:type="dcterms:W3CDTF">2009-02-24T19:13:18Z</dcterms:modified>
  <cp:revision>4</cp:revision>
  <dc:subject/>
  <dc:title>Слайд 1</dc:title>
</cp:coreProperties>
</file>