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8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28.png" ContentType="image/png"/>
  <Override PartName="/ppt/media/image35.gif" ContentType="image/gif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314F-565B-4796-AB5D-9C7B0945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B61A-F032-4593-A2ED-8ACEC03B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4910-00EE-419C-B407-343B9867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AEF-0B2B-46E1-9298-4ED2D2AD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0A89-4BC5-4E75-BB3A-34447C7C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7DCC-B55A-47D8-94F7-29EC91BC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AD47-A0EB-43C2-924D-39011580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6FC-27CC-4EF8-B4B7-5F2837E1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094E-B994-4A79-928C-1CA93E69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027D-7D95-4AD7-A2DB-DAA05811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4A4E-3F93-4C33-B6D8-7322D4D9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BADB-EC02-4786-A621-BCC3311A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D965-E4F9-4B1F-9210-1CAFF01C4D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4572-FB5C-4770-A744-662DBE98C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Улыбка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Сотрудничество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Понимание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Единодушие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Хорошее настро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508280"/>
            <a:ext cx="64008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5"/>
          <p:cNvSpPr/>
          <p:nvPr/>
        </p:nvSpPr>
        <p:spPr>
          <a:xfrm>
            <a:off x="4143240" y="928800"/>
            <a:ext cx="4786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вая печатная книга на русском языке увидела свет в марте 1564 года. Она называлась "Деяния и Послания Апостолов", хотя чаще говорят просто "Апостол". Иван Фёдоров и его помощник Пётр Мстиславец работали над этой книгой почти год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ам Иван Грозный посетил типографию Фёдорова и остался довол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357120" y="1143000"/>
            <a:ext cx="3738600" cy="4786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500040" y="614376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Иван Фёдоров и Иван Грозны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С рисунка А.Базилевич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571680" y="5143680"/>
            <a:ext cx="814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Это был довольно пухлый том церковного содержания. Печатники хотели, чтобы книга была похожа на старые рукописные кни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1071720" y="1357200"/>
            <a:ext cx="6779880" cy="3427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1000080" y="4715280"/>
            <a:ext cx="71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Первая книга Московского печатного двора – Апостол, 1564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7286760" y="2005920"/>
            <a:ext cx="1500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Первая книга Московского печатного двора – Апосто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64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428760" y="4357800"/>
            <a:ext cx="8286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Шрифт её воспроизводил рукописное письмо, первая буква каждой главы была выделена красной краской. Начало каждой главы было украшено узором, на котором переплетались виноградные лозы с кедровыми шишк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Documents and Settings\Ква\Мои документы\н-0008.jpg"/>
          <p:cNvPicPr/>
          <p:nvPr/>
        </p:nvPicPr>
        <p:blipFill>
          <a:blip r:embed="rId2"/>
          <a:stretch/>
        </p:blipFill>
        <p:spPr>
          <a:xfrm>
            <a:off x="2071800" y="857160"/>
            <a:ext cx="4714920" cy="34876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5238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14716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504d"/>
                </a:solidFill>
                <a:latin typeface="Comic Sans MS"/>
              </a:rPr>
              <a:t>Поучение сын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504d"/>
                </a:solidFill>
                <a:latin typeface="Comic Sans MS"/>
              </a:rPr>
              <a:t>Сын мой, приклони ухо твоё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504d"/>
                </a:solidFill>
                <a:latin typeface="Comic Sans MS"/>
              </a:rPr>
              <a:t>И послушай словес мудры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504d"/>
                </a:solidFill>
                <a:latin typeface="Comic Sans MS"/>
              </a:rPr>
              <a:t>И приложи сердце тв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504d"/>
                </a:solidFill>
                <a:latin typeface="Comic Sans MS"/>
              </a:rPr>
              <a:t>К научению мое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504d"/>
                </a:solidFill>
                <a:latin typeface="Comic Sans MS"/>
              </a:rPr>
              <a:t> </a:t>
            </a:r>
            <a:r>
              <a:rPr b="0" i="1" lang="ru-RU" sz="2000" spc="-1" strike="noStrike">
                <a:solidFill>
                  <a:srgbClr val="c0504d"/>
                </a:solidFill>
                <a:latin typeface="Comic Sans MS"/>
              </a:rPr>
              <a:t>Понеже украсит теб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(отрывок из книг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4714920" y="785880"/>
            <a:ext cx="4000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ван Фёдоров создал азбуку, используя славянские буквы. Эту азбуку напечатали, и стали по ней учить детей не только из богатых семей, но и из бедных. Чтобы украсить страницы, Иван Фёдоров придумывал и сам вырезал различные заставки, конц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2643120" y="3286080"/>
            <a:ext cx="1905120" cy="3114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1643040" y="78588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7120" y="3071880"/>
            <a:ext cx="1795680" cy="26431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6"/>
          <p:cNvSpPr/>
          <p:nvPr/>
        </p:nvSpPr>
        <p:spPr>
          <a:xfrm>
            <a:off x="285840" y="5715000"/>
            <a:ext cx="192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Страница из первого печатного букваря Ивана Фёдорова 1574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5"/>
          <a:stretch/>
        </p:blipFill>
        <p:spPr>
          <a:xfrm>
            <a:off x="357120" y="1571760"/>
            <a:ext cx="1085760" cy="799920"/>
          </a:xfrm>
          <a:prstGeom prst="rect">
            <a:avLst/>
          </a:prstGeom>
          <a:ln w="0">
            <a:noFill/>
          </a:ln>
        </p:spPr>
      </p:pic>
      <p:sp>
        <p:nvSpPr>
          <p:cNvPr id="94" name="TextBox 8"/>
          <p:cNvSpPr/>
          <p:nvPr/>
        </p:nvSpPr>
        <p:spPr>
          <a:xfrm>
            <a:off x="285840" y="242892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Металлические литер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643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Monotype Corsiva"/>
              </a:rPr>
              <a:t>КНИГИ ИВАНА ФЁДОРО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76720" y="3284640"/>
            <a:ext cx="134316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АПОСТ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pishite"/>
          <p:cNvPicPr/>
          <p:nvPr/>
        </p:nvPicPr>
        <p:blipFill>
          <a:blip r:embed="rId2"/>
          <a:stretch/>
        </p:blipFill>
        <p:spPr>
          <a:xfrm>
            <a:off x="179280" y="87480"/>
            <a:ext cx="1079640" cy="86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bukvar"/>
          <p:cNvPicPr/>
          <p:nvPr/>
        </p:nvPicPr>
        <p:blipFill>
          <a:blip r:embed="rId3"/>
          <a:stretch/>
        </p:blipFill>
        <p:spPr>
          <a:xfrm>
            <a:off x="179280" y="1125360"/>
            <a:ext cx="1716120" cy="216072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99" name="Picture 6" descr="bukvar 1"/>
          <p:cNvPicPr/>
          <p:nvPr/>
        </p:nvPicPr>
        <p:blipFill>
          <a:blip r:embed="rId4"/>
          <a:stretch/>
        </p:blipFill>
        <p:spPr>
          <a:xfrm>
            <a:off x="684360" y="2276640"/>
            <a:ext cx="2190600" cy="171432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00" name="Picture 7" descr="издания ивана"/>
          <p:cNvPicPr/>
          <p:nvPr/>
        </p:nvPicPr>
        <p:blipFill>
          <a:blip r:embed="rId5"/>
          <a:stretch/>
        </p:blipFill>
        <p:spPr>
          <a:xfrm>
            <a:off x="3059280" y="907920"/>
            <a:ext cx="2306520" cy="251964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01" name="Picture 8" descr="aposto_ivana_fedorova_1574"/>
          <p:cNvPicPr/>
          <p:nvPr/>
        </p:nvPicPr>
        <p:blipFill>
          <a:blip r:embed="rId6"/>
          <a:stretch/>
        </p:blipFill>
        <p:spPr>
          <a:xfrm>
            <a:off x="6084720" y="907920"/>
            <a:ext cx="2856240" cy="22338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02" name="Picture 9" descr="новый завет"/>
          <p:cNvPicPr/>
          <p:nvPr/>
        </p:nvPicPr>
        <p:blipFill>
          <a:blip r:embed="rId7"/>
          <a:stretch/>
        </p:blipFill>
        <p:spPr>
          <a:xfrm>
            <a:off x="6804000" y="4005360"/>
            <a:ext cx="2021040" cy="20556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03" name="Picture 10" descr="часовник"/>
          <p:cNvPicPr/>
          <p:nvPr/>
        </p:nvPicPr>
        <p:blipFill>
          <a:blip r:embed="rId8"/>
          <a:stretch/>
        </p:blipFill>
        <p:spPr>
          <a:xfrm>
            <a:off x="395280" y="4508640"/>
            <a:ext cx="1440000" cy="20160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04" name="Picture 11" descr="Библия"/>
          <p:cNvPicPr/>
          <p:nvPr/>
        </p:nvPicPr>
        <p:blipFill>
          <a:blip r:embed="rId9"/>
          <a:stretch/>
        </p:blipFill>
        <p:spPr>
          <a:xfrm>
            <a:off x="3851280" y="3645000"/>
            <a:ext cx="1812960" cy="259236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105" name="Rectangle 13"/>
          <p:cNvSpPr/>
          <p:nvPr/>
        </p:nvSpPr>
        <p:spPr>
          <a:xfrm>
            <a:off x="6912000" y="6093000"/>
            <a:ext cx="1981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НОВЫЙ ЗА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835280" y="5373720"/>
            <a:ext cx="15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ЧАСО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348000" y="6308640"/>
            <a:ext cx="3168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ОСТРОЖСКАЯ БИБ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826920" y="4076640"/>
            <a:ext cx="1727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БУК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357200" y="785880"/>
            <a:ext cx="6316920" cy="44733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3"/>
          <p:cNvSpPr/>
          <p:nvPr/>
        </p:nvSpPr>
        <p:spPr>
          <a:xfrm>
            <a:off x="214200" y="5357880"/>
            <a:ext cx="871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 декабря 1583 г. Иван Фёдоров скончался и был похоронен во Львове в Святоонуфриевском монасты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3635280" y="1628640"/>
            <a:ext cx="2857680" cy="42879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2340000" y="5950080"/>
            <a:ext cx="511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Моск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кульптор С. М. Волнухин, архитектурное оформление И. П. Мошкова, 1909, бронз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642960" y="92880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вану Фёдорову был установлен памя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99"/>
                </a:solidFill>
                <a:latin typeface="Comic Sans MS"/>
              </a:rPr>
              <a:t>Спасибо всем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1" descr="colombe"/>
          <p:cNvPicPr/>
          <p:nvPr/>
        </p:nvPicPr>
        <p:blipFill>
          <a:blip r:embed="rId2"/>
          <a:stretch/>
        </p:blipFill>
        <p:spPr>
          <a:xfrm>
            <a:off x="2340000" y="2637000"/>
            <a:ext cx="4587840" cy="33890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400" spc="-1" strike="noStrike">
                <a:solidFill>
                  <a:srgbClr val="c0504d"/>
                </a:solidFill>
                <a:latin typeface="Arial"/>
              </a:rPr>
              <a:t>Что объединяет этих люде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2160360" cy="38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2484360" y="1989000"/>
            <a:ext cx="2303640" cy="3745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памятник"/>
          <p:cNvPicPr/>
          <p:nvPr/>
        </p:nvPicPr>
        <p:blipFill>
          <a:blip r:embed="rId4"/>
          <a:stretch/>
        </p:blipFill>
        <p:spPr>
          <a:xfrm>
            <a:off x="6940440" y="1916280"/>
            <a:ext cx="2051280" cy="3817800"/>
          </a:xfrm>
          <a:prstGeom prst="rect">
            <a:avLst/>
          </a:prstGeom>
          <a:ln w="25560">
            <a:solidFill>
              <a:srgbClr val="990099"/>
            </a:solidFill>
            <a:miter/>
          </a:ln>
        </p:spPr>
      </p:pic>
      <p:pic>
        <p:nvPicPr>
          <p:cNvPr id="47" name="Picture 1" descr=""/>
          <p:cNvPicPr/>
          <p:nvPr/>
        </p:nvPicPr>
        <p:blipFill>
          <a:blip r:embed="rId5"/>
          <a:stretch/>
        </p:blipFill>
        <p:spPr>
          <a:xfrm>
            <a:off x="4859280" y="1916280"/>
            <a:ext cx="2089080" cy="38178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alibri"/>
              </a:rPr>
              <a:t>Мастера печатных дел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508280"/>
            <a:ext cx="64008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:\Documents and Settings\Aida\Рабочий стол\НОвая ГРАФИКА сборник\КАРТИНКИ СБОРНИК_ школьные\s30.gif"/>
          <p:cNvPicPr/>
          <p:nvPr/>
        </p:nvPicPr>
        <p:blipFill>
          <a:blip r:embed="rId2"/>
          <a:stretch/>
        </p:blipFill>
        <p:spPr>
          <a:xfrm>
            <a:off x="3780000" y="5013360"/>
            <a:ext cx="1428480" cy="866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86728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Древние рукописные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книг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книга0"/>
          <p:cNvPicPr/>
          <p:nvPr/>
        </p:nvPicPr>
        <p:blipFill>
          <a:blip r:embed="rId2"/>
          <a:stretch/>
        </p:blipFill>
        <p:spPr>
          <a:xfrm>
            <a:off x="179280" y="189000"/>
            <a:ext cx="3095640" cy="2307960"/>
          </a:xfrm>
          <a:prstGeom prst="rect">
            <a:avLst/>
          </a:prstGeom>
          <a:ln w="25560">
            <a:solidFill>
              <a:srgbClr val="990099"/>
            </a:solidFill>
            <a:miter/>
          </a:ln>
        </p:spPr>
      </p:pic>
      <p:pic>
        <p:nvPicPr>
          <p:cNvPr id="53" name="Picture 6" descr="книга4"/>
          <p:cNvPicPr/>
          <p:nvPr/>
        </p:nvPicPr>
        <p:blipFill>
          <a:blip r:embed="rId3"/>
          <a:stretch/>
        </p:blipFill>
        <p:spPr>
          <a:xfrm>
            <a:off x="2627280" y="2205000"/>
            <a:ext cx="3017880" cy="2011320"/>
          </a:xfrm>
          <a:prstGeom prst="rect">
            <a:avLst/>
          </a:prstGeom>
          <a:ln w="25560">
            <a:solidFill>
              <a:srgbClr val="990099"/>
            </a:solidFill>
            <a:miter/>
          </a:ln>
        </p:spPr>
      </p:pic>
      <p:pic>
        <p:nvPicPr>
          <p:cNvPr id="54" name="Picture 7" descr="книга1"/>
          <p:cNvPicPr/>
          <p:nvPr/>
        </p:nvPicPr>
        <p:blipFill>
          <a:blip r:embed="rId4"/>
          <a:stretch/>
        </p:blipFill>
        <p:spPr>
          <a:xfrm>
            <a:off x="179280" y="3716280"/>
            <a:ext cx="2651400" cy="2876760"/>
          </a:xfrm>
          <a:prstGeom prst="rect">
            <a:avLst/>
          </a:prstGeom>
          <a:ln w="25560">
            <a:solidFill>
              <a:srgbClr val="990099"/>
            </a:solidFill>
            <a:miter/>
          </a:ln>
        </p:spPr>
      </p:pic>
      <p:pic>
        <p:nvPicPr>
          <p:cNvPr id="55" name="Picture 8" descr="обложка1"/>
          <p:cNvPicPr/>
          <p:nvPr/>
        </p:nvPicPr>
        <p:blipFill>
          <a:blip r:embed="rId5"/>
          <a:stretch/>
        </p:blipFill>
        <p:spPr>
          <a:xfrm>
            <a:off x="2987640" y="4365720"/>
            <a:ext cx="2665440" cy="1871640"/>
          </a:xfrm>
          <a:prstGeom prst="rect">
            <a:avLst/>
          </a:prstGeom>
          <a:ln w="25560">
            <a:solidFill>
              <a:srgbClr val="990099"/>
            </a:solidFill>
            <a:miter/>
          </a:ln>
        </p:spPr>
      </p:pic>
      <p:pic>
        <p:nvPicPr>
          <p:cNvPr id="56" name="Picture 9" descr="обложка"/>
          <p:cNvPicPr/>
          <p:nvPr/>
        </p:nvPicPr>
        <p:blipFill>
          <a:blip r:embed="rId6"/>
          <a:stretch/>
        </p:blipFill>
        <p:spPr>
          <a:xfrm>
            <a:off x="5867280" y="4221000"/>
            <a:ext cx="3076560" cy="2368800"/>
          </a:xfrm>
          <a:prstGeom prst="rect">
            <a:avLst/>
          </a:prstGeom>
          <a:ln w="25560">
            <a:solidFill>
              <a:srgbClr val="990099"/>
            </a:solidFill>
            <a:miter/>
          </a:ln>
        </p:spPr>
      </p:pic>
      <p:pic>
        <p:nvPicPr>
          <p:cNvPr id="57" name="Picture 10" descr="повесть1"/>
          <p:cNvPicPr/>
          <p:nvPr/>
        </p:nvPicPr>
        <p:blipFill>
          <a:blip r:embed="rId7"/>
          <a:stretch/>
        </p:blipFill>
        <p:spPr>
          <a:xfrm>
            <a:off x="5796000" y="1557360"/>
            <a:ext cx="3166920" cy="2504880"/>
          </a:xfrm>
          <a:prstGeom prst="rect">
            <a:avLst/>
          </a:prstGeom>
          <a:ln w="25560">
            <a:solidFill>
              <a:srgbClr val="990099"/>
            </a:solidFill>
            <a:miter/>
          </a:ln>
        </p:spPr>
      </p:pic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440160" cy="41036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755640" y="6165720"/>
            <a:ext cx="328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Иоганн Гуттенбер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гравюры XVII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3"/>
          <a:stretch/>
        </p:blipFill>
        <p:spPr>
          <a:xfrm>
            <a:off x="4788000" y="1557360"/>
            <a:ext cx="4033800" cy="4032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V="1" rot="10800000">
            <a:off x="4930560" y="5738400"/>
            <a:ext cx="360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ван Фёд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 около 15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8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4716360" y="974880"/>
            <a:ext cx="38577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Давило (прес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Выдвижная до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Рамка с набором букв (лите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Листы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Рыч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Кра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3314520" cy="4743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714240" y="5859720"/>
            <a:ext cx="364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Образцовый ста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Московского печатного двора XVII в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ый Исторический музей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5143680" y="1000080"/>
            <a:ext cx="3643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равил тогда Иван Грозный — царь страшный и жестокий. Зато значение книги царь понимал. И, решив не отставать от Европы, повелел Иван Грозный построить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Государев Печатный дво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1071720" y="6072120"/>
            <a:ext cx="285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Иван Грозный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Реконструк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428760" y="857160"/>
            <a:ext cx="4333680" cy="52452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2"/>
          <p:cNvSpPr/>
          <p:nvPr/>
        </p:nvSpPr>
        <p:spPr>
          <a:xfrm>
            <a:off x="4500720" y="928800"/>
            <a:ext cx="4214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 апреля 1563 года Фёдоров открыл в Москве первую на Руси "печатню", то есть типографию. Открыл он её по царскому веленью. Печатный станок тогда был делом государственной важности, и без указания царя никто книгопечатанием заняться не сме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500040" y="785880"/>
            <a:ext cx="3906720" cy="53578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500040" y="6143760"/>
            <a:ext cx="385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вов А. В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ван Фёдоров ("Первопечатник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5834160" cy="501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ТИПОГРАФИЯ-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это предприятие, где производится набор и печатание изда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92000" y="5805000"/>
            <a:ext cx="47530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Calibri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580000" y="4581360"/>
            <a:ext cx="320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типография"/>
          <p:cNvPicPr/>
          <p:nvPr/>
        </p:nvPicPr>
        <p:blipFill>
          <a:blip r:embed="rId2"/>
          <a:stretch/>
        </p:blipFill>
        <p:spPr>
          <a:xfrm>
            <a:off x="684360" y="1197000"/>
            <a:ext cx="2158920" cy="374328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75" name="Rectangle 9"/>
          <p:cNvSpPr/>
          <p:nvPr/>
        </p:nvSpPr>
        <p:spPr>
          <a:xfrm>
            <a:off x="2195640" y="4581360"/>
            <a:ext cx="23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pishite"/>
          <p:cNvPicPr/>
          <p:nvPr/>
        </p:nvPicPr>
        <p:blipFill>
          <a:blip r:embed="rId3"/>
          <a:stretch/>
        </p:blipFill>
        <p:spPr>
          <a:xfrm>
            <a:off x="7740720" y="5661000"/>
            <a:ext cx="1224000" cy="9795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3T12:22:04Z</dcterms:created>
  <dc:creator>Дима</dc:creator>
  <dc:description>http://aida.ucoz.ru</dc:description>
  <dc:language>en-US</dc:language>
  <cp:lastModifiedBy>user</cp:lastModifiedBy>
  <dcterms:modified xsi:type="dcterms:W3CDTF">2012-03-08T13:11:28Z</dcterms:modified>
  <cp:revision>32</cp:revision>
  <dc:subject/>
  <dc:title>Слайд 1</dc:title>
</cp:coreProperties>
</file>