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0E8-0A86-4011-A77F-D4DAECDCD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84C-081F-4FBA-9938-4CF6F344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5E2-F3AF-4E78-9815-AEE49447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CC5-C06B-4260-98F6-E4ABD5D3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F15E-5A5D-4733-80F5-7455C78C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A02-731F-42D1-B32F-03025480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6FC9-7330-4CFF-B1C1-B78AFD95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9D03-5BF2-4069-B162-CE62BF3B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05DA-6BAB-4D10-933B-A77BD1E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6A44-5F2D-4BDC-A620-552398EA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B5F7-D03D-4302-B137-2C72C76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94A-7B10-4A46-8561-4D206D9A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5D5D-1065-4CFC-AC93-B923491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CA5C-B290-4FE7-B949-15C124D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99EB-2DA6-4CAB-93B1-423546DD0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929E-6A73-447A-BC85-39B56E2C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1D62-BE89-4FFD-B2F4-F75E6573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E1D-8F46-476F-A019-EE29AB02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FA4B-3E88-459A-BC8F-0E6575AC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B976-21ED-4CA9-816E-1CA55121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786-1056-4F30-A561-91A190AF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8B3-01CF-49AF-B7DF-1419C387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6B6-D0F5-48B9-9B55-D6CB3D0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194-EC29-4707-9A17-A143C996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25D93A-17B7-495B-995D-618FF0132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30D885-3EAB-4527-8D44-95DE6B6C6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7120" y="3071880"/>
            <a:ext cx="8457840" cy="1221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2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РС ЛЕКЦИЙ-ПРЕЗЕНТАЦ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 дисциплин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Проектирование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варных конструкций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5CBA3E-C415-4D73-846F-D35720064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ПЫТАНИЕ МЕТАЛЛА РАЗЛИЧНЫХ УЧАСТКОВ СВАРНОГО СОЕДИНЕНИЯ НА СТОЙКОСТЬ ПРОТИВ МЕХАНИЧЕСКОГО СТАРЕНИЯ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776720" cy="2250720"/>
          </a:xfrm>
          <a:prstGeom prst="rect">
            <a:avLst/>
          </a:prstGeom>
          <a:ln w="9525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rcRect l="0" t="9861" r="0" b="79019"/>
          <a:stretch/>
        </p:blipFill>
        <p:spPr>
          <a:xfrm>
            <a:off x="0" y="3429000"/>
            <a:ext cx="8604000" cy="1355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rcRect l="26159" t="20945" r="17966" b="18659"/>
          <a:stretch/>
        </p:blipFill>
        <p:spPr>
          <a:xfrm>
            <a:off x="1979640" y="260280"/>
            <a:ext cx="4657320" cy="659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549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ЗМЕРЕНИЕ ТВЕРДОСТИ МЕТАЛЛА РАЗЛИЧНЫХ УЧАСТКОВ СВАРНОГО СОЕДИНЕНИЯ И НАПЛАВЛЕННОГО МЕТАЛЛ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18097" t="24034" r="14735" b="27729"/>
          <a:stretch/>
        </p:blipFill>
        <p:spPr>
          <a:xfrm>
            <a:off x="324000" y="1917720"/>
            <a:ext cx="4674960" cy="4750920"/>
          </a:xfrm>
          <a:prstGeom prst="rect">
            <a:avLst/>
          </a:prstGeom>
          <a:ln w="9525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rcRect l="22265" t="9259" r="29258" b="50963"/>
          <a:stretch/>
        </p:blipFill>
        <p:spPr>
          <a:xfrm>
            <a:off x="4932360" y="1989000"/>
            <a:ext cx="3717720" cy="4319280"/>
          </a:xfrm>
          <a:prstGeom prst="rect">
            <a:avLst/>
          </a:prstGeom>
          <a:ln w="9525">
            <a:noFill/>
          </a:ln>
        </p:spPr>
      </p:pic>
      <p:sp>
        <p:nvSpPr>
          <p:cNvPr id="114" name="Text Box 6"/>
          <p:cNvSpPr/>
          <p:nvPr/>
        </p:nvSpPr>
        <p:spPr>
          <a:xfrm>
            <a:off x="395280" y="620640"/>
            <a:ext cx="8424360" cy="179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вердость измеряют в поперечном сечении (см. рисунки) Металлографические исследования включают исследование макроструктуры, сплошности и формы шва (шлаки, трещины, непровары, поры). Образцы (шлифы) для металлографических исследований контрольных сварных соединений, выполненных на трубных элементах, должны вырезаться поперек шва (вдоль труб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цы для макроисследования сварных соединений должны включать: – все сечение шва;– зону термического влияния сварки; – прилегающие к ним участки основного метал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твердости металла различных участков сварного соединения и наплавленного металла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0" t="50394" r="9600" b="8859"/>
          <a:stretch/>
        </p:blipFill>
        <p:spPr>
          <a:xfrm>
            <a:off x="539640" y="1052640"/>
            <a:ext cx="7848360" cy="5009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34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ПЫТАНИЕ СВАРНОГО СОЕДИНЕНИЯ НА СТАТИЧЕСКОЕ РАСТЯЖЕНИ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rcRect l="8298" t="45200" r="6748" b="9777"/>
          <a:stretch/>
        </p:blipFill>
        <p:spPr>
          <a:xfrm>
            <a:off x="395280" y="2205000"/>
            <a:ext cx="5371920" cy="4319280"/>
          </a:xfrm>
          <a:prstGeom prst="rect">
            <a:avLst/>
          </a:prstGeom>
          <a:ln w="9525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55640" y="765000"/>
            <a:ext cx="781164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испытании сварного соединения на статическое растяжение определяют временное сопротивление наиболее слабого участка. При испытании определяют место разрушения образца (ПО МЕТАЛЛУ ШВА, ПО МЕТАЛЛУ ОКОЛОШОВНОЙ ЗОНЫ, ПО ОСНОВНОМУ МЕТАЛЛ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2"/>
          <a:stretch/>
        </p:blipFill>
        <p:spPr>
          <a:xfrm>
            <a:off x="5940360" y="2924280"/>
            <a:ext cx="2520720" cy="1814040"/>
          </a:xfrm>
          <a:prstGeom prst="rect">
            <a:avLst/>
          </a:prstGeom>
          <a:ln w="9525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4462560" y="5229360"/>
            <a:ext cx="4681080" cy="122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"/>
          <p:cNvPicPr/>
          <p:nvPr/>
        </p:nvPicPr>
        <p:blipFill>
          <a:blip r:embed="rId1"/>
          <a:srcRect l="0" t="16647" r="0" b="26001"/>
          <a:stretch/>
        </p:blipFill>
        <p:spPr>
          <a:xfrm>
            <a:off x="1187280" y="260280"/>
            <a:ext cx="7272000" cy="5905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357800" y="428760"/>
            <a:ext cx="3400200" cy="3571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1 – участки вырезки образцов для стыкового соединения пластин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– неиспользуемый участок шириной 25 мм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– направление сварки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– участок вырезки образцов для испытаний: одного на растяжение, двух на статический изгиб (с лицевой стороны шва и со стороны корня шва)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 – участок вырезки дополнительных образцов, при необходимости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 – участок вырезки образцов для испытаний: одного на растяжение, двух на статический изгиб (с лицевой стороны шва и со стороны корня шва);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6 – участок вырезки образца для макроскопического исследования.</a:t>
            </a: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</a:pPr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2499840" cy="412380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643040" y="4321080"/>
            <a:ext cx="1785600" cy="2322000"/>
          </a:xfrm>
          <a:prstGeom prst="rect">
            <a:avLst/>
          </a:prstGeom>
          <a:ln w="9525">
            <a:noFill/>
          </a:ln>
        </p:spPr>
      </p:pic>
      <p:sp>
        <p:nvSpPr>
          <p:cNvPr id="126" name="Содержимое 2"/>
          <p:cNvSpPr/>
          <p:nvPr/>
        </p:nvSpPr>
        <p:spPr>
          <a:xfrm>
            <a:off x="4286160" y="3857760"/>
            <a:ext cx="4400280" cy="254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.2 – участки вырезки образцов для стыкового соединения тру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 – верх неповоротной труб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 – участок вырезки образцов для испытаний: одного на растяжение, двух на статический изгиб (с лицевой стороны шва и со стороны корня шва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 – участок вырезки дополнительных образцов, при необходимост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4 – участок вырезки образцов для испытаний: одного на растяжение, двух на статический изгиб (с лицевой стороны шва и со стороны корня шва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5 – участок вырезки образца для макроскопического исследован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27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ПЫТАНИЕ СВАРНОГО СОЕДИНЕНИЯ НА СТАТИЧЕСКИЙ ИЗГИБ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0" t="30236" r="10338" b="38094"/>
          <a:stretch/>
        </p:blipFill>
        <p:spPr>
          <a:xfrm>
            <a:off x="1357200" y="714240"/>
            <a:ext cx="6192360" cy="3095280"/>
          </a:xfrm>
          <a:prstGeom prst="rect">
            <a:avLst/>
          </a:prstGeom>
          <a:ln w="9525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258920" y="3933720"/>
            <a:ext cx="6192360" cy="2234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rcRect l="0" t="9685" r="0" b="34599"/>
          <a:stretch/>
        </p:blipFill>
        <p:spPr>
          <a:xfrm>
            <a:off x="1547640" y="765000"/>
            <a:ext cx="6840000" cy="5397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6886" t="19373" r="3906" b="9866"/>
          <a:stretch/>
        </p:blipFill>
        <p:spPr>
          <a:xfrm>
            <a:off x="1476360" y="404640"/>
            <a:ext cx="5616360" cy="6308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Num" idx="8"/>
          </p:nvPr>
        </p:nvSpPr>
        <p:spPr>
          <a:xfrm>
            <a:off x="6877080" y="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01ECCD-0E28-4920-8043-621463200E32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ДЕРЖАНИЕ ЛЕКЦИИ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755640" y="1692720"/>
            <a:ext cx="7776720" cy="3748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ческие свойства сварных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 обеспечения равнопрочности основного металла и сварного соеди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ы определения фактических механических свойств сварных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ческая неоднородность в сварных соединениях, ее влияние на работоспособ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 и твердые прослойки в сварных соединениях. Эффект контактного упроч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яженное состояние и прочность мягкой прослой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твердых просло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17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ИСПЫТАНИЕ СВАРНОГО СОЕДИНЕНИЯ НА УДАРНЫЙ ИЗГИБ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0" t="32732" r="5135" b="19536"/>
          <a:stretch/>
        </p:blipFill>
        <p:spPr>
          <a:xfrm>
            <a:off x="1500120" y="785880"/>
            <a:ext cx="6238440" cy="4959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24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йства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пая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единений определяют при ударном и статическом нагружениях по ГОСТ 23046-78 и ГОСТ 23047-78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571680" y="571680"/>
            <a:ext cx="77148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тическую прочность на срез определяют на образцах соединений внахлестку (рисунок а) или на образцах паяных телескопических соединений (рис. б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0" t="3695" r="0" b="61365"/>
          <a:stretch/>
        </p:blipFill>
        <p:spPr>
          <a:xfrm>
            <a:off x="1714680" y="1071720"/>
            <a:ext cx="4785840" cy="1765080"/>
          </a:xfrm>
          <a:prstGeom prst="rect">
            <a:avLst/>
          </a:prstGeom>
          <a:ln w="9525">
            <a:noFill/>
          </a:ln>
        </p:spPr>
      </p:pic>
      <p:sp>
        <p:nvSpPr>
          <p:cNvPr id="137" name="TextBox 6"/>
          <p:cNvSpPr/>
          <p:nvPr/>
        </p:nvSpPr>
        <p:spPr>
          <a:xfrm>
            <a:off x="500040" y="2786040"/>
            <a:ext cx="84294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я внахлестку испытывают на ударный изгиб или ударный срез (рис. а, б). Паяные соединения встык испытывают на ударный изгиб, располагая ось надреза в плоскости спая (рис. в). В случае косого расположения спая образец имеет форму (рис.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rcRect l="0" t="41454" r="0" b="0"/>
          <a:stretch/>
        </p:blipFill>
        <p:spPr>
          <a:xfrm>
            <a:off x="2286000" y="3429000"/>
            <a:ext cx="5143320" cy="3177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24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ХАНИЧЕСКАЯ НЕОДНОРОДНОСТЬ В СВАРНЫХ СОЕДИНЕНИЯХ, ЕЕ ВЛИЯНИЕ НА РАБОТОСПОСОБНОСТЬ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785880" y="785880"/>
            <a:ext cx="7500600" cy="222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арное стыковое соединение в поперечном сечении имеет несколько участков, которые могут существенно различаться между собой по механическим свойствам (рисунок 1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– ш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– околошовная зона;, материал которой часто претерпевает структурные превращения и может иметь повышенную прочность и твер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– зона высокого отпуска, в которой у термически обработанных сталей прочность и твердость понижены в результате сварочного нагр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- зона нагрева до более низких температур, материал которой по-разному изменяет свои свойства  в зависимости от марки ст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rcRect l="3651" t="20896" r="46441" b="63438"/>
          <a:stretch/>
        </p:blipFill>
        <p:spPr>
          <a:xfrm>
            <a:off x="2786040" y="3143160"/>
            <a:ext cx="2928600" cy="856800"/>
          </a:xfrm>
          <a:prstGeom prst="rect">
            <a:avLst/>
          </a:prstGeom>
          <a:ln w="9525">
            <a:noFill/>
          </a:ln>
        </p:spPr>
      </p:pic>
      <p:sp>
        <p:nvSpPr>
          <p:cNvPr id="142" name="TextBox 5"/>
          <p:cNvSpPr/>
          <p:nvPr/>
        </p:nvSpPr>
        <p:spPr>
          <a:xfrm>
            <a:off x="6072120" y="3357720"/>
            <a:ext cx="27144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исунок 1 – Стыковое сварное соеди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928800" y="4000680"/>
            <a:ext cx="7571880" cy="2007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Механическая неоднородност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различие механических свойств металла в разных участках, соизмеримых с толщиной свариваем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ны, где металл обладает пониженным пределом текучести по отношению к пределу текучести соседнего  участка металла, называют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МЯГКИМИ ПРОСЛОЙКАМИ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 , паяные стыковые соединения, припой в которых менее прочен, чем основной металл, содержат мягкую прослойку. Прочность таких соединений зависит от относительного размера мягкой прослойк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рина прослойки/толщина метал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сварке  сталей участки ЗТВ нагреваются выше температу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 претерпевая закалку, имеют большую прочность и твердость –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ВЕРДЫЕ ПРОСЛОЙ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45657" r="49329" b="24047"/>
          <a:stretch/>
        </p:blipFill>
        <p:spPr>
          <a:xfrm>
            <a:off x="642960" y="1714680"/>
            <a:ext cx="3357360" cy="318096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2"/>
          <p:cNvSpPr/>
          <p:nvPr/>
        </p:nvSpPr>
        <p:spPr>
          <a:xfrm>
            <a:off x="1000080" y="285840"/>
            <a:ext cx="7571880" cy="7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обходимость изучения прослоек объясняется тем, что взаимодействие отдельных зон протекает сложным образом , и прочность сварного соединения, как правило, не совпадает с прочностью какой-либо прослой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4000680" y="1143000"/>
            <a:ext cx="5143320" cy="477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лучае, когда растягивающая сила направлена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доль ш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все прослойки испытывают одинаковые деформации, деформационная способность соединения и его несущая способность ограничены пластичностью наименее пластичной прослойки. На рисунке т. А1, А2, А3 соответствуют разрушению образца из отдельной зоны. Разрушение наступит при εА2, при этом напряжения в основном металле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 твердой прослойке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и шве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 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будут сильно различ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ольная растягивающая сила в основном воспринимается основным металлом, т.к. его площадь  намного превосходит  площади шва и прослойки.  И хотя напряжения в твердой прослойке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 будут велики, средние напряжения  будут близки к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Это означает, что прочность сварного соединения с твердой прослойкой, нагруженного вдоль шва, окажется ниже, чем прочность такого же элемента из основного металла. Отрицательное влияние . Твердой прослойки сказывается сильнее, если по длине шва встречаютс я концентраторы напряж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действии силы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доль шва наличие мягких просло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ктически не оказывает влияния на несущую способность из-за их малой площад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071800" y="357120"/>
            <a:ext cx="5143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бота мягкой прослойки при растяжении стыкового соединения поперек ш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714240" y="1143000"/>
            <a:ext cx="8143560" cy="2097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угой стадии нагружения мягкая прослойка и соседние участки деформируются однородно, и при достижения предела текучести МП в ней возникает пластическая деформация, а соседние участки остаются в упругом состоянии. При дальнейшем повышении нагрузки коэффициент Пуассона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П будет стремиться к 0,5, а в упругих частях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=0,3. Из-за неодинаковой поперечной деформации возникают касательные напряжения, (максимальные на плоскостях раздела),препятствующие поперечному сужению прослойки в направлении толщины лис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заключается причина повышения несущей способности (ЭФФЕКТ КОНТАКНОГО УПРОЧНЕНИЯ). Повышение разрушающей силы будет происходить пока соседние участки не начнут также пластически деформироваться.  Временное сопротивление соединения с МП можно определить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σв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п * К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rcRect l="17167" t="34745" r="68699" b="62006"/>
          <a:stretch/>
        </p:blipFill>
        <p:spPr>
          <a:xfrm>
            <a:off x="3429000" y="4000680"/>
            <a:ext cx="1999800" cy="356760"/>
          </a:xfrm>
          <a:prstGeom prst="rect">
            <a:avLst/>
          </a:prstGeom>
          <a:ln w="9525">
            <a:noFill/>
          </a:ln>
        </p:spPr>
      </p:pic>
      <p:sp>
        <p:nvSpPr>
          <p:cNvPr id="150" name="TextBox 6"/>
          <p:cNvSpPr/>
          <p:nvPr/>
        </p:nvSpPr>
        <p:spPr>
          <a:xfrm>
            <a:off x="714240" y="3214800"/>
            <a:ext cx="8071920" cy="1184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ременное сопротивление металла МП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х – коэффициент контактного упрочнения в случае плоской де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2"/>
          <a:srcRect l="0" t="37994" r="52687" b="55501"/>
          <a:stretch/>
        </p:blipFill>
        <p:spPr>
          <a:xfrm>
            <a:off x="928800" y="4857840"/>
            <a:ext cx="6694200" cy="713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rcRect l="53330" t="5367" r="0" b="33433"/>
          <a:stretch/>
        </p:blipFill>
        <p:spPr>
          <a:xfrm>
            <a:off x="2143080" y="571680"/>
            <a:ext cx="5143320" cy="5235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53273" t="78108" r="0" b="3128"/>
          <a:stretch/>
        </p:blipFill>
        <p:spPr>
          <a:xfrm>
            <a:off x="571680" y="142920"/>
            <a:ext cx="3571560" cy="1088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2" descr=""/>
          <p:cNvPicPr/>
          <p:nvPr/>
        </p:nvPicPr>
        <p:blipFill>
          <a:blip r:embed="rId2"/>
          <a:srcRect l="0" t="2442" r="1233" b="4884"/>
          <a:stretch/>
        </p:blipFill>
        <p:spPr>
          <a:xfrm>
            <a:off x="428760" y="1214280"/>
            <a:ext cx="7500600" cy="541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Num" idx="9"/>
          </p:nvPr>
        </p:nvSpPr>
        <p:spPr>
          <a:xfrm>
            <a:off x="6804000" y="260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F347D9-CD63-48ED-8673-EB525E35332A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1869480" y="115920"/>
            <a:ext cx="538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еханические свойства сварных со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430200" y="3573360"/>
            <a:ext cx="87134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ГОСТ 9467-60 каждый тип электрода обеспечивает определенные механические свойства металла шва применительно к определенной марке стали (например, для типов Э42-Э55 на Ст. 3). Переход к сварке более легированной стали приводит к необходимости дополнительного легирования металла шва и получению более высоких механических свойств. Такое же положение и при сварке под флюсом. При ручной сварке режим ее изменяется в сравнительно узких пределах, поэтому, как показали отдельные исследования, влиянием режима сварки на механические свойства можно пренебречь. При автоматической и полуавтоматической сварке все параметры режима сварки изменяются в значительно более широком диапазоне и это необходимо учиты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одержимое 2"/>
          <p:cNvSpPr/>
          <p:nvPr/>
        </p:nvSpPr>
        <p:spPr>
          <a:xfrm>
            <a:off x="539640" y="549360"/>
            <a:ext cx="8229240" cy="165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ханические свойства сварного соединения в целом являются свойствами комплексными, так как они зависят от соотношения механических свойств металла шва, металла зоны термического влияния и основного метал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исходить из свойств основного металла, то очевидно, что сварное соединение на конструкционных сталях можно считать доброкачественным, если оно обеспечивает величины предела прочности и предела текучести не ниже, чем у основного металла, при достаточном запасе пластичности.</a:t>
            </a:r>
            <a:br>
              <a:rPr sz="14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Механические свойства металла шва зависят от следующих факторов: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1) выбора сварочных материалов (электродов, проволоки, флюса);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2) химического состава основного металла;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3) режима сварки и технологии сварки;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4) размеров (особенно толщины) изделия и скорости охлаждения;</a:t>
            </a:r>
            <a:br>
              <a:rPr sz="1600"/>
            </a:br>
            <a:r>
              <a:rPr b="1" lang="ru-RU" sz="1600" spc="-1" strike="noStrike">
                <a:solidFill>
                  <a:schemeClr val="accent2"/>
                </a:solidFill>
                <a:latin typeface="Arial"/>
              </a:rPr>
              <a:t>5) величины пластических деформаций в металле шва.</a:t>
            </a:r>
            <a:br>
              <a:rPr sz="16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804000" y="260280"/>
            <a:ext cx="21333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74771567-B0B8-4492-B6CE-FBCFB5647DB3}" type="slidenum">
              <a:rPr b="0" lang="ru-RU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869480" y="115920"/>
            <a:ext cx="538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еханические свойства сварных со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539640" y="549360"/>
            <a:ext cx="8229240" cy="165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ханические свойства металла ЗТВ в значительной степени зависят от химического состава основного металла и склонности его к закалке. Непосредственное определение механических характеристик металла ЗТВ затруднительно в связи с небольшой шириной ЗТВ и трудностью изготовления разрывных образцов. Изменение механических свойств ЗТВ обычно характеризуют изменением твердости по поперечному сечению сварного образ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сварке судостроительных углеродистых и низколегированных сталей повышение твердости на участке крупного зерна достигает 20-30% со снижением пластичности на 10-15%. Несмотря на указанное обстоятельство, поведение всего сварного соединения, как правило, не определяется изменением механических свойств ЗТВ ввиду небольших размеров этой зоны по сравнению с размером шва, не говоря уже о размерах свариваемых элементов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азанное обстоятельство подтверждается как при статических, так и при вибрационных и ударных испытаниях сварных соединений вплоть до разрушения; оно связано также и с тем, что размер ЗТВ всегда больше соответствующей толщины металла, так как ЗТВ имеет криволинейную поверхность (по форме шва), в результате прочность соединения в ЗТВ оказывается не ниже прочности основного металла и разрушение происходит по основному метал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этой причине в подавляющем большинстве случаев при сварке малоуглеродистых и низколегированных сталей каких-либо мер для выравнивания структуры в пределах сварного соединения не применяют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90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ГОСТ 6996-66</a:t>
            </a: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 «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Сварные соединения. Методы определения механических свойств</a:t>
            </a: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дарт устанавливает методы определения механических свойств при следующих видах испытаний: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а) испытании металла различных участков сварного соединения и наплавленного металла на статическое (кратковременное) растяжение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б) испытании металла различных участков сварного соединения и наплавленного металла на ударный изгиб (на надрезанных образцах)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в) испытании металла различных участков сварного соединения на стойкость против механического старения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г) измерении твердости металла различных участков сварного соединения и наплавленного металла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д) испытании сварного соединения на статическое растяжение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е) испытании сварного соединения на статический изгиб (загиб);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chemeClr val="accent2"/>
                </a:solidFill>
                <a:latin typeface="Arial"/>
              </a:rPr>
              <a:t>ж) испытании сварного соединения на ударный разрыв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ндарт распространяется на испытания, проводимые при определении качества продукции и сварочных материалов, пригодности способов и режимов сварки, при установлении квалификации сварщиков и показателей свариваемости металлов и сплавов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Образцы для испытаний вырезают из контролируемой конструкции или из специально сваренных пластин. Ширину пластин принимают равной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50 мм при толщине листа до 4 мм;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70 мм при 4—10 мм;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100 мм при 10—20 мм;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150 мм при 20—50 мм; 2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00 мм при 50—100 мм; 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250 мм при 100 мм.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ИСПЫТАНИЕ МЕТАЛЛА РАЗЛИЧНЫХ УЧАСТКОВ СВАРНОГО СОЕДИНЕНИЯ И НАПЛАВЛЕННОГО МЕТАЛЛА НА СТАТИЧЕСКОЕ (КРАТКОВРЕМЕННОЕ) РАСТЯЖЕНИЕ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ют следующие характеристики механических свойств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 текучести физически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МПа (кгс/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ли предел текучести условный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,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МПа (кгс/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менное сопротивлени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МПа (кгс/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ое удлинение после разрыва (на пятикратных образцах)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%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ое сужение после разрыва, j, %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ытания проводят для металла шва, металла различных участков зоны термического влияния наплавленного металла при всех видах сварки плавление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32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и размеры образцов, должны соответствовать таблице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57120" y="3429000"/>
            <a:ext cx="8286480" cy="2560320"/>
          </a:xfrm>
          <a:prstGeom prst="rect">
            <a:avLst/>
          </a:prstGeom>
          <a:ln w="9525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rcRect l="24330" t="43614" r="26971" b="40238"/>
          <a:stretch/>
        </p:blipFill>
        <p:spPr>
          <a:xfrm>
            <a:off x="468360" y="1341360"/>
            <a:ext cx="4103280" cy="1925280"/>
          </a:xfrm>
          <a:prstGeom prst="rect">
            <a:avLst/>
          </a:prstGeom>
          <a:ln w="9525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rcRect l="23129" t="64878" r="28955" b="17864"/>
          <a:stretch/>
        </p:blipFill>
        <p:spPr>
          <a:xfrm>
            <a:off x="4500720" y="1138320"/>
            <a:ext cx="4071600" cy="2076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ИСПЫТАНИЕ МЕТАЛЛА РАЗЛИЧНЫХ УЧАСТКОВ СВАРНОГО СОЕДИНЕНИЯ И НАПЛАВЛЕННОГО МЕТАЛЛА НА УДАРНЫЙ ИЗГИБ (НА НАДРЕЗАННЫХ ОБРАЗЦАХ)</a:t>
            </a:r>
            <a:br>
              <a:rPr sz="2000"/>
            </a:b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7120" y="1000080"/>
            <a:ext cx="8429400" cy="713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испытаниях определяют ударную вязкость или работу удара, или процентное соотношение хрупкой и вязкой составляющей поверхности излома. Для испытаний применяют образцы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бразным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бразным надрезом</a:t>
            </a: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21396" t="9614" r="28029" b="46424"/>
          <a:stretch/>
        </p:blipFill>
        <p:spPr>
          <a:xfrm>
            <a:off x="4857840" y="1785960"/>
            <a:ext cx="3482640" cy="4285800"/>
          </a:xfrm>
          <a:prstGeom prst="rect">
            <a:avLst/>
          </a:prstGeom>
          <a:ln w="9525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rcRect l="20939" t="8839" r="14238" b="30418"/>
          <a:stretch/>
        </p:blipFill>
        <p:spPr>
          <a:xfrm>
            <a:off x="928800" y="1643040"/>
            <a:ext cx="3857400" cy="511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rcRect l="5998" t="59653" r="11001" b="15110"/>
          <a:stretch/>
        </p:blipFill>
        <p:spPr>
          <a:xfrm>
            <a:off x="857160" y="571680"/>
            <a:ext cx="7800480" cy="3357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187</Template>
  <TotalTime>2908</TotalTime>
  <Application>LibreOffice/7.4.7.2$Linux_X86_64 LibreOffice_project/40$Build-2</Application>
  <AppVersion>15.0000</AppVersion>
  <Words>1891</Words>
  <Paragraphs>1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5:33:30Z</dcterms:created>
  <dc:creator>andtim</dc:creator>
  <dc:description/>
  <dc:language>en-US</dc:language>
  <cp:lastModifiedBy>DANTE199615</cp:lastModifiedBy>
  <dcterms:modified xsi:type="dcterms:W3CDTF">2021-11-07T17:22:35Z</dcterms:modified>
  <cp:revision>3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6</vt:r8>
  </property>
</Properties>
</file>