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389F-BA7C-4350-BFDB-E7B1CB498A1C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1E3A-E0E4-4761-AC49-4C700795491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A0AB-3DC2-4D66-B9B0-8CE972A4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B3E-D33D-441D-89D9-B4307435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EE5-7CD0-4B65-89BA-C0D8F04F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709-35E8-4610-9179-6FBBED53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22D-5FFC-4C93-96AB-8A149CC8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A75-115B-49FE-98CC-B570AB89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651-EB08-4BE3-9F0D-05765FB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69A-8B8D-44BB-A63D-5CA72D73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F31-CCC6-4D41-9DD9-FDF3A1B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643-239D-4F9D-8697-20C97CC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31A-70AD-48BE-8ADB-B7D7F19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B4D-6289-48EA-8FA8-B2CA1CD2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F480-2592-4B7B-ABF4-01F79900BE01}" type="slidenum">
              <a:rPr b="0" lang="ru-RU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20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Изложе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3 клас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24000" y="242100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тгадай загадку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468360" y="3933720"/>
            <a:ext cx="8229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Длинный хвост и с белым боком,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А летает не высоко.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Хочет всё стащить с наскока!</a:t>
            </a:r>
            <a:br>
              <a:rPr sz="3000"/>
            </a:b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Это хитрая (…..)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15159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20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о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383640" y="33336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mic Sans MS"/>
              </a:rPr>
              <a:t>А знаете ли вы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2843280" y="83664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– одни из самых умных птиц, существующих в природ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179280" y="1773360"/>
            <a:ext cx="864072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-  единственные птицы, которые узнаю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ебя  в зеркале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Длина тела сороки – около 50 сантиметров, а размах крыльев – 90 сантиметров. Хвост сороки длиннее ее тел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Сороки всеядны – они могут есть как растительную, так и животную пищу (насекомых, мелких млекопитающих или ящериц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Гнездо сорок имеет форму шара с небольшим отверстием, которое служит входо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Чтобы защитить свое потомство, сороки предпочитают ночевать большими стая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Знакомство с 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р. 39  упр. 449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 текст. Какой этот текст по типу речи? Докажи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95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Анализ текс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 какое время года произошли событи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стрекотали соро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то увидели путни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действовали сороки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 как вела себя зайчих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 поступили зайчиха и сороки, когда увидели людей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ого увидели путники в ямке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Каким был зайчонок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Куда путники отнесли зайчонк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оставление пла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первый абзац. О чем в нем говорится? Как озаглавим первый абзац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второй абзац. О чем в нем говорится ? Как озаглавим эту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третью часть .Что мы узнали из этой части? Как озаглавим эту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Орфографическая подгот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26828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ясните правописание выделенных бук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br>
              <a:rPr sz="1800"/>
            </a:b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бы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ой. Мы шли по 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н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друг вп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ди нас 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ж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зас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ли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.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Вышли мы на лужайку. Смотр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 , по лужку ме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ся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, а о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ё две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.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 то вз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ят, то сядут.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 на них так и наска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ет. Замет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етей и п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а в лес. С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ки тоже у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л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Вид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, 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т в ямке крош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ч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ый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к. Так вот ко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защ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ала з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йчиха!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и мы зайч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ка в бл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айшие кусты. Мать там 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н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м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н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найдёт</a:t>
            </a:r>
            <a:r>
              <a:rPr b="0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ересказ по плану.</a:t>
            </a:r>
            <a:br>
              <a:rPr sz="3600"/>
            </a:b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План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3" descr=""/>
          <p:cNvPicPr/>
          <p:nvPr/>
        </p:nvPicPr>
        <p:blipFill>
          <a:blip r:embed="rId1"/>
          <a:stretch/>
        </p:blipFill>
        <p:spPr>
          <a:xfrm>
            <a:off x="109440" y="1279440"/>
            <a:ext cx="8375760" cy="4664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539640" y="4724280"/>
            <a:ext cx="58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r>
              <a:rPr b="1" lang="ru-RU" sz="4100" spc="-1" strike="noStrike">
                <a:solidFill>
                  <a:srgbClr val="0000ff"/>
                </a:solidFill>
                <a:latin typeface="Calibri"/>
              </a:rPr>
              <a:t>Самопроверка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4572000" y="3500280"/>
            <a:ext cx="167652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Прямоугольник 7" descr=""/>
          <p:cNvPicPr/>
          <p:nvPr/>
        </p:nvPicPr>
        <p:blipFill>
          <a:blip r:embed="rId2"/>
          <a:stretch/>
        </p:blipFill>
        <p:spPr>
          <a:xfrm>
            <a:off x="4492800" y="5626080"/>
            <a:ext cx="39859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9T07:34:21Z</dcterms:created>
  <dc:creator>User</dc:creator>
  <dc:description/>
  <dc:language>en-US</dc:language>
  <cp:lastModifiedBy>Пользователь</cp:lastModifiedBy>
  <dcterms:modified xsi:type="dcterms:W3CDTF">2020-04-09T14:14:52Z</dcterms:modified>
  <cp:revision>16</cp:revision>
  <dc:subject/>
  <dc:title>Белохвостая разбойница</dc:title>
</cp:coreProperties>
</file>