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85D0-0BE3-4F56-B511-ED4F7254DCA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C41A-1142-4CB3-B45E-C733C80BF8A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BBC-A2A7-480E-AD86-B97D0C3A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E57-DA28-4B1B-BAB9-FFDD6861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A74-0D57-4FC0-808B-B28609AB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F5C-3AF6-4826-93B9-1C025FB5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82D-CFF1-4992-A935-FE492C7C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7C3-A560-4F23-8412-ED2FE4D5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107-94FC-46B7-BD38-F87B4E5F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992-4325-457F-B883-D78AAC5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2AC-9B46-4F9E-87E7-336BDF75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5AA-AEFB-40BA-BB5B-DE597E2F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A59-3465-440F-BDF4-6B73237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AA7-913D-42CE-98DD-7FB62359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130E-3438-4960-B5FE-23614863A5FE}" type="slidenum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Излож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3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24000" y="242100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Отгадай загадку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8360" y="3933720"/>
            <a:ext cx="8229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Длинный хвост и с белым боком,</a:t>
            </a:r>
            <a:br>
              <a:rPr sz="3000"/>
            </a:b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А летает не высоко.</a:t>
            </a:r>
            <a:br>
              <a:rPr sz="3000"/>
            </a:b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Хочет всё стащить с наскока!</a:t>
            </a:r>
            <a:br>
              <a:rPr sz="3000"/>
            </a:b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Это хитрая (…..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1515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20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383640" y="33336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А знаете ли вы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2843280" y="836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роки – одни из самых умных птиц, существующих в природ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179280" y="1773360"/>
            <a:ext cx="864072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роки -  единственные птицы, которые узнаю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ебя  в зеркале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лина тела сороки – около 50 сантиметров, а размах крыльев – 90 сантиметров. Хвост сороки длиннее ее те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роки всеядны – они могут есть как растительную, так и животную пищу (насекомых, мелких млекопитающих или ящериц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Гнездо сорок имеет форму шара с небольшим отверстием, которое служит вход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Чтобы защитить свое потомство, сороки предпочитают ночевать большими ста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накомство с тек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тр. 39  упр. 449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йте текст. Какой этот текст по типу речи? Докажи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9528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Анализ текс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836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какое время года произошли событи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стрекотали сорок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Что увидели путник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действовали сорок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 как вела себя зайчих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поступили зайчиха и сороки, когда увидели людей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го увидели путники в ямк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им был зайчонок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уда путники отнесли зайчонк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оставление пл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первый абзац. О чем в нем говорится? Как озаглавим первый абзац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второй абзац. О чем в нем говорится ? Как озаглавим эту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третью часть .Что мы узнали из этой части? Как озаглавим эту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Орфографическая подгот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26828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ясните правописание выделенных бук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ы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ой. Мы шли по тр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н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друг вп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ди нас тр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жн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стр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ли с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ки.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Вышли мы на лужайку. Смотр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 , по лужку ме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ся 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йчиха, а о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ё две с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ки.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 то вз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ят, то сядут. 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йчиха на них так и наска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ет. Замет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етей и п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а в лес. С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ки тоже у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Вид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, 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т в ямке крош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ый 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й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к. Так вот ко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защ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ала 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йчиха!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и мы зай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ка в б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айшие кусты. Мать там 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н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найдёт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ересказ по плану.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109440" y="1279440"/>
            <a:ext cx="8375760" cy="4664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539640" y="4724280"/>
            <a:ext cx="58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ff"/>
                </a:solidFill>
                <a:latin typeface="Calibri"/>
              </a:rPr>
              <a:t>                   </a:t>
            </a:r>
            <a:r>
              <a:rPr b="1" lang="ru-RU" sz="4100" spc="-1" strike="noStrike">
                <a:solidFill>
                  <a:srgbClr val="0000ff"/>
                </a:solidFill>
                <a:latin typeface="Calibri"/>
              </a:rPr>
              <a:t>Самопроверка.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4572000" y="3500280"/>
            <a:ext cx="167652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Прямоугольник 7" descr=""/>
          <p:cNvPicPr/>
          <p:nvPr/>
        </p:nvPicPr>
        <p:blipFill>
          <a:blip r:embed="rId2"/>
          <a:stretch/>
        </p:blipFill>
        <p:spPr>
          <a:xfrm>
            <a:off x="4492800" y="5626080"/>
            <a:ext cx="39859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9T07:34:21Z</dcterms:created>
  <dc:creator>User</dc:creator>
  <dc:description/>
  <dc:language>en-US</dc:language>
  <cp:lastModifiedBy>Пользователь</cp:lastModifiedBy>
  <dcterms:modified xsi:type="dcterms:W3CDTF">2020-04-09T14:14:52Z</dcterms:modified>
  <cp:revision>16</cp:revision>
  <dc:subject/>
  <dc:title>Белохвостая разбойница</dc:title>
</cp:coreProperties>
</file>