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406-1F3D-4F70-AF40-B15EBEBC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F87-B93F-4F49-AB57-ACB53050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A5B-571A-44CF-8801-939EBBD7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ED7-09CA-4B93-AC55-C7C613AF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13B2-0D98-47B5-A741-E4E429DA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2B37-B88F-4E63-BEA0-7AE249BD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21BB-8888-48F5-8252-CBDC71CF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E769-C786-4B7A-B8CB-87C8E81E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FA14-4E15-45E2-836F-C6BC1973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223B-D9FA-4FEE-8033-7E8AAF67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20C5-E05D-49BD-AAFE-EBABAF73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7B9-B17B-4EB1-B9A9-E03A7877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F7F2-3BFA-460C-B7EA-BBE79AF2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5E5C-9D32-4575-A311-AD86D0C5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28BA-7314-44DC-8EAC-DCFF27F2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786A-D848-4C07-AF17-8A5363E8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ADB10-6DCA-4550-9984-AB71425A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867-1675-439D-9444-17D1B8D3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8628-D678-4D4D-812B-76A2A7B0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89A-01BD-4527-876B-DF97BFC0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267-8A63-4CC0-BAD9-CB9AA407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135-474A-4D49-A828-47D44EBD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0BE-8FC4-4461-BF3A-BEAB421C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42A-76DC-43A3-A9FF-B7E9C692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AFAC-D676-48D3-B295-E6A9EE98C3C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064F-35A9-4EEF-9137-9EBA566102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213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Ребусы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«Русские богатыри и полководцы»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2720" y="4952880"/>
            <a:ext cx="2057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Разработала педагог дополнительного образования первой квалификационной категории Сплюхина С.А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Русские богатыри. Раскраски к уроку рисования в 4 классе"/>
          <p:cNvPicPr/>
          <p:nvPr/>
        </p:nvPicPr>
        <p:blipFill>
          <a:blip r:embed="rId1"/>
          <a:stretch/>
        </p:blipFill>
        <p:spPr>
          <a:xfrm>
            <a:off x="2209680" y="243828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Фамилия  русского полководца совершившего переход через горы Альпы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4" descr="rebus (7)"/>
          <p:cNvPicPr/>
          <p:nvPr/>
        </p:nvPicPr>
        <p:blipFill>
          <a:blip r:embed="rId1"/>
          <a:stretch/>
        </p:blipFill>
        <p:spPr>
          <a:xfrm>
            <a:off x="1371600" y="2209680"/>
            <a:ext cx="64292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амилия русского полководца, воевавшего с Наполеоном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Picture 4" descr="rebus (10)"/>
          <p:cNvPicPr/>
          <p:nvPr/>
        </p:nvPicPr>
        <p:blipFill>
          <a:blip r:embed="rId1"/>
          <a:stretch/>
        </p:blipFill>
        <p:spPr>
          <a:xfrm>
            <a:off x="457200" y="2438280"/>
            <a:ext cx="821520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Фамилия, имя генерала, положивший  начало перелому в ВОВ?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Picture 4" descr="rebus (12)"/>
          <p:cNvPicPr/>
          <p:nvPr/>
        </p:nvPicPr>
        <p:blipFill>
          <a:blip r:embed="rId1"/>
          <a:stretch/>
        </p:blipFill>
        <p:spPr>
          <a:xfrm>
            <a:off x="533520" y="2209680"/>
            <a:ext cx="81626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Фамилия, имя генерала,  при котором выиграна Великая Отечественная Война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Picture 4" descr="rebus (13)"/>
          <p:cNvPicPr/>
          <p:nvPr/>
        </p:nvPicPr>
        <p:blipFill>
          <a:blip r:embed="rId1"/>
          <a:stretch/>
        </p:blipFill>
        <p:spPr>
          <a:xfrm>
            <a:off x="304920" y="2133720"/>
            <a:ext cx="86868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 называли защитников на  Руси?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Picture 4" descr="rebus (6)"/>
          <p:cNvPicPr/>
          <p:nvPr/>
        </p:nvPicPr>
        <p:blipFill>
          <a:blip r:embed="rId1"/>
          <a:stretch/>
        </p:blipFill>
        <p:spPr>
          <a:xfrm>
            <a:off x="709560" y="2610000"/>
            <a:ext cx="7724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мя русского богатыря связанного со светом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Picture 4" descr="rebus (3)"/>
          <p:cNvPicPr/>
          <p:nvPr/>
        </p:nvPicPr>
        <p:blipFill>
          <a:blip r:embed="rId1"/>
          <a:stretch/>
        </p:blipFill>
        <p:spPr>
          <a:xfrm>
            <a:off x="2133720" y="2133720"/>
            <a:ext cx="476712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мя  русского богатыря из города Муром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4" descr="rebus"/>
          <p:cNvPicPr/>
          <p:nvPr/>
        </p:nvPicPr>
        <p:blipFill>
          <a:blip r:embed="rId1"/>
          <a:stretch/>
        </p:blipFill>
        <p:spPr>
          <a:xfrm>
            <a:off x="457200" y="2824200"/>
            <a:ext cx="82296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мя русского богатыря, связанного с добром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4" descr="rebus (4)"/>
          <p:cNvPicPr/>
          <p:nvPr/>
        </p:nvPicPr>
        <p:blipFill>
          <a:blip r:embed="rId1"/>
          <a:stretch/>
        </p:blipFill>
        <p:spPr>
          <a:xfrm>
            <a:off x="457200" y="2914560"/>
            <a:ext cx="8229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Имя  русского богатыря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Picture 4" descr="rebus (1)"/>
          <p:cNvPicPr/>
          <p:nvPr/>
        </p:nvPicPr>
        <p:blipFill>
          <a:blip r:embed="rId1"/>
          <a:stretch/>
        </p:blipFill>
        <p:spPr>
          <a:xfrm>
            <a:off x="457200" y="2928960"/>
            <a:ext cx="82296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Имя русского богатыря, сына священника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4" descr="rebus (2)"/>
          <p:cNvPicPr/>
          <p:nvPr/>
        </p:nvPicPr>
        <p:blipFill>
          <a:blip r:embed="rId1"/>
          <a:stretch/>
        </p:blipFill>
        <p:spPr>
          <a:xfrm>
            <a:off x="460440" y="2519280"/>
            <a:ext cx="822312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Фамилия «Белого генерала», воевавшего в русско - турецкой войн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rebus (11)"/>
          <p:cNvPicPr/>
          <p:nvPr/>
        </p:nvPicPr>
        <p:blipFill>
          <a:blip r:embed="rId1"/>
          <a:stretch/>
        </p:blipFill>
        <p:spPr>
          <a:xfrm>
            <a:off x="380880" y="2209680"/>
            <a:ext cx="830592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мя князя Киевской Руси, который разгромил  кочевых хазар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" name="Picture 4" descr="rebus (8)"/>
          <p:cNvPicPr/>
          <p:nvPr/>
        </p:nvPicPr>
        <p:blipFill>
          <a:blip r:embed="rId1"/>
          <a:stretch/>
        </p:blipFill>
        <p:spPr>
          <a:xfrm>
            <a:off x="1295280" y="2209680"/>
            <a:ext cx="662940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9T08:48:22Z</dcterms:created>
  <dc:creator>Электроник</dc:creator>
  <dc:description/>
  <dc:language>en-US</dc:language>
  <cp:lastModifiedBy>Sv</cp:lastModifiedBy>
  <dcterms:modified xsi:type="dcterms:W3CDTF">2023-11-06T10:33:4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