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AAE-052A-4B07-8C0A-3C21D6B3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EDD-17E9-4D0F-A953-5C30FA2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F80-F5E0-4841-8A46-E21E046E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5EE-7DE7-49E8-8505-FA0EA169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F50A-E10B-464B-A9A8-1D4F0663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8ED6-F580-4635-9A30-8FC9C31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1211-F6FE-4028-837E-17D5EBED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587C-6AD1-4D6D-9B1D-F058AF33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45F2-FB2D-464E-9DE1-57C753E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CB1D-503C-4404-8DF0-2CF8499B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2636-DC10-44A4-9352-4C042554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E2E-12D0-4CBD-9337-66251560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21F5-8A19-48E8-BE07-5541D5F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5148-A355-4E06-BD99-7517B99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DC87-E6B9-4DDF-88D3-B5D539F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78AD-412C-41F7-80A9-862C0615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BA2A-4F3D-492C-903E-FD3FB8F1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C34-04DD-4259-AD59-ED20CBB9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2B6-F39A-44AD-A430-6651F54E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C7F-EE5F-4177-8FF9-187A29C2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823-8182-4235-9383-9CC35AE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2C1-2244-4950-8988-55D0163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046-651C-4C76-B0AD-CFAA1475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A2F-4217-49A2-A31B-AE7B716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8CC-071A-4EF2-95FB-AD336D9D2C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256-31C6-4DCE-9976-8FB1F6EF7F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213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Ребусы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Русские богатыри и полководцы»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2720" y="4952880"/>
            <a:ext cx="2057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Разработала педагог дополнительного образования первой квалификационной категории Сплюхина С.А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Русские богатыри. Раскраски к уроку рисования в 4 классе"/>
          <p:cNvPicPr/>
          <p:nvPr/>
        </p:nvPicPr>
        <p:blipFill>
          <a:blip r:embed="rId1"/>
          <a:stretch/>
        </p:blipFill>
        <p:spPr>
          <a:xfrm>
            <a:off x="2209680" y="243828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Фамилия  русского полководца совершившего переход через горы Альпы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4" descr="rebus (7)"/>
          <p:cNvPicPr/>
          <p:nvPr/>
        </p:nvPicPr>
        <p:blipFill>
          <a:blip r:embed="rId1"/>
          <a:stretch/>
        </p:blipFill>
        <p:spPr>
          <a:xfrm>
            <a:off x="1371600" y="2209680"/>
            <a:ext cx="64292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амилия русского полководца, воевавшего с Наполеоно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rebus (10)"/>
          <p:cNvPicPr/>
          <p:nvPr/>
        </p:nvPicPr>
        <p:blipFill>
          <a:blip r:embed="rId1"/>
          <a:stretch/>
        </p:blipFill>
        <p:spPr>
          <a:xfrm>
            <a:off x="457200" y="2438280"/>
            <a:ext cx="82152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Фамилия, имя генерала, положивший  начало перелому в ВОВ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4" descr="rebus (12)"/>
          <p:cNvPicPr/>
          <p:nvPr/>
        </p:nvPicPr>
        <p:blipFill>
          <a:blip r:embed="rId1"/>
          <a:stretch/>
        </p:blipFill>
        <p:spPr>
          <a:xfrm>
            <a:off x="533520" y="2209680"/>
            <a:ext cx="816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Фамилия, имя генерала,  при котором выиграна Великая Отечественная Война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4" descr="rebus (13)"/>
          <p:cNvPicPr/>
          <p:nvPr/>
        </p:nvPicPr>
        <p:blipFill>
          <a:blip r:embed="rId1"/>
          <a:stretch/>
        </p:blipFill>
        <p:spPr>
          <a:xfrm>
            <a:off x="304920" y="2133720"/>
            <a:ext cx="8686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 называли защитников на  Руси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Picture 4" descr="rebus (6)"/>
          <p:cNvPicPr/>
          <p:nvPr/>
        </p:nvPicPr>
        <p:blipFill>
          <a:blip r:embed="rId1"/>
          <a:stretch/>
        </p:blipFill>
        <p:spPr>
          <a:xfrm>
            <a:off x="709560" y="2610000"/>
            <a:ext cx="7724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русского богатыря связанного со свето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rebus (3)"/>
          <p:cNvPicPr/>
          <p:nvPr/>
        </p:nvPicPr>
        <p:blipFill>
          <a:blip r:embed="rId1"/>
          <a:stretch/>
        </p:blipFill>
        <p:spPr>
          <a:xfrm>
            <a:off x="2133720" y="2133720"/>
            <a:ext cx="47671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 русского богатыря из города Муром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rebus"/>
          <p:cNvPicPr/>
          <p:nvPr/>
        </p:nvPicPr>
        <p:blipFill>
          <a:blip r:embed="rId1"/>
          <a:stretch/>
        </p:blipFill>
        <p:spPr>
          <a:xfrm>
            <a:off x="457200" y="2824200"/>
            <a:ext cx="82296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русского богатыря, связанного с добро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rebus (4)"/>
          <p:cNvPicPr/>
          <p:nvPr/>
        </p:nvPicPr>
        <p:blipFill>
          <a:blip r:embed="rId1"/>
          <a:stretch/>
        </p:blipFill>
        <p:spPr>
          <a:xfrm>
            <a:off x="457200" y="2914560"/>
            <a:ext cx="8229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мя  русского богатыря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rebus (1)"/>
          <p:cNvPicPr/>
          <p:nvPr/>
        </p:nvPicPr>
        <p:blipFill>
          <a:blip r:embed="rId1"/>
          <a:stretch/>
        </p:blipFill>
        <p:spPr>
          <a:xfrm>
            <a:off x="457200" y="2928960"/>
            <a:ext cx="82296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русского богатыря, сына священник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rebus (2)"/>
          <p:cNvPicPr/>
          <p:nvPr/>
        </p:nvPicPr>
        <p:blipFill>
          <a:blip r:embed="rId1"/>
          <a:stretch/>
        </p:blipFill>
        <p:spPr>
          <a:xfrm>
            <a:off x="460440" y="2519280"/>
            <a:ext cx="82231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Фамилия «Белого генерала», воевавшего в русско - турецкой войн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rebus (11)"/>
          <p:cNvPicPr/>
          <p:nvPr/>
        </p:nvPicPr>
        <p:blipFill>
          <a:blip r:embed="rId1"/>
          <a:stretch/>
        </p:blipFill>
        <p:spPr>
          <a:xfrm>
            <a:off x="380880" y="2209680"/>
            <a:ext cx="8305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мя князя Киевской Руси, который разгромил  кочевых хазар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rebus (8)"/>
          <p:cNvPicPr/>
          <p:nvPr/>
        </p:nvPicPr>
        <p:blipFill>
          <a:blip r:embed="rId1"/>
          <a:stretch/>
        </p:blipFill>
        <p:spPr>
          <a:xfrm>
            <a:off x="1295280" y="2209680"/>
            <a:ext cx="6629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9T08:48:22Z</dcterms:created>
  <dc:creator>Электроник</dc:creator>
  <dc:description/>
  <dc:language>en-US</dc:language>
  <cp:lastModifiedBy>Sv</cp:lastModifiedBy>
  <dcterms:modified xsi:type="dcterms:W3CDTF">2023-11-06T10:33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