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8.png" ContentType="image/png"/>
  <Override PartName="/ppt/media/image13.jpeg" ContentType="image/jpeg"/>
  <Override PartName="/ppt/media/image30.gif" ContentType="image/gif"/>
  <Override PartName="/ppt/media/image23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15.gif" ContentType="image/gif"/>
  <Override PartName="/ppt/media/image5.jpeg" ContentType="image/jpeg"/>
  <Override PartName="/ppt/media/image10.jpeg" ContentType="image/jpeg"/>
  <Override PartName="/ppt/media/image17.wmf" ContentType="image/x-wmf"/>
  <Override PartName="/ppt/media/image9.png" ContentType="image/png"/>
  <Override PartName="/ppt/media/image31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4.gif" ContentType="image/gif"/>
  <Override PartName="/ppt/media/image16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2.png" ContentType="image/pn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200C-36CB-4D8A-BC56-B38723C2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71BA-E0E7-41B1-9377-91FEFBEF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063-9F09-4C5C-8D1A-2002050C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D10-B472-46F9-9266-4753CB87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551A-DC48-4162-BBFC-F17BC71C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12AC-E9A4-4B4F-9208-6D2FA89D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C147-5AE1-450E-903B-6D4D093A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474-6C46-40A3-AD7B-B122A4CC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2019-6086-492D-8679-1B905826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5324-CC61-4B7A-B58F-16A1E1B9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9A5-8055-4BBB-9695-7CCEE916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624-860B-4354-AA34-F3F2F626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C2EB-C614-41AD-82F6-6DAD67690D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71720" y="357120"/>
            <a:ext cx="7858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Есть ли, дети, одеяло,</a:t>
            </a:r>
            <a:endParaRPr b="0" lang="en-US" sz="4000" spc="-1" strike="noStrike">
              <a:solidFill>
                <a:srgbClr val="c00000"/>
              </a:solidFill>
              <a:latin typeface="Constantia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Чтоб всю Землю укрывало?</a:t>
            </a:r>
            <a:endParaRPr b="0" lang="en-US" sz="4000" spc="-1" strike="noStrike">
              <a:solidFill>
                <a:srgbClr val="c00000"/>
              </a:solidFill>
              <a:latin typeface="Constantia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Чтоб его на всех хватило,</a:t>
            </a:r>
            <a:endParaRPr b="0" lang="en-US" sz="4000" spc="-1" strike="noStrike">
              <a:solidFill>
                <a:srgbClr val="c00000"/>
              </a:solidFill>
              <a:latin typeface="Constantia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Да притом не видно было?</a:t>
            </a:r>
            <a:endParaRPr b="0" lang="en-US" sz="4000" spc="-1" strike="noStrike">
              <a:solidFill>
                <a:srgbClr val="c00000"/>
              </a:solidFill>
              <a:latin typeface="Constantia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Ни сложить, ни развернуть,</a:t>
            </a:r>
            <a:endParaRPr b="0" lang="en-US" sz="4000" spc="-1" strike="noStrike">
              <a:solidFill>
                <a:srgbClr val="c00000"/>
              </a:solidFill>
              <a:latin typeface="Constantia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Ни пощупать, ни взглянуть?</a:t>
            </a:r>
            <a:endParaRPr b="0" lang="en-US" sz="4000" spc="-1" strike="noStrike">
              <a:solidFill>
                <a:srgbClr val="c00000"/>
              </a:solidFill>
              <a:latin typeface="Constantia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Пропускало б дождь и свет,</a:t>
            </a:r>
            <a:endParaRPr b="0" lang="en-US" sz="4000" spc="-1" strike="noStrike">
              <a:solidFill>
                <a:srgbClr val="c00000"/>
              </a:solidFill>
              <a:latin typeface="Constantia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Есть, а вроде бы и нет?!</a:t>
            </a:r>
            <a:endParaRPr b="0" lang="en-US" sz="4000" spc="-1" strike="noStrike">
              <a:solidFill>
                <a:srgbClr val="c00000"/>
              </a:solidFill>
              <a:latin typeface="Constantia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68-1024"/>
          <p:cNvPicPr/>
          <p:nvPr/>
        </p:nvPicPr>
        <p:blipFill>
          <a:blip r:embed="rId2"/>
          <a:stretch/>
        </p:blipFill>
        <p:spPr>
          <a:xfrm>
            <a:off x="324000" y="404640"/>
            <a:ext cx="8208720" cy="615492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58" name="Picture 5" descr="human257"/>
          <p:cNvPicPr/>
          <p:nvPr/>
        </p:nvPicPr>
        <p:blipFill>
          <a:blip r:embed="rId3"/>
          <a:stretch/>
        </p:blipFill>
        <p:spPr>
          <a:xfrm rot="20101800">
            <a:off x="2050920" y="191592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baby18"/>
          <p:cNvPicPr/>
          <p:nvPr/>
        </p:nvPicPr>
        <p:blipFill>
          <a:blip r:embed="rId4"/>
          <a:stretch/>
        </p:blipFill>
        <p:spPr>
          <a:xfrm>
            <a:off x="1332000" y="4149720"/>
            <a:ext cx="345960" cy="504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684360" y="494172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755640" y="4724280"/>
            <a:ext cx="44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Как изменяется температура воздуха с подъемом в тропосфе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ZAPOMNI"/>
          <p:cNvPicPr/>
          <p:nvPr/>
        </p:nvPicPr>
        <p:blipFill>
          <a:blip r:embed="rId2"/>
          <a:stretch/>
        </p:blipFill>
        <p:spPr>
          <a:xfrm>
            <a:off x="250920" y="5013360"/>
            <a:ext cx="1050840" cy="1366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756720" y="189000"/>
            <a:ext cx="21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cc"/>
                </a:solidFill>
                <a:uFillTx/>
                <a:latin typeface="Arial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84360" y="1125360"/>
            <a:ext cx="64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Температура понижается на каждый километр высоты примерно на 6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j0078822"/>
          <p:cNvPicPr/>
          <p:nvPr/>
        </p:nvPicPr>
        <p:blipFill>
          <a:blip r:embed="rId3"/>
          <a:srcRect l="0" t="0" r="21331" b="0"/>
          <a:stretch/>
        </p:blipFill>
        <p:spPr>
          <a:xfrm>
            <a:off x="7093080" y="260280"/>
            <a:ext cx="1726920" cy="197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25"/>
          <p:cNvPicPr/>
          <p:nvPr/>
        </p:nvPicPr>
        <p:blipFill>
          <a:blip r:embed="rId4"/>
          <a:srcRect l="8634" t="17307" r="17905" b="9777"/>
          <a:stretch/>
        </p:blipFill>
        <p:spPr>
          <a:xfrm>
            <a:off x="2916360" y="3284640"/>
            <a:ext cx="3601800" cy="287964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c00000"/>
              </a:solidFill>
              <a:latin typeface="Constantia"/>
            </a:endParaRPr>
          </a:p>
        </p:txBody>
      </p:sp>
      <p:pic>
        <p:nvPicPr>
          <p:cNvPr id="70" name="Picture 8" descr="I:\6 класс\i (2).jpg"/>
          <p:cNvPicPr/>
          <p:nvPr/>
        </p:nvPicPr>
        <p:blipFill>
          <a:blip r:embed="rId3"/>
          <a:stretch/>
        </p:blipFill>
        <p:spPr>
          <a:xfrm>
            <a:off x="0" y="1557360"/>
            <a:ext cx="4572000" cy="5300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DSCN2137"/>
          <p:cNvPicPr/>
          <p:nvPr/>
        </p:nvPicPr>
        <p:blipFill>
          <a:blip r:embed="rId4"/>
          <a:stretch/>
        </p:blipFill>
        <p:spPr>
          <a:xfrm>
            <a:off x="4572000" y="1557360"/>
            <a:ext cx="4572000" cy="5300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2"/>
          <a:stretch/>
        </p:blipFill>
        <p:spPr>
          <a:xfrm>
            <a:off x="493560" y="-648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4" descr="Image 1.png"/>
          <p:cNvPicPr/>
          <p:nvPr/>
        </p:nvPicPr>
        <p:blipFill>
          <a:blip r:embed="rId3"/>
          <a:stretch/>
        </p:blipFill>
        <p:spPr>
          <a:xfrm>
            <a:off x="1214280" y="928800"/>
            <a:ext cx="6743880" cy="5968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20840" y="268200"/>
            <a:ext cx="827244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Object 4"/>
          <p:cNvGraphicFramePr/>
          <p:nvPr/>
        </p:nvGraphicFramePr>
        <p:xfrm>
          <a:off x="250920" y="1197000"/>
          <a:ext cx="3159000" cy="259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197000"/>
                    <a:ext cx="315900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4" descr=""/>
          <p:cNvPicPr/>
          <p:nvPr/>
        </p:nvPicPr>
        <p:blipFill>
          <a:blip r:embed="rId5"/>
          <a:stretch/>
        </p:blipFill>
        <p:spPr>
          <a:xfrm>
            <a:off x="3203640" y="119700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6"/>
          <a:stretch/>
        </p:blipFill>
        <p:spPr>
          <a:xfrm>
            <a:off x="179280" y="3645000"/>
            <a:ext cx="6120000" cy="321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http://styknews.info/sites/default/files/basic-foto/2015/05/15/1230051.jpg"/>
          <p:cNvPicPr/>
          <p:nvPr/>
        </p:nvPicPr>
        <p:blipFill>
          <a:blip r:embed="rId7"/>
          <a:stretch/>
        </p:blipFill>
        <p:spPr>
          <a:xfrm>
            <a:off x="6156360" y="1197000"/>
            <a:ext cx="2987640" cy="5661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2"/>
          <a:stretch/>
        </p:blipFill>
        <p:spPr>
          <a:xfrm>
            <a:off x="165240" y="-122400"/>
            <a:ext cx="8856360" cy="1274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13840" y="1000080"/>
            <a:ext cx="89298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27920" indent="-7279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nstantia"/>
              </a:rPr>
              <a:t>1.-а;</a:t>
            </a:r>
            <a:endParaRPr b="0" lang="en-US" sz="7200" spc="-1" strike="noStrike">
              <a:solidFill>
                <a:srgbClr val="c00000"/>
              </a:solidFill>
              <a:latin typeface="Constantia"/>
            </a:endParaRPr>
          </a:p>
          <a:p>
            <a:pPr marL="727920" indent="-7279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nstantia"/>
              </a:rPr>
              <a:t>2.-б;</a:t>
            </a:r>
            <a:endParaRPr b="0" lang="en-US" sz="7200" spc="-1" strike="noStrike">
              <a:solidFill>
                <a:srgbClr val="c00000"/>
              </a:solidFill>
              <a:latin typeface="Constantia"/>
            </a:endParaRPr>
          </a:p>
          <a:p>
            <a:pPr marL="727920" indent="-7279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nstantia"/>
              </a:rPr>
              <a:t>3.-б;</a:t>
            </a:r>
            <a:endParaRPr b="0" lang="en-US" sz="7200" spc="-1" strike="noStrike">
              <a:solidFill>
                <a:srgbClr val="c00000"/>
              </a:solidFill>
              <a:latin typeface="Constantia"/>
            </a:endParaRPr>
          </a:p>
          <a:p>
            <a:pPr marL="727920" indent="-72792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nstantia"/>
              </a:rPr>
              <a:t>4.-а.</a:t>
            </a:r>
            <a:endParaRPr b="0" lang="en-US" sz="7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755640" y="476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И ЗАДАЧ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BOOK9"/>
          <p:cNvPicPr/>
          <p:nvPr/>
        </p:nvPicPr>
        <p:blipFill>
          <a:blip r:embed="rId2"/>
          <a:stretch/>
        </p:blipFill>
        <p:spPr>
          <a:xfrm>
            <a:off x="6948360" y="620640"/>
            <a:ext cx="1584360" cy="10130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324000" y="15573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 вариант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На какую высоту поднялся самолет, если за его бортом температура -30ºС, а у поверхности земли +12º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5280" y="32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вариант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Какова температура воздуха на Памире, если в июле у подножия она составляет +36ºС? Высота Памира 6 к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2"/>
          <a:stretch/>
        </p:blipFill>
        <p:spPr>
          <a:xfrm>
            <a:off x="225360" y="-171360"/>
            <a:ext cx="8918640" cy="1341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13840" y="1700280"/>
            <a:ext cx="8929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onstanti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§ 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, вопрос №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6, 7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c00000"/>
              </a:solidFill>
              <a:latin typeface="Constanti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письменно в тетрадях.</a:t>
            </a:r>
            <a:endParaRPr b="0" lang="en-US" sz="44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Заголовок 1" descr=""/>
          <p:cNvPicPr/>
          <p:nvPr/>
        </p:nvPicPr>
        <p:blipFill>
          <a:blip r:embed="rId2"/>
          <a:stretch/>
        </p:blipFill>
        <p:spPr>
          <a:xfrm>
            <a:off x="73080" y="993600"/>
            <a:ext cx="9352080" cy="3224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1. Сформулировать  понятие об атмосфере.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2. Выяснить, какой состав и строение имеет атмосфера.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3. Как изучают атмосферу.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4. Как охраняют атмосферу.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3" descr=""/>
          <p:cNvPicPr/>
          <p:nvPr/>
        </p:nvPicPr>
        <p:blipFill>
          <a:blip r:embed="rId2"/>
          <a:stretch/>
        </p:blipFill>
        <p:spPr>
          <a:xfrm>
            <a:off x="-225360" y="255600"/>
            <a:ext cx="9429840" cy="6346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I:\6 класс\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I:\6 класс\i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I:\6 класс\ss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31996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2"/>
          <a:stretch/>
        </p:blipFill>
        <p:spPr>
          <a:xfrm>
            <a:off x="49356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13840" y="1142640"/>
            <a:ext cx="8929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 играет важную роль разбавителя кислорода, замедляет процесс старения, ускоряет развитие растений.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ЛОРОД – дыхание, горение, окислительные процессы.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КИСЛЫЙ  ГАЗ – процесс фотосинтеза, парниковый эффект, т.е. пропускает тепловые лучи на Землю и препятствует их возвращению в космическое пространство.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c00000"/>
              </a:solidFill>
              <a:latin typeface="Constantia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c00000"/>
              </a:solidFill>
              <a:latin typeface="Constantia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  <p:transition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http://pics.photographer.ru/nonstop/pics/pictures/487/48714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240_320_mike_hollingshead3_23"/>
          <p:cNvPicPr/>
          <p:nvPr/>
        </p:nvPicPr>
        <p:blipFill>
          <a:blip r:embed="rId3"/>
          <a:stretch/>
        </p:blipFill>
        <p:spPr>
          <a:xfrm>
            <a:off x="324000" y="260280"/>
            <a:ext cx="3600360" cy="308124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611280" y="333360"/>
            <a:ext cx="8064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зон выполняет защитную. Оберегает всё живое от губительного излучения Солнц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АДМИН\Мамина работа\ЗАДАНИЯ ФГОС\Мой  урок  по ФГОС\phen058-1.jpg"/>
          <p:cNvPicPr/>
          <p:nvPr/>
        </p:nvPicPr>
        <p:blipFill>
          <a:blip r:embed="rId2"/>
          <a:stretch/>
        </p:blipFill>
        <p:spPr>
          <a:xfrm>
            <a:off x="1332000" y="809640"/>
            <a:ext cx="6858000" cy="6048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1428840" y="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мосфе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08:53:12Z</dcterms:created>
  <dc:creator>Дмитрий Каленюк</dc:creator>
  <dc:description/>
  <dc:language>en-US</dc:language>
  <cp:lastModifiedBy>Люда</cp:lastModifiedBy>
  <dcterms:modified xsi:type="dcterms:W3CDTF">2018-12-10T17:59:29Z</dcterms:modified>
  <cp:revision>50</cp:revision>
  <dc:subject/>
  <dc:title>Из чего состоит атмосфера и как она устроена?</dc:title>
</cp:coreProperties>
</file>