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02D-D717-4E9B-BF9B-D82D8565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1AB-324E-45C9-99A2-F7317CAC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738-703C-4F19-ABBC-D48A11C2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5E4-76E0-46FC-9AA0-D0D5091E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B5C-3B42-4DC1-A605-743A9ADB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BF6-CD1D-476B-AFE8-2A62F87E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15A-D537-492E-8B54-7A315280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079-C95C-4B54-9E77-6FB3012F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FE3-8801-471F-AB7C-9916EAEB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504-96C2-433E-9AE7-2148FA18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526-B6C1-4B38-9628-80D6556D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F63-0506-4459-A58D-F7A8EF61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DDD2-0EAB-4725-AC20-929DB2E315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youtu.be/99RF6QAcXRU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s://ok.ru/video/9885713830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youtu.be/hoz-6WeNpV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рмировать умения отбирать материал к сочинению в соответствии с главной   мысль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ить детей писать сочинение по плану и опорным словам в нужной  последовательности, учить использовать языковые средства в соответствии со  стилем реч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вать устную и письменную речь учащих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спитание у младших школьников чувства уважения и любви к самому  близкому, верному, преданному человеку – мам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7" descr="unnamed.png"/>
          <p:cNvPicPr/>
          <p:nvPr/>
        </p:nvPicPr>
        <p:blipFill>
          <a:blip r:embed="rId1"/>
          <a:stretch/>
        </p:blipFill>
        <p:spPr>
          <a:xfrm>
            <a:off x="6072120" y="1143000"/>
            <a:ext cx="2906640" cy="2671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Интересные фак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920" y="1483920"/>
            <a:ext cx="57499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Слово «мама» во многих языках звучит похоже. Считается, что оно происходит от звуков, которые издает ребенок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В СССР существовали специальные награды для матерей. Медаль Материнства вручалась женщинам, родившим и воспитавшим 5 или 6 дет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Те, кто родил и воспитал 7, 8 или 9 детей, удостаивались ордена «Материнская слава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А если детей 10 и более —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положен орден 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звание «Мать-героиня».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pngwing.com (12).png"/>
          <p:cNvPicPr/>
          <p:nvPr/>
        </p:nvPicPr>
        <p:blipFill>
          <a:blip r:embed="rId2"/>
          <a:stretch/>
        </p:blipFill>
        <p:spPr>
          <a:xfrm>
            <a:off x="214200" y="357120"/>
            <a:ext cx="1677960" cy="11192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small.jpg"/>
          <p:cNvPicPr/>
          <p:nvPr/>
        </p:nvPicPr>
        <p:blipFill>
          <a:blip r:embed="rId3"/>
          <a:stretch/>
        </p:blipFill>
        <p:spPr>
          <a:xfrm>
            <a:off x="5357880" y="4214880"/>
            <a:ext cx="36226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:\1 класс 24-25 год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1785960" y="14292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ловицы о ма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214200" y="1285920"/>
            <a:ext cx="8715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тица рада весне, а ребёнок – мат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рдце матери лучше солнца гр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ринская ласка конца не зн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т такого дружка, как родная мат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солнышке – тепло, а при матери –  добр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атеринском сердце для всех детей  ласки  хват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якой  матери своё дитя мило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сына болит пальчик, а у матери - серд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пиграф к сочинен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Эпиграф</a:t>
            </a: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 -краткое изречение, которое помещается перед произведением, выражая главную его мысль, или отношение автора к событи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4" descr=""/>
          <p:cNvPicPr/>
          <p:nvPr/>
        </p:nvPicPr>
        <p:blipFill>
          <a:blip r:embed="rId1"/>
          <a:stretch/>
        </p:blipFill>
        <p:spPr>
          <a:xfrm>
            <a:off x="4716360" y="1928880"/>
            <a:ext cx="3816360" cy="40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а - это лучик све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а – это значит жизн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пиграф сочин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5" descr=""/>
          <p:cNvPicPr/>
          <p:nvPr/>
        </p:nvPicPr>
        <p:blipFill>
          <a:blip r:embed="rId1"/>
          <a:stretch/>
        </p:blipFill>
        <p:spPr>
          <a:xfrm>
            <a:off x="3429000" y="2786040"/>
            <a:ext cx="5286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тупление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сколько предложений в самом начале текста, по которым читателю становится понятно, о чём   пойдёт речь далее. Оно  не должно быть размытым и слишком длинным. Обычно достаточно всего двух или трёх предложений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ча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любого размера и содержания. Чаще всего длинный текст подразделяется на блоки, каждый из которых содержит отдельную тему. Например: описание внешности мамы или личностной характеристик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ит итог всему сочинению. В него можно включить собственные рассуждения и сделанные выводы. Обычно это небольшой абзац, состоящий из трёх – четырёх предложени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ГИА\Downloads\055d398a8e67325ad6201d500d6b6a8870.jpg"/>
          <p:cNvPicPr/>
          <p:nvPr/>
        </p:nvPicPr>
        <p:blipFill>
          <a:blip r:embed="rId1"/>
          <a:stretch/>
        </p:blipFill>
        <p:spPr>
          <a:xfrm>
            <a:off x="500040" y="368280"/>
            <a:ext cx="842976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 о мам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youtu.be/99RF6QAcXRU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моменты для освещения в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и "О маме"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у не выбир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всегда заботиться и старается дать ребенку самое лучше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о маме заботиться, помогать 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у нужно любить любу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- лучший д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- всегда поймет и пожалеет, прост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чувствует своего ребенка, тесная связ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ишите жизнеутверждающи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мама - лучшая на свете, я ее очень люблю и желаю ей долгих лет жизни и счасть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ГИА\Downloads\5ae308c2fa024a0c1f19541452642acb04.jpg"/>
          <p:cNvPicPr/>
          <p:nvPr/>
        </p:nvPicPr>
        <p:blipFill>
          <a:blip r:embed="rId1"/>
          <a:stretch/>
        </p:blipFill>
        <p:spPr>
          <a:xfrm>
            <a:off x="95400" y="214200"/>
            <a:ext cx="88344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ГИА\Downloads\ea6d7a99aaf416da51de2a95d72eca047d.jpg"/>
          <p:cNvPicPr/>
          <p:nvPr/>
        </p:nvPicPr>
        <p:blipFill>
          <a:blip r:embed="rId2"/>
          <a:stretch/>
        </p:blipFill>
        <p:spPr>
          <a:xfrm>
            <a:off x="214200" y="285840"/>
            <a:ext cx="8501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ГИА\Downloads\46ac073e70befeadedfdef0c59e0df5592.jpg"/>
          <p:cNvPicPr/>
          <p:nvPr/>
        </p:nvPicPr>
        <p:blipFill>
          <a:blip r:embed="rId1"/>
          <a:stretch/>
        </p:blipFill>
        <p:spPr>
          <a:xfrm>
            <a:off x="285840" y="214200"/>
            <a:ext cx="85010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D:\1 класс 24-25 год\ф.jpg"/>
          <p:cNvPicPr/>
          <p:nvPr/>
        </p:nvPicPr>
        <p:blipFill>
          <a:blip r:embed="rId2"/>
          <a:stretch/>
        </p:blipFill>
        <p:spPr>
          <a:xfrm>
            <a:off x="-285840" y="-214200"/>
            <a:ext cx="9715680" cy="72864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4714920" y="39528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ok.ru/video/988571383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4000680" y="1643040"/>
            <a:ext cx="45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Матер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ю маму зовут Наталья. Для меня мама самая умная, красивая и добрая. Мы с мамой лучшие друзья. Я делюсь с мамой своими успехами и поражениями, она всегда поддерживает мен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ас с мамой общие увлечения: мы читаем книги и часто играем в настольную игру «Эрудит». В выходные дни мы вместе ходим в бассей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очень люблю свою ма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я мама добрая и заботливая, всегда помогает мне преодолевать трудности, она очень ум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а работает на заводе «Магнезит», у неё трудная работа. По выходным дням она тоже работает, поэтому я стараюсь помогать ей по дому: выношу мусор и мою посуд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черами я читаю  маме книги вслух, она очень любит меня слушать. А я радуюсь, что у неё есть минутки для отдых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я мама – самый родной челове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устаёт на работе, но ей всегда удаётся шутками поднять настроение себе и всей семье. Маминых сил хватает на всех: и на деток в детском саду, и на семью, и на помощь мне в уроках. Она успевает за день переделать все запланированные ею де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еня замечательная мама и я её очень люблю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й дорогой человек для меня – это ма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я мамочка приветливая, добрая, нежная, ласковая, жизнерадостная. Она умеет поддержать в трудную минуту и дать дельный сов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очень горжусь своей мамой и люблю её больше все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357120"/>
            <a:ext cx="8329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ю маму зовут Татьяна. С древнерусского языка значение имени – устроительни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имя маме очень подходит. В доме у нас всегда чистота и уют. Мама очень вкусно готовит. По выходным она балует нас разнообразными блюд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щё мамуля любит вязать. Вяжет она  в свободное время, которого у неё не так много. Она с удовольствием свяжет любую вещь для каждого члена нашей семь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я мама самая добрая, заботливая. Я её очень любл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лан сочи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67920"/>
            <a:ext cx="8229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Вступл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2. Основная часть.  Моя мамоч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   </a:t>
            </a: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1) Моя мама - самая красивая и добра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глаза;  волосы; голос; походка; характ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   </a:t>
            </a: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2) У моей мамы золоты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   </a:t>
            </a: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3) Мама – мой лучший дру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3. Заключение. Я люблю свою ма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4" descr="C:\Users\Larisa\Pictures\scan-021.jpg"/>
          <p:cNvPicPr/>
          <p:nvPr/>
        </p:nvPicPr>
        <p:blipFill>
          <a:blip r:embed="rId1"/>
          <a:stretch/>
        </p:blipFill>
        <p:spPr>
          <a:xfrm>
            <a:off x="7236000" y="36450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"/>
          <p:cNvPicPr/>
          <p:nvPr/>
        </p:nvPicPr>
        <p:blipFill>
          <a:blip r:embed="rId2"/>
          <a:stretch/>
        </p:blipFill>
        <p:spPr>
          <a:xfrm>
            <a:off x="7596360" y="1125360"/>
            <a:ext cx="1368360" cy="1872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" descr=""/>
          <p:cNvPicPr/>
          <p:nvPr/>
        </p:nvPicPr>
        <p:blipFill>
          <a:blip r:embed="rId3"/>
          <a:stretch/>
        </p:blipFill>
        <p:spPr>
          <a:xfrm>
            <a:off x="395280" y="5157720"/>
            <a:ext cx="74167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нализ  сочинений по памят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1) Понравилось ли сочинение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2) Раскрыта ли те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3)Удалось ли передать основную мысль сочин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4)Соответствует ли сочинение план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2908440" y="4286160"/>
            <a:ext cx="361476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флексия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Вспомните эпиграф уро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Теперь я могу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Урок дал мне для жизни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0" descr="49fba472b13a"/>
          <p:cNvPicPr/>
          <p:nvPr/>
        </p:nvPicPr>
        <p:blipFill>
          <a:blip r:embed="rId1"/>
          <a:stretch/>
        </p:blipFill>
        <p:spPr>
          <a:xfrm>
            <a:off x="9828360" y="3429000"/>
            <a:ext cx="4248000" cy="3238560"/>
          </a:xfrm>
          <a:prstGeom prst="rect">
            <a:avLst/>
          </a:prstGeom>
          <a:ln w="0">
            <a:noFill/>
          </a:ln>
        </p:spPr>
      </p:pic>
      <p:pic>
        <p:nvPicPr>
          <p:cNvPr id="120" name="Объект 7" descr=""/>
          <p:cNvPicPr/>
          <p:nvPr/>
        </p:nvPicPr>
        <p:blipFill>
          <a:blip r:embed="rId2"/>
          <a:stretch/>
        </p:blipFill>
        <p:spPr>
          <a:xfrm>
            <a:off x="4645080" y="2205000"/>
            <a:ext cx="4041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mbria"/>
              </a:rPr>
              <a:t>          </a:t>
            </a:r>
            <a:r>
              <a:rPr b="0" i="1" lang="ru-RU" sz="4400" spc="-1" strike="noStrike">
                <a:solidFill>
                  <a:srgbClr val="c00000"/>
                </a:solidFill>
                <a:latin typeface="Cambria"/>
              </a:rPr>
              <a:t>Спасибо за рабо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10_big"/>
          <p:cNvPicPr/>
          <p:nvPr/>
        </p:nvPicPr>
        <p:blipFill>
          <a:blip r:embed="rId1"/>
          <a:stretch/>
        </p:blipFill>
        <p:spPr>
          <a:xfrm>
            <a:off x="1714680" y="17226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D:\1 класс 24-25 год\Рисунок1.jpg"/>
          <p:cNvPicPr/>
          <p:nvPr/>
        </p:nvPicPr>
        <p:blipFill>
          <a:blip r:embed="rId2"/>
          <a:stretch/>
        </p:blipFill>
        <p:spPr>
          <a:xfrm>
            <a:off x="-285840" y="-214200"/>
            <a:ext cx="9715680" cy="72864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500040" y="0"/>
            <a:ext cx="800100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мат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праздник, посвящённый всем мамам России. В этот день мы поздравляем своих любимых мам. Ведь мамы – это главное, что есть в нашей жизни. И в этот день хочется сделать что-нибудь приятное для мамы, хочется, чтобы она улыбнулась в ответ своей доброй улыб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6723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рок развития речи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    «Любимая мам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Calibri"/>
              </a:rPr>
              <a:t>Выполни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Calibri"/>
              </a:rPr>
              <a:t>Майкова Галина Иванов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Calibri"/>
              </a:rPr>
              <a:t>учитель МОУ « КСОС № 2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Calibri"/>
              </a:rPr>
              <a:t>г. Кири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Calibri"/>
              </a:rPr>
              <a:t>2023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285840" y="2286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youtu.be/hoz-6WeNp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пиграф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С малой удачи начинается      большой успех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6300720" y="3284640"/>
            <a:ext cx="244800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D:\1 класс 24-25 год\Рисунок1.jpg"/>
          <p:cNvPicPr/>
          <p:nvPr/>
        </p:nvPicPr>
        <p:blipFill>
          <a:blip r:embed="rId2"/>
          <a:stretch/>
        </p:blipFill>
        <p:spPr>
          <a:xfrm>
            <a:off x="-357120" y="-428760"/>
            <a:ext cx="9715320" cy="72867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pngwing.com.png"/>
          <p:cNvPicPr/>
          <p:nvPr/>
        </p:nvPicPr>
        <p:blipFill>
          <a:blip r:embed="rId3"/>
          <a:stretch/>
        </p:blipFill>
        <p:spPr>
          <a:xfrm>
            <a:off x="0" y="-357120"/>
            <a:ext cx="2079720" cy="2232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pngwing.com (1).png"/>
          <p:cNvPicPr/>
          <p:nvPr/>
        </p:nvPicPr>
        <p:blipFill>
          <a:blip r:embed="rId4"/>
          <a:stretch/>
        </p:blipFill>
        <p:spPr>
          <a:xfrm>
            <a:off x="-1000080" y="2357280"/>
            <a:ext cx="4511520" cy="33847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6"/>
          <p:cNvSpPr/>
          <p:nvPr/>
        </p:nvSpPr>
        <p:spPr>
          <a:xfrm>
            <a:off x="2500200" y="0"/>
            <a:ext cx="6286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становленный Указом Президента Российской Федерации Б. Н. Ельцина №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т 30 января 1998 года, он празднуется в последнее воскресенье ноября, воздавая должное материнск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2786040" y="3000240"/>
            <a:ext cx="6072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труду и их бескорыстной жертве ради блага своих детей. Текст Указа очень короток: «В целях повышения социальной значимости материнства постановляю: Установить праздник — День матери и отмечать его в последнее воскресенье нояб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астоящий Указ     вступает в силу со дня его официального опубликов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0"/>
          <p:cNvSpPr/>
          <p:nvPr/>
        </p:nvSpPr>
        <p:spPr>
          <a:xfrm>
            <a:off x="2786040" y="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здник   День  Мат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pngwing.com (14).png"/>
          <p:cNvPicPr/>
          <p:nvPr/>
        </p:nvPicPr>
        <p:blipFill>
          <a:blip r:embed="rId1"/>
          <a:stretch/>
        </p:blipFill>
        <p:spPr>
          <a:xfrm>
            <a:off x="4067280" y="260280"/>
            <a:ext cx="6094440" cy="6093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60280"/>
            <a:ext cx="5554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Среди многочисленных праздников, отмечаемых в нашей стране, День Матери занимает особое мест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Это праздник, к которому никто не может остаться равнодушным. В этот день хочется сказать слова благодарности всем Матерям, которые дарят детям любовь, добро, нежность и лас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depositphotos_5221943-stock-illustration-bear-with-bouquet.jpg"/>
          <p:cNvPicPr/>
          <p:nvPr/>
        </p:nvPicPr>
        <p:blipFill>
          <a:blip r:embed="rId1"/>
          <a:stretch/>
        </p:blipFill>
        <p:spPr>
          <a:xfrm>
            <a:off x="5724360" y="3438360"/>
            <a:ext cx="3419640" cy="341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5600" y="274680"/>
            <a:ext cx="6900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Традиции праздника в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14240" y="1500120"/>
            <a:ext cx="79725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       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Хоть День матери в России и молодой праздник, он уже обрел свои традициями. Так, у него появился свой символ — незабудка. Кстати, изображения плюшевых мишек с незабудкой в лапках — тоже атрибут праздника. К этому дню приурочена Всероссийская социальная акция «Мама, я тебя люблю!».</a:t>
            </a:r>
            <a:br>
              <a:rPr sz="2500"/>
            </a:b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324000" y="3500280"/>
            <a:ext cx="568800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По всей стране проходят концерты, конкурсы, акции, выставки. В школах с удовольствием рассказывают стихи про мам, рисуют их портреты и делают подарки своими рукам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5" descr="pngwing.com (10).png"/>
          <p:cNvPicPr/>
          <p:nvPr/>
        </p:nvPicPr>
        <p:blipFill>
          <a:blip r:embed="rId2"/>
          <a:stretch/>
        </p:blipFill>
        <p:spPr>
          <a:xfrm>
            <a:off x="285840" y="0"/>
            <a:ext cx="1469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95280" y="333000"/>
            <a:ext cx="51958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Calibri"/>
              </a:rPr>
              <a:t>Мама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- это значит нежность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Это ласка, доброт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Calibri"/>
              </a:rPr>
              <a:t>Мама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- это безмятежность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Это радость, красота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Calibri"/>
              </a:rPr>
              <a:t>Мама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- это на ночь сказк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Это утренний рассвет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Calibri"/>
              </a:rPr>
              <a:t>Мама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- в трудный час подсказк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Это мудрость и совет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Calibri"/>
              </a:rPr>
              <a:t>Мама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- это зелень лет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Это снег, осенний лист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Calibri"/>
              </a:rPr>
              <a:t>Мама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- это лучик свет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Calibri"/>
              </a:rPr>
              <a:t>Мама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- это значит ЖИЗНЬ!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pngwing.com (3).png"/>
          <p:cNvPicPr/>
          <p:nvPr/>
        </p:nvPicPr>
        <p:blipFill>
          <a:blip r:embed="rId1"/>
          <a:stretch/>
        </p:blipFill>
        <p:spPr>
          <a:xfrm>
            <a:off x="0" y="4203720"/>
            <a:ext cx="914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7T08:10:20Z</dcterms:created>
  <dc:creator>Gigabyte</dc:creator>
  <dc:description/>
  <dc:language>en-US</dc:language>
  <cp:lastModifiedBy>ГИА</cp:lastModifiedBy>
  <dcterms:modified xsi:type="dcterms:W3CDTF">2023-11-13T19:36:14Z</dcterms:modified>
  <cp:revision>33</cp:revision>
  <dc:subject/>
  <dc:title>Слайд 1</dc:title>
</cp:coreProperties>
</file>