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857-35F2-4F4F-AC0B-6C160A02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241-2608-4185-8753-F73EF6EF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ECC-6E09-4752-A2CB-2A06CF8F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2FD-140A-4329-9D6A-4FA086D1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277-6AE2-42FC-A3A8-5ABA70AE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5B3-B9BF-46C5-A71A-120AEC08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560-E1A1-48B6-9ADA-985295F3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43D-9757-4DA8-9A8F-53FDAAE2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14F-EA63-4CF2-8B41-9BA7E390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471-B0D3-489A-BC2A-88FE163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228-E18A-4697-9264-97A2374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5A8-D3F1-4312-B6B0-FEA73010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0D59-14DF-4351-9F81-180C6E96A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5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21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35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ramka_6.png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547640" y="1268280"/>
            <a:ext cx="5616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700280" y="1420920"/>
            <a:ext cx="5616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979640" y="1989000"/>
            <a:ext cx="68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Урок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844720" y="3244680"/>
            <a:ext cx="460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2"/>
          <a:stretch/>
        </p:blipFill>
        <p:spPr>
          <a:xfrm>
            <a:off x="938160" y="8539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3"/>
          <a:stretch/>
        </p:blipFill>
        <p:spPr>
          <a:xfrm>
            <a:off x="642960" y="1989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4"/>
          <a:stretch/>
        </p:blipFill>
        <p:spPr>
          <a:xfrm>
            <a:off x="1116000" y="3573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5"/>
          <a:stretch/>
        </p:blipFill>
        <p:spPr>
          <a:xfrm>
            <a:off x="642960" y="45975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1547640" y="551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7"/>
          <a:stretch/>
        </p:blipFill>
        <p:spPr>
          <a:xfrm>
            <a:off x="8028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8"/>
          <a:stretch/>
        </p:blipFill>
        <p:spPr>
          <a:xfrm>
            <a:off x="7812000" y="184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9"/>
          <a:stretch/>
        </p:blipFill>
        <p:spPr>
          <a:xfrm>
            <a:off x="7524720" y="2852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10"/>
          <a:stretch/>
        </p:blipFill>
        <p:spPr>
          <a:xfrm>
            <a:off x="7694640" y="4183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11"/>
          <a:stretch/>
        </p:blipFill>
        <p:spPr>
          <a:xfrm>
            <a:off x="7473960" y="5533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8" descr="ramka_6.png"/>
          <p:cNvPicPr/>
          <p:nvPr/>
        </p:nvPicPr>
        <p:blipFill>
          <a:blip r:embed="rId1"/>
          <a:stretch/>
        </p:blipFill>
        <p:spPr>
          <a:xfrm>
            <a:off x="0" y="-1764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kartocki_romashka.jpg"/>
          <p:cNvPicPr/>
          <p:nvPr/>
        </p:nvPicPr>
        <p:blipFill>
          <a:blip r:embed="rId2"/>
          <a:srcRect l="21331" t="3052" r="15293" b="20660"/>
          <a:stretch/>
        </p:blipFill>
        <p:spPr>
          <a:xfrm>
            <a:off x="938160" y="2143080"/>
            <a:ext cx="175248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kartocki_romashka.jpg"/>
          <p:cNvPicPr/>
          <p:nvPr/>
        </p:nvPicPr>
        <p:blipFill>
          <a:blip r:embed="rId3"/>
          <a:srcRect l="21331" t="3052" r="15293" b="20660"/>
          <a:stretch/>
        </p:blipFill>
        <p:spPr>
          <a:xfrm>
            <a:off x="2500200" y="3286080"/>
            <a:ext cx="1892520" cy="2928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kartocki_romashka.jpg"/>
          <p:cNvPicPr/>
          <p:nvPr/>
        </p:nvPicPr>
        <p:blipFill>
          <a:blip r:embed="rId4"/>
          <a:srcRect l="21331" t="3052" r="15293" b="20660"/>
          <a:stretch/>
        </p:blipFill>
        <p:spPr>
          <a:xfrm>
            <a:off x="4786200" y="3357720"/>
            <a:ext cx="1857600" cy="2874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kartocki_romashka.jpg"/>
          <p:cNvPicPr/>
          <p:nvPr/>
        </p:nvPicPr>
        <p:blipFill>
          <a:blip r:embed="rId5"/>
          <a:srcRect l="21331" t="3052" r="15293" b="20660"/>
          <a:stretch/>
        </p:blipFill>
        <p:spPr>
          <a:xfrm>
            <a:off x="6643800" y="2214720"/>
            <a:ext cx="1800000" cy="27860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1614553731_64-p-kartinki-babochki-na-belom-fone-89.jpg"/>
          <p:cNvPicPr/>
          <p:nvPr/>
        </p:nvPicPr>
        <p:blipFill>
          <a:blip r:embed="rId6"/>
          <a:stretch/>
        </p:blipFill>
        <p:spPr>
          <a:xfrm rot="2571000">
            <a:off x="628200" y="2010960"/>
            <a:ext cx="1209600" cy="855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2" descr="4fd03fae274dd96632cc07c11e8056ad.png"/>
          <p:cNvPicPr/>
          <p:nvPr/>
        </p:nvPicPr>
        <p:blipFill>
          <a:blip r:embed="rId7"/>
          <a:stretch/>
        </p:blipFill>
        <p:spPr>
          <a:xfrm rot="15678000">
            <a:off x="1663200" y="1474560"/>
            <a:ext cx="96696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3" descr="i.jpg"/>
          <p:cNvPicPr/>
          <p:nvPr/>
        </p:nvPicPr>
        <p:blipFill>
          <a:blip r:embed="rId8"/>
          <a:stretch/>
        </p:blipFill>
        <p:spPr>
          <a:xfrm rot="1791600">
            <a:off x="2642760" y="2957040"/>
            <a:ext cx="1214640" cy="900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i (1).jpg"/>
          <p:cNvPicPr/>
          <p:nvPr/>
        </p:nvPicPr>
        <p:blipFill>
          <a:blip r:embed="rId9"/>
          <a:stretch/>
        </p:blipFill>
        <p:spPr>
          <a:xfrm rot="19867800">
            <a:off x="7667640" y="1471320"/>
            <a:ext cx="1319040" cy="988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7" descr="4fd03fae274dd96632cc07c11e8056ad.png"/>
          <p:cNvPicPr/>
          <p:nvPr/>
        </p:nvPicPr>
        <p:blipFill>
          <a:blip r:embed="rId10"/>
          <a:stretch/>
        </p:blipFill>
        <p:spPr>
          <a:xfrm rot="4299600">
            <a:off x="5151960" y="3038760"/>
            <a:ext cx="966600" cy="1016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8" descr="i (3).jpg"/>
          <p:cNvPicPr/>
          <p:nvPr/>
        </p:nvPicPr>
        <p:blipFill>
          <a:blip r:embed="rId11"/>
          <a:stretch/>
        </p:blipFill>
        <p:spPr>
          <a:xfrm rot="5669400">
            <a:off x="6585120" y="1778400"/>
            <a:ext cx="1214280" cy="863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9" descr="i (4).jpg"/>
          <p:cNvPicPr/>
          <p:nvPr/>
        </p:nvPicPr>
        <p:blipFill>
          <a:blip r:embed="rId12"/>
          <a:stretch/>
        </p:blipFill>
        <p:spPr>
          <a:xfrm rot="15816000">
            <a:off x="3534480" y="2464200"/>
            <a:ext cx="1371600" cy="1293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0" descr="i (2).jpg"/>
          <p:cNvPicPr/>
          <p:nvPr/>
        </p:nvPicPr>
        <p:blipFill>
          <a:blip r:embed="rId13"/>
          <a:stretch/>
        </p:blipFill>
        <p:spPr>
          <a:xfrm rot="12658800">
            <a:off x="5679720" y="3506760"/>
            <a:ext cx="1138320" cy="101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Пользователь\Downloads\pngwing.com (1).png"/>
          <p:cNvPicPr/>
          <p:nvPr/>
        </p:nvPicPr>
        <p:blipFill>
          <a:blip r:embed="rId14"/>
          <a:stretch/>
        </p:blipFill>
        <p:spPr>
          <a:xfrm>
            <a:off x="6929280" y="4500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119-1198217_album-kindergarten.png"/>
          <p:cNvPicPr/>
          <p:nvPr/>
        </p:nvPicPr>
        <p:blipFill>
          <a:blip r:embed="rId15"/>
          <a:stretch/>
        </p:blipFill>
        <p:spPr>
          <a:xfrm>
            <a:off x="500040" y="4572000"/>
            <a:ext cx="1500120" cy="176364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21"/>
          <p:cNvSpPr/>
          <p:nvPr/>
        </p:nvSpPr>
        <p:spPr>
          <a:xfrm>
            <a:off x="1968480" y="500040"/>
            <a:ext cx="5603760" cy="71424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ь и реши 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722680" y="1214280"/>
            <a:ext cx="44701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=8 (б)- вс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523960" y="1373040"/>
            <a:ext cx="39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8 баб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269880" y="3244680"/>
            <a:ext cx="26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ьРешить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138040"/>
            <a:ext cx="100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 Box 4" descr=""/>
          <p:cNvPicPr/>
          <p:nvPr/>
        </p:nvPicPr>
        <p:blipFill>
          <a:blip r:embed="rId1"/>
          <a:stretch/>
        </p:blipFill>
        <p:spPr>
          <a:xfrm>
            <a:off x="109440" y="1646280"/>
            <a:ext cx="7925040" cy="1322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228760" y="29048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1197000"/>
          <a:ext cx="8075520" cy="3049560"/>
        </p:xfrm>
        <a:graphic>
          <a:graphicData uri="http://schemas.openxmlformats.org/drawingml/2006/table">
            <a:tbl>
              <a:tblPr/>
              <a:tblGrid>
                <a:gridCol w="3960720"/>
                <a:gridCol w="4114800"/>
              </a:tblGrid>
              <a:tr h="558720">
                <a:tc>
                  <a:txBody>
                    <a:bodyPr lIns="43200" rIns="43200" tIns="43200" bIns="432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robotolight"/>
                        </a:rPr>
                        <a:t>Верное неравен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0" marR="43200">
                    <a:lnL w="4320">
                      <a:solidFill>
                        <a:srgbClr val="32d7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32d7c0"/>
                      </a:solidFill>
                    </a:lnT>
                    <a:lnB w="9360">
                      <a:solidFill>
                        <a:srgbClr val="32d7c0"/>
                      </a:solidFill>
                    </a:lnB>
                    <a:noFill/>
                  </a:tcPr>
                </a:tc>
                <a:tc>
                  <a:txBody>
                    <a:bodyPr lIns="43200" rIns="43200" tIns="43200" bIns="432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robotolight"/>
                        </a:rPr>
                        <a:t>Неверное неравен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0" marR="432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32d7c0"/>
                      </a:solidFill>
                    </a:lnR>
                    <a:lnT w="4320">
                      <a:solidFill>
                        <a:srgbClr val="32d7c0"/>
                      </a:solidFill>
                    </a:lnT>
                    <a:lnB w="9360">
                      <a:solidFill>
                        <a:srgbClr val="32d7c0"/>
                      </a:solidFill>
                    </a:lnB>
                    <a:noFill/>
                  </a:tcPr>
                </a:tc>
              </a:tr>
              <a:tr h="249084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6 • 2 &lt; 2 •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2 • 8 – 2 &gt; 5 •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4320">
                      <a:solidFill>
                        <a:srgbClr val="32d7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2d7c0"/>
                      </a:solidFill>
                    </a:lnT>
                    <a:lnB w="4320">
                      <a:solidFill>
                        <a:srgbClr val="32d7c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2 • 4 &gt; 9 •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6 • 2 + 2 &gt; 10 •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32d7c0"/>
                      </a:solidFill>
                    </a:lnR>
                    <a:lnT w="9360">
                      <a:solidFill>
                        <a:srgbClr val="32d7c0"/>
                      </a:solidFill>
                    </a:lnT>
                    <a:lnB w="4320">
                      <a:solidFill>
                        <a:srgbClr val="32d7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7"/>
          <p:cNvSpPr/>
          <p:nvPr/>
        </p:nvSpPr>
        <p:spPr>
          <a:xfrm>
            <a:off x="3911760" y="2672640"/>
            <a:ext cx="1307880" cy="7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01600" tIns="13320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robotolight"/>
              </a:rPr>
              <a:t>Сбросить ответы</a:t>
            </a:r>
            <a:r>
              <a:rPr b="0" lang="ru-RU" sz="1200" spc="-1" strike="noStrike">
                <a:solidFill>
                  <a:srgbClr val="1d1d1b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robotolight"/>
              </a:rPr>
              <a:t>Провер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8" descr="ramka_6.png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8" descr="ramka_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1258920" y="449280"/>
            <a:ext cx="7129440" cy="54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Прове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уровень   А)                        (уровень 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ложение                     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чётные                           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3.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14                                  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12                                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6                                 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971640" y="549360"/>
            <a:ext cx="76327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учебник: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. 35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латформа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Учи.ру»: 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8" descr="ramka_6.png"/>
          <p:cNvPicPr/>
          <p:nvPr/>
        </p:nvPicPr>
        <p:blipFill>
          <a:blip r:embed="rId1"/>
          <a:stretch/>
        </p:blipFill>
        <p:spPr>
          <a:xfrm>
            <a:off x="-268200" y="-23760"/>
            <a:ext cx="94122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2" descr="0_14ab8f_4920a81_M.png"/>
          <p:cNvPicPr/>
          <p:nvPr/>
        </p:nvPicPr>
        <p:blipFill>
          <a:blip r:embed="rId1"/>
          <a:stretch/>
        </p:blipFill>
        <p:spPr>
          <a:xfrm>
            <a:off x="1643040" y="1571760"/>
            <a:ext cx="1359000" cy="2357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ramka_6.png"/>
          <p:cNvPicPr/>
          <p:nvPr/>
        </p:nvPicPr>
        <p:blipFill>
          <a:blip r:embed="rId2"/>
          <a:stretch/>
        </p:blipFill>
        <p:spPr>
          <a:xfrm>
            <a:off x="-268200" y="-23760"/>
            <a:ext cx="9412200" cy="7029360"/>
          </a:xfrm>
          <a:prstGeom prst="rect">
            <a:avLst/>
          </a:prstGeom>
          <a:ln w="0">
            <a:noFill/>
          </a:ln>
        </p:spPr>
      </p:pic>
      <p:pic>
        <p:nvPicPr>
          <p:cNvPr id="130" name="Text Box 9" descr=""/>
          <p:cNvPicPr/>
          <p:nvPr/>
        </p:nvPicPr>
        <p:blipFill>
          <a:blip r:embed="rId3"/>
          <a:stretch/>
        </p:blipFill>
        <p:spPr>
          <a:xfrm>
            <a:off x="1189080" y="231840"/>
            <a:ext cx="6997680" cy="1305000"/>
          </a:xfrm>
          <a:prstGeom prst="rect">
            <a:avLst/>
          </a:prstGeom>
          <a:ln w="0">
            <a:noFill/>
          </a:ln>
        </p:spPr>
      </p:pic>
      <p:pic>
        <p:nvPicPr>
          <p:cNvPr id="131" name="Text Box 4" descr=""/>
          <p:cNvPicPr/>
          <p:nvPr/>
        </p:nvPicPr>
        <p:blipFill>
          <a:blip r:embed="rId4"/>
          <a:stretch/>
        </p:blipFill>
        <p:spPr>
          <a:xfrm>
            <a:off x="109440" y="1536840"/>
            <a:ext cx="813924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8" descr="ramka_6.pn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500040" y="4071960"/>
            <a:ext cx="2063880" cy="2427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иконы-выравнивают-соответствие-20838992.jpg"/>
          <p:cNvPicPr/>
          <p:nvPr/>
        </p:nvPicPr>
        <p:blipFill>
          <a:blip r:embed="rId3"/>
          <a:srcRect l="1561" t="7386" r="1561" b="7682"/>
          <a:stretch/>
        </p:blipFill>
        <p:spPr>
          <a:xfrm>
            <a:off x="571680" y="1143000"/>
            <a:ext cx="8072280" cy="299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Пользователь\Downloads\pngwing.com (1).png"/>
          <p:cNvPicPr/>
          <p:nvPr/>
        </p:nvPicPr>
        <p:blipFill>
          <a:blip r:embed="rId4"/>
          <a:stretch/>
        </p:blipFill>
        <p:spPr>
          <a:xfrm>
            <a:off x="6429240" y="378612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/>
          <p:cNvSpPr/>
          <p:nvPr/>
        </p:nvSpPr>
        <p:spPr>
          <a:xfrm>
            <a:off x="2286000" y="500040"/>
            <a:ext cx="4786200" cy="64296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2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4956120" cy="18939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6913800" cy="62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image468"/>
          <p:cNvPicPr/>
          <p:nvPr/>
        </p:nvPicPr>
        <p:blipFill>
          <a:blip r:embed="rId3"/>
          <a:stretch/>
        </p:blipFill>
        <p:spPr>
          <a:xfrm>
            <a:off x="2916360" y="2349360"/>
            <a:ext cx="2950920" cy="2843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ramka_6.png"/>
          <p:cNvPicPr/>
          <p:nvPr/>
        </p:nvPicPr>
        <p:blipFill>
          <a:blip r:embed="rId4"/>
          <a:stretch/>
        </p:blipFill>
        <p:spPr>
          <a:xfrm>
            <a:off x="-54000" y="3240"/>
            <a:ext cx="9252000" cy="69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692280"/>
            <a:ext cx="5545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йдите лишний прим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1480" y="2145960"/>
            <a:ext cx="2541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6 * 2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 * 2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 * 2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7200" y="2145960"/>
            <a:ext cx="269532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 * 7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7 – 7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 * 5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8" descr="ramka_6.png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285920" y="-220680"/>
            <a:ext cx="6500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ножение числа 2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500040" y="3143160"/>
            <a:ext cx="2654280" cy="312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Пользователь\Downloads\pngwing.com (1).png"/>
          <p:cNvPicPr/>
          <p:nvPr/>
        </p:nvPicPr>
        <p:blipFill>
          <a:blip r:embed="rId3"/>
          <a:stretch/>
        </p:blipFill>
        <p:spPr>
          <a:xfrm>
            <a:off x="5715000" y="3214800"/>
            <a:ext cx="321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8" descr="ramka_6.png"/>
          <p:cNvPicPr/>
          <p:nvPr/>
        </p:nvPicPr>
        <p:blipFill>
          <a:blip r:embed="rId1"/>
          <a:stretch/>
        </p:blipFill>
        <p:spPr>
          <a:xfrm>
            <a:off x="-101520" y="0"/>
            <a:ext cx="9572400" cy="6958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30240" y="260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11280" y="1235160"/>
            <a:ext cx="7389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лять знание табличных случаев умножения числа 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ть вычислительные навыки, умения решать задачи и приме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развивать память, внимание, речь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питывать интерес к матема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8" descr="ramka_6.png"/>
          <p:cNvPicPr/>
          <p:nvPr/>
        </p:nvPicPr>
        <p:blipFill>
          <a:blip r:embed="rId1"/>
          <a:stretch/>
        </p:blipFill>
        <p:spPr>
          <a:xfrm>
            <a:off x="11160" y="-100080"/>
            <a:ext cx="9253440" cy="6958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123.JPG"/>
          <p:cNvPicPr/>
          <p:nvPr/>
        </p:nvPicPr>
        <p:blipFill>
          <a:blip r:embed="rId2"/>
          <a:srcRect l="33804" t="1682" r="32814" b="0"/>
          <a:stretch/>
        </p:blipFill>
        <p:spPr>
          <a:xfrm>
            <a:off x="3276720" y="1125360"/>
            <a:ext cx="3095640" cy="301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Рисунок 16" descr="f13af393b784bab565874f6b82dc5589eaa87bea.jpeg"/>
          <p:cNvPicPr/>
          <p:nvPr/>
        </p:nvPicPr>
        <p:blipFill>
          <a:blip r:embed="rId3"/>
          <a:srcRect l="2528" t="0" r="0" b="39357"/>
          <a:stretch/>
        </p:blipFill>
        <p:spPr>
          <a:xfrm>
            <a:off x="547560" y="4427640"/>
            <a:ext cx="8282160" cy="11318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9908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29908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1547640" y="26028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8"/>
          <p:cNvSpPr/>
          <p:nvPr/>
        </p:nvSpPr>
        <p:spPr>
          <a:xfrm>
            <a:off x="1258920" y="500040"/>
            <a:ext cx="6858000" cy="71424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лиграфическая 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8, 14, 10, 2,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Рисунок 8" descr="ramka_6.pn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572580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8" descr="ramka_6.pn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357120" y="4883040"/>
            <a:ext cx="1357560" cy="159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Пользователь\Downloads\pngwing.com (1).png"/>
          <p:cNvPicPr/>
          <p:nvPr/>
        </p:nvPicPr>
        <p:blipFill>
          <a:blip r:embed="rId3"/>
          <a:stretch/>
        </p:blipFill>
        <p:spPr>
          <a:xfrm>
            <a:off x="7143840" y="4786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4"/>
          <p:cNvSpPr/>
          <p:nvPr/>
        </p:nvSpPr>
        <p:spPr>
          <a:xfrm>
            <a:off x="865080" y="500040"/>
            <a:ext cx="7634520" cy="71424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ни сумму слагаемых  умнож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642960" y="150012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3+3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6"/>
          <p:cNvSpPr/>
          <p:nvPr/>
        </p:nvSpPr>
        <p:spPr>
          <a:xfrm>
            <a:off x="642960" y="235728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5+5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7"/>
          <p:cNvSpPr/>
          <p:nvPr/>
        </p:nvSpPr>
        <p:spPr>
          <a:xfrm>
            <a:off x="571680" y="3214800"/>
            <a:ext cx="2857320" cy="7142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+7+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571680" y="4000680"/>
            <a:ext cx="2857320" cy="7142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3+1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1"/>
          <p:cNvSpPr/>
          <p:nvPr/>
        </p:nvSpPr>
        <p:spPr>
          <a:xfrm>
            <a:off x="3714840" y="150012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2"/>
          <p:cNvSpPr/>
          <p:nvPr/>
        </p:nvSpPr>
        <p:spPr>
          <a:xfrm>
            <a:off x="3786120" y="3214800"/>
            <a:ext cx="2857680" cy="7142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х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8" descr="ramka_6.png"/>
          <p:cNvPicPr/>
          <p:nvPr/>
        </p:nvPicPr>
        <p:blipFill>
          <a:blip r:embed="rId1"/>
          <a:stretch/>
        </p:blipFill>
        <p:spPr>
          <a:xfrm>
            <a:off x="-23760" y="-458640"/>
            <a:ext cx="9112320" cy="7632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642960" y="3357720"/>
            <a:ext cx="2411280" cy="2835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Пользователь\Downloads\pngwing.com (1).png"/>
          <p:cNvPicPr/>
          <p:nvPr/>
        </p:nvPicPr>
        <p:blipFill>
          <a:blip r:embed="rId3"/>
          <a:stretch/>
        </p:blipFill>
        <p:spPr>
          <a:xfrm>
            <a:off x="5715000" y="321480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692360" y="181440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Подзаголовок 2"/>
          <p:cNvSpPr/>
          <p:nvPr/>
        </p:nvSpPr>
        <p:spPr>
          <a:xfrm>
            <a:off x="1316160" y="2033640"/>
            <a:ext cx="53625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7   2=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4   2=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2   9=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множение 1"/>
          <p:cNvSpPr/>
          <p:nvPr/>
        </p:nvSpPr>
        <p:spPr>
          <a:xfrm>
            <a:off x="1720800" y="2325600"/>
            <a:ext cx="457200" cy="457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множение 7"/>
          <p:cNvSpPr/>
          <p:nvPr/>
        </p:nvSpPr>
        <p:spPr>
          <a:xfrm>
            <a:off x="1800360" y="3284640"/>
            <a:ext cx="457200" cy="457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множение 8"/>
          <p:cNvSpPr/>
          <p:nvPr/>
        </p:nvSpPr>
        <p:spPr>
          <a:xfrm>
            <a:off x="1785960" y="4292640"/>
            <a:ext cx="457200" cy="457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8" descr="ramka_6.png"/>
          <p:cNvPicPr/>
          <p:nvPr/>
        </p:nvPicPr>
        <p:blipFill>
          <a:blip r:embed="rId2"/>
          <a:stretch/>
        </p:blipFill>
        <p:spPr>
          <a:xfrm>
            <a:off x="-23760" y="-458640"/>
            <a:ext cx="911232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08:29:01Z</dcterms:created>
  <dc:creator>Пользователь</dc:creator>
  <dc:description/>
  <dc:language>en-US</dc:language>
  <cp:lastModifiedBy>User</cp:lastModifiedBy>
  <dcterms:modified xsi:type="dcterms:W3CDTF">2023-10-16T22:19:52Z</dcterms:modified>
  <cp:revision>87</cp:revision>
  <dc:subject/>
  <dc:title>Слайд 1</dc:title>
</cp:coreProperties>
</file>